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24.jpeg" ContentType="image/jpeg"/>
  <Override PartName="/ppt/media/image22.png" ContentType="image/png"/>
  <Override PartName="/ppt/media/image23.png" ContentType="image/png"/>
  <Override PartName="/ppt/media/image28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5.jpeg" ContentType="image/jpeg"/>
  <Override PartName="/ppt/media/image27.jpeg" ContentType="image/jpeg"/>
  <Override PartName="/ppt/media/image6.jpeg" ContentType="image/jpeg"/>
  <Override PartName="/ppt/media/image33.jpeg" ContentType="image/jpeg"/>
  <Override PartName="/ppt/media/image7.png" ContentType="image/png"/>
  <Override PartName="/ppt/media/image11.jpeg" ContentType="image/jpeg"/>
  <Override PartName="/ppt/media/image13.png" ContentType="image/png"/>
  <Override PartName="/ppt/media/image30.jpeg" ContentType="image/jpeg"/>
  <Override PartName="/ppt/media/image31.jpeg" ContentType="image/jpeg"/>
  <Override PartName="/ppt/media/image2.png" ContentType="image/png"/>
  <Override PartName="/ppt/media/image25.png" ContentType="image/png"/>
  <Override PartName="/ppt/media/image9.png" ContentType="image/png"/>
  <Override PartName="/ppt/media/image12.jpeg" ContentType="image/jpeg"/>
  <Override PartName="/ppt/media/image4.png" ContentType="image/png"/>
  <Override PartName="/ppt/media/image3.png" ContentType="image/png"/>
  <Override PartName="/ppt/media/image26.png" ContentType="image/png"/>
  <Override PartName="/ppt/media/image1.png" ContentType="image/png"/>
  <Override PartName="/ppt/media/image14.jpeg" ContentType="image/jpeg"/>
  <Override PartName="/ppt/media/image15.jpeg" ContentType="image/jpeg"/>
  <Override PartName="/ppt/media/image16.png" ContentType="image/png"/>
  <Override PartName="/ppt/media/image32.jpeg" ContentType="image/jpeg"/>
  <Override PartName="/ppt/media/image17.png" ContentType="image/png"/>
  <Override PartName="/ppt/media/image18.jpeg" ContentType="image/jpeg"/>
  <Override PartName="/ppt/media/image19.png" ContentType="image/png"/>
  <Override PartName="/ppt/media/image21.png" ContentType="image/png"/>
  <Override PartName="/ppt/media/image20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C9011-A011-4799-A469-C37D1C481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27122-AB6B-4B5A-A777-1FAAFAD20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17143-A5A2-4F74-968A-8F49BF182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2E951-07F7-4584-802D-1F3275FA0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D34E1-F6D4-4FA1-BB8C-A71FAD5CB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98B69-0B4C-4DD3-98FE-21DA2347B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EA875-00FA-4CC3-830D-E55B91F76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54DD9-CD37-4D4C-9D80-94CB1D0EE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DD9E6-DFBA-4A6E-BAE9-4C374A79B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40CEB-5B6D-490C-B2D7-106C17CD7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C3C06-018E-4CD6-9C35-73E235272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610CC-9D9D-43D0-8EBE-C9BB5AA2E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6BC24-31DB-4EA8-B3DB-9B7808C25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90964-498C-407D-AC17-5102B3578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E29D0-D8E9-4A55-AEF2-F5DA6E30F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F28DA-2E42-43DC-BDA7-E27C52091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948D7-89C1-48F9-9909-DC075FAA1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64BEB1-D646-41D7-98EA-15A01B546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9D1AFF-A6CE-4E05-A521-708AD638F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9A83BE-8899-4A8D-A69E-B5755265E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4C5A4A-F489-469E-B75B-47C1CD389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4DAF7F-D1FA-43AB-8E8C-6CD9FDABE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9FFDE-8FA9-409C-B2F3-029EB738A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F0B3DE-0801-40B4-9D0B-25E7038BD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232270-4EA1-4AB3-8D90-00AE79E1D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EFF9B1-4193-4091-9E7B-0050499AB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A23EF9-30A2-4572-9CA9-7AB33F1D0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BCEB44-5B40-4514-9866-CCDB12550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C7768C-E4EE-4426-BE3E-71C78079C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CE95AE-2363-4C47-9A67-1B03AA6E4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4E3D78-0111-43A8-9D2D-13FAC6D71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F24227-231B-49C3-A1CE-242E5AE46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08188A-518E-46FD-BB8B-14FB37A62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A7327-DC56-4565-94D9-E3573635B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73F6CD-EF75-430A-9D43-87875DD73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DF1624-B672-451D-9C63-E77DD25D3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09FE9C-BA27-4EAA-9B66-6419B128A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15E54F-CA2C-454E-80DA-14900BE93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9AB33B-C5D9-4CCA-B410-0A18F1257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B6A62E-697A-4635-A0D6-9A0ED6BB8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F4FA73-267C-4050-BF7B-9093F7D8C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170D3A-D490-43A6-952A-BA2BC4CAB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3433D9-E671-433A-A210-B39AADEC7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2BE906-1E0D-4F2A-8249-1DDC8C604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1E593-93DD-4160-A66E-F0F6FF367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5E7F0B-20C5-4D50-804F-D97B14E1A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762DDF-3F40-41F0-A439-38D250172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09D450-DA2D-4879-8288-E88DB2E85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D6D5CC-4549-4992-94A2-F5D802379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14C8C1-E20E-4142-9EC8-67951C5DE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6E8176-2995-4811-BBFD-019C53F95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0F99D0-184B-4C50-8DC0-B806FA513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5D21E4-1598-44E9-BFD0-7DF38AC94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5CE6F6-33FB-499C-A522-3F9415D64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E41BEB-F7C0-43DD-AAEC-334101AA8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93E6D-C33B-45B1-B582-0DB642A4B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4CFF1E-6434-4542-8568-26211810A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352A9D-DD85-49ED-8F95-17541B738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279035-D6F8-46A4-B12D-E0039BD1B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8455C4-8871-495D-A131-0159B3547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82360D-3D62-4B3F-BE5F-72C64826F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680D98-9D06-4E59-8946-4C3A3DAD3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A462E0-DA94-4451-ADC9-75189C08F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3B5FFA-8BEB-4F77-B764-85AF27738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611EF0-6638-4D1E-9C80-56B65322C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3C74EA-2D74-4E57-816B-29753331B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6AC8F-8A09-42B8-8770-22A86910B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09FB5A-36AA-4E9F-93F0-15D2925DD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F7BC18-E9A9-4A69-8D87-683F43D31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DECD7A-4EBF-4D5A-86CC-EAE550F24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FCA44A-19F1-4B3A-89C0-48B42E8C4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284965-A12D-4D46-8169-25896BC0E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6E0B5C-1C3C-4F16-89C9-FB71235D3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D99317-3B61-44FA-81E8-B6FEE1A20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F2FD73-F604-4B54-81F1-BBAC29319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7B8AED-64FE-402F-B73C-0D5569085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36657F-EFAF-4B5F-9DC6-75A7EA1AF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F43B6-732D-4EE4-8152-0BE873D28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9D2E87-71EF-4509-A038-488CA86E1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2C8C80-2B43-4C21-B85B-FCB5F0477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1D6DA6-A94B-438C-95D7-5E2455918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D2812D-9922-4932-8456-63A2F599E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FAA6A4-8E41-47F9-B1A2-C3A824845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53715B-F7EB-4FF4-A49E-0FCC237C1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C6C836-CB32-439C-BE2C-F7D3113D8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C5FB24-F942-4C4E-98AE-BBF6C62D9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AC1EF9-81AF-4A56-B8FA-31B222684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76A4CB-4A48-4AB4-B6A1-856CEEB83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76956-F611-4E21-B2D5-598947430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EB72E9-4CB5-45D3-8E30-639D7DF2C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182DCD-4856-421F-AEC7-4C0A61F70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AA04F6-3B9D-4F10-8E6F-F1E74CBEC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0BCF1E-6C0F-4094-BEE5-5FFF51625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AADB4F-2D1E-49F1-B4F5-152C68C79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8580C3-44CE-4617-83EF-A2E848B08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B361EF-818C-4730-B24C-40DA31D9C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echthoekige driehoek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Rechte verbindingslijn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45C03-E768-4656-96F4-9AA95AB38EDD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hthoekige driehoek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e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Vrije vorm 15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Vrije vorm 18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Vrije vorm 18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Vrije vorm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Rechte verbindingslijn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C3F1E-4500-4CE1-BA63-4AD14C84B6B4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Punthaak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unthaak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2225B-9189-4887-86E4-E565FCD5910C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BE07C-2CBE-48D8-854F-DF00A0430B4F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18679-A95F-4BE6-92BD-0EF51146E093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7388E-2C2C-4257-837D-D3F2FECA7741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7E787-0023-49CF-B3CE-168B354A569E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Vrije v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Vrije v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echthoekige driehoek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Rechthoekige driehoek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Rechte verbindingslijn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Punthaak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unthaak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FB604-6C93-4D8E-9BC0-B9E2BAC1C0E7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woningnet.nl/" TargetMode="External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30.jpeg"/><Relationship Id="rId6" Type="http://schemas.openxmlformats.org/officeDocument/2006/relationships/image" Target="../media/image31.jpeg"/><Relationship Id="rId7" Type="http://schemas.openxmlformats.org/officeDocument/2006/relationships/image" Target="../media/image32.jpeg"/><Relationship Id="rId8" Type="http://schemas.openxmlformats.org/officeDocument/2006/relationships/image" Target="../media/image33.jpe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el 1" descr=""/>
          <p:cNvPicPr/>
          <p:nvPr/>
        </p:nvPicPr>
        <p:blipFill>
          <a:blip r:embed="rId1"/>
          <a:stretch/>
        </p:blipFill>
        <p:spPr>
          <a:xfrm>
            <a:off x="689040" y="1755720"/>
            <a:ext cx="7772400" cy="18288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755640" y="1125360"/>
            <a:ext cx="7772400" cy="3686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Lucida Sans Unicode"/>
              </a:rPr>
              <a:t>ECONOMIE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Paragraaf 4.1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Huur en verhuur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2" name="AutoShape 6"/>
          <p:cNvSpPr/>
          <p:nvPr/>
        </p:nvSpPr>
        <p:spPr>
          <a:xfrm>
            <a:off x="155520" y="-2095560"/>
            <a:ext cx="6991560" cy="43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AutoShape 8"/>
          <p:cNvSpPr/>
          <p:nvPr/>
        </p:nvSpPr>
        <p:spPr>
          <a:xfrm>
            <a:off x="307800" y="-1943280"/>
            <a:ext cx="6991560" cy="43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AutoShape 10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AutoShape 12"/>
          <p:cNvSpPr/>
          <p:nvPr/>
        </p:nvSpPr>
        <p:spPr>
          <a:xfrm>
            <a:off x="216000" y="1584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Picture 14" descr="http://www.cie.nl/media/W1siZiIsIjIwMTMvMDkvMDMvMDgvNDYvNTgvOTcyLzA1MDE2X1dhdGVybGFuZHBsZWluXzAxLmpwZyJdXQ/05016_Waterlandplein_01.jpg"/>
          <p:cNvPicPr/>
          <p:nvPr/>
        </p:nvPicPr>
        <p:blipFill>
          <a:blip r:embed="rId2"/>
          <a:stretch/>
        </p:blipFill>
        <p:spPr>
          <a:xfrm>
            <a:off x="0" y="0"/>
            <a:ext cx="3203640" cy="20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 txBox="1"/>
          <p:nvPr/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31920" indent="-2325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In de laatste jaren </a:t>
            </a:r>
            <a:r>
              <a:rPr b="0" lang="nl-NL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groot tekort aan huurkamers en betaalbare huurwoningen, omdat de vraag </a:t>
            </a:r>
            <a:r>
              <a:rPr b="1" lang="nl-NL" sz="2700" spc="-1" strike="noStrike">
                <a:solidFill>
                  <a:srgbClr val="000000"/>
                </a:solidFill>
                <a:latin typeface="Lucida Sans Unicode"/>
              </a:rPr>
              <a:t>groter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is dan het aanbod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31920" indent="-2325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31920" indent="-2325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31920" indent="-2325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Gevolg </a:t>
            </a:r>
            <a:r>
              <a:rPr b="0" lang="nl-NL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hoge prijzen!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31920" indent="-2325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31920" indent="-2325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700" spc="-1" strike="noStrike">
                <a:solidFill>
                  <a:srgbClr val="000000"/>
                </a:solidFill>
                <a:latin typeface="Lucida Sans Unicode"/>
              </a:rPr>
              <a:t>Sociale huurwoningen </a:t>
            </a:r>
            <a:r>
              <a:rPr b="0" lang="nl-NL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bedoeld voor mensen met een laag inkomen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31920" indent="-2325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700" spc="-1" strike="noStrike">
                <a:solidFill>
                  <a:srgbClr val="000000"/>
                </a:solidFill>
                <a:latin typeface="Lucida Sans Unicode"/>
              </a:rPr>
              <a:t>Vrije sector woningen </a:t>
            </a:r>
            <a:r>
              <a:rPr b="0" lang="nl-NL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bedoeld voor mensen met hogere inkomen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8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379" name="PIJL-OMLAAG 4"/>
          <p:cNvSpPr/>
          <p:nvPr/>
        </p:nvSpPr>
        <p:spPr>
          <a:xfrm>
            <a:off x="3924360" y="2455920"/>
            <a:ext cx="503280" cy="863640"/>
          </a:xfrm>
          <a:prstGeom prst="downArrow">
            <a:avLst>
              <a:gd name="adj1" fmla="val 50000"/>
              <a:gd name="adj2" fmla="val 49995"/>
            </a:avLst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AutoShape 2"/>
          <p:cNvSpPr/>
          <p:nvPr/>
        </p:nvSpPr>
        <p:spPr>
          <a:xfrm>
            <a:off x="63360" y="-136440"/>
            <a:ext cx="321012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Picture 4" descr="Gerelateerde afbeelding"/>
          <p:cNvPicPr/>
          <p:nvPr/>
        </p:nvPicPr>
        <p:blipFill>
          <a:blip r:embed="rId2"/>
          <a:stretch/>
        </p:blipFill>
        <p:spPr>
          <a:xfrm>
            <a:off x="7040520" y="0"/>
            <a:ext cx="2131920" cy="126828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6" descr="http://www.woonnieuws.nl/files/image/61"/>
          <p:cNvPicPr/>
          <p:nvPr/>
        </p:nvPicPr>
        <p:blipFill>
          <a:blip r:embed="rId3"/>
          <a:stretch/>
        </p:blipFill>
        <p:spPr>
          <a:xfrm>
            <a:off x="6156360" y="2637000"/>
            <a:ext cx="2482920" cy="171108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8" descr="http://www.wv.nl/typo3temp/pics/Label_vrije_sector_10_cm_RGB_1f993fb23a.jpg"/>
          <p:cNvPicPr/>
          <p:nvPr/>
        </p:nvPicPr>
        <p:blipFill>
          <a:blip r:embed="rId4"/>
          <a:stretch/>
        </p:blipFill>
        <p:spPr>
          <a:xfrm>
            <a:off x="7496280" y="5210280"/>
            <a:ext cx="1647720" cy="16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Ander woord </a:t>
            </a:r>
            <a:r>
              <a:rPr b="0" lang="nl-NL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huurovereenkomst. Hieruit vloeien rechten en plichte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700" spc="-1" strike="noStrike">
                <a:solidFill>
                  <a:srgbClr val="000000"/>
                </a:solidFill>
                <a:latin typeface="Lucida Sans Unicode"/>
              </a:rPr>
              <a:t>Recht verhuurder: 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huurbedrag op tijd krijge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700" spc="-1" strike="noStrike">
                <a:solidFill>
                  <a:srgbClr val="000000"/>
                </a:solidFill>
                <a:latin typeface="Lucida Sans Unicode"/>
              </a:rPr>
              <a:t>Plichten verhuurder: 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woning in goede staat opleveren en onderhoude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700" spc="-1" strike="noStrike">
                <a:solidFill>
                  <a:srgbClr val="000000"/>
                </a:solidFill>
                <a:latin typeface="Lucida Sans Unicode"/>
              </a:rPr>
              <a:t>Recht huurder: 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privacy en ongestoord woongeno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700" spc="-1" strike="noStrike">
                <a:solidFill>
                  <a:srgbClr val="000000"/>
                </a:solidFill>
                <a:latin typeface="Lucida Sans Unicode"/>
              </a:rPr>
              <a:t>Plicht huurder: 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de huur op tijd betale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5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386" name="AutoShape 2"/>
          <p:cNvSpPr/>
          <p:nvPr/>
        </p:nvSpPr>
        <p:spPr>
          <a:xfrm>
            <a:off x="155520" y="-2468520"/>
            <a:ext cx="6095880" cy="51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Picture 4" descr="Gerelateerde afbeelding"/>
          <p:cNvPicPr/>
          <p:nvPr/>
        </p:nvPicPr>
        <p:blipFill>
          <a:blip r:embed="rId2"/>
          <a:stretch/>
        </p:blipFill>
        <p:spPr>
          <a:xfrm>
            <a:off x="7308720" y="-54000"/>
            <a:ext cx="1835280" cy="154944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6" descr="http://www.psychologiepraktijkberingen.nl/images/praktijkregels.jpg"/>
          <p:cNvPicPr/>
          <p:nvPr/>
        </p:nvPicPr>
        <p:blipFill>
          <a:blip r:embed="rId3"/>
          <a:stretch/>
        </p:blipFill>
        <p:spPr>
          <a:xfrm>
            <a:off x="7385040" y="5229360"/>
            <a:ext cx="1735200" cy="162864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8" descr="http://www.watzijnkinderrechten.be/oorsprong/_img/oorsprongwat.gif"/>
          <p:cNvPicPr/>
          <p:nvPr/>
        </p:nvPicPr>
        <p:blipFill>
          <a:blip r:embed="rId4"/>
          <a:stretch/>
        </p:blipFill>
        <p:spPr>
          <a:xfrm>
            <a:off x="7554960" y="3662280"/>
            <a:ext cx="1539720" cy="12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Huurbedrag moet in verhouding zijn met de kwaliteit van de woning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Hoe meer luxe en hoe mooier de omgeving, hoe hoger de huur </a:t>
            </a:r>
            <a:r>
              <a:rPr b="1" lang="nl-NL" sz="2700" spc="-1" strike="noStrike">
                <a:solidFill>
                  <a:srgbClr val="000000"/>
                </a:solidFill>
                <a:latin typeface="Lucida Sans Unicode"/>
              </a:rPr>
              <a:t>mag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zijn!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Prijzen vaststellen </a:t>
            </a:r>
            <a:r>
              <a:rPr b="0" lang="nl-NL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gebruik maken van landelijk puntensysteem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1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392" name="AutoShape 2"/>
          <p:cNvSpPr/>
          <p:nvPr/>
        </p:nvSpPr>
        <p:spPr>
          <a:xfrm>
            <a:off x="63360" y="-136440"/>
            <a:ext cx="3695760" cy="23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3" name="Picture 4" descr="Gerelateerde afbeelding"/>
          <p:cNvPicPr/>
          <p:nvPr/>
        </p:nvPicPr>
        <p:blipFill>
          <a:blip r:embed="rId2"/>
          <a:stretch/>
        </p:blipFill>
        <p:spPr>
          <a:xfrm>
            <a:off x="5435640" y="4564080"/>
            <a:ext cx="3681360" cy="22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Houden aan opzegtermij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Huurder houdt zich niet aan huurcontrac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Woning in </a:t>
            </a:r>
            <a:r>
              <a:rPr b="0" lang="nl-NL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oorspronkelijke staat 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terugbrenge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Verkoop breekt geen huu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Dood breekt geen huu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5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2" descr=""/>
          <p:cNvPicPr/>
          <p:nvPr/>
        </p:nvPicPr>
        <p:blipFill>
          <a:blip r:embed="rId2"/>
          <a:stretch/>
        </p:blipFill>
        <p:spPr>
          <a:xfrm>
            <a:off x="5386320" y="4221000"/>
            <a:ext cx="3710160" cy="261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18 jaar geworden? </a:t>
            </a:r>
            <a:r>
              <a:rPr b="0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direct schrijven op </a:t>
            </a:r>
            <a:r>
              <a:rPr b="0" lang="en-US" sz="2700" spc="-1" strike="noStrike" u="sng">
                <a:solidFill>
                  <a:srgbClr val="ff8119"/>
                </a:solidFill>
                <a:uFillTx/>
                <a:latin typeface="Lucida Sans Unicode"/>
                <a:hlinkClick r:id="rId1"/>
              </a:rPr>
              <a:t>www.woningnet.nl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(eenmalig 50 euro betalen en daarna jaarlijks 10 euro verlengingskosten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achttijd voor betaalbare huurwoningen is lang, omdat de vraag naar deze huurwoningen groter is dan het aanbod hiervan. De prijzen liggen hierdoor ook hoog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8" name="Titel 2" descr=""/>
          <p:cNvPicPr/>
          <p:nvPr/>
        </p:nvPicPr>
        <p:blipFill>
          <a:blip r:embed="rId2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399" name="AutoShape 5"/>
          <p:cNvSpPr/>
          <p:nvPr/>
        </p:nvSpPr>
        <p:spPr>
          <a:xfrm>
            <a:off x="155520" y="-677880"/>
            <a:ext cx="184788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AutoShape 7"/>
          <p:cNvSpPr/>
          <p:nvPr/>
        </p:nvSpPr>
        <p:spPr>
          <a:xfrm>
            <a:off x="155520" y="-677880"/>
            <a:ext cx="184788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9" descr="Gerelateerde afbeelding"/>
          <p:cNvPicPr/>
          <p:nvPr/>
        </p:nvPicPr>
        <p:blipFill>
          <a:blip r:embed="rId3"/>
          <a:stretch/>
        </p:blipFill>
        <p:spPr>
          <a:xfrm>
            <a:off x="5867280" y="2421000"/>
            <a:ext cx="2160720" cy="16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ensen met een 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laag inkomen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en die in een huurwoning wonen met een 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huurbedrag dat ligt tussen de minimale en de maximale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huurgrens, krijgen huurtoeslag van de overheid, als hulp in de huurlaste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onen </a:t>
            </a:r>
            <a:r>
              <a:rPr b="0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basisbehoeft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3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2" descr="http://stuworld.nl/uploads/content/Wie%20krijgt%20huurtoeslag_600x266.jpg"/>
          <p:cNvPicPr/>
          <p:nvPr/>
        </p:nvPicPr>
        <p:blipFill>
          <a:blip r:embed="rId2"/>
          <a:stretch/>
        </p:blipFill>
        <p:spPr>
          <a:xfrm>
            <a:off x="1403280" y="4508640"/>
            <a:ext cx="3203640" cy="142056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3" descr=""/>
          <p:cNvPicPr/>
          <p:nvPr/>
        </p:nvPicPr>
        <p:blipFill>
          <a:blip r:embed="rId3"/>
          <a:stretch/>
        </p:blipFill>
        <p:spPr>
          <a:xfrm>
            <a:off x="5000760" y="3860640"/>
            <a:ext cx="4143240" cy="29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Klein onderhoud (wordt door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                             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huurder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betaald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Onderhoud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Groot onderhoud (wordt door              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                             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verhuurder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betaald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7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cxnSp>
        <p:nvCxnSpPr>
          <p:cNvPr id="408" name="Rechte verbindingslijn met pijl 4"/>
          <p:cNvCxnSpPr/>
          <p:nvPr/>
        </p:nvCxnSpPr>
        <p:spPr>
          <a:xfrm flipV="1">
            <a:off x="2987640" y="2275920"/>
            <a:ext cx="721440" cy="108180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cxnSp>
        <p:nvCxnSpPr>
          <p:cNvPr id="409" name="Rechte verbindingslijn met pijl 7"/>
          <p:cNvCxnSpPr/>
          <p:nvPr/>
        </p:nvCxnSpPr>
        <p:spPr>
          <a:xfrm>
            <a:off x="2987280" y="3357720"/>
            <a:ext cx="577080" cy="108000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pic>
        <p:nvPicPr>
          <p:cNvPr id="410" name="Picture 9" descr="http://www.derietdekker.nl/images/user/nieuw-rieten-dak/inspectie-rieten-dak.jpg"/>
          <p:cNvPicPr/>
          <p:nvPr/>
        </p:nvPicPr>
        <p:blipFill>
          <a:blip r:embed="rId2"/>
          <a:stretch/>
        </p:blipFill>
        <p:spPr>
          <a:xfrm>
            <a:off x="1042920" y="3716280"/>
            <a:ext cx="1513080" cy="169380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13" descr="http://ohsosteffi.files.wordpress.com/2014/04/dsc_0421.jpg"/>
          <p:cNvPicPr/>
          <p:nvPr/>
        </p:nvPicPr>
        <p:blipFill>
          <a:blip r:embed="rId3"/>
          <a:stretch/>
        </p:blipFill>
        <p:spPr>
          <a:xfrm>
            <a:off x="6593040" y="0"/>
            <a:ext cx="2550960" cy="170028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17" descr="http://www.vanloonschilderwerken.nl/wp-content/uploads/2013/03/Buitenschilderwerk-Halsteren.jpg"/>
          <p:cNvPicPr/>
          <p:nvPr/>
        </p:nvPicPr>
        <p:blipFill>
          <a:blip r:embed="rId4"/>
          <a:stretch/>
        </p:blipFill>
        <p:spPr>
          <a:xfrm>
            <a:off x="6873840" y="5157720"/>
            <a:ext cx="2270160" cy="170028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19" descr="http://www.klusidee.nl/Forum/userpix/91339_2vv2u7q_2.jpg"/>
          <p:cNvPicPr/>
          <p:nvPr/>
        </p:nvPicPr>
        <p:blipFill>
          <a:blip r:embed="rId5"/>
          <a:stretch/>
        </p:blipFill>
        <p:spPr>
          <a:xfrm>
            <a:off x="4716360" y="5183280"/>
            <a:ext cx="2232000" cy="167472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21" descr="https://static.karwei.nl/medias/sys_master/h39/h17/8796287827998.jpg"/>
          <p:cNvPicPr/>
          <p:nvPr/>
        </p:nvPicPr>
        <p:blipFill>
          <a:blip r:embed="rId6"/>
          <a:stretch/>
        </p:blipFill>
        <p:spPr>
          <a:xfrm>
            <a:off x="5126040" y="0"/>
            <a:ext cx="1444680" cy="170028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23" descr="http://www.fantv.nl/images/stories/klus/behangen.jpg"/>
          <p:cNvPicPr/>
          <p:nvPr/>
        </p:nvPicPr>
        <p:blipFill>
          <a:blip r:embed="rId7"/>
          <a:stretch/>
        </p:blipFill>
        <p:spPr>
          <a:xfrm>
            <a:off x="3492360" y="0"/>
            <a:ext cx="1659240" cy="170028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25" descr="http://www.zkkf.nl/foto/zelf-kozijnen-monteren/plaatsen_kunststof_kozijnen.jpg"/>
          <p:cNvPicPr/>
          <p:nvPr/>
        </p:nvPicPr>
        <p:blipFill>
          <a:blip r:embed="rId8"/>
          <a:stretch/>
        </p:blipFill>
        <p:spPr>
          <a:xfrm>
            <a:off x="2484360" y="5165640"/>
            <a:ext cx="2249640" cy="16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1T14:51:49Z</dcterms:created>
  <dc:creator>rachid</dc:creator>
  <dc:description/>
  <dc:language>en-US</dc:language>
  <cp:lastModifiedBy>Rachid Hamdi</cp:lastModifiedBy>
  <dcterms:modified xsi:type="dcterms:W3CDTF">2016-12-07T10:55:26Z</dcterms:modified>
  <cp:revision>61</cp:revision>
  <dc:subject/>
  <dc:title> </dc:title>
</cp:coreProperties>
</file>