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805F-65E2-4D90-9506-1C9432A5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5947-8831-40E2-ACD1-260528ED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DA8A-2A7E-4065-9C66-20CA4B8D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794A-EB0D-41A6-884A-0CD67CDC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BE41-96D0-4602-9D8B-9744E2B3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4D98-95F7-4D3E-A115-FD637E7F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4741-F12D-4D8D-ADD5-D19DD2A2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CC14-9F8B-4C13-B828-CACB0028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8872-3E31-4B8A-9535-EFA6D7B7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0715-4D18-4179-80B7-121816C4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4EE6-BBC3-49EF-933B-CA2A8C59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6348-20DA-43DF-A9CA-AABB2F87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3F88-179E-41BD-97BC-952A93E4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8B7B-D420-4303-A854-D8C70C35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DBA1-28FE-486F-86AA-B3D08FFE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A3E5-834D-42DD-A389-4D3FBADC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5A98-28ED-4F6B-8D91-5E27D794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CD61E-8BE6-4388-BA4E-7F5813C6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2F5B9-9CB0-4CE0-8966-A1F7DFEE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CE5E6-0EEA-4A61-B54A-6962750D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C31C2-2AEE-438B-B58A-F369419F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C6EA6-6848-4A16-90F1-34BD4EE8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947D-29D3-4433-A004-B654D42B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8E834-DB22-443B-8388-F546B9C7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63E59-A018-474C-B918-3F9DA21A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60418-11D6-4328-9F22-A7103191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75E66-329D-41AF-B521-11252076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A0D85-3A78-4CD2-8D50-F2DCC42A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AA653-80F7-4921-9B0A-D2259FD6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300A6-A9A9-4239-AE23-AB944FA1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3F2B8-F465-477D-9C30-BD20FEEC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E565D-8F51-45BB-ABF7-5330D3E2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F9471-847F-42B7-9B90-ABF6B1C6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63E7-9C9C-4F9C-B0C5-5F7CF358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E137C-AA2D-4FD4-B615-499E0EAE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1FAAA-15FF-4F04-BAB4-EC265CF8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E3B38-D78D-4C6E-B383-5968EF55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09B85-FB3C-4D3A-A078-33F76E6E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47B20-F079-47CD-B51A-31FDEFB8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FBA8B-1D63-4E09-9B0A-CD6E9B96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888B0-30E5-41C4-83DE-E1EE4B2F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5F436-B87A-4313-8728-CF56AF1B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DC68B-E276-45E7-B224-8DC523AF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13D70-0193-4265-92C0-689D674D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ADA0-8F2A-4C29-B46F-D0B3067E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180BE-3823-45A3-85A6-B44CC1B5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05B03-82AF-4DED-A00A-3D531661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E6B77-6E9D-427A-97C1-84CF5195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676D9-6D11-4F5A-BE38-77ABE83F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DD768-3014-4358-A00C-91F8A562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AAEAC-5EA5-43F9-93B3-EB72C475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A2FAD-7D4D-4C74-B2B4-608B2790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A3BC9-AD93-49D7-A877-8796B37E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F30A9-D91C-4368-8031-E520A5AA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D76A6-7B3F-43BD-8141-A409C6A8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E125-0E94-4B70-A22A-F36E6B53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A10E5-9B2F-46CD-9D32-9A672205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48825-6C6A-492E-9010-59350C1F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548B5-F1ED-43BE-BC91-C893CFE7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2699F-3E34-4E7B-97D6-AEEF4508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0F9EF-F573-4505-AF64-AA467918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F4F8A-3F88-4E20-B1E4-56859ABE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D6391-FA35-4203-AA01-A3EBD9D1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CFDAE-C285-46D8-8402-66C8C20C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BA500-D251-49AC-877D-52D09E35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03194-35A4-41C8-AE98-F5892E0A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E941-DCC3-4918-87E1-8A9C10E5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ABCA0-D980-475C-9EFB-E6C4B1E4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A7219-B4E7-47D4-972C-461F6353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95202-F7B7-4B71-8F3B-8436E73D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8F5A9-31B4-48FA-8C19-4157E456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C9A0B-1A3C-4C34-8205-E1A1CBD3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A86D2-CF02-49E1-B61D-D48CDC9C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46295-0D63-4F73-ACD8-6F3E16CE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F7750-CF8C-43CA-AA54-A13F659E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79652-6FB6-4154-903F-57C67B95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C76DF-17D0-4A52-A567-22ED01D8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78FF-1492-45C3-A3A9-BE76EC51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972DE-9007-4780-99EE-FD0E7B9A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4CFCA-356D-4A03-8D55-00EF697A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DC1FD-240B-4750-A723-1B90BB9F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26EDF-4CCE-4119-A5AA-D07C9530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E7C4C-60E1-433A-9EDE-30367FB7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1F3E0-CF53-4327-A50C-7BA1FF36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22C51-CFA3-4166-A8C0-2D0D01DD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01D37-37A7-4EB2-B7CA-2ECBFB2F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6779E-3AF9-4CA9-8ADC-C46C5CBD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75936-8D32-4869-986A-BCB23AA4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8A64-B4C5-46C2-88C8-045540C8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15165-4CBA-4688-86AB-DCBA809C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CFD23-C57A-4AA6-89BC-C982BBD5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62151-412F-4DC9-92E3-7480C99D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A04FB-379B-46DE-85F1-B1576078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D4FFA-EE15-4065-962F-DA7A7AE7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E4AAB-E249-4586-A78A-984AED6C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96D6D-A170-4726-93CD-479CF466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DEC9-7ABE-4D89-AD9F-445455E800A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2CCC-F8AE-4A13-B4A9-3E2D00D0DCA3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D4C2-1F49-449B-8B42-BBB321AEB17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EDB0-6391-41E2-81D7-48D84868C23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F32A-FC27-49F3-99A6-8E013A74300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E750-EA87-441E-9504-0010A558B16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5811-4777-49D0-B5F7-3D01BF77D44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CE17-6666-4C0A-870A-4DCC2ED4CADB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ren of kope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huren of kopen"/>
          <p:cNvPicPr/>
          <p:nvPr/>
        </p:nvPicPr>
        <p:blipFill>
          <a:blip r:embed="rId2"/>
          <a:stretch/>
        </p:blipFill>
        <p:spPr>
          <a:xfrm>
            <a:off x="-11160" y="-22320"/>
            <a:ext cx="31672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539640" y="1341360"/>
          <a:ext cx="7442280" cy="4343400"/>
        </p:xfrm>
        <a:graphic>
          <a:graphicData uri="http://schemas.openxmlformats.org/drawingml/2006/table">
            <a:tbl>
              <a:tblPr/>
              <a:tblGrid>
                <a:gridCol w="4057920"/>
                <a:gridCol w="3384360"/>
              </a:tblGrid>
              <a:tr h="57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ettelijke huurbescherming (verhuurder kan je niet zomaar op straat zet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het huis niet verbeteren zoals jij w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in aanmerking komen voor huurtoesl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aarlijkse huurverhoging (op 1 jul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urcontract kan binnen korte tijd opgezegd worden (gemakkelijker verhuiz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een opbouw eigen verm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14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iet verantwoordelijk voor groot onderhoud (verhuurder betaalt dit); voorbeelden zijn: rotte kozijnen, lekkende dakgoten, tochtende ramen en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611280" y="1268280"/>
          <a:ext cx="7705800" cy="4845240"/>
        </p:xfrm>
        <a:graphic>
          <a:graphicData uri="http://schemas.openxmlformats.org/drawingml/2006/table">
            <a:tbl>
              <a:tblPr/>
              <a:tblGrid>
                <a:gridCol w="4200480"/>
                <a:gridCol w="3505320"/>
              </a:tblGrid>
              <a:tr h="47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20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oning aanpassen aan eigen woonwen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erhuizen is lastiger (eerst huis verkopen tegen een goede prijs en dan een geschikte woning vinden voor een redelijke prij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s de rente niet omhoog gaat, zijn de hypotheeklasten stabiel (= gelij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et is niet van tevoren bekend of de rente omhoog gaat (en dus ook de hypotheeklas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oor af te lossen bouw je eigen vermogen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Zelf aansprakelijk voor groot onderho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is kan in waarde da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xtra belastingen en heffingen. Bijvoorbeeld onroerende zaakbelasting en opstalverzekering (= verzekering van het huis tegen storm- en brandscha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zelf het klein onderhou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inboedelverzekering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Afbeeldingsresultaat voor inboedelverzekering"/>
          <p:cNvPicPr/>
          <p:nvPr/>
        </p:nvPicPr>
        <p:blipFill>
          <a:blip r:embed="rId2"/>
          <a:stretch/>
        </p:blipFill>
        <p:spPr>
          <a:xfrm>
            <a:off x="3851280" y="4822920"/>
            <a:ext cx="5291280" cy="2035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Afbeeldingsresultaat voor klein onderhoud woning"/>
          <p:cNvPicPr/>
          <p:nvPr/>
        </p:nvPicPr>
        <p:blipFill>
          <a:blip r:embed="rId3"/>
          <a:stretch/>
        </p:blipFill>
        <p:spPr>
          <a:xfrm>
            <a:off x="6450120" y="2276640"/>
            <a:ext cx="26636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5T16:16:24Z</dcterms:modified>
  <cp:revision>69</cp:revision>
  <dc:subject/>
  <dc:title> </dc:title>
</cp:coreProperties>
</file>