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D9C-5E05-42AA-9DEA-9BE22EC6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BA5A-9A71-4D55-BB3B-5E87674F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BF64-99A4-40C6-854B-0EA7EA3C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3BC-3ABB-4BC1-B49B-1D05EEA2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F549-E61F-44AA-836E-D23F844D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4667-1807-4060-B5F9-315AD941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966A-D7FC-4854-8FB4-2F62E06F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1A92-7237-4A08-B2D3-43AB71EE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9F6E-E420-4F98-907D-874C4B9C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F8FD-EC71-4432-BC8A-E11A5F50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2D9A-A3F5-4BF3-A7AE-0576AACA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8DA0-69B0-442D-ADFC-3381543C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A18C-EE1D-4928-A76A-81AC08A0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460B-10FC-4860-8D9C-F7A655E5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AC54-1D37-482B-B147-190C5CF3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0FCD-1393-48E4-8A39-0499B956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863C-9AA3-4C4C-B7BD-4F9449FB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69EFF-B600-444C-9CB0-1BADDAEE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8EC86-8FFB-4A8C-B38E-75F31CF0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9348E-027B-4923-998B-6015BC45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42E5E-7674-4AFF-860C-BBE7ECFD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500E1-4D59-4664-93D3-D7357717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DA1-13BC-48E6-8974-9D0E6768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E364B-8206-4710-9B7A-B69013E6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E48EB-265D-4BF5-8F5C-E91483A8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BAEE2-4FAF-401F-B4C9-C083BD68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2CEE0-6576-44CE-B586-D032E245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D6548-CD21-489B-B5D4-5034A460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E100F-B78F-4D07-8868-5D7FBA50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84E4F-1E5B-414C-9C76-FE20409F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15492-EA2D-455D-A69F-E2E3A38F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77C6F-8041-4F0F-9844-1F566914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978D5-562C-4891-89FA-A89415AD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C584-A38D-4161-A461-BD2CB5A9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5F85B-ED90-45DC-B7E9-E1381D9B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6D3F6-77CC-432B-A1C3-A4BCC430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EC09F-4334-4F33-BB43-86CBD681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D45A3-09FB-4A2A-BFA6-9C16A0FC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484BC-F887-4D9C-8DEF-522DA237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C078B-C6AC-4730-87F7-508408C3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B454E-335B-4BF4-AE89-3B49929A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30CB7-27C2-4958-B5A0-82D1ABAC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DF1B0-E27D-4FA5-B625-DDFA55E8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6FB7C-32F8-43D5-A449-426B25CA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764-0E46-4864-904D-A10619F0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81FF6-2DCF-4B57-8B01-EEDDDCD0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68ACA-49C3-4079-A872-164E2AB7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D5C80-D189-4904-9082-0C6F475D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21BBA-898E-4C35-B6FE-7A5EE416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32AC2-86E8-474A-80B5-E1268B70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855E9-28AE-4DE6-9978-CDEF1E01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905CD-AB4A-4FD1-AE18-1E1BFA09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0B647-8AF3-41CC-9BBC-0FFAE292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DBD8C-B63E-48E2-8D88-C2C4CEB2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2514A-EA26-4253-8E3E-E938BD21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80B1-DEBF-49CF-BACB-72851567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E06E7-593C-4EBC-A757-04F7A854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0730B-BB49-4BA0-9938-28FB9B47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28941-9D92-4B33-A29D-93BC9A9F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EB51F-0871-4E25-B66B-D200BADD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B1FCE-BAFA-4545-8BE2-0792607D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DD6FB-F656-4AA5-8621-86A6EB77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B0EDA-081E-4160-9808-C897B17B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02585-5CB2-476F-89F6-151694E8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D5BC8-6299-4F1D-8F0C-2BA88A48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31290-0557-4A4F-A11F-3BD22DA0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FB4-716D-41FF-8A23-C236E889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704B7-7931-4610-8A3A-15FC72FA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48D00-A1C5-424D-B26B-139FA7A8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AF5A1-654F-4D0B-B5F3-F73B7229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BDBE9-84EF-430D-A609-3375BF90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0630C-67DD-4536-90DE-9E4CA843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0BD3D-53C9-47B3-BBDB-CDAF53D9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7B8FB-FBDC-4DEC-85D0-D5A62A0A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8A6FB-E13D-4873-9EB7-318CD88F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694FD-43DB-4760-9E78-C6ADC11A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EC870-6D01-4A69-9C49-DA2772C5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10F7-6AB8-4FEC-B121-3A8E2D65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24579-B8ED-4A3F-9127-24EA6921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F56B6-AB28-4349-9CB7-0E2F6488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31CB7-7A94-4BF5-BFE3-CD604529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43EB7-A0BB-4DEA-BC89-B30C47D0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54508-EF5D-42C9-B296-027F53A2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B3A14-87C1-4640-B0FF-C155D6FA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91642-7EAB-47A7-B38C-D70EC0B0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F0BF6-F5DB-4AEE-849B-F4E34590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42B29-2902-4081-B8AF-17417477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0F005-76EE-4F59-9239-A9A95D63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C72-EAF5-4F0C-96F4-5C1A0EDE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292C1-D9AF-4D6A-B212-7DBDF72C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2A8FB-C9D5-4115-9548-D3A6C228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FA62B-1A79-484C-BD32-A19757F1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4BE33-DB1C-45C3-9F3B-0ACBEF73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32B72-8018-4F3F-9CF5-AE1FF888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3E057-5AD8-4CC0-87CB-ADDD541E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32895-8769-41F0-89DB-BDFB1701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0CB3-D63E-419F-A6EB-E59DA8D0175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CA72-7035-48DD-AADD-C3649385E04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9062-2F78-49B1-97B6-25A6FD824B6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05BF-9CD4-4FF9-BC8D-7BA787C1D51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D52F-5106-4D1C-A66B-6D6300DDB16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E167-6C00-487A-963C-450726248D1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B6EA-466D-44FD-9DFC-7E257D957D3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FEF3-9EC6-40B5-B1AE-FD5AC278122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oed verzeker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goed verzekerd"/>
          <p:cNvPicPr/>
          <p:nvPr/>
        </p:nvPicPr>
        <p:blipFill>
          <a:blip r:embed="rId2"/>
          <a:stretch/>
        </p:blipFill>
        <p:spPr>
          <a:xfrm>
            <a:off x="0" y="17640"/>
            <a:ext cx="313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83664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stalverzekering; schade aa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boedelverzekering; schade aan spullen i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sprakelijkheidsverzekering particulieren (AVP); schade aan de an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ttelijke aansprakelijkheidsverzekering (WA); voor bestuurders motorvoertuig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-cascoverzekering (all riskverzekering); schade van tegenpartij en eigen voertu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rgverzekering; voor ziektekost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70588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Afbeeldingsresultaat voor WA verzekering"/>
          <p:cNvPicPr/>
          <p:nvPr/>
        </p:nvPicPr>
        <p:blipFill>
          <a:blip r:embed="rId2"/>
          <a:stretch/>
        </p:blipFill>
        <p:spPr>
          <a:xfrm>
            <a:off x="6858000" y="536724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Afbeeldingsresultaat voor opstalverzekering"/>
          <p:cNvPicPr/>
          <p:nvPr/>
        </p:nvPicPr>
        <p:blipFill>
          <a:blip r:embed="rId3"/>
          <a:stretch/>
        </p:blipFill>
        <p:spPr>
          <a:xfrm>
            <a:off x="4586400" y="5392800"/>
            <a:ext cx="2271600" cy="1492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Afbeeldingsresultaat voor inboedelverzekering"/>
          <p:cNvPicPr/>
          <p:nvPr/>
        </p:nvPicPr>
        <p:blipFill>
          <a:blip r:embed="rId4"/>
          <a:stretch/>
        </p:blipFill>
        <p:spPr>
          <a:xfrm>
            <a:off x="2706840" y="545616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Afbeeldingsresultaat voor aansprakelijkheidsverzekering particulieren"/>
          <p:cNvPicPr/>
          <p:nvPr/>
        </p:nvPicPr>
        <p:blipFill>
          <a:blip r:embed="rId5"/>
          <a:stretch/>
        </p:blipFill>
        <p:spPr>
          <a:xfrm>
            <a:off x="306360" y="5486400"/>
            <a:ext cx="2394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v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re verzekerde waarde dan juiste of getaxeerde waard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nde van de hogere premie die betaalt, want bij schade krijg je niet meer vergoed dan de werkelijke scha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nd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agere verzekerde waarde dan juiste of getaxeerde 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 schade krijg je minder vergoed dan de werkelijke schade, omdat je maar voor een deel bent verzeker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ierbij geldt de onderverzekeringsbreu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68200" y="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385" name="PIJL-RECHTS 3"/>
          <p:cNvSpPr/>
          <p:nvPr/>
        </p:nvSpPr>
        <p:spPr>
          <a:xfrm>
            <a:off x="6516720" y="6165720"/>
            <a:ext cx="2232000" cy="432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Afbeeldingsresultaat voor oververzekering"/>
          <p:cNvPicPr/>
          <p:nvPr/>
        </p:nvPicPr>
        <p:blipFill>
          <a:blip r:embed="rId2"/>
          <a:stretch/>
        </p:blipFill>
        <p:spPr>
          <a:xfrm>
            <a:off x="6684840" y="2565360"/>
            <a:ext cx="2482920" cy="1217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onderverzekering"/>
          <p:cNvPicPr/>
          <p:nvPr/>
        </p:nvPicPr>
        <p:blipFill>
          <a:blip r:embed="rId3"/>
          <a:stretch/>
        </p:blipFill>
        <p:spPr>
          <a:xfrm>
            <a:off x="2336760" y="2565360"/>
            <a:ext cx="17337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(Verzekerd bedrag : getaxeerde waarde) x schade = schade uit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1-11T09:15:51Z</dcterms:modified>
  <cp:revision>80</cp:revision>
  <dc:subject/>
  <dc:title> </dc:title>
</cp:coreProperties>
</file>