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BF3-DC2B-42DB-8813-76B01681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B407-D693-4243-9276-9FA09363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B936-BA5C-4028-ADED-BCE98E83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8687-3FC2-4ACF-B5FA-86282978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B568-EC7E-4842-9DAE-F96C82E7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03B3-0B3D-4C31-9F76-5DEECCB3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DA4B-21B8-456A-B7D2-A416F182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9C9E-DF94-4801-82A6-856A1EF2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AE4F-F212-44A1-8466-240D1AB6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BF87-C56A-4FD9-95DC-8543A9AB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A8EE-0480-4CA7-BB72-7091B799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D029-E525-40EE-A557-550048C9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D6DE-C988-411C-AC06-65303B1F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C0D0-FE00-4E4A-AD14-5F165857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1381-ED08-40BE-B65C-59D0055A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22F0-F0E1-4247-A47F-5A282FEA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D280-32D9-437D-9E87-B609C928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F3262-1743-4EC2-A7A8-2BF12BB5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25909-71BC-445E-AB32-CE174875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E1E5D-FF15-463E-9B26-9A391588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FF0F1-3B64-42F7-BF6B-A17D94C2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D5BD7-6F29-4BD8-AB9E-06046C9D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83AB-738B-472E-9A8D-6DAE78AC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FC8C0-FDEA-4D55-B3DA-335ABE4D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250FA-62F0-44BE-A9A4-F2E8858C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B370A-E666-479B-822D-CB97FDB0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25E70-0FEB-4DD0-9D09-43D025DD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07C7A-BD32-4B11-8987-D5826577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FC48A-2493-437F-BD5A-8757B289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78719-E291-4AD5-B2B1-C28848E0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3BE0B-CD3B-4DA3-ACE5-84A59CDB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9F827-81AD-4B71-A8D9-75087F25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99163-AEFB-4D15-9BD4-ABFAAC40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986-CC7C-4323-B0AD-57D7E7A1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F25B1-4ABD-4DB8-B626-C2367B14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78D7C-1A4A-404A-90FE-461B9797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894C5-59AF-4698-85EA-AE641D26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3A45D-9355-4DB1-8A14-B6E21ADA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E9881-000E-4498-8661-4D1F8292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DF8D4-1AED-45B8-9E3A-3A76ECF0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31064-C45E-4B52-9198-12953C58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1E7B4-0553-439E-AA52-46FBE725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E2138-08F9-4418-9682-401D67E2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D19DF-6591-45E6-9F58-0E141158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18C-5585-4255-AB2F-E124A37D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373E3-E9DB-48DB-89C2-D8FDCE55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A7995-30EC-485B-B38F-19ACEEA1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5763E-8EC2-4654-BBA0-70344B26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E2677-CFE9-43E0-B06C-78410E5C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E3497-FDB7-4C56-8573-F7402E78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83724-81AD-48AB-9241-51BA5AA4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88DC5-A55B-40E4-BA87-116E41C2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36667-1F0A-4937-815B-D34EAB80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A3AF4-38E6-42F5-A017-3AA3B70F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06D0B-70AD-47C0-B7B9-178B5BBC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283-094B-4C40-B854-55C7D30E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55CD8-23B5-4E46-9FAA-2A1D0322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39C55-64FC-44C1-9CD4-797262E7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188C1-193C-4635-AE0F-4305BB90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32532-A2E5-403B-8C32-A6A655A2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540E1-73B6-4AFE-A841-1A7FA57B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BC26E-58AB-4366-86A7-1F5E3B47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78591-F51F-472E-A707-D266559B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F3382-129C-4E07-ACB7-10BCC148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DAEC9-A13A-4EF1-940F-73A51678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27B2D-3FF7-4DC5-B561-E79A77E8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F4EF-5416-4594-8A36-FAF06AD6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774D9-7CD4-4A93-8611-611A589B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16E1F-8783-4C2E-B5E0-851E1C0F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68E43-6DAF-42C7-97FC-0E859114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86084-26B8-4175-8752-A4C24FA7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C23DD-443E-4B42-8D15-051D202D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4B107-1F52-4C0A-965A-3B019D27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04ECC-FB38-48BC-AC2E-558B84CD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529E1-C9C7-4C3C-AE96-15B93B55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64FBF-E3A0-4FFF-8A0F-1388BC60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90627-E4C8-4CBE-B77B-7D4C4B4D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7F6-C4B2-4C3D-838E-BE119A21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C0FCE-FB79-43FA-83EB-178FE20B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3129A-E6A1-4662-8BF5-6B8632F1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F149D-09C1-4AF9-8F6B-9D3DD248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274E8-C921-482F-821C-C725A1CC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3D940-D571-4E03-ACB4-902F95B6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1BDC0-5126-48C2-A28E-DB4BCFB0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E915B-3E21-4102-8087-6DB626F7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03987-5AC1-4C79-BD5B-46C57552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16B71-B7AE-48ED-81BB-D57BA8C8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5A679-8100-4D28-9845-98EF29A1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9144-E786-45AA-B391-E1663902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A84DD-EEB0-4348-BA59-4516C841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F8025-13C1-4572-863A-23A1E689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D65F4-6224-4420-A578-EBF77E97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0F9E2-C019-4123-AE3D-10AB58CF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F3CF6-2784-4F55-8A20-BB5B5958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09BC3-C01B-4D3C-85F6-19BB2EB6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30DEC-FBD2-4A76-AB3B-8DC85490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B278-5ACE-493F-9215-FF8AD7DD41C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918F-ACF4-4857-AC13-00AEED977CB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7A01-AD8A-48D2-B26F-0FAEB9C285C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36EA-2DB5-4137-932D-65279F22DB6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C390-8EA7-409B-AC79-6E012381800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E59C-D627-43C0-BC6B-2CD92E9EFCD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D0B5-0443-48E9-8ABA-6CA207D67D5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A432-52F5-46CE-8A5A-42EEB6CC25A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826920" y="103320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De woningfinancier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://www.eggebeenverzekeringen.nl/img/hypotheek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http://www.detijdnotariaat.nl/images/diensten-hypotheek.jpg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http://www.at5.nl/artikelen/163193/blindkopers_sophie_zag_haar_nieuwe_huis_pas_bij_de_sleuteloverdrach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ing voor de aankoop van een hu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eklasten: maandelijks aflossing en rent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huis geldt al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pa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e woning. Dit betekent dat wanneer de koper de hypotheeklasten niet kan betalen, dat de bank de woning verkoopt en met de opbrengst de hypotheek aflo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5"/>
          <p:cNvSpPr/>
          <p:nvPr/>
        </p:nvSpPr>
        <p:spPr>
          <a:xfrm>
            <a:off x="155520" y="-1600200"/>
            <a:ext cx="681048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6340320" y="5516640"/>
            <a:ext cx="2773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5280" y="18900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at de bank een lening verstrekt, laat de bank een deskundige de woning taxeren (= werkelijke waarde vaststell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ank wil namelijk niet meer dan de werkelijke waarde van de woning le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bank meer leent dan de woning waard is, loopt de bank het risico het geleende bedrag niet geheel terug te krijg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6" descr="Gerelateerde afbeelding"/>
          <p:cNvPicPr/>
          <p:nvPr/>
        </p:nvPicPr>
        <p:blipFill>
          <a:blip r:embed="rId1"/>
          <a:stretch/>
        </p:blipFill>
        <p:spPr>
          <a:xfrm>
            <a:off x="3348000" y="458136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het begin hebben veel mensen moeite om hun hypotheek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termijn is in het begin hoog in verhouding tot hun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ijg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makkelijker om de lasten d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l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oeilijker om de 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rkloos of arbeid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geschikt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ing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248440" y="4149720"/>
            <a:ext cx="38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Afbeeldingsresultaat voor lineaire hypotheek"/>
          <p:cNvPicPr/>
          <p:nvPr/>
        </p:nvPicPr>
        <p:blipFill>
          <a:blip r:embed="rId3"/>
          <a:stretch/>
        </p:blipFill>
        <p:spPr>
          <a:xfrm>
            <a:off x="1403280" y="148428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abel; percentage kan op elk moment omhoog- of omlaaggaa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 jaar va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 jaar v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www.mondtadviesgroep.nl/wp-content/uploads/2013/11/belastingrente.jpg"/>
          <p:cNvPicPr/>
          <p:nvPr/>
        </p:nvPicPr>
        <p:blipFill>
          <a:blip r:embed="rId2"/>
          <a:stretch/>
        </p:blipFill>
        <p:spPr>
          <a:xfrm>
            <a:off x="4078440" y="4149720"/>
            <a:ext cx="50655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al betaalde aflossi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hogere marktwaarde van de won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oning is meer waard dan ervoor betaald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Afbeeldingsresultaat voor aflossingen"/>
          <p:cNvPicPr/>
          <p:nvPr/>
        </p:nvPicPr>
        <p:blipFill>
          <a:blip r:embed="rId2"/>
          <a:stretch/>
        </p:blipFill>
        <p:spPr>
          <a:xfrm>
            <a:off x="1979640" y="3500280"/>
            <a:ext cx="5991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4T10:14:05Z</dcterms:modified>
  <cp:revision>75</cp:revision>
  <dc:subject/>
  <dc:title> </dc:title>
</cp:coreProperties>
</file>