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5.jpeg" ContentType="image/jpeg"/>
  <Override PartName="/ppt/media/image8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4.png" ContentType="image/png"/>
  <Override PartName="/ppt/media/image20.png" ContentType="image/png"/>
  <Override PartName="/ppt/media/image3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AF36-36FB-47FB-9F04-520FEFB6D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110B-F6C7-40D0-8FCB-7B6A40C5B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FD6C-26F7-4D09-9311-AE98B62E2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621A-5646-40EC-AEE4-E79ABE958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F8C8D-FD4B-44F2-875A-8B37A0D3A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CDB6F-E044-4098-91C1-DA0CCF78A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F9A7E-7D5B-4E99-B197-45095E2DD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6FFF9-DB28-4FCF-AEA0-A16F5190F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C89D6-B256-4ECF-9427-FC7D188C6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A9249-912F-49AA-8143-D86E7204A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DAB70-E6A1-468A-81D7-D7C1F604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ADB5-B69E-45D8-8B63-DD29A127D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A4C37-D37B-44CF-ADB9-3332EAC8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7D0E6-4538-480A-8AA8-7309237A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3025B-ADA3-4B22-8BC0-6E7BE5DDA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4E4DA-5B02-4CBA-90FD-909049F1A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68C6B-1284-479C-8A45-CA8435EFF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0767A-79ED-4214-B9D4-ED7D64E84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E2059-300A-4B20-B4FF-8F2FAB0F4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DB29D-37AB-4A10-AA76-689AE29FC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32DF5-A881-4554-AD8E-34170452B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72B6C-F6EC-4990-BD51-27892D62A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9D88-0E55-45C5-ADF8-9860D121B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B0AF4-EF29-4C46-82FE-7436D5039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F93AB-AC9B-49FF-9880-5A933B78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A44C6-2670-4E2F-97E4-E370AF05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92E3D-8B93-412F-9E0E-A29045A6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EE851-E1BC-47B1-85C4-62A8CFC42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4D348-1C2C-41C4-BB36-B8318AFBC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5A370-B01C-4158-855C-1F5D1AF7C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5983E-C6CD-4A23-8EF0-63EFE5CF7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D85BF-46E2-4C98-BD5A-DFC50A598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C47A8-56C9-44CF-8DFD-28222DE33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1FE8-3959-4E9E-8EE1-A2BE244C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B96AA-1B95-418D-82D7-1ED713E90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2F617-973F-4A56-9719-BCFCF55EF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21670-093F-4989-BF55-B1E7F488C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AB450-4A26-498F-A49D-43B32986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08C8A-4C60-4078-BC48-1B2F7108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51E77-312E-4A9A-9DBD-5296E681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6CA8B-C8C5-46CE-A76D-A77CD5465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6C2A0-1F94-4115-8206-77BB8AF23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69456-E1DD-4CCA-BF81-015A227C0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6141F-1597-42EC-BE2B-7BCF6FE85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E401-899D-400D-BD4C-6A9B1A746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9CBC5-0FD0-417F-9BCF-A1FDE692D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7D601-4FCC-4A70-92B6-BEC993DCF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55247-94EE-4150-BF1C-D4E3C6027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AEB1E-3EB1-4740-A458-6B6976B18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785F8-D6A5-4361-9960-04CDFF110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72C8B1-1D7D-40C5-A2C0-2AD5D090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88CF3-5DD8-416E-957B-EDDDCD09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7B226-50B0-4C08-BDE9-4CB4EDA6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75B66-F73E-4517-864A-EDEC95A89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69FF7-6273-4D12-B1D6-29CA00A65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BB6A-C319-4EBA-A5B1-CDCAF163A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0A973-2745-4E15-AEFD-C5295A59A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E477D3-05C3-4DD0-921D-F4B397047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AAFA0-0727-4243-ABE0-2DD643CE6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697AC-75A0-4641-A682-0D0F7968F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03B3C3-9ACD-4E75-A4F3-0D1895325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CEAFFA-3F38-424E-8DAA-A8E09F90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C8F68-3390-4021-A935-2EE367DE1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E4944-FC0E-4F6E-9428-3A990C77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F06E4-EB2F-42E9-BF7C-EDEC639B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EF961-E7BB-4695-91C9-A0C8C5E1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0D80-9951-4DAF-AEB4-4AA25656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0DF66-8D06-4FF4-8F40-1361F5033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B40CC-BB7A-4572-BFF5-4C616605F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2D879-108D-401E-B356-CBE938480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060D7-B2C6-434C-AF01-DE23DEA11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EE9C3-3A2B-4B86-A7A1-2FCD30749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A71FD-DA64-4A13-95DA-5C8A642E1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081BE4-85DF-45EF-8922-70F3E54BA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02828-783B-424A-BE15-2115C0389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5FB604-D2C4-496D-A816-533AB04E5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5BE55-652B-4AD6-B096-1C001B85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B27F-743F-4B59-B3A1-376F90D4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F4ACD-449D-4096-92A4-35E583BB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1A69B-4C37-405E-A2C5-5C60B664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D3265-1D37-48E2-9E24-F09F9D150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0C99E-EA20-4EDA-B15D-66DA0A158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2C8881-EF1E-4A00-B4A7-32054293E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722770-9DB2-4828-A434-CBB35AA6F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6F9528-0907-4237-8647-590CC3886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9C8556-493E-4BE8-BDE7-CE60F3E4A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F62A15-485D-4B11-A7BD-0E37B2873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2DDF61-CFA8-407C-9E5E-D31230B60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8FE3-1A6B-4E9D-9271-AD251E94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EE7CAB-BB66-4C40-96B5-5B986A7D1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D78FC7-AD40-470A-98F6-DDA3F3EE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5E5FCD-B0DF-40DF-8F8A-FBD1C00D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5961BE-D9FE-4E81-A7F3-FB7FDCD9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8A343-6E98-4E3E-95F8-51186712E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648E29-2BE2-4AEB-9FC8-1DE12004A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ABE69A-D682-44CA-A45B-5B1BD5BB3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549A2-D03A-4AEA-8BF8-71724FA9DE2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2D1F-CE30-4808-8A2E-2DF835708482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53B80-2F93-44F0-940F-C5DF67F85386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7FB6E-1880-46C7-840F-BC512195A74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DADEF-7732-47E8-9D38-CE6A8D9DDC6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4075-462E-42D3-B560-4DB426871D2D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E9AD0-2435-4504-9F3B-BEC853A6F32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DE2C8-4D1E-4E39-BBF2-8EF59F5B946D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2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Een eigen hui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1" descr="https://www.onderhandelmakelaar.com/blog/wp-content/uploads/sites/2/2014/12/Huis-kopen.jpg"/>
          <p:cNvPicPr/>
          <p:nvPr/>
        </p:nvPicPr>
        <p:blipFill>
          <a:blip r:embed="rId2"/>
          <a:stretch/>
        </p:blipFill>
        <p:spPr>
          <a:xfrm>
            <a:off x="0" y="0"/>
            <a:ext cx="2916360" cy="29163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3" descr="http://www.duinstramakelaars.nl/wp-content/uploads/2015/05/Nu-een-huis-kopen-wel-of-niet-verstandig.jpg"/>
          <p:cNvPicPr/>
          <p:nvPr/>
        </p:nvPicPr>
        <p:blipFill>
          <a:blip r:embed="rId3"/>
          <a:stretch/>
        </p:blipFill>
        <p:spPr>
          <a:xfrm>
            <a:off x="6372360" y="0"/>
            <a:ext cx="2771640" cy="23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Zelf via het internet zoek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en makelaar inschakel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ij weet welke woningen er te koop zijn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ij weet ook wat een redelijke prijs is voor de woning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ij kan over de prijs onderhandel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ij kan zorgen voor een rapport over de kwaliteit van de woning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ij weet wat er in de omgeving van de woning wel en niet gebouwd mag word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https://www.makelaarsland.nl/Content/images/makelaarplaats-landingpage.jpg"/>
          <p:cNvPicPr/>
          <p:nvPr/>
        </p:nvPicPr>
        <p:blipFill>
          <a:blip r:embed="rId2"/>
          <a:stretch/>
        </p:blipFill>
        <p:spPr>
          <a:xfrm>
            <a:off x="5076720" y="0"/>
            <a:ext cx="406728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53964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02760" indent="-2120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ls je een bestaande woning koopt, staat er achter de aankoopsom k.k. (kosten koper)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e nieuwe eigenaar moet rekenen op ongeveer 6%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extra kosten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ie hij zelf moet betalen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 Overdrachtsbelasting (2%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 Kosten makelaa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 Notariskoste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 Afsluiten hypotheek       enz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ieuwe woning kopen??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v.o.n (vrij op naam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inder extra kosten betalen! Rest wordt doo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verkoper betaald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el 2" descr=""/>
          <p:cNvPicPr/>
          <p:nvPr/>
        </p:nvPicPr>
        <p:blipFill>
          <a:blip r:embed="rId1"/>
          <a:stretch/>
        </p:blipFill>
        <p:spPr>
          <a:xfrm>
            <a:off x="212760" y="0"/>
            <a:ext cx="8486640" cy="12430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https://encrypted-tbn1.gstatic.com/images?q=tbn:ANd9GcSX3ginltl9DQXNYxJBgB419BT25sVNZ2Nknwu6YUdxAmwJanIv-A"/>
          <p:cNvPicPr/>
          <p:nvPr/>
        </p:nvPicPr>
        <p:blipFill>
          <a:blip r:embed="rId2"/>
          <a:stretch/>
        </p:blipFill>
        <p:spPr>
          <a:xfrm>
            <a:off x="7524720" y="5249880"/>
            <a:ext cx="1619280" cy="16081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http://i204.photobucket.com/albums/bb128/Binnetie/Knipsel_zps344d83ce.jpg"/>
          <p:cNvPicPr/>
          <p:nvPr/>
        </p:nvPicPr>
        <p:blipFill>
          <a:blip r:embed="rId3"/>
          <a:stretch/>
        </p:blipFill>
        <p:spPr>
          <a:xfrm>
            <a:off x="5602320" y="2637000"/>
            <a:ext cx="35416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Koper en verkoper eens over de verkoop??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voorlopig koopcontract afsluiten (meestal opgesteld door verkoper)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Het klinkt een beetje gek, maar ‘voorlopig’ betekent dat je maar 3 dagen bedenktijd hebt om het contract te annuleren.  Houd dit in de gaten!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Na deze 3 dagen kun je niet meer zonder boete (10% van de aankoopsom) het contract opzeggen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87" name="AutoShape 2"/>
          <p:cNvSpPr/>
          <p:nvPr/>
        </p:nvSpPr>
        <p:spPr>
          <a:xfrm>
            <a:off x="155520" y="-1881360"/>
            <a:ext cx="588636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4" descr="Gerelateerde afbeelding"/>
          <p:cNvPicPr/>
          <p:nvPr/>
        </p:nvPicPr>
        <p:blipFill>
          <a:blip r:embed="rId2"/>
          <a:stretch/>
        </p:blipFill>
        <p:spPr>
          <a:xfrm>
            <a:off x="6948360" y="5397480"/>
            <a:ext cx="219564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267920"/>
            <a:ext cx="82296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Je kan ook van de koop af als je vantevoren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Lucida Sans Unicode"/>
              </a:rPr>
              <a:t>ontbindende voorwaarden  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(meestal over financiering en bouwtechnische keuring) in het contract hebt opgenomen. Bijv. als je geen geld kan lenen, dat de koop niet doorgaat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De definitieve koopovereenkomst wordt opgesteld door de notaris en door de koper en verkoper ondertekend. Deze overeenkomst heet de transportakte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el 2" descr=""/>
          <p:cNvPicPr/>
          <p:nvPr/>
        </p:nvPicPr>
        <p:blipFill>
          <a:blip r:embed="rId1"/>
          <a:stretch/>
        </p:blipFill>
        <p:spPr>
          <a:xfrm>
            <a:off x="201600" y="249120"/>
            <a:ext cx="8485200" cy="11588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" descr="http://www.beilen-notaris.nl/files/2012/07/testament.jpg"/>
          <p:cNvPicPr/>
          <p:nvPr/>
        </p:nvPicPr>
        <p:blipFill>
          <a:blip r:embed="rId2"/>
          <a:stretch/>
        </p:blipFill>
        <p:spPr>
          <a:xfrm>
            <a:off x="6516720" y="0"/>
            <a:ext cx="2627280" cy="13795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4" descr="http://www.groningennotaris.nl/files/2011/04/notaris.jpg"/>
          <p:cNvPicPr/>
          <p:nvPr/>
        </p:nvPicPr>
        <p:blipFill>
          <a:blip r:embed="rId3"/>
          <a:stretch/>
        </p:blipFill>
        <p:spPr>
          <a:xfrm>
            <a:off x="3203640" y="3284640"/>
            <a:ext cx="2663640" cy="9954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6" descr="http://www.notarisrotterdam.com/images/transportakte.gif"/>
          <p:cNvPicPr/>
          <p:nvPr/>
        </p:nvPicPr>
        <p:blipFill>
          <a:blip r:embed="rId4"/>
          <a:stretch/>
        </p:blipFill>
        <p:spPr>
          <a:xfrm>
            <a:off x="7956720" y="5275440"/>
            <a:ext cx="118728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96" name="Picture 2" descr="http://www.wegwijs.nl/media/53832356/unnamed_558x558.jpg"/>
          <p:cNvPicPr/>
          <p:nvPr/>
        </p:nvPicPr>
        <p:blipFill>
          <a:blip r:embed="rId2"/>
          <a:stretch/>
        </p:blipFill>
        <p:spPr>
          <a:xfrm>
            <a:off x="1692360" y="0"/>
            <a:ext cx="614340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33336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eigendomsoverdracht van alle onroerende zaken vindt plaats bij de notari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notaris zorgt er vervolgens voor dat de transportakte in het kadaster wordt ingeschrev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roerende zaken = grond en alles wat daaraan vastzit (gebouwen, huizen, kantor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adaster = instelling waar alle onroerende zaken in Nederland staan geregistreerd. (Hier is dus bekend van wie wat is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2-07T10:53:08Z</dcterms:modified>
  <cp:revision>68</cp:revision>
  <dc:subject/>
  <dc:title> </dc:title>
</cp:coreProperties>
</file>