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F7A-7961-4133-BED4-77C57A8B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6E2-76D3-43B6-963B-9A7A2D27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6873-819C-40B0-8DB1-E78658AE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7BAA-4681-494F-A538-821B2FC6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6BC1-7E6F-4F3A-9EC2-A3068A32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4BBB-70A6-439F-880C-865A804A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74E4-8630-4E2D-9399-5F3790B6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BCDF-344B-4B90-8804-F71F45EB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363C-0006-48AD-AA46-03E2C14E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DF18-52FA-4017-9F8C-C02A870D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D978-24D6-41F6-9FF7-0D229918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ADB-6EDD-4F13-8470-CF911757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F671-3E60-4DB6-8102-F38A7AAE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BDF3-9791-4635-828F-B13795D0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6BA2-B2E9-45DC-A3E7-D0BB1124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7C9F-3A39-4094-BD92-6BD4E9E7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1560-FCD5-4966-B442-C71DE6BF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BDF42-7B23-475C-A7E0-236BF173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A936F-A14D-4E3E-BCA7-4A643DA4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75EFA-5B6F-416B-B702-AC51B890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2C58B-EF92-454F-9701-A78B3FAD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4E515-7D19-4AC3-A6DA-2A1D8794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6C7F-C43E-43CF-8246-06E03F77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CAA6D-C923-4E3A-B407-5CD543E9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5C175-0CE8-4673-AB5B-A0302906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66BBF-AB71-4664-9793-ACA764ED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2651D-6019-4231-A73B-09D495EA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01493-26A6-461E-A185-6C406386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9D195-CECE-4787-A228-D9CA8499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1F25F-B219-4B19-A0FD-43532069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36E26-C84B-44F7-A8A8-A38253EC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115C8-7420-4CCE-80E2-1357EB70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D591A-B8AD-4E98-B15A-34CC1258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752A-9DBF-4128-AA98-49181FB4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67943-A369-4D79-8229-0CC18C7B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AADD2-5158-41A9-B4A2-F91D7B24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502DC-06C4-462C-BA5A-CFB1FE32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D2A5D-4B50-411F-B9DB-6C62C126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783A1-D0C7-4EE2-BB26-4E0797C5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4F21E-5DFD-44E4-A1E7-278664AB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BA160-CFCA-4BF0-B8C2-6813CA8A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70366-45F2-45B9-B941-E11BD89F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93129-C953-4364-8C15-E15E8C74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82580-287F-4188-90B4-FC045819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C7BD-5EAF-4917-95DA-146E0044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DE85D-E79B-43AA-AC8B-3768363D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34B77-BF01-431A-B994-8C77C4EC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CF2E4-C496-4583-8F12-85CF877C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D7EC6-98CB-479D-B972-A5D88587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30EB9-781D-470F-929C-66FC55B6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1CBB2-6869-43D0-AEE1-CCC508D0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617BC-EC57-4D59-8DBE-0FF3C17D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7152C-D430-4E64-A9C0-86A116D5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56035-9057-4145-B4BA-D3E82A16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E409E-CC6D-4950-A133-4953C66D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E3A3-E465-47CD-B935-F835B0EC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7EAF1-19CC-4544-9249-C2D581AD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D9FC1-9C23-45A8-90FF-8E28062B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63FD7-2058-4072-9301-7216593B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ACEAE-41CF-4867-B1C8-173E35DE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77F83-F961-42E7-8EC5-5E45F01A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D3C1F-68C4-42E5-BB5F-F19840ED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83414-506E-48C5-995D-2D855428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F0739-1952-4FCF-8387-2894B6BD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614FA-358F-4A69-9E38-4BC2CDE1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B31A8-420A-4B61-970B-5BF5B162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B25C-BAD5-409F-8BE9-B257DAB6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1C836-B5DD-42C2-AA9C-A8AFCC82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EB794-CB16-4A6B-B591-317176B6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6E962-315F-4168-B1AD-AE856F0E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C156F-B22B-466A-A438-084FA0CF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3B6D6-83DC-48DB-B543-2E0D8958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6EE36-43DD-4E23-B510-55349DBC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1EE49-6FC3-4238-A9BD-27EDFEE0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0216D-2370-4F21-96FB-4EF3586D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22F66-42DD-4B05-9BF9-E64C7C42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66C3D-FECF-4C19-9B01-BC7362DA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D966-9F8E-4FE3-9283-D6616E94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B2590-0924-416C-9924-DD4161E1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1DF8E-B1DA-4201-8ED2-52541EC3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A1813-889A-4678-9704-A566DC22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70A29-9355-46C9-B6D2-920C4EF8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41849-F06A-4C94-9323-2A44E811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C44FC-38FD-492B-8C90-B42FDA75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75438-0096-4DDF-B88F-19311567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FE7C4-F24D-414D-A844-18AA37AC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32738-91CA-4D6F-811D-DF16D41D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055BA-ECCB-4416-AC96-5A7D20F8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BEE3-198B-4745-B5D0-CE1A9972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47962-389F-4288-B198-F6D120CA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BD772-0A58-481B-A1FB-E9184BE0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41A71-2B25-4565-8D15-00EDD5AC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F82C7-373F-4092-9841-1CC724AA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5DC50-9A58-4FC1-87B3-579C7CF8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5DE4E-BF7F-41D8-97B8-58EBDAD4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D6DED-7539-4C4E-98B5-B42A4004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4198-6CB6-42A6-B621-2D9D77183A0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71FA-E51A-4300-80A3-CF98098FA95A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4F2B-2C6B-4C5B-AB91-A8C2251473C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74E4-E6B7-401D-B47C-F8A4BB50592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550F-5CD3-471E-B696-D91E9D8FD31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4A80-DC49-4348-96FD-805B8F8048D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0309-5867-43E5-AEE9-62F0A696BC5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0E75-B95D-4A60-9D03-8E04CAF6F3C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826920" y="103320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De woningfinancier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://www.eggebeenverzekeringen.nl/img/hypotheek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http://www.detijdnotariaat.nl/images/diensten-hypotheek.jpg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http://www.at5.nl/artikelen/163193/blindkopers_sophie_zag_haar_nieuwe_huis_pas_bij_de_sleuteloverdrach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ing voor de aankoop van een hu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theeklasten: maandelijks aflossing en rent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huis geldt al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pa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e woning. Dit betekent dat wanneer de koper de hypotheeklasten niet kan betalen, dat de bank de woning verkoopt en met de opbrengst de hypotheek aflo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5"/>
          <p:cNvSpPr/>
          <p:nvPr/>
        </p:nvSpPr>
        <p:spPr>
          <a:xfrm>
            <a:off x="155520" y="-1600200"/>
            <a:ext cx="681048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6340320" y="5516640"/>
            <a:ext cx="2773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5280" y="18900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at de bank een lening verstrekt, laat de bank een deskundige de woning taxeren (= werkelijke waarde vaststell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ank wil namelijk niet meer dan de werkelijke waarde van de woning len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bank meer leent dan de woning waard is, loopt de bank het risico het geleende bedrag niet geheel terug te krijg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6" descr="Gerelateerde afbeelding"/>
          <p:cNvPicPr/>
          <p:nvPr/>
        </p:nvPicPr>
        <p:blipFill>
          <a:blip r:embed="rId1"/>
          <a:stretch/>
        </p:blipFill>
        <p:spPr>
          <a:xfrm>
            <a:off x="3348000" y="458136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het begin hebben veel mensen moeite om hun hypotheek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andelijkse termijn is in het begin hoog in verhouding tot hun inko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ijg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emakkelijker om de lasten d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l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oeilijker om de 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rkloos of arbeid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geschikt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ing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ble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5248440" y="4149720"/>
            <a:ext cx="3895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Afbeeldingsresultaat voor lineaire hypotheek"/>
          <p:cNvPicPr/>
          <p:nvPr/>
        </p:nvPicPr>
        <p:blipFill>
          <a:blip r:embed="rId3"/>
          <a:stretch/>
        </p:blipFill>
        <p:spPr>
          <a:xfrm>
            <a:off x="1403280" y="1484280"/>
            <a:ext cx="6624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iabel; percentage kan op elk moment omhoog- of omlaaggaa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 jaar vas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 jaar va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www.mondtadviesgroep.nl/wp-content/uploads/2013/11/belastingrente.jpg"/>
          <p:cNvPicPr/>
          <p:nvPr/>
        </p:nvPicPr>
        <p:blipFill>
          <a:blip r:embed="rId2"/>
          <a:stretch/>
        </p:blipFill>
        <p:spPr>
          <a:xfrm>
            <a:off x="4078440" y="4149720"/>
            <a:ext cx="50655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al betaalde aflossi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hogere marktwaarde van de woning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oning is meer waard dan ervoor betaald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Afbeeldingsresultaat voor aflossingen"/>
          <p:cNvPicPr/>
          <p:nvPr/>
        </p:nvPicPr>
        <p:blipFill>
          <a:blip r:embed="rId2"/>
          <a:stretch/>
        </p:blipFill>
        <p:spPr>
          <a:xfrm>
            <a:off x="1979640" y="3500280"/>
            <a:ext cx="5991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4T10:14:05Z</dcterms:modified>
  <cp:revision>75</cp:revision>
  <dc:subject/>
  <dc:title> </dc:title>
</cp:coreProperties>
</file>