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9.png" ContentType="image/png"/>
  <Override PartName="/ppt/media/image6.jpeg" ContentType="image/jpe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98CA-8D55-4292-AD7C-EDC8FF69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433-6EF0-4D36-84B4-191D9130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2EB-E104-4B66-8D3E-06ED1E0D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4A7-EE47-452B-A73A-9F94802B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25C7-3F62-467F-B7DA-D52039BE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1AD8-64B8-4920-9D06-CAF67A40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E7E3-A253-4EF7-A290-2F01EC29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5854-9063-415E-9754-3C7ADF01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5E0E-80B7-4959-85BC-06C47369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3935-E40D-4AC1-84C3-46D43382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D3D8-22E4-4AC5-A9C2-D5914544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397-EEED-4D1E-B2B8-9233478A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A1BB-1F1F-4D7B-BDEE-CFF6D3DB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1615-B799-4FF7-86BF-B00297A7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7B07-55C0-4220-A133-8B57E07D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F69A-2A79-4633-8AF3-066E27B8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3351-15BB-4A2F-9BEB-C98FB27A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26680-BEFA-4ABB-A4C8-53BA2DFF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9B5CC-CF31-4F6B-A889-206BF48C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EFAD8-D71B-48FF-A8F8-20754919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13D32-FD37-4088-AB32-EF8C9224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AF2F2-67E2-4CA4-ACF4-C327041D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105A-9B12-4E58-A1E8-6ED38FE2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AC9AF-ECF0-4708-9B55-A4D6DF56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45612-ACF0-416B-89BE-FE71A8E3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A5966-BB0B-4ADA-A504-88A21A2F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BFFE4-15FF-424E-AE8A-6CB6EAAF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D52AF-4E98-4A74-B176-CE227E56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84898-B9B7-495B-BD17-C9A52C88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6EC7C-860B-4720-9484-5E70E938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F07A5-2E35-49E2-BB35-60E4CB50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0A02C-A3B5-4CB3-AE81-4F9A77C0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53BE9-FDE0-4354-B50F-C8586D07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AD1A-398E-4ADD-9C8E-0DD9245D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1FD31-C4C9-4603-BA55-A4693BFC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5505A-8578-480A-934C-B8892903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7932A-E7A9-45E7-B576-F58DABF6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DCDAF-F4DB-48BD-8C74-76EF0BC4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7A167-6097-4671-9A33-E47386A5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F8D44-FDCF-47C6-BAE5-9CF84C5E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FA776-58B9-42FE-A85F-105D0672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D9536-0D9D-4671-A09D-4852B417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EA991-EDB6-40CD-A637-8E7BD698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9D1A2-0758-4EB0-BAD1-6B486184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846-59E4-4EB5-AA3C-F8A2BCD1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027DE-10C9-4128-8E96-067FBFB7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2F75E-7D71-4129-B3F1-41D465B7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1D812-7561-4BA0-B134-3F04E173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172AC-2F7E-45C6-B5A4-3C5E5350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D4D96-7DF1-4AD9-BD6A-BFE046B5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45003-4AF8-49C3-B2A3-91051219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6A194-26AC-4CC6-8DF0-2AC627C8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37A99-EE19-4388-9938-2FEBCCF9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55484-18FC-4E1D-A84E-43B859A3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A3493-2311-4EF0-9FA6-D74D828A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94BE-44B6-4A05-A29F-803EC8C9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44D62-1567-4398-8057-06A42CAD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4335E-343C-49A6-8C69-536F544C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87DBF-13AA-4679-8388-6A2FB7DA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4832D-E3DF-42FF-9FFC-815F8F5B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3C3EA-0684-4639-83D1-EAEABAFB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866F1-013E-44DC-AF7E-2DBCD658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96979-A960-42A0-B593-888A5174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C5389-8ACC-48B9-8C19-DFF6ECBB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4858E-B6B7-404B-9E77-3448FA66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72AA9-5D4F-4007-A25E-A02959F8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15A1-2FB0-4535-A5B4-793C7AF4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1C6A3-B991-4339-9C95-01E44708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D1D86-A841-4C87-BFE8-6ADF31A2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B82E9-B19D-4626-9D7C-FCE7F445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35210-FDE4-43E8-B7E7-3C46D069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28784-A041-4B16-901F-D5C2242E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7F479-5869-4589-97B3-248249BF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425C0-D98C-4743-A986-5CAF5723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BAACA-2ECB-4574-8D6A-92F1BE84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34A39-8E96-4FFF-9E97-F60EB20C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4C284-39A4-4737-BB47-526F4C61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37A-82CE-4459-83C6-30FBB908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75309-2B84-4B7A-BBCE-E457F9D7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20B24-92AB-459C-894D-BE71AABD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ACC50-DA87-499D-B00F-5064C164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9D362-FE1D-4038-B0AD-F1A25E26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CEAEF-D095-424D-8EA0-7A997020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DD5A4-4C50-43E4-836E-8436EEF0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66DF9-5C45-435F-B131-0E00E6BB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6CB34-D6F3-4414-8B39-D46F0EF6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E3BD5-D00D-4983-88E5-128F1517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84BD1-E09A-4EF2-A99A-22F975D3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F2F-D317-438E-AEDE-A9B9BB45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D7E86-8A79-4FF5-9582-A80F03B1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FF357-67CC-4DA7-A7C6-3AC535E8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06693-5333-4AD7-B6C1-DD724A15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351B4-F2D7-48A2-8E1B-320E84A4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EC937-1C63-4B8A-AD3F-6D254C98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60AD4-2B44-44AD-AFAD-BB14D28F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DFAF6-C689-42FA-AE0F-0D1778A8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421D-FF14-4022-B908-C28FCC25DC1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6E27-C320-45BA-9867-C6C1DEF4DDD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A468-5E67-44F8-9822-06C017D4313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1797-B161-4A0A-B051-6A2653FFFF0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00AA-F7B4-4216-98DE-9E0C55AB72C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0200-802C-4451-A918-ED8FFC67792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48EF-AAD5-4CFF-BBED-4FAE6696DC4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2BDE-E3FA-469D-8E88-376393DD3AA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eld tekor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publiceer.cashcow.nl/uploads/afbeeldingen/9810_broke.jpg"/>
          <p:cNvPicPr/>
          <p:nvPr/>
        </p:nvPicPr>
        <p:blipFill>
          <a:blip r:embed="rId2"/>
          <a:stretch/>
        </p:blipFill>
        <p:spPr>
          <a:xfrm>
            <a:off x="0" y="15840"/>
            <a:ext cx="32986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 een (grote) aankoop af te zi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aankoop uit te stellen en geld te reserver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 interen op je spaargeld (= gebruik maken van je spaargel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 lenen (let op: brengt vaste lasten met zich me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12760" y="189000"/>
            <a:ext cx="87120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bank vindt dat er genoeg inkomen is om de aflossing en de rente te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voldoende bezuinigd kan wo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maandelijks voldoende overblijf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enen om de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blijvende tekorten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 te vangen is niet verstandig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an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ibud (nationaal instituut voor budgetvoorlicht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sumentenbo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http://groenopgewekt.nl/wp-content/uploads/2015/08/consumentenbond11.jpg"/>
          <p:cNvPicPr/>
          <p:nvPr/>
        </p:nvPicPr>
        <p:blipFill>
          <a:blip r:embed="rId2"/>
          <a:stretch/>
        </p:blipFill>
        <p:spPr>
          <a:xfrm>
            <a:off x="5076720" y="4869000"/>
            <a:ext cx="3143520" cy="1371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https://www.mijngeldzaken.nl/images/mijngeldzaken-icon_grip-nibud-vergelijken.png"/>
          <p:cNvPicPr/>
          <p:nvPr/>
        </p:nvPicPr>
        <p:blipFill>
          <a:blip r:embed="rId3"/>
          <a:stretch/>
        </p:blipFill>
        <p:spPr>
          <a:xfrm>
            <a:off x="5807160" y="3252960"/>
            <a:ext cx="1681200" cy="1554120"/>
          </a:xfrm>
          <a:prstGeom prst="rect">
            <a:avLst/>
          </a:prstGeom>
          <a:ln w="0">
            <a:noFill/>
          </a:ln>
        </p:spPr>
      </p:pic>
      <p:sp>
        <p:nvSpPr>
          <p:cNvPr id="38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8" descr="https://petities.nl/system/uploads/4391/original/banken_logos_2013_09_1_.jpg?1443442323"/>
          <p:cNvPicPr/>
          <p:nvPr/>
        </p:nvPicPr>
        <p:blipFill>
          <a:blip r:embed="rId4"/>
          <a:stretch/>
        </p:blipFill>
        <p:spPr>
          <a:xfrm>
            <a:off x="4641840" y="1557360"/>
            <a:ext cx="28576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23T09:33:58Z</dcterms:modified>
  <cp:revision>66</cp:revision>
  <dc:subject/>
  <dc:title> </dc:title>
</cp:coreProperties>
</file>