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BDB-E5D7-4CA1-8463-DF171703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B12-0FD4-4302-8EDE-A3454F1F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69B-CB0B-4463-B0F8-0E6A9375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DE0-8610-487C-AA3A-66E49AC1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635B-7BDD-4C26-B2CB-AD5BE59D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297F-074B-431C-9F45-FCD70D3E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0FE2-3413-47BB-B3E2-584A922F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1749-0190-4103-BB4A-1D1D3B4E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537A-076D-4B8C-BFEC-10CDD5E3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A635-EBFF-4929-9229-EE42E0DE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B94C-CADB-4E3D-A4FE-0588B8D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9E1-F0A5-48FD-A60E-971A5243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79DD-E5E4-45F3-92CE-2943650A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80D3-4B9B-4797-A5B1-F7786A3E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C3AC-D1F8-49E8-8D5A-9A74D4BB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1D10-6B09-4633-B3D5-484091DB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4271-1851-495D-AE92-77B995B3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6BAB-18E3-4477-BAE8-1BA0457F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6E76-D7D3-43CC-9344-4C2A9686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9A02-5274-4AB9-A916-60F1D49E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FB34-0439-4907-AFFC-76936CF1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EC2D-EB7C-4527-95E7-378F3505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4C5-4DB2-4C9E-A980-83454F7F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BBB2-A3E0-4533-9AA9-668E82B9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E579-6E4A-4251-B28B-0E6DBED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97D7-E8D3-49D9-AC30-4D2F95E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BED0-5317-4F70-9A87-0FCF97AE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7D51-AA7E-41E1-B1BD-36BC4C1B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941B-5566-430E-8F89-F627B4BA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108D4-95D9-49A6-A917-F03D0600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9310-C2C5-4185-BE91-5BF37A45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AE6F-3B82-4CB1-9403-1F1A1714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4119-F7CA-4564-9DE9-7DC45128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680-6010-42F7-876F-AE9A812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6517-F73E-4528-A87E-0F5B9C52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6B4D-592A-444E-B2CF-9A4032A6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AA05-988D-4BE4-B99A-ACD3D616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6603-389B-4EF5-9184-3384F73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AC98-1F1B-4C7B-A0DE-F9F9DE01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5D679-F1ED-4ACC-BDCB-FED7411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1B54-96CF-40EA-B92A-CC3F2579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849D-E41D-42B6-B410-ECE749F4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9225-A230-49A8-ADEC-24CE0835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7281A-D259-4077-BB7F-09517DDE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6D0-589A-496F-83F2-97576A35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87183-8A15-4292-B203-0E47026F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11784-2558-408D-B6DA-88E6A3D4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A62EF-025C-44D0-B7F3-B88422C9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573D-8CD9-42E0-B697-EBCD28F8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FEFF-0686-4442-AD42-FEF46055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E1FF4-F306-4060-B17A-F0B6583D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AF77-2528-4C31-A2A1-190CAB2C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9E75-2048-44CE-9A11-A672294C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C078-4DDB-4116-BDEB-8693FF92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1BB2C-BF50-4D1D-9483-FE568D8F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8AF-0746-443B-9BEE-AC72988E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B532-5482-47B6-8825-167F0F74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41B2B-401D-4168-BB1E-F8775D36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32F43-B08B-4CD5-8623-CA66082F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F08F0-87B5-449C-A7DD-1041E2BF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D7578-B0EB-4678-98B9-81054302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FF808-BF33-451A-B230-3B426937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46F40-01A3-4D8A-9B4F-5F0C9CE1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52A44-A966-4332-8E4E-AEAB266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D8C30-FC92-4636-B8C1-DC4BB117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2C8C-BCDC-4609-A854-FDEEBEF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A96-398D-40AD-BD4C-A435891B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BBB43-1254-4A1A-91E2-DAAFDE5B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21B7-1BD0-44BF-B13B-9546E7E3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204B8-A0B5-4AAA-9DF0-12300AF7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AA8C-280C-40F5-A149-DD439130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C837-C9D8-4372-88DA-63ABC8C6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7B27D-39A5-4E09-B48D-43DC968C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E3E51-F690-4B5F-A544-0F28A8C8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F23F-EA84-465A-ACEE-69F60BAC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59995-6C96-4CBD-85DF-E8C4F3CE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54B42-EB32-4135-A9B7-1F619793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F78-A0FF-4D69-A7F6-616A1721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0C198-75C8-4C2F-AFC4-79062E0C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62425-AF37-45B6-8E8E-DA967E0A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DD934-F244-4FE0-9CD7-5B76989C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F0BF5-755C-47AF-B91F-CCC10BFB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F762-AD19-4045-8F79-F208DDC9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06182-DF84-4295-A004-BF9F6EA3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0A76A-1B2D-4EA6-A559-29E1D066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EAAD6-D51D-4E59-BF03-77F476C4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181DC-3254-4B9F-930E-0A9E15EB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BAB4D-AB82-4226-A8A2-BA7FD8BF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404-9501-4215-939A-3965F5D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B4038-D1BC-4DCC-8013-426226FB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1ADC1-6EDC-462B-8769-9BCB689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191BD-C7BA-4B40-9378-B66E690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3B80B-7E18-429F-9463-E49BC3A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7B3A2-3D17-47B8-BAB2-BE1A9365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A93E3-C412-45D6-A316-B33AB37C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B0288-01B5-491B-97FC-5C8D3EB8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9BBC-0496-4F25-867A-ADD822FCC96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9DA5-625B-4251-BD6F-ADD0DC0B30B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95F0-5F6E-49A5-A353-CE83F46B7E6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E99B-F277-491F-BA14-E21DB785156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2D88-F0F9-4055-8897-36DCC8648E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3833-C9D6-4036-B2AB-F2AF9772E0F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4A92-60A6-4252-B19A-9670315BB45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595C-0E95-4A8F-905B-23E67BB772C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A1oYicwBimo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udgett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s://www.youtube.com/watch?v=A1oYicwBimo</a:t>
            </a: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linkmijnles.nl/uploaded/2011124333budgetbeheer-flyer.jpg"/>
          <p:cNvPicPr/>
          <p:nvPr/>
        </p:nvPicPr>
        <p:blipFill>
          <a:blip r:embed="rId3"/>
          <a:stretch/>
        </p:blipFill>
        <p:spPr>
          <a:xfrm>
            <a:off x="0" y="0"/>
            <a:ext cx="2333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stemmen van de uitgaven op de inkomsten. (Totaalbedrag uitgaven + spaarbedrag = totaalbedrag inkomst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dgetplan = een overzicht met de gemiddelde inkomsten en de budgetten (= gemiddeld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gaven zijn over het algemeen te verdelen in vier hoofdgroep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Vaste lasten, 2- huishoudelijke uitgaven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- persoonlijke uitgaven en 4- incidentele uitga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9744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gemiddelde inkomsten per maand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soorten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wachte uitgaven (= budgetten) en het gewenste spaarbedrag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udgetten en spaarbedrag afstemmen op de inkom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inkomst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werkelijke uitgaven zijn vaak hoger dan de budgetten (verwacht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spaarbedrag verh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6T09:28:24Z</dcterms:modified>
  <cp:revision>65</cp:revision>
  <dc:subject/>
  <dc:title> </dc:title>
</cp:coreProperties>
</file>