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8E9-764E-4886-A154-81E9FB2A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7BB-12F1-4EC1-86EF-67BB25B0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633-F149-4085-A978-BB868A20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50C-4E90-4530-9289-1338EFFF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BAF8-BF93-458A-81EC-7BF95595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C90F-FC17-4D01-8813-3C199723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3103-5970-48EF-A8E2-46B69AC8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CCEF-B67F-4E83-8644-BB2FECD1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6FC2-A8E0-4F42-8D64-05A7E3E1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A21C-A396-47F5-AE4D-83066BBF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EAF3-B8AA-4B00-9027-E5F327C6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C3A-3208-405F-B4F8-9E9F0E8A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984B-968D-4786-A70C-B9B7CCF1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9411-6CD9-4A09-88C5-F12B5564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FD72-0BC4-420A-931E-FD17267A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CCF4-8748-4B4C-B8F8-73217DBD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96B5-1092-4347-9612-70A62800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A3F7-B07D-4C1F-9DBD-E5F9D005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1306-AE25-4EFD-8BBE-AFDC540A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2732-10BC-4E7E-8AA9-80DF617D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90E86-5401-4FB7-AD8A-2D8885D2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7D44-24F0-4FB6-AB64-676D4109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42C-AE8A-4DCA-8C65-10E2D89F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94BCF-79D3-4FA0-9FBE-51672AAB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C6BE-9939-4FE5-81B6-F014A6F2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EEB9-36CB-4154-ABEB-056393A8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206C-FD45-463B-B90C-42E1FCA9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0EEA-1F6F-465C-9279-F054E49E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9321-813C-4AFF-A71B-7252688D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B332-C10F-4DCE-B273-B738E2B2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BF1C-00FE-45CD-B1F2-CA535B76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FCFD3-695F-45FF-9CFF-BC6B116D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60064-02B2-4B8B-906F-5A2148AE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39E-339C-482A-9961-0CC8138B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16EFD-0EDE-49C8-875F-6A74511A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9AC7A-7CAD-4915-BCCB-D7EBC746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8DEF1-A307-4D80-A6AD-0323DE3B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82CF4-3552-4544-9287-B79A4A56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1851-D70E-4423-B73E-001DF66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2A5C-2FA9-468A-876F-A4C0942C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6FA2-40EA-49D0-8FF0-C85CEBC7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0BD7-5E52-437D-8FA2-CE955F6B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D0D6-A3B7-45AA-B52D-4D4A2194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1220E-18C6-4F2F-83A1-3DAB8663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CCA-075E-4C91-9599-3BF74731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95E82-6EF4-445B-A7C0-A710A7B3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9D396-AF70-4454-90A9-8537A193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1685F-CBA3-4C7F-B201-F703C711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B3586-036A-4C50-B4E8-D1AEF77A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EF15C-A651-4A66-B686-D9819F96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FCB8B-055A-4107-8AA8-BD78375A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B28C-074B-4B91-87EE-91EF4EE5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2C0CD-6827-427F-844F-2D4F19DB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5ABE6-05F1-49FC-A7B2-0D406E0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1763-D4A2-4F1D-94F9-30B2C19B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46B-77EB-4A24-BBFE-0CA58CA7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4301D-46AD-4A6D-8314-1105C9B5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07E6F-BA16-445D-99CF-2CBA1F3B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FA9D2-AD00-45FE-832F-ECEB038F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3F119-1D31-4EAF-B4F9-405C4853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ADFE-D7BC-489A-A193-313F380F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68AF4-10E5-4728-A1BE-337DEB0A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CD685-5A7F-4422-BC6E-6A193A1B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8C640-43F1-46A3-A640-74CFA53A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81D3D-B531-4CC9-B037-DF369197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ABA8-1849-4B0F-8AB4-10F9F24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7AE-22DD-4B46-9F1D-6C2F93E0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60979-2304-4497-9112-EE0B820E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F7372-D9FC-49F8-B091-178C01DC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D3A8F-A573-45DB-833F-EF11C6CF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A6319-7963-412C-A52E-1C538CBD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2588E-07E5-4544-9604-05D681DE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81295-6F6C-4E82-BE26-40D204DB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6F885-6517-44B8-B700-4F627435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80A12-29CE-4DB0-90F5-31A97C47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1B5AF-7D02-4291-A1BC-52DCCD5F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8DDA1-C868-426F-B761-48CD288A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C2A-C31F-4FB3-A77F-4FB94DA5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A36A8-0A20-498A-96DA-197F9AF0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FF7AA-56BD-4B7C-AB93-A8C89A28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B4F51-1A14-4B71-B9B2-B0EA873F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3045D-024A-448E-9D09-B8C1B3CF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81AF0-C3D5-47C7-A8A4-B872845E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86367-E931-4944-B4C4-0BF70BF6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B99E3-6766-4505-A3F1-44824081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8BE08-D2B6-4D97-9585-D467ADCC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889AC-A590-4306-9543-E1FADA57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ABB95-3D5F-4323-903B-74F60B67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47E-BCCC-4A5B-A747-3D8F7104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F2F52-2DDC-41EC-A43B-E0337105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DF6A9-50CB-4583-B75A-8903FF34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4C92B-D5B1-40FF-A5D6-CEF5378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9537E-F835-4D57-95A6-7A59202E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B81E8-38F6-474C-9973-B8E3631F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882B1-188E-4E62-BA1F-92AAC575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85DB2-6433-4C7E-9CAD-70B3BB38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DD94-A5A7-4715-82D0-271F3B0F3FA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A4C8-3B51-4AF4-891E-D7076FFC6EF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208E-6519-4F96-A5A2-7331D40FFEF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4FD4-DF10-4C97-85CC-85C8AF87607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7B61-54FB-4F15-92FE-E55C45FC4F5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8683-5915-4877-AF3E-1AD9BA3BFCA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1928-A6FB-49EE-B37D-F252A5BA125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A175-4C38-4FB8-B6DD-B5D8493EA53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Inkomens zonder tegenprestati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s://fbcdn-profile-a.akamaihd.net/hprofile-ak-ash4/c60.60.757.757/s160x160/486272_484910398208361_1655541192_n.jpg"/>
          <p:cNvPicPr/>
          <p:nvPr/>
        </p:nvPicPr>
        <p:blipFill>
          <a:blip r:embed="rId2"/>
          <a:stretch/>
        </p:blipFill>
        <p:spPr>
          <a:xfrm>
            <a:off x="0" y="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komsten uit de bronnen arbeid en bezit krijg je d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r iets voor te do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drachtsinkomsten krijg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zond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r iets voor te doen (zonder tegenprestatie). Dit vormt d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r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n van ink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 kinderbijslag, huurtoeslag, zorgtoeslag, alimentatie, studiefinanciering, bijst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en betaald door overheid (belasting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54960" cy="1047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Afbeeldingsresultaat voor overdrachtsinkomen"/>
          <p:cNvPicPr/>
          <p:nvPr/>
        </p:nvPicPr>
        <p:blipFill>
          <a:blip r:embed="rId2"/>
          <a:stretch/>
        </p:blipFill>
        <p:spPr>
          <a:xfrm>
            <a:off x="7740720" y="2852640"/>
            <a:ext cx="1403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kinderen. Kinderen zijn namelijk niet gra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tijd (t/m 17 jaar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ET AFHANKELIJK VAN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0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7453440" cy="1687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2" descr="Afbeeldingsresultaat voor kinderbijslag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huur per maan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hoogte van de huur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hoogte van het inkomen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amenlevingsvorm (alleen of samen)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eeftij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xead.nl/upload/856b77d32986c6fe1cdeee8fa551aa22rechtop_huurtoeslag.gif"/>
          <p:cNvPicPr/>
          <p:nvPr/>
        </p:nvPicPr>
        <p:blipFill>
          <a:blip r:embed="rId2"/>
          <a:stretch/>
        </p:blipFill>
        <p:spPr>
          <a:xfrm>
            <a:off x="7093080" y="4292640"/>
            <a:ext cx="2050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ing in de kosten van de zorgverzeke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nderen t/m 17 jaar zijn gratis meeverzeke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het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s://zorgtoeslag.nl/images/stappen-zorgtoeslag.png"/>
          <p:cNvPicPr/>
          <p:nvPr/>
        </p:nvPicPr>
        <p:blipFill>
          <a:blip r:embed="rId2"/>
          <a:stretch/>
        </p:blipFill>
        <p:spPr>
          <a:xfrm>
            <a:off x="4716360" y="4437000"/>
            <a:ext cx="40309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minstverdienen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verzorgende oud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de verzorging van de kinderen totdat ze 21 jaar zijn geworden (zorgplich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hdvdetectives.com/alimentatie.jpg"/>
          <p:cNvPicPr/>
          <p:nvPr/>
        </p:nvPicPr>
        <p:blipFill>
          <a:blip r:embed="rId2"/>
          <a:stretch/>
        </p:blipFill>
        <p:spPr>
          <a:xfrm>
            <a:off x="6300720" y="4149720"/>
            <a:ext cx="22161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studieko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situatie (thuis- of uitwonend), soort onderwijs (mbo, hbo of wo) en voor de aanvullende beurs ook het inkomen van de 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sisbeurs (krijgen MBO studenten;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anaf 01/09/2015 niet meer voor HBO en Universiteit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vullende beurs  (als de ouders weinig verdie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ning (niet lenen of minder lenen mag ook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udenten ov chipkaa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Afbeeldingsresultaat voor studiefinanciering"/>
          <p:cNvPicPr/>
          <p:nvPr/>
        </p:nvPicPr>
        <p:blipFill>
          <a:blip r:embed="rId2"/>
          <a:stretch/>
        </p:blipFill>
        <p:spPr>
          <a:xfrm>
            <a:off x="7524720" y="0"/>
            <a:ext cx="1444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oeld voor mensen met een inkom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g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an he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ciaal minim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al minimum = inkomen dat volgens de overheid ten minste nodig is om van te l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menlevingsvorm (alleen, getrouwd enz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en bijstand bij: veel eigen vermoge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 die voldoende verd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Afbeeldingsresultaat voor bijstand"/>
          <p:cNvPicPr/>
          <p:nvPr/>
        </p:nvPicPr>
        <p:blipFill>
          <a:blip r:embed="rId2"/>
          <a:stretch/>
        </p:blipFill>
        <p:spPr>
          <a:xfrm>
            <a:off x="4067280" y="3044880"/>
            <a:ext cx="19303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9T09:41:05Z</dcterms:modified>
  <cp:revision>59</cp:revision>
  <dc:subject/>
  <dc:title> </dc:title>
</cp:coreProperties>
</file>