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631-66EA-4DE3-B942-4FE341A5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DC3-3765-4642-B819-6A277F50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A47-0112-4D1F-BCF3-FF25DEE3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526-F883-4F46-AFDE-7455D1BA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D817-E9C7-49A4-8AD6-AC9109E5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67C3-E45B-4A0D-B95C-C25C0F25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45EC-03B1-44B5-A2BF-D6F63EF2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C638-930D-484B-A92F-AF5EBE78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0C90-0DE6-4F46-9D0D-7FEAC1D2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F42F-4E83-4A09-8A11-421481AF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C426-6199-459E-A4EA-A82664F8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BE3-2E93-4A4B-AD8D-8F491A09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0D7E-C944-48EC-A41F-B7996382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FAF0-1430-4E6D-AC9C-7FCE069D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AE27-2636-40AF-A5FE-A5B0D40C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95B1-8122-49F5-A9C2-A07504B0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E18E-9793-46E6-8ECA-4D12C55C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2372-F7F4-43B7-B413-306E8D6D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1D09-DC93-4182-9931-F568199F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69F5-0E7B-4329-BE44-A0F1D349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C00EA-0FBA-4AC9-A5CF-15516CF4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B015-46E0-40C0-BB24-87303346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1DB-7C2A-49CE-8CBF-DE019B29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1BE2F-BDDD-46B6-8DAC-CBFA4032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412D-D6D3-4398-9478-50D75DFC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CDE5D-9103-4CC9-9004-7DC92C5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F0B5-0E3F-45DC-9F07-BC31D90F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7F91-2102-48A0-ACF6-1783F04B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79C0-69D6-4EF3-8AED-BE25354E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3B645-C7CE-4D55-82F5-0973AF6D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2343-5215-42BE-991B-0469838F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F1ACC-5CB4-4E55-B4CD-F3ED64C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8DF7F-0330-4FA0-B408-713D889E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89E-4CC3-4330-89EC-CEA73E92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0A59B-D542-43C6-B7A4-7566CC6A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0499-4E53-4BA4-887D-A35CAF50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2D62B-F0D2-4420-AD1E-E0AC3718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72D5-BECC-488C-8ED0-48B80CAF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9FFCD-7020-46C3-A42B-B19D04EC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3005D-2B57-4F8B-A0F9-CFF3C92A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A28C-D20E-456F-BA54-963FB115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7C45-D388-4311-962E-A2A255D7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2F21-2268-44C8-B46B-4924DE61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4D731-4BF8-4F71-9BE8-B9D8AB13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B6F-553F-41B0-9DB4-0D80D6BE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0015-383D-4D05-925A-B0FD3682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48CB7-6EC1-4E21-B3CF-434861FA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A86B1-4815-4FF4-9CFC-2D5F7232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FE875-379B-43A0-ACB8-81178F13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CB50F-CFA8-4FF4-92B1-A1E9FDC9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D16B4-06FA-4750-87A5-FC6AD5A8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2A798-86E8-4124-A545-8EEE4CE0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B750D-C3BF-4FD3-8B64-B8E17543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91F5-2EF1-4DD5-A23A-312F2751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A8F22-5E98-4E1D-8524-06E6AFBC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DC8-B25D-4346-9BB1-8BBE4F92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699B2-EA98-427F-92D3-A3D81A31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6FB41-A5F8-411D-9F74-0E56AB9D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C4104-12F8-40A6-8DFC-D91486B9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76622-D1C8-40A2-97B8-40EAFC13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8AB28-70EE-48BF-9563-0DAE7331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62CAF-7712-4066-8727-87CB5845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B9BA-64BA-4B9C-BD02-5B3FB5A4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16B25-2FC8-4789-800F-B9D8BEED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FDB7A-1B18-450E-9E05-1D5A07D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C2A9B-D685-48AF-BF22-1D69E5C0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E31-EC96-4C94-A760-B86064F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22467-6878-4146-A0CD-3F185510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23D1F-4477-4BCA-AC57-F4985444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93F9-61D2-4BAF-8FB7-2AB91B0A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81B21-F6C9-47D7-96B9-4FF9DFE5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7E68B-E8BF-4312-9379-DCFF0D92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99F4E-BDC3-445E-8F04-C49FE927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19D66-DAA4-4510-ACA0-41C60E0B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59544-9C32-44F9-A3BC-C2A41FA7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7E7F1-5230-44C4-AC1F-98535DD3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2A47C-BB5A-4D86-9102-6157D829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CDD-B5A4-4B83-813D-9003FAEE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1EC5C-E8FE-422A-A252-5D1CC104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28CCC-FFAC-487C-91D4-FC58941A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C65C1-BFA5-4CF7-9EFE-7F93613B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03E49-99AC-4484-8779-9C973DED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C3FE6-85A8-47C3-BD09-E46C6D03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F75D1-19A1-41D5-A7EE-12E3F4C3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72A7E-E1E4-43B0-AD5E-A76A570C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43C13-9485-437E-9B5F-9301500C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8CD89-66CF-4BB6-B7FA-84B3866C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F503F-05F5-4600-8DC8-293840EA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724-E99E-4D7E-95EA-AF6058B7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20AA9-A45D-4CC7-A5E2-D3CEBE6C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8F6C9-6500-445D-84F3-A699F971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14622-DF57-451C-B0A5-D7F69E0C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6A8C-F2EF-45DC-A603-2DA40F2F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133FA-5D0F-4A8E-AEB7-03AB44E0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A8018-81EA-43F2-9176-D1B76B80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DAB6D-6F8F-4B73-851C-BAFF8AEA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D47F-E2BB-42B2-B978-447B88B2697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38F-9698-4ADE-9E0E-40C8A3C524B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991-682F-49E1-92BA-3D623FEDEA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A790-507A-4036-B70E-D1DF8C77FC8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7E1A-3725-4D4F-A7DB-25C21E1704C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6CC7-E92A-4E6B-829C-B9147D3FFD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6963-6C4A-490E-8421-BDCED62C250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3E4-E629-40AE-B792-29C9F6FC3B9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ronnen van inkom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adver-online.nl/wp-content/uploads/2013/01/salaris.jpg"/>
          <p:cNvPicPr/>
          <p:nvPr/>
        </p:nvPicPr>
        <p:blipFill>
          <a:blip r:embed="rId2"/>
          <a:stretch/>
        </p:blipFill>
        <p:spPr>
          <a:xfrm>
            <a:off x="0" y="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Bedrag : 100 x percentage =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 € …………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rekenen van bedra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6049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orten inkomsten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alaris oftewel loon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vakantiegeld (8% van jaarsalaris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ndejaarsuitkering of dertiende maa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prestatietoeslag of andere bo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loon in natura (bijv. bedrijfskleding, auto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de zaak, telefoon, laptop enz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46160" y="274680"/>
            <a:ext cx="8540640" cy="1444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http://www.deondernemer.nl/beeld/w440/2014/201410/20141031/vakantiegeld.strand.euro.335.jpg"/>
          <p:cNvPicPr/>
          <p:nvPr/>
        </p:nvPicPr>
        <p:blipFill>
          <a:blip r:embed="rId2"/>
          <a:stretch/>
        </p:blipFill>
        <p:spPr>
          <a:xfrm>
            <a:off x="6759720" y="5286240"/>
            <a:ext cx="2374920" cy="1560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http://www.gelderlander.nl/polopoly_fs/1.3473362.1353552068%21image/image-3473362.jpg"/>
          <p:cNvPicPr/>
          <p:nvPr/>
        </p:nvPicPr>
        <p:blipFill>
          <a:blip r:embed="rId3"/>
          <a:stretch/>
        </p:blipFill>
        <p:spPr>
          <a:xfrm>
            <a:off x="6300720" y="60480"/>
            <a:ext cx="2833920" cy="202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3881520" y="5181480"/>
            <a:ext cx="2449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www.taxipro.nl/wp-content/uploads/2010/12/stijgingsalaris-480x296.jpg"/>
          <p:cNvPicPr/>
          <p:nvPr/>
        </p:nvPicPr>
        <p:blipFill>
          <a:blip r:embed="rId3"/>
          <a:stretch/>
        </p:blipFill>
        <p:spPr>
          <a:xfrm>
            <a:off x="6227640" y="5051520"/>
            <a:ext cx="2928960" cy="1806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4"/>
          <a:stretch/>
        </p:blipFill>
        <p:spPr>
          <a:xfrm>
            <a:off x="468360" y="1090440"/>
            <a:ext cx="5616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 eigen bedrijf ope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en loon/salaris, maar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ns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als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http://christine.echtebakker.nl/l/library/download/7iNYqfIzE-a-0HO_a_K125oaafR4RvMZ_a_wJpO/Christine-0014.jpg?width=438&amp;height=657&amp;ext=.jpg"/>
          <p:cNvPicPr/>
          <p:nvPr/>
        </p:nvPicPr>
        <p:blipFill>
          <a:blip r:embed="rId2"/>
          <a:stretch/>
        </p:blipFill>
        <p:spPr>
          <a:xfrm>
            <a:off x="3132000" y="2492280"/>
            <a:ext cx="27799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76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on van iemand hangt af van 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loonschaal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loonschaal heeft een aanvangsalaris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(=startsalaris)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n e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ximumsalari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verschillen door: opleiding, soort functie, ervaring, bijzondere kwaliteiten en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 verschillen in inkome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de prioriteiten (meer lux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schilt de koopkracht (= meer goederen van hetzelfde kopen, bijv. tweede aut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schillen in inkom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rmen de personele inkomensverdeling (= verdeling van inkomen over een groep mense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worden weergegeven met de Lorenzcur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overheid gebruikt het modaal inkomen (= meest voorkomende inkomen) om beleid te maken over de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771640" y="2776680"/>
            <a:ext cx="360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8219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9968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bezitting: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inkom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paargel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gen bedrijf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in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Huizen/kantoorpand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Gron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ac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Aandel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 = winstuitkering voor aandeelhou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le inkomens uit arbeid en bezit in een land bij elkaar opget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u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+ rente + dividend + winst + pacht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ATIONAAL INK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2T14:45:24Z</dcterms:modified>
  <cp:revision>57</cp:revision>
  <dc:subject/>
  <dc:title> </dc:title>
</cp:coreProperties>
</file>