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F49-6CFE-4311-BC28-F87D04C0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D61-FFC7-40BF-BD13-7A9FD130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E30-B749-46AD-B27A-C67E0F47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8FA-36DE-49F7-AA16-35A90054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3237-512B-4E4B-9392-AC7B96EC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42E2-EEA6-47E0-A23D-88D40B39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D0C6-8BC8-4C0D-848F-4684E7E1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C708-F261-4CFF-83C3-8C157238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634B-07EF-421E-BDA6-7E33C441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18A5-D506-4655-95CB-4CE712E0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1277-8DA6-40EC-B20C-0431F41D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D5A-1BA5-4C2E-A76F-9874993C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53AC-9623-4C22-9623-5585F026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0141-79E6-4405-9FB9-120D543E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D14D-4C2B-4512-96FC-81B49DF1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43F8-34E6-4BFA-B712-D713C492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28AC-98EB-437D-999B-CA8C069D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9FB1C-D6EB-4D22-8D66-1CC272EC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50ACB-31ED-49CE-9813-B2AD05FD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0B854-0D1D-4633-B57B-079EB518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DB93D-6B99-46D5-B490-24240C47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0395C-661B-4E5B-8640-14301D98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924-1E90-42CA-839C-FD4A9B22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0A202-C766-4D44-947E-6CCD426F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DF730-5677-446B-8CE8-788E0B21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0BBCF-BEB2-4680-8901-EF7E7C09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7D1F0-FE7B-4879-A75B-729FEC73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EF247-C9BE-4645-81EB-9F92B566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04AA4-577F-4DC6-B106-6DA3598E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0C7E5-4010-40AD-A006-A7BB4B7A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A6A03-362E-4228-89C2-901841B1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B6AAC-ABF5-4779-AED2-7236FEF0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79BD6-9A84-44C3-8623-8973B5A7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010C-8832-4B65-944D-70AC92FF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D4EC8-EED3-4163-B2A7-F21A6EAA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1218B-0036-454B-B3D2-26DF02F7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20EEF-2B9D-4BC9-BD62-1725A0CC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618D7-C692-4993-9A4D-F0C99060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B9C6E-39BD-4715-B488-9FB9784E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2C020-FD20-4D53-9705-6CF53B5A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84694-8123-4C61-B9AF-9A49071A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C4592-9A43-46A2-8859-0B091E95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F9F60-E758-4AC5-A48D-6AFD6440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F14EE-7565-4497-A25E-C6C25D9D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5BB-DF69-42AF-87F4-381CF609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9A8FD-460B-4F7D-9634-E18AD84C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28EBD-6411-4FE5-92F6-D8321699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38969-00C6-462E-84A1-5F59879E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7C38B-3411-4FA1-BED4-138EF8B7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8EA1E-A5B7-435B-94C4-8D7F3886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117B8-D52D-4246-B866-4251133C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5AD52-0874-4F56-B2F4-E9C05747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7383E-94C6-47EB-A26C-4FACA011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0903B-8672-411B-9F85-07B62CCA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F230E-008C-47A6-8A4D-49190185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56A-8494-4AB2-B9B2-05C29D66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02147-1383-4811-98F7-161E55F3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B34BB-16BB-4DC3-A482-CE44CA9C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9D23F-2D34-43D9-AD17-71E1DAD1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7FD17-F355-420E-9101-1167C1D6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74162-048E-460C-8244-F65C63DE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4964B-A450-4DAF-A0DD-2BED486C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D7B24-42A5-4922-AA97-0B32E511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6C2C8-B39D-4198-8355-CF95EA3A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03883-4C9B-4E4C-B9C6-2948477E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0B411-3AFC-4A6F-8F37-6EEE79E2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991-A45F-4998-9947-13BB1140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C0C33-4DBA-4F39-A3DC-C934D723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2C8A4-48ED-4A49-9D7B-A44B2E24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C95DA-502D-4894-99A2-704CC266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7DE1D-C6C8-41EE-8699-510A7C7A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08C34-F6EF-4C94-88A2-D96666C5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8BC33-B54A-4D84-9AB0-530F93D2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A202D-7A26-473F-B925-A0546F51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2AA52-C550-49AA-959A-2A38664D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9B583-E306-4B17-9FB5-3BA96D62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B47F4-8943-42E8-90CA-4179D962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6A9-DBA5-4F30-83F9-56357EFA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5927D-8F13-40CB-860A-535D359D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85D52-1755-4037-B940-AD40A7AE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D339C-1C4E-44BD-9C2F-40140F46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3BE8C-C249-46E7-B5EC-424A76B7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0C36F-E0CE-47AF-9B18-45B7B0FA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803AE-E098-48E1-B4D2-6936FBEC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0DDBF-53E0-471B-8BAD-46EA463A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B107F-0AEC-4B67-B29E-E5C666B9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071BB-3FBC-4801-B15B-7038498C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B0E06-6146-484B-AA32-CB0964F5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327-498B-4DC2-8FC7-081D0B71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A760C-3345-4591-87C4-077B4D20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57D14-08AF-4537-AAC5-40704336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B883A-73A2-4DDD-B5D0-CD30C894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4D67E-A88E-4033-9C0B-0D2BB04B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1F1A5-F7F1-479E-94F4-15B8D91B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BBC48-2BAC-40C5-BCD8-5C061793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C653E-8F9C-4ED5-BD54-FABCC36C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2110-8A2A-4E19-AE3D-1A488044FAF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BE81-0542-4142-B6AF-4B04F2442A7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6C5E-4E9F-47B5-912D-77E255F30C0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A384-80A6-4903-A7F1-D995F4BA7E5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EAF8-4FAD-4482-8DC0-8E4C106CC2E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4C09-23D9-417C-9F8A-4900F127972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4EB2-E829-4D03-905C-E01E9405E97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BFCD-D06C-467A-A56E-00C0346E2C2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4360" y="65232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64646"/>
                </a:solidFill>
                <a:latin typeface="Lucida Sans Unicode"/>
              </a:rPr>
              <a:t>Kosten van vervoe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Afbeeldingsresultaat voor autokosten"/>
          <p:cNvPicPr/>
          <p:nvPr/>
        </p:nvPicPr>
        <p:blipFill>
          <a:blip r:embed="rId2"/>
          <a:stretch/>
        </p:blipFill>
        <p:spPr>
          <a:xfrm>
            <a:off x="7920" y="0"/>
            <a:ext cx="32688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schrijving (= waardeverminder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andstof (bijv. diesel, benzine, LPG (=gas)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otorrijtuigenbelasting (= houderschapsbelast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utoverzeke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derhoud (grote en kleine beurt, onderdelen, keuring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http://ww2.autoscout24.nl/advies/autokosten-en-budget/437524/375467/as24.ratgeber.buy.inform.kosten.png"/>
          <p:cNvPicPr/>
          <p:nvPr/>
        </p:nvPicPr>
        <p:blipFill>
          <a:blip r:embed="rId2"/>
          <a:stretch/>
        </p:blipFill>
        <p:spPr>
          <a:xfrm>
            <a:off x="5413320" y="3930480"/>
            <a:ext cx="31734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Kilometerprijs = Totale autokosten : totaal aantal gereden kilometer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http://www.2d3d.nl/upload/projecten/kilometerprijs-brochure605/rijkswaterstaat_kilometerprijs_brochure01.jpg"/>
          <p:cNvPicPr/>
          <p:nvPr/>
        </p:nvPicPr>
        <p:blipFill>
          <a:blip r:embed="rId2"/>
          <a:stretch/>
        </p:blipFill>
        <p:spPr>
          <a:xfrm>
            <a:off x="2890800" y="3645000"/>
            <a:ext cx="3600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23T09:46:11Z</dcterms:modified>
  <cp:revision>78</cp:revision>
  <dc:subject/>
  <dc:title> </dc:title>
</cp:coreProperties>
</file>