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CCF-1202-4FE5-81E6-005B1092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2FD-F76A-466C-ADA6-7E1F59E8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BF6B-69CA-4402-8BD8-D2E0C9E6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C7D-151D-4F98-89D9-B1FEB827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82C4-56A9-41E9-8B65-096EF003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80DB-B9E9-4548-9DFD-4DAB3EF9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CF0F-4A2D-471A-8BB3-3A5201CF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D0D9-770B-4C62-B9F0-D34450D1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B718-717A-47C3-88C0-C6E7E4CD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7AC8-41EA-49A4-94EC-8238EA3D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E989-6423-48A6-9A59-1E71A655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1E0-1A2C-4454-9DFC-9FC4AEEE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329B-2B23-4EED-B26F-27D3B185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2DF8-C9C1-48FD-83B0-D6E04964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6C85-5428-4445-8516-A78C10FF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E717-F471-4746-B9BE-A7022B53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F734-0599-44EF-9023-7938CEFB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57A5E-514C-45D5-822C-1BF8D759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1ADC1-7FFC-48BF-827E-29002B32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16B34-CEFF-4FDC-9E91-48C533C0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D7F1E-EF44-47E0-A2D7-59CB88A8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19671-2C57-4347-8081-401EDFB6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C6B-FDF9-4D0C-822C-20E91BF4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5B62E-40B7-4526-BABC-61E8503B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C7403-DF2F-4DE3-AD99-476F7550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1F071-DDE9-4E65-97CD-99E22D68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C86E0-075C-49F5-8EA4-2DABE74B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5B3F4-268A-40EF-AB26-FBB0CB70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2D5AE-130C-4FD9-BE9B-5545302F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8C3F5-5577-45AD-A616-D524C6C7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5661E-1D1D-4482-9886-FE731056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34F8B-2639-4651-8319-47088049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2BF17-1730-426A-8E83-EBD20F5D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167-5A0E-4DD6-A499-3D48109F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35AD7-E53B-492D-A858-F73BC039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6D723-DA4F-46E9-80F5-FA6EF57C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19FF8-5EC7-412B-A1F5-CA05428D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B4FA0-5259-468F-94DF-311A65EE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106DA-AC21-4232-B5B1-50A50FB8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B643B-BDF7-4878-8D5F-166FF8B4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74CF9-E6F0-45CE-81A0-674165A3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F9B6E-143B-4619-867E-C2E43C78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21302-ADCF-4071-90BC-A1C61294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6C6A5-3632-4B8D-8CEA-132BBAF4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45D-FEBB-4E78-A20D-F15C35CD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8485F-6835-4CD4-A0C6-FB653E7B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E5C64-8C83-4817-8A7F-E3E0A090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002A9-23FD-462D-A2F2-0145E021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24474-4693-4751-9EC0-A3C3A50B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03C6C-8351-4746-B750-97B60EA0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E5C0E-D1B3-4129-9F21-8EB63590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C843F-EDCF-483F-9B9E-62CDCDB7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D520C-D7F9-4B69-A80D-651D5A08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2D082-E2E3-4379-8E3C-6DE560B8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FEF23-6AA1-4174-A193-7293DEEA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685-6703-4D6F-A998-41D5B3AD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546EB-21E6-4EC5-A936-90483305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3C877-0E1F-438D-B307-88900316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8C3CB-A986-4452-9519-A8CC8764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799E5-DF7F-417A-8A04-DEEF31DC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1BBE8-EE5E-46B2-A38A-F646205C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48E67-7321-423D-BEE5-A40391B6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FAA76-BC7C-4B8B-BA18-3129437A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47393-61FC-4F4B-AA4F-FB7A5FDD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21DD6-9B1B-42BB-BE0F-34D3D31E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3DB28-2EC1-4400-83B3-54807963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5BF-877C-4951-BC32-7C142849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02EBC-9271-47FE-BB09-CDB61A96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90C6F-424D-40B6-BE51-F52F8A73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41166-8652-4967-BDA4-1ADE4BC5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2FB97-8480-4801-989C-31C8CFFF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3B3DD-2991-4E93-9455-671BE8B3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EA600-5F2B-4206-844E-503AB944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9E695-8B52-4235-A293-6611238C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61451-79EB-483D-BB3E-B07CC682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9C3FB-6EE0-4E59-A2A2-7A094FBE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D7F1A-4F3A-489A-B846-5F3A2E62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6D1-4634-4111-A494-892BBE67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D222F-4F7D-4B52-AF76-79C78605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FD4D1-67D5-41EF-8E26-F2E18CBF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4A8A2-CA1A-4CF5-B648-814B2B63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E0A34-356E-4185-96C7-4DC700F8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76025-F5F1-42C5-B2AC-2B0261A4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D9FE8-E77D-4CC6-8A22-9B150752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55D11-4613-4D8B-AE08-D08EF219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FE93A-E23F-431D-83D2-B3B52B29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22CA4-36F3-4352-B21C-EF7681C2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14AEA-7C28-439F-8C76-20DCD879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A64-9A08-4757-A777-1DD548DF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52C65-E8CC-458F-9EFB-055267FC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0F282-54D0-4D68-A825-FF9D6554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1C05A-0DBB-446F-8164-6E6C9759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75C2B-6899-4081-984D-C54424D4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C67B3-2077-4BF6-9598-956E3028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5CAE7-2C22-4726-9543-EAEDE112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07ACB-22FE-4420-8126-FD1A958E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4C5F-FCF9-4F3D-B970-544E9BDF113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F5F9-9ED8-4485-94B6-F7F440D14CA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E90A-3C0D-427B-8A0A-6C1409636C0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C708-A55F-45E7-B99E-F5954C00799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282F-6842-4004-BBFA-6A7AB53227E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4F88-03A4-4324-93A8-49CDCF3F13C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0178-66D8-4061-92E5-B2401718319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FE51-3202-48E8-BBE5-AC3B44D0D06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Reserv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content.iviveenendaal.nl/jqzoom/Siemens_gr_HR74W525N.jpg"/>
          <p:cNvPicPr/>
          <p:nvPr/>
        </p:nvPicPr>
        <p:blipFill>
          <a:blip r:embed="rId2"/>
          <a:stretch/>
        </p:blipFill>
        <p:spPr>
          <a:xfrm>
            <a:off x="0" y="0"/>
            <a:ext cx="2700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unnen uitleggen van duurzame gebruiksgoederen zijn en enkele voorbeelden hiervan opno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unnen uitrekenen hoeveel iemand moet reserveren voor de vervanging van duurzame gebruiksgoed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Afbeeldingsresultaat voor lesdoelen"/>
          <p:cNvPicPr/>
          <p:nvPr/>
        </p:nvPicPr>
        <p:blipFill>
          <a:blip r:embed="rId2"/>
          <a:stretch/>
        </p:blipFill>
        <p:spPr>
          <a:xfrm>
            <a:off x="5272200" y="4292640"/>
            <a:ext cx="34542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uurzame gebruiksgoederen gaan meestal lang mee en hebben een hoge aanschafprij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rveren = geld opzij zetten (meestal maandelijks) om later bepaalde consumptiegoederen mee te 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rveren kan op basis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ankoopprij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je gaat dan het bedrag waarvoor je een bepaald product hebt gekocht opzij zetten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vervangingsprij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hier houd je rekening met de inflatie, dus leg je wat meer geld opzij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8" name="Titel 2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http://www.nuvola-kastenopmaat.nl/kasten/wandmeubel_op_maat/wandmeubel_maatkast.jpg"/>
          <p:cNvPicPr/>
          <p:nvPr/>
        </p:nvPicPr>
        <p:blipFill>
          <a:blip r:embed="rId3"/>
          <a:stretch/>
        </p:blipFill>
        <p:spPr>
          <a:xfrm>
            <a:off x="5292720" y="1341360"/>
            <a:ext cx="3692520" cy="2157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s://encrypted-tbn0.gstatic.com/images?q=tbn:ANd9GcRKUbGbsjzhj5Axfb8OKYx-Iq7pIBDRJWHH7m-ovsbe1YT_nc3v"/>
          <p:cNvPicPr/>
          <p:nvPr/>
        </p:nvPicPr>
        <p:blipFill>
          <a:blip r:embed="rId4"/>
          <a:stretch/>
        </p:blipFill>
        <p:spPr>
          <a:xfrm>
            <a:off x="155520" y="1414440"/>
            <a:ext cx="3106800" cy="2187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http://www.xead.nl/upload/6ab830af648e830bc0bcf1f480dfeb2eaXBob25lLmpwZw==.jpg"/>
          <p:cNvPicPr/>
          <p:nvPr/>
        </p:nvPicPr>
        <p:blipFill>
          <a:blip r:embed="rId5"/>
          <a:stretch/>
        </p:blipFill>
        <p:spPr>
          <a:xfrm>
            <a:off x="3276720" y="1989000"/>
            <a:ext cx="2016000" cy="249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ttp://paulissenwitgoed.nl/image/cache/data/Producten/Everglades/Fornuizen/EVERGLADES_EVCK022-700x700.jpg"/>
          <p:cNvPicPr/>
          <p:nvPr/>
        </p:nvPicPr>
        <p:blipFill>
          <a:blip r:embed="rId6"/>
          <a:stretch/>
        </p:blipFill>
        <p:spPr>
          <a:xfrm>
            <a:off x="5521320" y="3535200"/>
            <a:ext cx="3235320" cy="3235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http://www.decorwonen.nl/image/cache/data/eettafel%20met%204%20stoelen-840x520.jpg"/>
          <p:cNvPicPr/>
          <p:nvPr/>
        </p:nvPicPr>
        <p:blipFill>
          <a:blip r:embed="rId7"/>
          <a:stretch/>
        </p:blipFill>
        <p:spPr>
          <a:xfrm>
            <a:off x="77760" y="4400640"/>
            <a:ext cx="32623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maandelijks te reserveren bedrag reken je als volgt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(Aanschafprijs – restwaarde – al gespaard bedrag) 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ebruiksduur in maan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(Vervangingsprijs – restwaarde – al gespaard bedrag) 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ebruiksduur in maan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52240" indent="-203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52240" indent="-203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18T08:11:49Z</dcterms:modified>
  <cp:revision>65</cp:revision>
  <dc:subject/>
  <dc:title> </dc:title>
</cp:coreProperties>
</file>