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2511-404F-47D6-B42F-E5288C00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A22D-5096-4C06-9306-28AA1D9A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521D-0AA5-46DD-A13E-3AC65F2E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3C6-63FB-48AE-B2C1-FF14798E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3476-D53E-414B-B6F3-2E1BED84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08B0-FD74-4592-93CB-B89B1452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DBF5-E1E8-4B89-954B-67C7BBF8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90ED-4F6D-42A2-9C87-4813A077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4703-C7FF-47B8-8039-E24C88C1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F351-7A9E-4632-B92A-F764B775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79B6-EBBA-40DB-8C81-24EC7012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A825-42D1-4733-9D1C-F2678196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0F3B-94EE-4155-B4C2-C92A8D81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C7C1-75DA-4EAE-AAC5-5C6E337A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1F2B-C8C5-4907-958E-1A60E686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CAE7-7CEE-4002-8486-9B4307BA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F814-4BDB-4455-889A-2F07BD89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81D1F-EACA-4414-898E-A5B844B6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79C1A-3580-4180-BDCA-4ABB58FF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518D4-CDAD-4EC5-BD6E-1F97DC38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C0B6C-F13B-4718-AE53-FAD6686E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0A749-5F9F-481D-BF0E-DEEBD170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1224-4E96-4539-A2D5-0D0F97CE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83BF4-306F-4B2A-929C-27ED11B1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6FFF3-C22D-4189-85AF-99E4BBF4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4DC67-2A91-4720-9FE0-438AFDCB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2D331-8D3E-4E94-960E-45777B31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3DB88-EA39-4FAF-8BE2-14E2AD0C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5323A-5DE1-4FA2-AC0D-B52A6FEA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85AF0-E742-4AD9-914A-D1DC0949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DD40E-37B4-48F1-A142-4603D547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0E6C8-DE4A-4BDE-A231-3CCDAD6C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DB075-DE7D-4493-9CAF-179A1164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3952-869E-464D-9AB8-DDC9706C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045D2-009D-4B81-96E7-89B5AD45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E21D0-C74A-4EB4-BC5C-E0F88AB0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AD719-DF64-4682-B94E-BF0CB135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40916-A7F7-4C4C-88F1-0B9C156C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78A69-5E5E-4B6B-89F1-F1E5D88E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A3A4D-4393-4B74-8DDF-D0386DCD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B67AA-E9F2-4EF6-A371-8F66192F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65360-BA88-4DFC-864C-52EBD355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87CFF-B023-4CB3-8F4F-E15DE1F9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43D15-11A3-41A1-A639-5AE1FA65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2300-5B4D-4CE4-9549-CE63C1D0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FAFB7-8A0C-4E7F-BAAF-C475CC00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9E539-3616-42BA-B83D-DF6B175F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10CC6-83D4-46AA-9B1C-55408FBF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2328A-42F6-42FE-AA29-97D66BAA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B534D-6A21-4D29-8A43-7AFA726C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927E5-AB0F-4727-B43C-95DC0CE3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801A0-26B8-46E2-9AF2-81E12256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91DEF-5615-47A2-99D1-8BADD1D4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58C37-3B6C-4FCA-AB93-C8AA920D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F98F9-6C9D-4B90-8D6A-6F0CE85C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D948-34C5-4081-A7BE-D98E0FAA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29251-4AAA-44C4-B4DA-00387A0F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F5133-6C76-451D-8ADD-E20E65D8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DC5B5-177C-42B5-B1B5-588BC379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DEDC2-586C-475C-8912-E97F7F3A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39986-4A8C-44A7-AEC7-F36CC259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CC557-C1F5-408D-8B4F-71FDB491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E62F1-5447-4421-BCC5-DE0DDE32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54E15-D0D0-4809-8E4E-5CFC31D3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03644-9315-40CB-810B-47A6697A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74BF5-920F-4566-9327-B2B76D5D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B0FB-9D3B-4091-AEA5-AC2626B0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54891-0D47-48A4-B2D5-89ED1C65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4358F-CA78-4D27-83A4-79CA2470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AE7A1-0CFA-4B8A-9567-FC01E701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A558B-3535-441F-9878-1D0FBB5C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29C22-80B7-4DE2-8856-4B0AD7D5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D8BBF-CC3D-4360-9C73-0F816275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5D276-4116-4FED-B320-0FA973E2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1F1CD-2B59-4F19-99BD-6059D2BC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6021E-D524-4F3C-A085-459A824E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0DED6-F743-4A61-A3EE-E91E292B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C0F5-717A-4281-B05C-6B15B4E8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28A07-BCFB-4BE2-ACF7-AABB7BA9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04C16-274D-446B-90AB-1A27D6DF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F6D81-7443-42A4-B550-9B365C24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87D60-E925-41AD-83B3-8668AE71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C2DE0-4568-41F1-AA22-6CF623D3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D10B9-9F1C-4426-9D12-EC0AA041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B8D6A-FFA3-4E2B-8D37-1BC7789D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71CE0-8415-4947-A243-E3966AC1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07823-F3CC-4C23-8632-340B946A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FE9C0-18FA-4C5C-961B-41401440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D781-4F9C-4947-8C2D-10F1D8C7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81DDF-2FC6-4CF1-9B9E-C0651D8E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BEAB3-7545-4A98-B988-FC869829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DB939-CE15-4632-99D6-4F4AF334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80428-1019-4A90-95CE-CAA336E7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2C2A8-46CC-4588-894C-879C3B3A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4B0FB-1658-48B7-BD1E-1BAAFA25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AC258-9A0E-4CFB-A1CF-4540DA32D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07AC-DCCD-403F-89B8-CDF9F4AECA4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12FD-F8E4-41B7-A20A-279E3D15FD4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1167-8EB3-4AF7-AC14-42BC43D4E05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E643-1E55-40E0-A253-F7C48E70CD8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3D66-8F4C-4873-BDE7-75D539D4BC8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5715-BFB7-47CE-909B-28AD3343F6C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3435-090A-42EA-8AFC-8578CE748E7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6EA2-1470-42BE-86CD-9A92B82C7AC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4360" y="65232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64646"/>
                </a:solidFill>
                <a:latin typeface="Lucida Sans Unicode"/>
              </a:rPr>
              <a:t>Kosten van vervoe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Afbeeldingsresultaat voor autokosten"/>
          <p:cNvPicPr/>
          <p:nvPr/>
        </p:nvPicPr>
        <p:blipFill>
          <a:blip r:embed="rId2"/>
          <a:stretch/>
        </p:blipFill>
        <p:spPr>
          <a:xfrm>
            <a:off x="7920" y="0"/>
            <a:ext cx="32688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schrijving (= waardeverminder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randstof (bijv. diesel, benzine, LPG (=gas)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otorrijtuigenbelasting (= houderschapsbelast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utoverzeke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nderhoud (grote en kleine beurt, onderdelen, keuring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http://ww2.autoscout24.nl/advies/autokosten-en-budget/437524/375467/as24.ratgeber.buy.inform.kosten.png"/>
          <p:cNvPicPr/>
          <p:nvPr/>
        </p:nvPicPr>
        <p:blipFill>
          <a:blip r:embed="rId2"/>
          <a:stretch/>
        </p:blipFill>
        <p:spPr>
          <a:xfrm>
            <a:off x="5413320" y="3930480"/>
            <a:ext cx="31734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Kilometerprijs = Totale autokosten : totaal aantal gereden kilometer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http://www.2d3d.nl/upload/projecten/kilometerprijs-brochure605/rijkswaterstaat_kilometerprijs_brochure01.jpg"/>
          <p:cNvPicPr/>
          <p:nvPr/>
        </p:nvPicPr>
        <p:blipFill>
          <a:blip r:embed="rId2"/>
          <a:stretch/>
        </p:blipFill>
        <p:spPr>
          <a:xfrm>
            <a:off x="2890800" y="3645000"/>
            <a:ext cx="360036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23T09:46:11Z</dcterms:modified>
  <cp:revision>78</cp:revision>
  <dc:subject/>
  <dc:title> </dc:title>
</cp:coreProperties>
</file>