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png" ContentType="image/png"/>
  <Override PartName="/ppt/media/image9.png" ContentType="image/png"/>
  <Override PartName="/ppt/media/image6.jpeg" ContentType="image/jpe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241A-CB86-4733-95BD-F74DCF44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0E5A-E961-4909-A25D-69465AAE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2683-BCF7-4E35-BB02-78830D90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1AE-38D5-48F9-BE1A-305B2F13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7859-8289-4380-B20C-888E148E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29BA-7261-4CEB-AE7C-D91565F2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54F4-F0CE-4170-BBD1-CC10FD62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A377-EB6C-4D6A-9570-4D499D67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1888-7FE6-4018-930C-41FE2BF2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A9B4-1875-4ACC-9D6D-E82A4440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7497-3608-4B78-9C73-8F23065C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F29D-4F69-4F20-A7DC-AD0665DF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085B-C8A4-4859-9B69-F979773E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A766-8583-4E96-94DF-315F8DF9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A1AC-CEFE-4DC0-9525-6CD51834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F957-6237-4FF3-AA78-0240FFED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60A9-54B2-4C18-A615-B8134653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22262-858A-4444-B95F-178ACB30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3AE06-8DF6-4D5D-A790-E750085C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F92C8-AB2D-4C88-A28F-810C5725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906CC-0147-4B3E-AD0C-BB36B964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7C9DA-05FB-4CAC-BC94-315CFB7C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CA18-1D99-4E77-B784-C969B6F7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34E53-F248-4019-8B22-21B4E661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E5758-FB5E-41FB-99B4-F9E60209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A8F52-464F-4053-857D-A7C53825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CCFE4-AF17-42C8-A090-7F89C7A4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C4E61-9B26-45BC-8F24-3BE62831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0B16E-BC34-4091-A3D4-AC105761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6220D-7A5C-4E35-89A7-0236E866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FFF1D-61F2-404B-941E-3C0E8E80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36076-55A2-4463-A9FD-D3DFAEC7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EC485-CBB5-4463-8B63-7671E7E6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7964-E4A1-4732-B8A6-C3EA16CF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3F13C-921E-4FF0-BC62-8525923D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C3075-0078-49DC-A32D-275106B1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BBBED-3687-4B6C-A3CB-1032FD1A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3A4AE-C4D7-4965-96B5-E9EB1E46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C8628-F5E5-4260-B5CC-93091B64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70673-44D2-4019-85B2-8ED758DC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C67EA-223C-4ACE-9113-7D55764D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26F96-D468-49F7-A0A8-0B01D47A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F0E7B-0830-459D-9ABB-B829F52D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D53CF-D538-47D3-B5A9-5B1D11AE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C9B9-B7CD-414F-8907-ED1AEEE4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7C84D-BFD4-4AF0-8DDF-5A71BA4D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60A7D-E705-4241-94C9-041EE670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26AB3-A7ED-4085-8E6D-822CB882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02C82-B1E1-4126-88BB-EDF068F0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95436-D873-4E06-93F5-EC214748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D4EE1-1883-4911-A5A5-1663142A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D0B46-73DA-4450-A36D-F4CC8B58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2A9D7-EFC7-4E92-99C5-B47DCEE6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5FE63-3306-433F-AC0C-089A7442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2D464-EFB9-4292-87A7-25118398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D76-48AB-48B3-85F3-520BA3DE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8346B-5735-4065-89BC-8DCAB0E2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A01CA-9561-4E8A-846D-91532BA4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35CCF-F108-41C5-A268-670E51CB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29C80-12FA-4C39-9651-91F08FEB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A6E6A-0A63-4F04-B6BE-A9208776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7570C-DA9C-46DB-AC37-8B354BC6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948AD-6ADD-4667-8860-2A6F01C5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865C9-505D-499D-88C5-2541C097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76921-C176-474B-A806-1C7C6C0D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4E066-D29E-4A46-A19A-37FD9766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C1E3-9AB6-4568-87FC-2A725285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0B58F-AC42-4AFB-9CDB-7C516440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FEA6D-7F9E-4A90-8EE9-384A5409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A653D-1F43-47AF-BB01-2082101E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5B67A-BE24-4AE5-9CBE-69D20620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8D542-6653-491A-B33C-9F476D9A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AEA30-6FC7-41F7-81EF-F0A0698A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A7D97-8E43-4D40-ACD2-78B2A396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265E3-E22C-4B8E-AE61-555ED6B4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14134-B07E-4513-BFAB-ECC346FB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C4260-B96D-4BF3-B98D-3113F9E5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3747-A157-4B50-BEDA-6D5DE25A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B3A8D-0109-4EDB-BE1D-0C048A5A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03CC5-3354-4323-AAF7-12C11D1F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B4450-5018-4A8E-97AE-B5FA40A3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31AB4-5588-48AE-BEE5-CA626A08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0D907-2A66-476E-8A28-55D09A9A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9C71B-506D-4D74-9AB6-961C11AF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4628C-D02A-4C5C-A0B1-B85FB503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FF95F-848B-4B27-B572-2C9C82F3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597B1-9A25-4DE8-9C37-53A95E38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2D43F-B506-4AF6-BAE6-4A6B4FEE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37F8-FE5E-419C-8D36-BF6A5180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FB428-CAD4-4CCE-B1D6-FA5D43D2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5D056-31A9-4037-BC88-25EE4775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31225-F53B-46B4-A532-27F20AC0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04138-80A6-4E2D-BC9A-21CCA5FE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7547A-FBF5-4F64-9357-BE914D3A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6229C-EA8C-4E6E-BA88-1236BAB4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76169-F749-4092-AE2D-A39A9A57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35F9-D150-4806-8694-3AE245DF598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A25D-6AE8-49D0-B083-0FB72E0570F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CE4B-EF09-4633-B9CA-4EC9F30EE0B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05C3-4B42-40C9-A061-336C7C330EA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587C-9118-4F7E-8831-C7797537EAD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7F4F-829B-4042-9991-54739E39B88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587F-E38C-4048-89DB-A7DD0FA7365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CCB4-03A1-49BE-99D1-DA29DD2159E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eld tekor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publiceer.cashcow.nl/uploads/afbeeldingen/9810_broke.jpg"/>
          <p:cNvPicPr/>
          <p:nvPr/>
        </p:nvPicPr>
        <p:blipFill>
          <a:blip r:embed="rId2"/>
          <a:stretch/>
        </p:blipFill>
        <p:spPr>
          <a:xfrm>
            <a:off x="0" y="15840"/>
            <a:ext cx="32986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n een (grote) aankoop af te zi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aankoop uit te stellen en geld te reserver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 interen op je spaargeld (= gebruik maken van je spaargel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 lenen (let op: brengt vaste lasten met zich me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12760" y="189000"/>
            <a:ext cx="87120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bank vindt dat er genoeg inkomen is om de aflossing en de rente te beta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r voldoende bezuinigd kan wor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r maandelijks voldoende overblijf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enen om de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blijvende tekorten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 te vangen is niet verstandig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an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ibud (nationaal instituut voor budgetvoorlicht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onsumentenbo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http://groenopgewekt.nl/wp-content/uploads/2015/08/consumentenbond11.jpg"/>
          <p:cNvPicPr/>
          <p:nvPr/>
        </p:nvPicPr>
        <p:blipFill>
          <a:blip r:embed="rId2"/>
          <a:stretch/>
        </p:blipFill>
        <p:spPr>
          <a:xfrm>
            <a:off x="5076720" y="4869000"/>
            <a:ext cx="3143520" cy="1371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https://www.mijngeldzaken.nl/images/mijngeldzaken-icon_grip-nibud-vergelijken.png"/>
          <p:cNvPicPr/>
          <p:nvPr/>
        </p:nvPicPr>
        <p:blipFill>
          <a:blip r:embed="rId3"/>
          <a:stretch/>
        </p:blipFill>
        <p:spPr>
          <a:xfrm>
            <a:off x="5807160" y="3252960"/>
            <a:ext cx="1681200" cy="1554120"/>
          </a:xfrm>
          <a:prstGeom prst="rect">
            <a:avLst/>
          </a:prstGeom>
          <a:ln w="0">
            <a:noFill/>
          </a:ln>
        </p:spPr>
      </p:pic>
      <p:sp>
        <p:nvSpPr>
          <p:cNvPr id="38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8" descr="https://petities.nl/system/uploads/4391/original/banken_logos_2013_09_1_.jpg?1443442323"/>
          <p:cNvPicPr/>
          <p:nvPr/>
        </p:nvPicPr>
        <p:blipFill>
          <a:blip r:embed="rId4"/>
          <a:stretch/>
        </p:blipFill>
        <p:spPr>
          <a:xfrm>
            <a:off x="4641840" y="1557360"/>
            <a:ext cx="28576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23T09:33:58Z</dcterms:modified>
  <cp:revision>66</cp:revision>
  <dc:subject/>
  <dc:title> </dc:title>
</cp:coreProperties>
</file>