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3.png" ContentType="image/png"/>
  <Override PartName="/ppt/media/image7.png" ContentType="image/png"/>
  <Override PartName="/ppt/media/image12.png" ContentType="image/png"/>
  <Override PartName="/ppt/media/image6.jpeg" ContentType="image/jpeg"/>
  <Override PartName="/ppt/media/image10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56F26-DA04-4E21-A71F-233D3D95C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9425F-78A6-4711-95BD-A51B47E1A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EF6B0-A988-4952-881F-3A07BD535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222E1-D9B2-4245-8E49-0A96CEC29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93033-FC30-4444-801F-5A134CC56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D0084-BA6B-4394-AD14-E601299CA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28D4C-FE19-4E06-98F8-4CEA1F5F2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43A94-9216-4D77-9C48-B3CB79740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E11D8-FD30-47CB-BEAA-D7313169F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5A196-FCC2-446B-A05E-B30EB9498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0D9A5-B33B-4B53-9D74-10EAA22C6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1A5DB-FBF1-4FD1-88DF-C3C96C9F4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DB2E6-0A87-4F92-9D17-D3B602BBC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4A7E4-BC26-4502-AF3C-ECE21973B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37D1A-AD11-446F-A618-278ECE9B4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1497E-BC35-42BF-99AD-F006C875D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389A7-21C1-497E-9E5D-217BEB532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F891AE-E575-42E8-9CDD-126CABB8E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245FB2-1442-4D03-A1EC-B7FB4F639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2B1448-8EAC-4C7F-80B8-2FD2A9659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5A1537-9F0B-431A-9F4A-A212330A0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39C3BB-9B5C-42C4-9F1A-C0379394F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AB04D-CDB2-4062-9532-0747A09C8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F9D2D9-80D9-48C6-BE74-0F1DA7E83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784FD2-1056-4CC2-AFC8-3D2B2E071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62A166-A8CB-4C26-840D-EFF1050D5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8CBB91-6326-44D3-8013-4D7625A92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F4DE82-3A8B-44C3-8A33-917A9B355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987D4C-E93C-4570-83C0-8FED9EDED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D0E8F3-51BF-4462-8D96-19AE518CE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FF09DB-C3CB-4583-8ED4-AFB22C75A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392DDB-7B24-4685-97D3-D1C89992B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FC485B-F90A-415E-A0BE-E1FC39F5B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53FD9-BBA4-41B9-891B-FF0E98C7A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D51C61-AEFB-4320-AFE4-794FB0C12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71556C-7DA6-4051-8EAD-E7CC67526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93143A-E07D-421F-8EBD-699F60270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9E26CC-8E79-458D-92F7-11934EBFD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A35721-5E66-4193-B9AD-6D57E6F95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842CAA-55B5-4C85-B3C8-1912F91E1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583B39-4870-4573-9534-A0CFDEF83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F16399-9F74-48D0-866A-AD76256A2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BCC6B3-B7DF-4DFE-9FAF-531E72EBF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E7C20A-40E2-436C-985D-03D5E6AFD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74FAF-F614-4BB4-AABF-737DD05AE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ED9E08-FCE8-4DCA-84E8-A1317FC12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B16D33-F0D6-48C0-A699-05A27547F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A57555-C984-40AE-9C19-DA809D3D5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59BC63-89A1-48E5-9215-FA5FCBA27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81A519-945A-4E2E-9EAB-C6ADDCB3D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7BFE5F-6A6B-46C1-BD19-6D1EB2040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6F4223-AA8A-43BC-84B0-A956AE1CB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322619-4568-479F-9204-3688AFFAA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F0356C-1768-42AA-BC0E-081EDDA91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D57E44-D448-4E05-9210-041613C2B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A9EA0-B610-4B5A-AFAD-FD6B34866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FF4ADB-A0CA-4F0A-9AB5-FA425EE73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AA876B-BF0A-45D0-9912-CF0693A66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668FD7-0986-4D2B-B995-D87874529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91F008-7D22-4227-A81A-215DF1BC1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37C595-2446-4966-84A3-76DDCC97C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9A0925-19A7-47FB-88DE-A5707A259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D67652-4539-4A92-B543-4ACA278DD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45C427-AD10-46DE-9DC2-6D9821914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D9E786-80AE-47D2-A05B-17ADD3AF8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DDD0C9-522E-4F26-A92F-9E86C724C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2ACB7-B51D-44D0-AE00-990E145A1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0906EF-04BE-4B7B-8ADE-EC1020FA7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1BE4C3-6F2D-4C29-B514-1284058AF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09A0FF-E00C-4D11-96F8-7EAE25D99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86C1F1-FBDF-4086-8228-E83CF0768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6FAE19-FCDE-4BE4-95C1-BEA57D456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6F6E05-2F0C-4ADF-A6AF-42A55D0E6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A3355C-D6D2-4604-B986-F29D06097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A6A9D9-9572-48D6-AD19-423A67DDB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F4C7CD-0719-446E-AAE0-CEAA57FA7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B929EC-B0D2-4840-97C6-BB208D3DC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49308-A38A-4623-AD97-3A41EEFFC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A7CA03-510B-4ADA-80ED-8A2D5150C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51F63F-57AF-435C-825F-69BE403E7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E67C36-65E5-4909-BFE4-5F16B1B61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9AA253-45AB-4768-94D4-B6229628A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85579F-EA64-430D-AFE2-2674E5376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2CB7A6-9C30-4A6C-B07B-EA3941E06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3320DC-39AE-435D-AB16-C10BF6676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DF3858-5013-44E1-9CD5-9C2C2C228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31C70A-DF9B-4B93-842E-F7971BA46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21876C-09DF-4D09-A7A3-B2C853C31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8CE30-39AC-49B4-BA89-958A6B62F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179F92-EEE2-4729-8C7E-836C20448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EA060C-2319-4539-8F61-92BBBF061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2C4B42-C0B0-43E4-A479-F95235F81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2B8038-0933-486F-B644-170CCF018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E6106B-7592-4CFD-AE76-2F0D3D794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8206D5-F247-424C-938B-9486A58F0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C19515-4944-4A88-9203-F24D8E12C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echthoekige driehoek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Rechte verbindingslijn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84AAB-17FD-4D61-BF47-8626F1DB2968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hthoekige driehoek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e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Vrije vorm 15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Vrije vorm 18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Vrije vorm 18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Vrije vorm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Rechte verbindingslijn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C8619-4656-421C-8439-601FDCD1E16D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Punthaak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unthaak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F65A7-8ACE-453C-BAD3-A8AE449E0099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2702C-C6FA-4104-A97C-B5C290CEB8EF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DD87F-3228-4A20-AF1B-DC0EBFE15076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3B3FB-AF6C-4668-9FEE-09AAC9C08D42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76C3A-C823-4EE6-A2D6-DA0496BB6F46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Vrije v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Vrije v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echthoekige driehoek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Rechthoekige driehoek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Rechte verbindingslijn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Punthaak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unthaak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4B7A0-B5B6-4615-836B-E875D1BD46DB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hyperlink" Target="https://www.youtube.com/watch?v=A1oYicwBimo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el 1" descr=""/>
          <p:cNvPicPr/>
          <p:nvPr/>
        </p:nvPicPr>
        <p:blipFill>
          <a:blip r:embed="rId1"/>
          <a:stretch/>
        </p:blipFill>
        <p:spPr>
          <a:xfrm>
            <a:off x="689040" y="1755720"/>
            <a:ext cx="7772400" cy="18288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755640" y="1125360"/>
            <a:ext cx="7772400" cy="3686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Lucida Sans Unicode"/>
              </a:rPr>
              <a:t>ECONOMIE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Paragraaf 3.3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Budgetteren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 u="sng">
                <a:solidFill>
                  <a:srgbClr val="ff8119"/>
                </a:solidFill>
                <a:uFillTx/>
                <a:latin typeface="Lucida Sans Unicode"/>
                <a:hlinkClick r:id="rId2"/>
              </a:rPr>
              <a:t>https://www.youtube.com/watch?v=A1oYicwBimo</a:t>
            </a:r>
            <a:r>
              <a:rPr b="0" lang="nl-NL" sz="3600" spc="-1" strike="noStrike">
                <a:solidFill>
                  <a:srgbClr val="464646"/>
                </a:solidFill>
                <a:latin typeface="Lucida Sans Unicode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2" name="Picture 6" descr="http://linkmijnles.nl/uploaded/2011124333budgetbeheer-flyer.jpg"/>
          <p:cNvPicPr/>
          <p:nvPr/>
        </p:nvPicPr>
        <p:blipFill>
          <a:blip r:embed="rId3"/>
          <a:stretch/>
        </p:blipFill>
        <p:spPr>
          <a:xfrm>
            <a:off x="0" y="0"/>
            <a:ext cx="233352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 txBox="1"/>
          <p:nvPr/>
        </p:nvSpPr>
        <p:spPr>
          <a:xfrm>
            <a:off x="457200" y="1052640"/>
            <a:ext cx="8229600" cy="49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4264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Het afstemmen van de uitgaven op de inkomsten. (Totaalbedrag uitgaven + spaarbedrag = totaalbedrag inkomsten)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Budgetplan = een overzicht met de gemiddelde inkomsten en de budgetten (= gemiddelde uitgaven)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Uitgaven zijn over het algemeen te verdelen in vier hoofdgroepen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89320" indent="-21708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1- Vaste lasten, 2- huishoudelijke uitgaven,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89320" indent="-21708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3- persoonlijke uitgaven en 4- incidentele uitgaven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4" name="Titel 2" descr=""/>
          <p:cNvPicPr/>
          <p:nvPr/>
        </p:nvPicPr>
        <p:blipFill>
          <a:blip r:embed="rId1"/>
          <a:stretch/>
        </p:blipFill>
        <p:spPr>
          <a:xfrm>
            <a:off x="201600" y="176040"/>
            <a:ext cx="8485200" cy="115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457200" y="148104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376" name="Titel 2" descr=""/>
          <p:cNvPicPr/>
          <p:nvPr/>
        </p:nvPicPr>
        <p:blipFill>
          <a:blip r:embed="rId2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2" descr=""/>
          <p:cNvPicPr/>
          <p:nvPr/>
        </p:nvPicPr>
        <p:blipFill>
          <a:blip r:embed="rId3"/>
          <a:stretch/>
        </p:blipFill>
        <p:spPr>
          <a:xfrm>
            <a:off x="2195640" y="1341360"/>
            <a:ext cx="4897440" cy="50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e gemiddelde inkomsten per maand vaststellen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e uitgavensoorten vaststellen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e verwachte uitgaven (= budgetten) en het gewenste spaarbedrag vaststellen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e budgetten en spaarbedrag afstemmen op de inkomste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9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e inkomsten verandere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e uitgaven verandere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e werkelijke uitgaven zijn vaak hoger dan de budgetten (verwachte uitgaven)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aandelijkse spaarbedrag verhoge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1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1T14:51:49Z</dcterms:created>
  <dc:creator>rachid</dc:creator>
  <dc:description/>
  <dc:language>en-US</dc:language>
  <cp:lastModifiedBy>Rachid Hamdi</cp:lastModifiedBy>
  <dcterms:modified xsi:type="dcterms:W3CDTF">2016-11-16T09:28:24Z</dcterms:modified>
  <cp:revision>65</cp:revision>
  <dc:subject/>
  <dc:title> </dc:title>
</cp:coreProperties>
</file>