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2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5D4B-0B1C-4D2D-8E60-2DA9A1CA7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DEB2-9289-412D-B0B5-7CB32BD2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05C0-8401-4C3A-A870-80BABCD31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64F8-4742-4B4A-A553-609447132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1B88-97E3-4080-8499-09DD5D693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DC94-805F-4F88-B339-76FAF344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C5A1-4656-45CE-9410-01C042D47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96F4-3B5A-4D2B-BA03-CCCC9494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AB83-B0FF-402F-97BE-C3E14531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A1A7-38A0-4A97-A41E-5EA6C49A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8276-B789-4764-9FEE-85AF7CD8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BDF5-FD90-4288-98FD-610130B8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4B99F-A796-4D60-89A1-FBDC6E86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C0F9-1568-4968-BF85-58001C34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95697-2021-4899-ACC5-68243C65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FC62-5946-4DC8-BC9C-A99911B66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9697-A5A5-400A-9313-D6DFBDA8B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0948E-3463-420C-8194-E86BAF61A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BC679-6A26-4ED1-8957-62978990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002F0-B858-458D-B2A7-C93BB273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5777E-38A4-4A8A-95FF-308534ED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E6D94-0C52-4D10-BA2D-2AA634CE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42CD-A06C-456B-B35D-21F6074D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E766A-02E3-4B9A-B24F-F8C936FD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07875-E970-4D2C-9CEA-3AF40511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8BFC4-8F5D-4971-92A3-31ED0BB6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268F4-E1D1-4EE1-A074-9532B6A2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D4BEB-6D07-430B-AC1F-60B95EFB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FD583-38AD-4EEE-80F1-DA1133DAA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66857-8944-42B6-A013-EF6C07013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783E7-BEB5-4A7C-A740-D9E473D5F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5B399-4EB1-4EA6-8186-D6F4DCF4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D1FCE-4710-499D-856C-D41CCB71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B6FA-C044-48D2-B518-359F7873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A9481-583D-43F4-A6AD-D5D93C98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1BA15-3504-40FF-8ACB-706582EA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09AB0-3D2D-4711-BD57-3E7AB695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1DFAC-7A43-4A64-8394-89CC089C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D0ACE-6A53-4D3F-92F5-86395569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BAC8E-ABC9-45FF-B1F5-5611CF7E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D098C-B6C7-4450-A5B7-DF5C2C15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271BB-84BB-4616-BBA6-F1826A160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5B07C-AB4C-4092-92EC-582A9F6AA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9DBD4-F086-4BD0-864B-5B5B37FBE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DAB3-27AF-41AD-BF88-84BE92AC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51019-EE80-422D-9FDD-D8AF351B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856A6-9333-434C-BFA3-5A8C5857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86E8E-18B9-4A6B-BAD8-EE511098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0D3AC-B5AD-4213-B309-8D169115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7FF42-2FC6-4A71-BB0A-A7324A66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6B196-290E-4D18-8655-A1DAB260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46058-DA70-4032-A6E7-F4869954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BCE67-7866-4404-B363-C7B06DF0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17B9F-BC35-4695-B8BC-D8B705AE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44FCE-15C6-4D29-81E3-46FA80314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96E0-CD33-4449-8394-7A994B09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D8A8F-3697-49CE-A0A9-D2ED76161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EFE7E-FABA-4D5A-B233-5215E1B5B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2AF1D-469E-463D-9123-DBBB8D76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3711F-6ABF-4655-8C7D-E5ABBB5F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F69DF-7A8D-4898-8BAB-C9CCA422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F5919-C852-4E75-9C0A-315D4C36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DD2AA-4EBC-4F33-A992-8205877A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265EB-3B1D-4636-8D84-332159C0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C662C-7751-46CE-AD5D-DAB35E98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0E042-F9FA-4B88-9608-56D25777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D737-9072-4FFE-B3FA-DFBF4740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ECEF2-1D80-433F-8FA5-9BFD0E77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09691-BB62-46EE-943E-18FCF8693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94A3A-3418-44AF-830F-82B971DBD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B9AFB-6987-411B-A201-0D755173A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94D77-C935-4FFB-B2D8-59A9CA4D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CA722-4526-4DDD-940F-281F60AD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6FF22-3A9E-4702-AAD7-EC2C9F6F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FFDE4-BFA1-4246-B7BB-4DDB0FBB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13DAE-7CB8-4047-8C16-F314316F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5F1B5-83B7-40F3-9105-75DADBD1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0B11-73AC-4948-9E2F-B0D18F5E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8670F-3BC7-460F-A948-EE1B4929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ECBA2-8FF6-46F2-9E97-B5995357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D2DC1-ED94-4942-B4E9-6A77EDCF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487B5-C3E6-435E-981E-0E99A4267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B1972-6071-4B0F-B703-9D1A78E2F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63F5E-04BC-4040-86A6-3C0A3491D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80AE1-945D-4D0A-B845-2EF93432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13573-7D98-48D9-A513-F68BCFF8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DF430-77D6-4D2D-BDE6-BE4321BB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6DB4A-CF44-425C-BFC5-291675DC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A45A-3261-4412-9A30-624FE138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E0C50-D513-4E96-A300-28A7F4DF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4FF80-529E-443F-89A0-BB2B1AAE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0026F-DE70-49B2-A245-13CFEFCB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17263-F295-4130-9165-8BFF38C1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CCEBF-6C89-4D70-A785-FFE65327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7086D-C98C-4968-B958-16D3BDDCB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7B11C-C2BC-4774-B7F2-08141D7E0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52B8-F33F-4474-82FF-89728C8B987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A0A1-3E63-4A5A-88C2-A04F447C6B75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66B7-8A10-41BA-A0D2-4D189B815A3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32D0-1BDD-4A7A-AA1A-1D6D858E2C7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7A28-5DEB-44D8-881A-E04CB8FE5FD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5BB3-5B5C-4D02-A436-C33D2CAE841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AF94-BD94-4F7D-90EC-E57EABA84CA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A15D-C736-4EC5-AE32-C22CA17A8404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3.1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Bronnen van inkom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www.adver-online.nl/wp-content/uploads/2013/01/salaris.jpg"/>
          <p:cNvPicPr/>
          <p:nvPr/>
        </p:nvPicPr>
        <p:blipFill>
          <a:blip r:embed="rId2"/>
          <a:stretch/>
        </p:blipFill>
        <p:spPr>
          <a:xfrm>
            <a:off x="0" y="0"/>
            <a:ext cx="32860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000000"/>
                </a:solidFill>
                <a:latin typeface="Lucida Sans Unicode"/>
              </a:rPr>
              <a:t>Bedrag : 100 x percentage = 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000000"/>
                </a:solidFill>
                <a:latin typeface="Lucida Sans Unicode"/>
              </a:rPr>
              <a:t> € …………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mrekenen van bedra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"/>
          <p:cNvPicPr/>
          <p:nvPr/>
        </p:nvPicPr>
        <p:blipFill>
          <a:blip r:embed="rId2"/>
          <a:stretch/>
        </p:blipFill>
        <p:spPr>
          <a:xfrm>
            <a:off x="1835280" y="2060640"/>
            <a:ext cx="604980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oorten inkomsten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salaris oftewel loon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vakantiegeld (8% van jaarsalaris)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eindejaarsuitkering of dertiende maand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prestatietoeslag of andere bonu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loon in natura (bijv. bedrijfskleding, auto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an de zaak, telefoon, laptop enz.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146160" y="274680"/>
            <a:ext cx="8540640" cy="14446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http://www.deondernemer.nl/beeld/w440/2014/201410/20141031/vakantiegeld.strand.euro.335.jpg"/>
          <p:cNvPicPr/>
          <p:nvPr/>
        </p:nvPicPr>
        <p:blipFill>
          <a:blip r:embed="rId2"/>
          <a:stretch/>
        </p:blipFill>
        <p:spPr>
          <a:xfrm>
            <a:off x="6759720" y="5286240"/>
            <a:ext cx="2374920" cy="15606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7" descr="http://www.gelderlander.nl/polopoly_fs/1.3473362.1353552068%21image/image-3473362.jpg"/>
          <p:cNvPicPr/>
          <p:nvPr/>
        </p:nvPicPr>
        <p:blipFill>
          <a:blip r:embed="rId3"/>
          <a:stretch/>
        </p:blipFill>
        <p:spPr>
          <a:xfrm>
            <a:off x="6300720" y="60480"/>
            <a:ext cx="2833920" cy="20239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"/>
          <p:cNvPicPr/>
          <p:nvPr/>
        </p:nvPicPr>
        <p:blipFill>
          <a:blip r:embed="rId4"/>
          <a:stretch/>
        </p:blipFill>
        <p:spPr>
          <a:xfrm>
            <a:off x="3881520" y="5181480"/>
            <a:ext cx="24494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79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http://www.taxipro.nl/wp-content/uploads/2010/12/stijgingsalaris-480x296.jpg"/>
          <p:cNvPicPr/>
          <p:nvPr/>
        </p:nvPicPr>
        <p:blipFill>
          <a:blip r:embed="rId3"/>
          <a:stretch/>
        </p:blipFill>
        <p:spPr>
          <a:xfrm>
            <a:off x="6227640" y="5051520"/>
            <a:ext cx="2928960" cy="18064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"/>
          <p:cNvPicPr/>
          <p:nvPr/>
        </p:nvPicPr>
        <p:blipFill>
          <a:blip r:embed="rId4"/>
          <a:stretch/>
        </p:blipFill>
        <p:spPr>
          <a:xfrm>
            <a:off x="468360" y="1090440"/>
            <a:ext cx="561636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= eigen bedrijf open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en loon/salaris, maar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winst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als inkomen!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" descr="http://christine.echtebakker.nl/l/library/download/7iNYqfIzE-a-0HO_a_K125oaafR4RvMZ_a_wJpO/Christine-0014.jpg?width=438&amp;height=657&amp;ext=.jpg"/>
          <p:cNvPicPr/>
          <p:nvPr/>
        </p:nvPicPr>
        <p:blipFill>
          <a:blip r:embed="rId2"/>
          <a:stretch/>
        </p:blipFill>
        <p:spPr>
          <a:xfrm>
            <a:off x="3132000" y="2492280"/>
            <a:ext cx="277992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28760" y="1357200"/>
            <a:ext cx="82296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lnSpc>
                <a:spcPct val="13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oon van iemand hangt af van de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loonschaal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3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en loonschaal heeft een aanvangsalaris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(=startsalaris)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en een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maximumsalaris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3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onen verschillen door: opleiding, soort functie, ervaring, bijzondere kwaliteiten enz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3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oor verschillen in inkomen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lnSpc>
                <a:spcPct val="130000"/>
              </a:lnSpc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anderen de prioriteiten (meer lux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lnSpc>
                <a:spcPct val="130000"/>
              </a:lnSpc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schilt de koopkracht (= meer goederen van hetzelfde kopen, bijv. tweede auto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12536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verschillen in inkom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0960" indent="-2102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vormen de personele inkomensverdeling (= verdeling van inkomen over een groep mensen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0960" indent="-2102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worden weergegeven met de Lorenzcurv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overheid gebruikt het modaal inkomen (= meest voorkomende inkomen) om beleid te maken over de koopkrach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"/>
          <p:cNvPicPr/>
          <p:nvPr/>
        </p:nvPicPr>
        <p:blipFill>
          <a:blip r:embed="rId2"/>
          <a:stretch/>
        </p:blipFill>
        <p:spPr>
          <a:xfrm>
            <a:off x="2771640" y="2776680"/>
            <a:ext cx="36007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91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"/>
          <p:cNvPicPr/>
          <p:nvPr/>
        </p:nvPicPr>
        <p:blipFill>
          <a:blip r:embed="rId3"/>
          <a:stretch/>
        </p:blipFill>
        <p:spPr>
          <a:xfrm>
            <a:off x="684360" y="1341360"/>
            <a:ext cx="821988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499680"/>
            <a:ext cx="8229600" cy="45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lvl="1" marL="496440" indent="-1828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96440" indent="-1828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Soort bezitting:</a:t>
            </a:r>
            <a:r>
              <a:rPr b="1" lang="nl-NL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Soort inkomen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96440" indent="-1828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Spaargeld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Ren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Eigen bedrijf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in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Huizen/kantoorpand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u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Grond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ach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Aandel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ivide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ividend = winstuitkering voor aandeelhoud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lle inkomens uit arbeid en bezit in een land bij elkaar opgetel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u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onen + rente + dividend + winst + pacht =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NATIONAAL INKOM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1-02T14:45:24Z</dcterms:modified>
  <cp:revision>57</cp:revision>
  <dc:subject/>
  <dc:title> </dc:title>
</cp:coreProperties>
</file>