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CC6-9D4A-4A9A-958B-E71D06C9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063-A857-461B-8732-C589E13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6AE-C1B9-43ED-9C80-7DA80F9E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48D-169E-4DB4-BBB5-E83FC48F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236D-95BD-4193-A4A7-7C38942B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1AB2-FAB0-42DF-8725-77D5B2C6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474-F013-4D2D-82B3-EE71EADA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F687-8D08-4477-96B6-5292A07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BE0-0D5F-4BB4-A43C-D7AAD81C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1E99-5265-48C7-8A05-57B2F94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862-2C29-4EC0-B4E8-D28A81D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2D5-236F-4A0B-8799-031D728E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5240-E5E3-4030-BAC6-B0061333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A40C-37F1-42AC-8FCD-DD53C55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1F0F-690B-4496-A16B-C9B8AFE7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6F35-2EA7-4A90-8D02-5A0A93D6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E2C6-1924-4866-8C9A-CCF9907A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5FF8-5349-466E-8721-3DE23746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A377-5E34-4167-9DD0-6A945E17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B7F9-FB57-4004-BD33-7C0FC777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F35A-D99A-4DC9-80C1-AEB2F429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6A2C-F7C5-4EAC-A9A8-D9F37F6D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766-E339-42F3-BF35-49B90B0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CBDF-0B70-4FDA-9C5B-86F63EA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D78D-E966-4C5B-A568-C68A92E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5C904-EB00-4023-93F3-B40003E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8B69-3ACC-4264-A549-2608DBAB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7E56-FE97-4F43-B59A-27FE407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59E9-055C-4BBC-8CC8-71F6E055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ABE7-B044-491A-8E6E-BE4BF99F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855B-251B-4A16-B940-1F5DBEB8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2BFE1-7CCD-448E-B5FE-E8689DD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C12C-F79B-490B-BCBB-302AF2F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476-3975-4118-9DF4-4B389182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80F5-8F93-48B4-9E36-5CA1495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0D44-AC10-4AB1-88BE-3AC158A1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0230-6161-4562-980E-E6FC8142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0BD2F-7179-40E6-A766-B1EB474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2B16-1E04-44C1-B4E4-9181B6A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1138-F24F-4E8E-8525-86BD7CA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8441-449C-4FA1-B6F7-B3F8D41E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23FD-AF5C-411B-ACE7-134B616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74023-C956-442A-BFDC-00CA1D6F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FE06-A87E-46BC-A727-D409339A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4DC-FE88-4273-A3E2-EF346C7C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1E46-A5A3-40BC-809C-8F794689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D1E3-4DA7-4E31-A971-E78758F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19032-342B-4A0F-8AFF-07517E1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98A3-D2BE-4976-A128-1AA46284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B213-106D-496E-AE73-BC87E8BC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173F-F99F-4FD6-BD47-0F24245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CE14-25CD-4309-BE91-4B92637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930CE-661D-4599-AC60-B4C9670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1AF55-9D68-4720-8D78-908A877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6E2C4-4F3B-4741-A179-B86077D7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092-49E6-4FBF-AC2B-9811688B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0506-0520-4EF9-8560-84602535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823D-1D13-4F5B-95A3-2E462FFD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4828-A935-47B5-AD84-61BB0CD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B5917-E55B-4F2E-A8D7-04D70197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BC7A2-0B53-4D0C-ACC2-264CDDAD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2B74-A070-4B0D-86AD-2292024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D4E7B-676B-4695-B0B1-CD8787F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8BD8-5C29-4588-B8FE-1420AD9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48836-D260-4B0F-887E-8C93F25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4C9E6-78FC-4568-B43C-C6D293F7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ABC-B001-4450-A8AC-4A967697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9CD6-8726-49A4-9840-587A22C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46D9-86A0-4C9F-9C3D-00D901EE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C328A-1E32-4B9A-8C0D-5DCAE17A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13851-53A7-44BE-9D38-7B252C0E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B4E29-9154-468C-A08B-8989992B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40C86-0F2B-4B67-BB37-6EA59C90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F5B1-CB1A-4944-94F6-6E642075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C714-25AC-453C-800D-14A8702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ED477-9E7C-4B67-A33C-D2BF7BD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10521-CEAC-4A42-887C-668B2A1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AB7-A8EA-43F7-AB4B-2810A2C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786FB-DFC9-48C3-A0D3-30C3CB7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127E9-3027-4C2C-A9A4-3744D0C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3F85-A8ED-42A9-B28F-B9C90B31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335DA-5286-42B5-9BC4-A84605BA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4B7E-4F0D-45AF-A0F1-3A2D8022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A1737-18D6-4F8E-9325-BEEC9845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2E5B-FA12-4C13-AE4A-E4AB902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DA5A-D78C-423D-815E-5EE9C86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44E2-2327-472F-A3EA-EDBBCA3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D5CF-1B22-41F7-B403-A77DD41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D87-5FC0-4482-88E3-89001AB7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B52F-467B-419D-9751-D36ED4D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653D9-16CD-47F3-AFF2-D5D5DEC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9DB9-2A22-4788-A4BE-6C4822F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D1C22-E1C7-44CC-902E-3193F293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E179-3C27-4E4C-9409-B84A65C3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3680-DBC7-45ED-BDB1-DE321B4C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1F5BA-422F-4DB7-8336-A3265BF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9BA0-7EB4-4DFA-A36A-40285732721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C7C2-3A8F-42A0-AC9F-3C8177A0ECC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0FA-BE47-4FC6-BF32-C9F6E3C1051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5B9-A422-46D6-AFB1-F827368CA26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B86-9626-4A2F-883B-59DB55733A0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867-AE0B-4327-A02C-616816C94D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2035-9297-447F-8378-CF55CA0EF19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D02-1B38-4F7C-8254-823B04DFBE1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kor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ubliceer.cashcow.nl/uploads/afbeeldingen/9810_broke.jpg"/>
          <p:cNvPicPr/>
          <p:nvPr/>
        </p:nvPicPr>
        <p:blipFill>
          <a:blip r:embed="rId2"/>
          <a:stretch/>
        </p:blipFill>
        <p:spPr>
          <a:xfrm>
            <a:off x="0" y="15840"/>
            <a:ext cx="3298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een (grote) aankoop af te zi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aankoop uit te stellen en geld te reserver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interen op je spaargeld (= gebruik maken van je spaargeld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 lenen (let op: brengt vaste lasten met zich me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8712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bank vindt dat er genoeg inkomen is om de aflossing en de rente te betal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voldoende bezuinigd kan wor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maandelijks voldoende overblijf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enen om de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blijvende tekorten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 te vangen is niet verstandig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ank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ibud (nationaal instituut voor budgetvoorlicht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sumentenbo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http://groenopgewekt.nl/wp-content/uploads/2015/08/consumentenbond11.jpg"/>
          <p:cNvPicPr/>
          <p:nvPr/>
        </p:nvPicPr>
        <p:blipFill>
          <a:blip r:embed="rId2"/>
          <a:stretch/>
        </p:blipFill>
        <p:spPr>
          <a:xfrm>
            <a:off x="5076720" y="4869000"/>
            <a:ext cx="3143520" cy="1371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https://www.mijngeldzaken.nl/images/mijngeldzaken-icon_grip-nibud-vergelijken.png"/>
          <p:cNvPicPr/>
          <p:nvPr/>
        </p:nvPicPr>
        <p:blipFill>
          <a:blip r:embed="rId3"/>
          <a:stretch/>
        </p:blipFill>
        <p:spPr>
          <a:xfrm>
            <a:off x="5807160" y="3252960"/>
            <a:ext cx="1681200" cy="15541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https://petities.nl/system/uploads/4391/original/banken_logos_2013_09_1_.jpg?1443442323"/>
          <p:cNvPicPr/>
          <p:nvPr/>
        </p:nvPicPr>
        <p:blipFill>
          <a:blip r:embed="rId4"/>
          <a:stretch/>
        </p:blipFill>
        <p:spPr>
          <a:xfrm>
            <a:off x="4641840" y="1557360"/>
            <a:ext cx="2857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23T09:33:58Z</dcterms:modified>
  <cp:revision>66</cp:revision>
  <dc:subject/>
  <dc:title> </dc:title>
</cp:coreProperties>
</file>