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13B-92C1-407E-B616-D2BF9A37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263-B4DE-4C01-89E6-84CF9031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BC6-E8A0-45DF-A8AC-27BCD634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130-F3D5-4704-8D5B-37F0450C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D1D9-152F-4A42-8997-DF6CF81E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3D1E-920F-444A-BFA2-5B097F40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3B60-933B-4626-9105-8D69C39E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7264-A701-4526-9D56-76F9DF3B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BD8B-BAF4-44D4-8A88-20C20785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8939-99D4-4D9C-BF94-3F3FC5FA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0267-170E-4CE9-A68A-A558F766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B42-BAF2-4FC5-B4CF-381451E1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BDDF-AF96-4A15-8612-F340A8DF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09EA-7CB0-4182-8186-70085097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C8A0-8F75-4056-AF98-E40DDB9B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5537-E7AE-4DB5-9854-F7EDBB07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4E1B-9288-44D3-94A3-C2E86CD9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416A1-D9AB-45BD-99EA-8F04505F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3836B-AF47-42EF-8F46-56B0E43E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F144-04D7-4850-A5CC-2266D8E1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B9708-9DA7-4410-A555-FC2C3CDD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E9BD8-D565-463B-8686-D8818ADB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8B89-0D79-4F8A-896E-647C59FD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12FB7-C600-4F9D-A255-39350DD5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3070-BDFD-47B7-8484-7C301B15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4A08B-8739-4B90-9448-A7C2CB16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3C84-281B-47C1-9743-B9E05A93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253E4-D13F-4E68-866E-4CA347FC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A8753-78A1-43A0-A325-15791AB2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2444-07D6-4005-B3CD-0A77A647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942D0-339E-4146-9CB8-19E6F176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E0A32-99A7-4A83-AF4B-7B8C3B0F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AFC36-7BE8-488B-B9AA-8B0141C0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B15-84CD-452D-8A03-0C10B4A8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A7894-3050-4DDC-9562-5C164B5C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4A119-DA5F-4B9F-83F6-20B6134F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9006-0404-4E12-B721-77F2DC0E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53130-DE38-4D86-8D39-95C0BF04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68161-F76F-4E46-B58C-7A8B58DE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C8C0D-E2BC-4CAE-9A4C-9BBF2F4B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D78F-5C5C-43BC-A4BA-8ED7874E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35371-966D-41A3-98E7-4783621C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2FE33-3D0C-4FA1-A5C9-779F65E3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273F9-43B4-486A-A0E0-82BDF4C7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61B-100B-454B-B7FB-64024C69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E60CF-F2C6-4DD7-A40F-C4D92152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FDB26-8CD4-44CE-97C8-6633050B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185A3-F543-4A48-8669-C58E83BF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834FF-0DA3-4517-AB4A-0160E9E4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B3BF0-C067-4711-9A43-60284D93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09688-512F-4579-8ABA-8966A8B9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62D80-1270-4A98-B888-36A47952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717F4-335F-40FB-A3A4-2505DE9D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52BB6-277A-40FA-A5FC-580D00BA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213C0-0F19-477F-B1CC-B5D95D3E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155-A6D7-46D5-81DE-84E4468A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1DA0C-0778-40D7-A0A6-ACCBB363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FBBC2-6FBF-4DC6-B023-E43731D6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914DE-7479-42D4-A239-75A87C0E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8DEE4-3D79-4778-A76B-926C4CA9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3656A-A513-416A-9218-DC653314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E32D0-F82D-442B-9681-29E69C7B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1A6C7-2830-4D1E-A395-C1BE0B01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C1BD6-3EA6-4600-908D-2AE43388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2DCFC-E927-45A6-8E05-2CDEAFD6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46D70-667C-4F8F-8E0A-CD3F9DFC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751-26D0-4258-BDB0-A53B4275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A154B-E980-4ACF-8C65-7DDA9087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DB316-D2F7-4EA7-8725-D972B212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311F0-E6B3-40E5-A3A0-B53BE308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D5F0B-7260-47B4-94AF-0E74E37B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6ABF0-A5CA-44BC-91C6-9D1CDF75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FC07A-0193-425C-B122-5B56063B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3DD14-1B0E-44E4-948B-E140A78A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31821-BF57-49B5-8893-7435CD3D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70021-3BDC-4F3A-959E-F50705F5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E401B-A4F5-490C-A2CE-57124FA1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BAE-6D69-4DFC-9100-1460719C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E412A-6C7A-427E-A923-804332F9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16780-717B-401E-8B2B-43C82505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B922F-56A3-4E89-9915-ED8527B9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319BE-BED2-4336-A125-EC2879B8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3CB9B-B074-4FCA-9594-4C77D49D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D6DA0-6D03-4A98-A123-0240B147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3AAF9-F5E4-488B-8161-415A9B9B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DD77C-3593-4F52-93DE-D20CA628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76B6E-D8D2-45A7-BEE0-8763A544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9758C-0CD8-4468-BFB7-F7F1D2CD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083-5B9D-4AC9-A07C-7BF9426B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6AA1B-F19A-4327-A634-0DC58DC7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9EB9F-632B-40C8-AD0E-A50024E9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115D2-0801-4630-AF81-73DC80B3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0A29F-6C9E-434F-A36A-7ECC97D1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4F0EC-91F4-4411-90DA-0885597D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1A8E6-F370-4557-995E-F764673B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B3843-9025-4B0C-8CF6-2B2647E5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6998-5D05-49A5-9B4A-48B905F5B42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52DB-AAD2-477C-A1FD-FA9873D76A8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E65C-6EED-4351-A8C1-AA3807109E7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E929-4929-41F3-A19C-0B7DE3AF00B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6EC8-63C8-49BF-96B9-F69DAB5E22D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2B88-ECF5-45FA-99E9-39D19128538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0AC2-CC0E-4E64-A49F-939E8E8A346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AC17-C8A3-4F7C-BD2B-D86344C0E74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kor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ubliceer.cashcow.nl/uploads/afbeeldingen/9810_broke.jpg"/>
          <p:cNvPicPr/>
          <p:nvPr/>
        </p:nvPicPr>
        <p:blipFill>
          <a:blip r:embed="rId2"/>
          <a:stretch/>
        </p:blipFill>
        <p:spPr>
          <a:xfrm>
            <a:off x="0" y="15840"/>
            <a:ext cx="32986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 een (grote) aankoop af te zi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aankoop uit te stellen en geld te reserver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 interen op je spaargeld (= gebruik maken van je spaargel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 lenen (let op: brengt vaste lasten met zich me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87120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ank vindt dat er genoeg inkomen is om de aflossing en de rente te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voldoende bezuinigd kan wo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maandelijks voldoende overblijf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enen om de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blijvende tekorten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 te vangen is niet verstandig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an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bud (nationaal instituut voor budgetvoorlich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sumentenbo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http://groenopgewekt.nl/wp-content/uploads/2015/08/consumentenbond11.jpg"/>
          <p:cNvPicPr/>
          <p:nvPr/>
        </p:nvPicPr>
        <p:blipFill>
          <a:blip r:embed="rId2"/>
          <a:stretch/>
        </p:blipFill>
        <p:spPr>
          <a:xfrm>
            <a:off x="5076720" y="4869000"/>
            <a:ext cx="3143520" cy="1371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https://www.mijngeldzaken.nl/images/mijngeldzaken-icon_grip-nibud-vergelijken.png"/>
          <p:cNvPicPr/>
          <p:nvPr/>
        </p:nvPicPr>
        <p:blipFill>
          <a:blip r:embed="rId3"/>
          <a:stretch/>
        </p:blipFill>
        <p:spPr>
          <a:xfrm>
            <a:off x="5807160" y="3252960"/>
            <a:ext cx="1681200" cy="155412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8" descr="https://petities.nl/system/uploads/4391/original/banken_logos_2013_09_1_.jpg?1443442323"/>
          <p:cNvPicPr/>
          <p:nvPr/>
        </p:nvPicPr>
        <p:blipFill>
          <a:blip r:embed="rId4"/>
          <a:stretch/>
        </p:blipFill>
        <p:spPr>
          <a:xfrm>
            <a:off x="4641840" y="1557360"/>
            <a:ext cx="28576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23T09:33:58Z</dcterms:modified>
  <cp:revision>66</cp:revision>
  <dc:subject/>
  <dc:title> </dc:title>
</cp:coreProperties>
</file>