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2D6-F114-4E8A-8A77-1C3ED2F1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BF5-0DC9-47CE-87DD-CCB9B9F8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A74-5366-42F6-BF0C-DE7813E7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EDD-ECE1-4C34-A87F-C3361686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B1D1-5654-49D8-A95A-C714AE0C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F419-3FE8-4845-8BF4-7B0DA6FD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AAFC-F006-458B-8CB1-E3195146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0D82-CB63-4EB4-8F1A-29E97B87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0005-0FCF-4EAE-90E1-962647BF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1321-BE18-439C-9709-9DF211F6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C601-7788-4A60-B84D-9CE526A0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EB9-7DA5-49E9-B29B-1CA6ECF6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21F3-96B0-4C83-9BD5-2250779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7C7E-B4B5-4475-B306-5B848D2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3021-D14B-4380-B6F3-D39EFBEF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F281-7895-457A-9CD3-E99DF785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A8B2-381E-40AA-8DF5-C527C378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1138-071D-4D41-BC2F-9EC45936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51F68-7B7D-4465-AD79-7AB99D1C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211DF-15AF-4076-8073-6CEC0D00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E1FC-8C10-41DB-BEE1-C4E179A2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6EB36-A27F-4D55-A0F8-76DE1248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266-1E1E-44C0-B1C5-87F83C5D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A6BE4-12A8-4E19-86A8-0FC3B1A5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9625A-95F3-4715-8EC3-8643F7A1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D3920-EA4F-4029-B01A-83CCB822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00ED-13A5-42E4-8CA3-AA9C4E01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E1EF1-70BF-483E-A48D-592C1188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B216-DF15-462D-ADE9-3621652C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15D00-6D04-4732-B954-A2B0D31B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F0ADD-89B1-4A17-B496-1F8731F0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4BE17-499C-4644-B70A-514008E9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1569-04E5-44AE-A841-9C4471F9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6A0-0491-4141-A5C5-50D780E4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D4200-EC11-4F3E-BC85-19B6CD6F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744C-7F23-440E-8E8B-000C822E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16A42-86B6-4A28-9603-A9F7B3A0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7FFB8-7BE4-4DDC-AD03-21366F64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A7A34-FFAB-4F60-9252-CF6D8BAC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3A9AE-6280-4DF0-9836-943ED72C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9AA7-E808-4D38-B0E6-59A9C949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1FE20-B03D-4076-B97C-8C8884FE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250D0-F795-4112-8B46-77530CDE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EA41A-2C9D-48C5-8FEB-A7137BEC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70E-873F-450F-8CD3-D4087C5B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3DDAD-F521-4E1E-97F8-45464967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C7C4C-E92D-4A88-9770-73EA9F9D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87483-D588-42DC-A0DE-50D7DC8C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3904E-CE67-4195-A3A3-45A04D31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F3A93-5DB7-4EF0-B5E2-C83C1808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08BFA-6535-433A-8F40-91C484DF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58940-592F-473A-894A-22D86292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9F8FC-FC38-4063-9AAA-3B8D3EA0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E7C35-F5EF-4968-A7DA-C591D42C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7DCA4-5FB0-49AA-A60B-1B25CCCA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A32-E07A-4944-82D9-68901785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D9293-24BD-43DC-8D5E-75C2F909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31952-C031-4A25-AA41-45C2BB0D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28AD7-D65F-403F-BB40-467F4A6A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E509-3703-4F32-9705-ADCD0C6B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540A1-C487-4DA8-9117-43583443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A1CA5-8DA1-4701-B0D5-86EB2F24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C2DDC-7CC3-4875-9ADF-A5079CDF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758EF-AB63-4FB9-8DF1-F7359FE6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44356-CDC3-4240-B2EA-56C8FE50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E3B86-4398-4FFE-BE3C-0989BCF1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DA8-FB77-42A1-BEA4-F54A3958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AE622-6D51-4709-B22D-1D7F8E35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4F075-E2DC-4B19-8303-C4DB94D7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1C9C9-BF34-4AC2-A9CE-169B5DC7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91E4F-4774-47DB-90E3-27B1902F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60AC1-9070-4053-BC8C-1D2ADFE6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D9160-E42F-4347-960D-96361151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7E056-54C2-4816-BCB2-A3141F9E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42686-C625-47F6-8C32-B660B7B5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5926E-D4E4-48F8-AE70-508F7B00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792A7-ADEB-4FB5-A356-89008E52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430-EB68-470E-B7D9-D6370791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BFB5F-AAFE-440C-BBE7-FAD3A8D9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0C07B-774D-4FE0-9A6C-61699CD6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28E00-7F24-4B1B-BC5E-EFFBB483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1796B-7B43-437F-AD78-980E0D0F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024F7-0737-4FEB-84EB-EABA9D5C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6AF4C-45D8-4E7D-9682-ECE492ED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EC6C0-92A9-47F3-A02E-D71E39C2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EE5BD-843C-4E2B-9B5B-7C135729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9BC22-407A-480A-8A95-907C166B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59130-5C8B-4CE4-9FEC-8A03A9A9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64A-FE7A-4FF4-BEB5-6F6411BA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EC3A4-5C80-49CD-AE86-5D313015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D3CD5-E6CA-41CD-AFE3-BB18FB6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31097-04E8-4473-BC65-F44ED3E0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9B917-DB6B-499C-A170-337B52F0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C763D-7CD5-4063-9B6B-4CD7A331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D9A55-58D1-4FA2-AB43-C65537E3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A047F-BFB7-4C75-AFC0-00D168B6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43BA-2C7D-48AA-815A-3D5F1192B03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BD47-93CB-4906-BA36-AFE946AD691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DD96-E0A4-46B7-A4F1-99D2A01439B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5562-6D32-4342-90BC-BE2F3C65E65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1D48-7902-4B74-B839-7243AF45F0E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1E3A-C139-4B62-9542-3BAB87B9D05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C79E-25FD-4575-9A3C-9DCA69CA989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9211-D946-41B4-A422-F1DBCCF4B7B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Inkomens zonder tegenprestati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s://fbcdn-profile-a.akamaihd.net/hprofile-ak-ash4/c60.60.757.757/s160x160/486272_484910398208361_1655541192_n.jpg"/>
          <p:cNvPicPr/>
          <p:nvPr/>
        </p:nvPicPr>
        <p:blipFill>
          <a:blip r:embed="rId2"/>
          <a:stretch/>
        </p:blipFill>
        <p:spPr>
          <a:xfrm>
            <a:off x="0" y="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komsten uit de bronnen arbeid en bezit krijg je d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r iets voor te do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drachtsinkomsten krijg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zond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r iets voor te doen (zonder tegenprestatie). Dit vormt d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r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n van ink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 kinderbijslag, huurtoeslag, zorgtoeslag, alimentatie, studiefinanciering, bijst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en betaald door overheid (belasting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54960" cy="1047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Afbeeldingsresultaat voor overdrachtsinkomen"/>
          <p:cNvPicPr/>
          <p:nvPr/>
        </p:nvPicPr>
        <p:blipFill>
          <a:blip r:embed="rId2"/>
          <a:stretch/>
        </p:blipFill>
        <p:spPr>
          <a:xfrm>
            <a:off x="7740720" y="2852640"/>
            <a:ext cx="140328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kinderen. Kinderen zijn namelijk niet grat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tijd (t/m 17 jaar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ET AFHANKELIJK VAN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0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7453440" cy="1687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2" descr="Afbeeldingsresultaat voor kinderbijslag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huur per maan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hoogte van de huur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hoogte van het inkomen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amenlevingsvorm (alleen of samen)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eeftij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www.xead.nl/upload/856b77d32986c6fe1cdeee8fa551aa22rechtop_huurtoeslag.gif"/>
          <p:cNvPicPr/>
          <p:nvPr/>
        </p:nvPicPr>
        <p:blipFill>
          <a:blip r:embed="rId2"/>
          <a:stretch/>
        </p:blipFill>
        <p:spPr>
          <a:xfrm>
            <a:off x="7093080" y="4292640"/>
            <a:ext cx="2050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ing in de kosten van de zorgverzeke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nderen t/m 17 jaar zijn gratis meeverzeke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het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https://zorgtoeslag.nl/images/stappen-zorgtoeslag.png"/>
          <p:cNvPicPr/>
          <p:nvPr/>
        </p:nvPicPr>
        <p:blipFill>
          <a:blip r:embed="rId2"/>
          <a:stretch/>
        </p:blipFill>
        <p:spPr>
          <a:xfrm>
            <a:off x="4716360" y="4437000"/>
            <a:ext cx="40309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minstverdienen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verzorgende oud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de verzorging van de kinderen totdat ze 21 jaar zijn geworden (zorgplich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hdvdetectives.com/alimentatie.jpg"/>
          <p:cNvPicPr/>
          <p:nvPr/>
        </p:nvPicPr>
        <p:blipFill>
          <a:blip r:embed="rId2"/>
          <a:stretch/>
        </p:blipFill>
        <p:spPr>
          <a:xfrm>
            <a:off x="6300720" y="4149720"/>
            <a:ext cx="22161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studieko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situatie (thuis- of uitwonend), soort onderwijs (mbo, hbo of wo) en voor de aanvullende beurs ook het inkomen van de 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sisbeurs (krijgen MBO studenten;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vanaf 01/09/2015 niet meer voor HBO en Universiteit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vullende beurs  (als de ouders weinig verdie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ning (niet lenen of minder lenen mag ook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udenten ov chipkaa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Afbeeldingsresultaat voor studiefinanciering"/>
          <p:cNvPicPr/>
          <p:nvPr/>
        </p:nvPicPr>
        <p:blipFill>
          <a:blip r:embed="rId2"/>
          <a:stretch/>
        </p:blipFill>
        <p:spPr>
          <a:xfrm>
            <a:off x="7524720" y="0"/>
            <a:ext cx="14446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oeld voor mensen met een inkom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g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an he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ciaal minim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al minimum = inkomen dat volgens de overheid ten minste nodig is om van te l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menlevingsvorm (alleen, getrouwd enz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en bijstand bij: veel eigen vermoge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 die voldoende verdi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Afbeeldingsresultaat voor bijstand"/>
          <p:cNvPicPr/>
          <p:nvPr/>
        </p:nvPicPr>
        <p:blipFill>
          <a:blip r:embed="rId2"/>
          <a:stretch/>
        </p:blipFill>
        <p:spPr>
          <a:xfrm>
            <a:off x="4067280" y="3044880"/>
            <a:ext cx="193032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9T09:41:05Z</dcterms:modified>
  <cp:revision>59</cp:revision>
  <dc:subject/>
  <dc:title> </dc:title>
</cp:coreProperties>
</file>