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6.jpeg" ContentType="image/jpeg"/>
  <Override PartName="/ppt/media/image18.png" ContentType="image/png"/>
  <Override PartName="/ppt/media/image15.jpeg" ContentType="image/jpeg"/>
  <Override PartName="/ppt/media/image16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3F66-1FEC-4F19-B8D7-161BC1287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FACB-FEB0-43B5-88CC-85AE8BCA3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A946-37A4-4BBF-8537-6C17FE5C9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A10A-AA5C-4E25-BF22-1D1F68074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B1680-BFFE-4A94-A677-5818FEE7F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B7D15-6AC7-4AC0-98D1-695724C51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398A8-C5CB-439B-A30C-73C9DF4EF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1AAC2-B9CC-4441-B0D0-DDF2A3E2E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F37FD-8E31-4C3E-B422-1842C45FE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C8E3F-D7EE-47EE-A47F-BAD44CD1E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EAB2F-B52E-4DFE-9665-A17C1C271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9B01-BB7C-407E-A11B-15C30D877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676E9-9D5D-4779-8CCA-5362F5FF9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2E590-10D6-4D28-928C-1B79AC2D1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AC16D-92F3-4097-B168-7ADF668DE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E0CAF-5546-4776-A757-58B652C39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3DAA4-156B-4399-BC08-4391A77A7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B6B6B4-9F4E-40E4-BF7F-B1842C418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F0C697-FAA1-41EF-AC11-1D1EA1BE4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0AB18E-6C84-4F80-87CB-5B6254370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AC8882-2B27-469D-8467-9A339AEDB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2D318D-7AF4-432A-83BC-241249F70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67FD-C5EF-4EED-932D-65148AC2B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DDB5A0-F3A4-4B4A-99A4-3EF8D115D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E4487F-1F43-4108-B343-4745D764B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754051-3C18-4C45-8FA6-BA49DB57D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1D9764-7151-4F14-B04A-3DB4A4147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3F41AB-C83E-4545-B374-14FBADFC8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8BF542-80B4-4BB6-9A89-0AB999BBA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7B71F2-8CD9-4D44-9754-3E013FB07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57E63D-D49F-4547-91D2-2ED7C463F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FEE5F6-1017-402D-8922-6C506DB45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80A1CC-BFE9-426F-9648-422EE2CE2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78B6-EB9B-4931-95FF-1A579A6CA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CFA613-903D-493D-8404-F9BFA0FF6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87C114-F303-4B03-86D3-5CEF35A43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DFA1F5-FE06-4EC1-8A4A-E9BFDA58C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9F6104-9BE4-47F7-9E20-4AB4ED28C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23EA85-D850-48C4-B19B-9349837C0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4DD91F-0FD6-45B9-94BD-CED9E0EE1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C0341A-3B5D-4217-9AAF-280412A83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042A86-7CE0-4A78-8581-F96362C23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40E9FE-3072-4563-ACCA-6C8A64785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07A633-C994-4F87-8FDA-58DA16CF6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6017-38CB-4F15-B08E-BC6FB96D7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C16509-71DE-48F3-BE10-94169775B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0C6BA2-6C65-4C24-A1A2-1DB528399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7835CE-79ED-4BB6-A1F1-00CA9F93F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3BF890-488A-43EF-AE5E-4B19EFAE5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4E48FC-6E09-4A81-B6E0-C00EC7E34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1BCEFE-78D1-46A4-B5D0-A7289ED1E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F5DC6B-03A4-4017-9498-14D73338A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6CC8BF-82A2-47F5-B44B-436C1B985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264C60-17B0-4D44-90EC-FFA09EC53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6BBF50-D603-4199-8927-5B78CEB82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390C-5C5C-4831-AAE7-13FF82130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18AAFA-D4AF-4C49-BCFE-6CC06F102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16E226-C359-47F5-A064-7D8FC110E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9480D5-F2BC-4204-9E11-7687B1585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0317D2-2E8C-450D-BE9F-8032BA83B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1E1E3A-EF43-4584-A144-1C9C3321A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6BA55B-33CB-40B6-8F7B-8E40F3F67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9A9D8D-731E-48A8-86BF-6FE589F06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6D2A29-3A5B-44E5-AA93-E914FFF25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5A21AB-14C6-4BE2-8548-1C0894811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54490D-70CA-4E75-9CB1-C5AF8E9FE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B589-9D13-4C4D-B106-63A403A31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F08D69-7115-4A26-8A4C-3AC9E7B87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6C4DCD-306A-4E50-9A8B-07E826AD2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151D0D-9336-499C-B70B-6177DF1F1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304139-B67E-40C7-8895-D455204B0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CD838E-4B30-4934-A869-6B010190B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AE9D49-0C02-4E27-A304-5FE62A8A3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B67FC8-B426-4155-9A78-1BB73CA05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4F986F-4E46-445B-A8DB-9320E5F3B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C2438F-1029-4C57-9580-226CF2FA6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27C700-EBFE-4307-9CC8-20C5D657D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EE81-76D2-4FF4-87CD-C36CA7FC4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E731E2-D1D0-4283-ABB5-F89CDC152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EE4223-1AB6-484F-8959-EFCF0A6B8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303A89-3485-45C6-8464-F8700D9C8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E8C44C-D11D-4685-AC62-FA5487093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6B10C7-6D1C-42D6-91DB-98DF3FBCA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951843-1905-4552-AF8C-149B23972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4856E5-261E-4AA6-A7D8-DE93AEC77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D45840-8BBE-4D07-86FB-922D13C98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3134C3-5A0C-438E-8E79-A35DDD616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17A17F-FBA7-4942-9107-D19B80C4F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9124-53B6-4730-B28F-BDD4EF8CD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F79901-9199-4555-8F52-28C678E65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C144DE-099E-4E20-9273-F99B6FA01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05D799-9686-4DE0-9065-F948CFD8D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53F6DB-22A7-4134-AD3B-C5B0864B0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FFF7B9-FA0F-45A5-B34F-A617EF433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97F3D1-94E6-4790-B9C8-B3CEA2174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9A0388-47B3-44A0-9065-EBF271BE2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64C32-AB95-4779-B003-2674C4C50DCB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Vrije v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BEF20-A99A-47CC-BD78-30886C27B09C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DAC71-D412-499B-9F4A-0A0992C5678A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BD930-9477-4FC3-9EBD-3360ED2F6114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28091-1B1D-4601-AB1C-03CA07F9247B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61CEA-667E-4F77-9591-C121D27CDAF1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3E473-4C69-4C17-B50B-64B8F0F90DF1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D067D-BFE7-456A-AA65-B4C52DA29B78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el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755640" y="1125360"/>
            <a:ext cx="7772400" cy="3686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Lucida Sans Unicode"/>
              </a:rPr>
              <a:t>ECONOMI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Paragraaf 3.4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Reserveren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2" name="Picture 6" descr="http://content.iviveenendaal.nl/jqzoom/Siemens_gr_HR74W525N.jpg"/>
          <p:cNvPicPr/>
          <p:nvPr/>
        </p:nvPicPr>
        <p:blipFill>
          <a:blip r:embed="rId2"/>
          <a:stretch/>
        </p:blipFill>
        <p:spPr>
          <a:xfrm>
            <a:off x="0" y="0"/>
            <a:ext cx="2700360" cy="32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Kunnen uitleggen van duurzame gebruiksgoederen zijn en enkele voorbeelden hiervan opnoem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Kunnen uitrekenen hoeveel iemand moet reserveren voor de vervanging van duurzame gebruiksgoeder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4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2" descr="Afbeeldingsresultaat voor lesdoelen"/>
          <p:cNvPicPr/>
          <p:nvPr/>
        </p:nvPicPr>
        <p:blipFill>
          <a:blip r:embed="rId2"/>
          <a:stretch/>
        </p:blipFill>
        <p:spPr>
          <a:xfrm>
            <a:off x="5272200" y="4292640"/>
            <a:ext cx="3454200" cy="23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57200" y="620640"/>
            <a:ext cx="8229600" cy="53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uurzame gebruiksgoederen gaan meestal lang mee en hebben een hoge aanschafprij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eserveren = geld opzij zetten (meestal maandelijks) om later bepaalde consumptiegoederen mee te kop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eserveren kan op basis van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1920" indent="-2214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aankoopprijs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(je gaat dan het bedrag waarvoor je een bepaald product hebt gekocht opzij zetten)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1920" indent="-2214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1920" indent="-2214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vervangingsprijs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(hier houd je rekening met de inflatie, dus leg je wat meer geld opzij)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457200" y="148104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378" name="Titel 2" descr=""/>
          <p:cNvPicPr/>
          <p:nvPr/>
        </p:nvPicPr>
        <p:blipFill>
          <a:blip r:embed="rId2"/>
          <a:stretch/>
        </p:blipFill>
        <p:spPr>
          <a:xfrm>
            <a:off x="231840" y="128520"/>
            <a:ext cx="8454960" cy="1614600"/>
          </a:xfrm>
          <a:prstGeom prst="rect">
            <a:avLst/>
          </a:prstGeom>
          <a:ln w="0">
            <a:noFill/>
          </a:ln>
        </p:spPr>
      </p:pic>
      <p:sp>
        <p:nvSpPr>
          <p:cNvPr id="379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4" descr="http://www.nuvola-kastenopmaat.nl/kasten/wandmeubel_op_maat/wandmeubel_maatkast.jpg"/>
          <p:cNvPicPr/>
          <p:nvPr/>
        </p:nvPicPr>
        <p:blipFill>
          <a:blip r:embed="rId3"/>
          <a:stretch/>
        </p:blipFill>
        <p:spPr>
          <a:xfrm>
            <a:off x="5292720" y="1341360"/>
            <a:ext cx="3692520" cy="215748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6" descr="https://encrypted-tbn0.gstatic.com/images?q=tbn:ANd9GcRKUbGbsjzhj5Axfb8OKYx-Iq7pIBDRJWHH7m-ovsbe1YT_nc3v"/>
          <p:cNvPicPr/>
          <p:nvPr/>
        </p:nvPicPr>
        <p:blipFill>
          <a:blip r:embed="rId4"/>
          <a:stretch/>
        </p:blipFill>
        <p:spPr>
          <a:xfrm>
            <a:off x="155520" y="1414440"/>
            <a:ext cx="3106800" cy="218772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8" descr="http://www.xead.nl/upload/6ab830af648e830bc0bcf1f480dfeb2eaXBob25lLmpwZw==.jpg"/>
          <p:cNvPicPr/>
          <p:nvPr/>
        </p:nvPicPr>
        <p:blipFill>
          <a:blip r:embed="rId5"/>
          <a:stretch/>
        </p:blipFill>
        <p:spPr>
          <a:xfrm>
            <a:off x="3276720" y="1989000"/>
            <a:ext cx="2016000" cy="249552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10" descr="http://paulissenwitgoed.nl/image/cache/data/Producten/Everglades/Fornuizen/EVERGLADES_EVCK022-700x700.jpg"/>
          <p:cNvPicPr/>
          <p:nvPr/>
        </p:nvPicPr>
        <p:blipFill>
          <a:blip r:embed="rId6"/>
          <a:stretch/>
        </p:blipFill>
        <p:spPr>
          <a:xfrm>
            <a:off x="5521320" y="3535200"/>
            <a:ext cx="3235320" cy="323532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12" descr="http://www.decorwonen.nl/image/cache/data/eettafel%20met%204%20stoelen-840x520.jpg"/>
          <p:cNvPicPr/>
          <p:nvPr/>
        </p:nvPicPr>
        <p:blipFill>
          <a:blip r:embed="rId7"/>
          <a:stretch/>
        </p:blipFill>
        <p:spPr>
          <a:xfrm>
            <a:off x="77760" y="4400640"/>
            <a:ext cx="3262320" cy="20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24720" indent="-227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et maandelijks te reserveren bedrag reken je als volgt uit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24720" indent="-227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24720" indent="-227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(Aanschafprijs – restwaarde – al gespaard bedrag) :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24720" indent="-227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gebruiksduur in maande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24720" indent="-227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24720" indent="-227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Of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24720" indent="-227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24720" indent="-227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(Vervangingsprijs – restwaarde – al gespaard bedrag) :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24720" indent="-227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gebruiksduur in maande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52240" indent="-2034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52240" indent="-2034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6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14:51:49Z</dcterms:created>
  <dc:creator>rachid</dc:creator>
  <dc:description/>
  <dc:language>en-US</dc:language>
  <cp:lastModifiedBy>Rachid Hamdi</cp:lastModifiedBy>
  <dcterms:modified xsi:type="dcterms:W3CDTF">2016-11-18T08:11:49Z</dcterms:modified>
  <cp:revision>65</cp:revision>
  <dc:subject/>
  <dc:title> </dc:title>
</cp:coreProperties>
</file>