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A32-A171-4E16-803D-F963A033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E04-CDFF-4404-B38B-95F2AE2A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D59E-59D1-4EDB-B1B5-5466DA28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0600-615B-46A9-B8F8-054F0A7E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EFB9-2258-46B1-8C02-E3B35CE1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AE52-2475-46DC-A2AE-AAF36C2F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231D-AD21-4F63-95F7-16A8CD85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DC08-B285-4BB5-A24E-D9E1CA2A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295D-5357-4FCD-8AF6-56B666A4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85C1-551F-46A9-AB2B-6E0C7145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D75D-33FF-45CB-AD23-3C175DC5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9A1-BC17-4FCE-BCCC-B2736B87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4023-F9DD-423E-9272-CA76054E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E701-7C9A-4F33-A5D9-EBF9D8DB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B9A1-EA6B-4879-A5FC-240D7308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D952-F3D3-4FC6-B456-2794A120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F521-E572-47F4-802B-A5B1E42E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788FE-7CB4-4059-9D1A-4E2D3949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17475-FC77-4036-8CF9-7CF49FA3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0C133-FD51-46EA-9A29-7EA7E3C8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13872-62FE-417C-BF0F-BEAC912E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5B37F-2673-4529-BD2B-F9A3D275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C05-F67C-4594-9D1C-4E54446F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D9CA7-8303-4A48-ABF6-812B2063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0953B-8C86-4CE6-92A7-04E15317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9D194-4D5A-4FB4-A05C-7CB12552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FFA7D-78E0-4C6F-A97C-5EF4F79E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29252-B01B-4CBF-AA05-F2A89858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45A98-0B13-4E6B-B352-EE00AC21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0BB4C-B056-4373-935D-204AB79B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A9C76-182E-4107-B9D6-2DCC40AA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F7F61-1B3D-4482-9C40-8E415B5D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73047-0F78-4339-B6FD-E6193B6E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23E9-AB4F-4B88-9836-85BC83AA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A32FC-A326-4B7D-A472-D6528AFE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954A9-8C5A-4DCA-89DE-A48C3552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99ED8-0697-4FF3-9D6B-33E10246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F5AE9-224C-4660-BD1B-759212BE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6E855-9EBF-4A99-9003-DEA18C89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F7100-3203-47F1-87E6-E720F7D4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A34AD-5167-4762-9E89-6887A431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11F91-6B5A-4FBB-9A10-0C17405F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C8297-C14B-467C-8E2D-4B3529FB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61935-9CF9-42A6-A1CE-8225AD89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19C9-449A-457A-AE72-2E24ECC4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09223-01B3-45C1-9A62-E5A89F85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E310F-4E2A-4AA8-862A-E9D049A2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0D038-4C13-43A7-8A57-F2B12E4A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CAF6D-3E89-4C3D-B56F-37F292FB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35C5C-7CCC-4C99-8E9B-639FB6C4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7430B-579C-4BAE-A37B-E89A22C2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EDCF2-4A8C-4059-A1AF-22371794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CFAC8-B29D-4D71-8E62-25596751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6BA12-B81F-4115-A3F7-F3BC5796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BC7CE-3AA7-45EC-B270-C90C3C98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71B4-9274-4CCD-AB97-F9F0343B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96E29-1FE1-4413-B253-A9E6CC7E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FD377-86B3-47E7-834B-6570AB7B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49DD7-FB02-4D9B-A07A-818CD2B1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7B6B2-69EF-4899-BEDA-0D95253B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C3AE8-A549-4FDC-A067-5FF2F82F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00CD5-659B-4DBB-8125-2FDA3C32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F1941-BFE0-4114-891A-35AA5724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C90F7-3B9E-4DB2-9404-1A4A38F4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72CC4-D69F-4DBC-A9FC-A85BB356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1FBE6-3B06-40C0-AC0A-6321FDAB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1A09-E47E-4407-936C-4FB4275B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03025-424A-4949-A588-C88AFC4A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5466C-5A5C-4896-B7A1-86068DD5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453FA-A588-497C-B143-F760531D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08832-6039-4143-9286-11F5AB2B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F6D7F-90A3-4A3E-84C0-AD349CB1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2D15F-D6EC-4DB2-9538-D7A5D37F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838C8-0531-4BCF-A1FE-5472BFE7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AC866-4D89-4D14-8904-D0512CB7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A8AB2-4E31-4122-9F63-0BB6543D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EDC27-703D-4462-99ED-8C569434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2CA6-8F52-425D-84B2-9EC3C09C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3513F-3640-43AB-A61E-226891C9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8D35A-AECD-4AB4-AA6E-533DBDD8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85B1C-66E8-436E-8A93-9BB7DD20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F9C9F-E09D-4C2B-85A0-B18CB638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B5DE6-4CEB-4671-8E51-02398BC0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59ED7-DAED-4CB7-AD28-D3AE05D7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B3FE4-E985-4898-912D-7345BB54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2B98E-3B34-4147-86AD-5898B09D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F9232-7511-4CFF-81F9-28617B95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E633A-52D3-4F51-94A2-D397D6A5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379-502C-4C87-B588-40048C8B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3CA7B-7BD1-4046-8609-B397E7B4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92C92-090B-4AB9-8586-62E32DD8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F9B4F-9347-45BF-80F5-1D2E04F2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0FD4B-5831-4AA1-8040-68DF57FD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F7691-575A-45E0-AD58-25E94F9D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AD8C8-45E2-479B-874B-251A0103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85496-C67A-4550-BF77-C5C1D527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701B-4F94-48E2-B21B-EF868F041AA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4C34-6E67-4F77-B9B8-F60583F4FB7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DBD0-1E47-4258-986F-168E5711487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CB6A-9F4D-47C1-8E21-BA485596761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D214-6BDC-45A5-9475-9CECE0AA60C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7F34-88CD-4989-8B0F-982F9A1A78E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8734-155D-4130-8428-1825C69A033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432B-2B41-4DBF-9C07-9EEA590816D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Inkomens zonder tegenprestati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s://fbcdn-profile-a.akamaihd.net/hprofile-ak-ash4/c60.60.757.757/s160x160/486272_484910398208361_1655541192_n.jpg"/>
          <p:cNvPicPr/>
          <p:nvPr/>
        </p:nvPicPr>
        <p:blipFill>
          <a:blip r:embed="rId2"/>
          <a:stretch/>
        </p:blipFill>
        <p:spPr>
          <a:xfrm>
            <a:off x="0" y="0"/>
            <a:ext cx="28432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komsten uit de bronnen arbeid en bezit krijg je d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er iets voor te do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verdrachtsinkomsten krijg j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zond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r iets voor te doen (zonder tegenprestatie). Dit vormt d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rd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on van inkom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beelden: kinderbijslag, huurtoeslag, zorgtoeslag, alimentatie, studiefinanciering, bijst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rden betaald door overheid (belastingen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54960" cy="10476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Afbeeldingsresultaat voor overdrachtsinkomen"/>
          <p:cNvPicPr/>
          <p:nvPr/>
        </p:nvPicPr>
        <p:blipFill>
          <a:blip r:embed="rId2"/>
          <a:stretch/>
        </p:blipFill>
        <p:spPr>
          <a:xfrm>
            <a:off x="7740720" y="2852640"/>
            <a:ext cx="140328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kosten van de kinderen. Kinderen zijn namelijk niet grat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leeftijd (t/m 17 jaar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IET AFHANKELIJK VAN INKOMEN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0" descr=""/>
          <p:cNvPicPr/>
          <p:nvPr/>
        </p:nvPicPr>
        <p:blipFill>
          <a:blip r:embed="rId2"/>
          <a:stretch/>
        </p:blipFill>
        <p:spPr>
          <a:xfrm>
            <a:off x="826920" y="4437000"/>
            <a:ext cx="7453440" cy="1687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2" descr="Afbeeldingsresultaat voor kinderbijslag"/>
          <p:cNvPicPr/>
          <p:nvPr/>
        </p:nvPicPr>
        <p:blipFill>
          <a:blip r:embed="rId3"/>
          <a:stretch/>
        </p:blipFill>
        <p:spPr>
          <a:xfrm>
            <a:off x="6659640" y="0"/>
            <a:ext cx="248436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kosten van de huur per maan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hoogte van de huur;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hoogte van het inkomen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samenlevingsvorm (alleen of samen);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leeftij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http://www.xead.nl/upload/856b77d32986c6fe1cdeee8fa551aa22rechtop_huurtoeslag.gif"/>
          <p:cNvPicPr/>
          <p:nvPr/>
        </p:nvPicPr>
        <p:blipFill>
          <a:blip r:embed="rId2"/>
          <a:stretch/>
        </p:blipFill>
        <p:spPr>
          <a:xfrm>
            <a:off x="7093080" y="4292640"/>
            <a:ext cx="20509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ing in de kosten van de zorgverzeke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inderen t/m 17 jaar zijn gratis meeverzeker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het inko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https://zorgtoeslag.nl/images/stappen-zorgtoeslag.png"/>
          <p:cNvPicPr/>
          <p:nvPr/>
        </p:nvPicPr>
        <p:blipFill>
          <a:blip r:embed="rId2"/>
          <a:stretch/>
        </p:blipFill>
        <p:spPr>
          <a:xfrm>
            <a:off x="4716360" y="4437000"/>
            <a:ext cx="403092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vergoeding v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 minstverdienend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n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vergoeding vo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 verzorgende oud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 de verzorging van de kinderen totdat ze 21 jaar zijn geworden (zorgplich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http://hdvdetectives.com/alimentatie.jpg"/>
          <p:cNvPicPr/>
          <p:nvPr/>
        </p:nvPicPr>
        <p:blipFill>
          <a:blip r:embed="rId2"/>
          <a:stretch/>
        </p:blipFill>
        <p:spPr>
          <a:xfrm>
            <a:off x="6300720" y="4149720"/>
            <a:ext cx="221616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gemoetkoming in de studiekos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 leefsituatie (thuis- of uitwonend), soort onderwijs (mbo, hbo of wo) en voor de aanvullende beurs ook het inkomen van de oud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asisbeurs (krijgen MBO studenten;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vanaf 01/09/2015 niet meer voor HBO en Universiteit!!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anvullende beurs  (als de ouders weinig verdien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ening (niet lenen of minder lenen mag ook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udenten ov chipkaar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el 2" descr=""/>
          <p:cNvPicPr/>
          <p:nvPr/>
        </p:nvPicPr>
        <p:blipFill>
          <a:blip r:embed="rId1"/>
          <a:stretch/>
        </p:blipFill>
        <p:spPr>
          <a:xfrm>
            <a:off x="231840" y="195120"/>
            <a:ext cx="8454960" cy="10479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Afbeeldingsresultaat voor studiefinanciering"/>
          <p:cNvPicPr/>
          <p:nvPr/>
        </p:nvPicPr>
        <p:blipFill>
          <a:blip r:embed="rId2"/>
          <a:stretch/>
        </p:blipFill>
        <p:spPr>
          <a:xfrm>
            <a:off x="7524720" y="0"/>
            <a:ext cx="14446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oeld voor mensen met een inkome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g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an he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ociaal minimu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ciaal minimum = inkomen dat volgens de overheid ten minste nodig is om van te lev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hankelijk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kom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menlevingsvorm (alleen, getrouwd enz.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en bijstand bij: veel eigen vermogen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1920" indent="-2214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ner die voldoende verdi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el 2" descr=""/>
          <p:cNvPicPr/>
          <p:nvPr/>
        </p:nvPicPr>
        <p:blipFill>
          <a:blip r:embed="rId1"/>
          <a:stretch/>
        </p:blipFill>
        <p:spPr>
          <a:xfrm>
            <a:off x="231840" y="195120"/>
            <a:ext cx="8454960" cy="1047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Afbeeldingsresultaat voor bijstand"/>
          <p:cNvPicPr/>
          <p:nvPr/>
        </p:nvPicPr>
        <p:blipFill>
          <a:blip r:embed="rId2"/>
          <a:stretch/>
        </p:blipFill>
        <p:spPr>
          <a:xfrm>
            <a:off x="4067280" y="3044880"/>
            <a:ext cx="193032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09T09:41:05Z</dcterms:modified>
  <cp:revision>59</cp:revision>
  <dc:subject/>
  <dc:title> </dc:title>
</cp:coreProperties>
</file>