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F156-AD5D-437D-B1CA-1AA932E0B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E40D-9CB5-4C21-A9EB-1DAD5AC7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716C-353F-41AD-81A3-9C0CC3D8B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380D-C05B-487D-9359-17027EF52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5C2F-9DDE-4484-B83B-63B4B2CC2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B751-14BE-4E8F-81B3-9F83CA05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0689-C00F-4ED2-B966-9474AF94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AB31-FF95-49C4-ABAD-57A4ED32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2276-9912-40C5-8194-715FDFBB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9831-FD98-417D-858A-8C8D4269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2029-6C19-4C6E-BF35-32162683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CA59-80A2-4BF1-B387-2B964C54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92F9-B90E-4743-BE5A-6CDD144A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B210-5526-4B2E-A6FF-22215D35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2EE7-9991-42A8-A070-F88B9BC5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C791D-9EE8-4B18-9FDE-083639756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1B1A-BCB7-4F4E-B804-F2063FEF7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365DB-F2FD-4073-B117-F2AB651A0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9CFDA-341B-48C4-9450-39D53AC8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0C3D9-E284-4FB5-B54F-99C57147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F4589-9FFA-4230-A716-F0448665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45C55-9276-48CB-884C-29B243BCE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C5A8-EEFC-4338-ACE5-7391E23D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F209C-F67F-48DD-9958-1A65B04C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3B067-B031-495F-AB9A-5FB61497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29BC6-0858-4B92-BEB7-F4676E7A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D11B1-4597-45BA-837B-72AD1281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6A372-9A7A-4133-A4A7-6DD52DD8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335F2-49D6-4054-B06B-B8E4BCED5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911DB-8B43-497F-BA7C-5455FF477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6C1A7-6C29-44DE-BB7E-2049D3176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63B84-639F-402D-9B5B-9059F6AC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71A49-A036-4D34-95E9-57A00EC0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851C-CBD0-4246-B906-7042E9E9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75E10-8F13-48B6-8AA0-FCC2D163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F2562-9344-4742-9DE2-091E6C59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70812-B4E9-46E6-B772-9DCD44CC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A39A2-1C8A-414E-BD32-752A1A5E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793BC-DA8A-4614-A2BD-F1772C7D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01B2C-98AE-4504-8954-5D3AC11B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45DBD-1098-486C-9BF3-47C4E28F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9A0CF-6DDE-4F3E-B543-F1439EBE4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1A008-31EC-45DB-8D09-DB002AA8E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A2CD2-3E4B-4205-B9C8-6ABDFF311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6BFB-7786-4A76-B648-08286D9E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9CDF8-12ED-4041-A35F-179141F4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EE115-75F6-4F9C-80E5-573C9029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88658-C828-47B7-AF47-3437D7A0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7A5D0-4E0A-4293-AA5A-268DEFFE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A9698-8DB4-43D0-94D1-06F185DD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805C3-6E80-4178-89E6-98A02CF3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2EBE0-D05B-416F-8E48-BE4505D2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8B1E2-382E-4D76-B6EF-F43885B0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9B97E-BDE6-4DEF-AC90-D912F783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E7AD8-C2A8-40A8-9A6A-ABB6E7848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FA5D-4DA7-4AAA-90F7-6713EDEC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F051F-8EA7-4C88-95D1-451598CCE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FBDC2-6469-4882-9499-144E622D3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52378-9E76-4692-8396-E748B4CF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E28F4-EB9A-4A18-9F8E-D87090AD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0B5A1-33A0-4804-82D8-80765BFE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9D93D-7BCC-4224-94B9-0F02F218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1A1DE-A569-4E79-B6E6-7AB34A47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8C9A3-2497-4F37-BAAD-DE517161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7443E-895E-43D8-9696-BE9C9693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5DB4B-AD8E-4AC1-85CF-4FF055D5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07C4-CA10-4FBD-95F6-FDF5A359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D7256-A790-4622-86ED-21B79688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F85EF-75F5-43D5-ACF6-67BAEFB77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B9648-E48A-4ECE-BE1B-DE39E3A16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F969B-1327-4601-BA7D-8BEB1C577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57E92-CF31-48EB-8EC7-7569FE9E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41FAA-07FE-4880-86C2-E460A172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28D75-CCEF-4001-A624-788D3F1F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BAE8E-568C-4E3E-A14F-0249BB50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18622-152C-4620-99FE-33026783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49502-F701-4423-9162-88A990E3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4CAC-5564-458E-8B5E-C55A8C3B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9D217-36AC-4CC8-984F-EC0DBB42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C6CCC-C629-4A54-B660-23CBCF91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DFA32-BE34-4517-96D8-8D478CEA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03C16-56F8-4CCB-830F-593D21BDB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12299-A381-4347-BFC8-E04091BE1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FD13B-81DE-48AB-B202-1A4E8D52E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89BB8-C8B9-4B29-8642-80373803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4281A-A004-46DE-873B-656576A5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FCED8-36C8-4570-88D5-6DF16F11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64B2C-FBF9-48A3-8924-D7B550E5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6EEC-0519-409C-BA5D-F7EF3A22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63534-34DC-4C33-8FFE-107CEE0C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E85A9-305D-43B3-B0AD-9BC25C36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55D74-CC52-4CB5-966B-7E114076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EDFA4-46A3-4AA2-900D-53EA52D7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2C91F-F809-45F5-A923-53276FC1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02408-9282-4E1F-9A90-64828E9D2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91E58-C11F-41BD-AFAC-E5213FE78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EED9-A73D-4656-83CE-845711714E4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2CBA-8C91-4723-B00D-668AADE54F1A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1C0B-0795-48A9-9517-DFD666FD1BA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D5B7-A1E1-4ACE-A552-E46722D176E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D976-577E-495E-AF63-DB7CCE611D8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EE12-FF6D-49EF-86AA-A43F292D634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525D-3922-416C-91ED-98230C81BA2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652D-81D0-44DF-9842-D2F987C05A98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s://www.youtube.com/watch?v=A1oYicwBimo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3.3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Budgetter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s://www.youtube.com/watch?v=A1oYicwBimo</a:t>
            </a:r>
            <a:r>
              <a:rPr b="0" lang="nl-NL" sz="3600" spc="-1" strike="noStrike">
                <a:solidFill>
                  <a:srgbClr val="464646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linkmijnles.nl/uploaded/2011124333budgetbeheer-flyer.jpg"/>
          <p:cNvPicPr/>
          <p:nvPr/>
        </p:nvPicPr>
        <p:blipFill>
          <a:blip r:embed="rId3"/>
          <a:stretch/>
        </p:blipFill>
        <p:spPr>
          <a:xfrm>
            <a:off x="0" y="0"/>
            <a:ext cx="233352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052640"/>
            <a:ext cx="822960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t afstemmen van de uitgaven op de inkomsten. (Totaalbedrag uitgaven + spaarbedrag = totaalbedrag inkomste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udgetplan = een overzicht met de gemiddelde inkomsten en de budgetten (= gemiddelde uitgave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itgaven zijn over het algemeen te verdelen in vier hoofdgroep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9320" indent="-217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1- Vaste lasten, 2- huishoudelijke uitgaven,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9320" indent="-217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3- persoonlijke uitgaven en 4- incidentele uitgav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201600" y="176040"/>
            <a:ext cx="8485200" cy="11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76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"/>
          <p:cNvPicPr/>
          <p:nvPr/>
        </p:nvPicPr>
        <p:blipFill>
          <a:blip r:embed="rId3"/>
          <a:stretch/>
        </p:blipFill>
        <p:spPr>
          <a:xfrm>
            <a:off x="2195640" y="1341360"/>
            <a:ext cx="4897440" cy="50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gemiddelde inkomsten per maand vaststellen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uitgavensoorten vaststellen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verwachte uitgaven (= budgetten) en het gewenste spaarbedrag vaststellen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budgetten en spaarbedrag afstemmen op de inkoms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inkomsten verander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uitgaven verander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werkelijke uitgaven zijn vaak hoger dan de budgetten (verwachte uitgave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andelijkse spaarbedrag verhog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1-16T09:28:24Z</dcterms:modified>
  <cp:revision>65</cp:revision>
  <dc:subject/>
  <dc:title> </dc:title>
</cp:coreProperties>
</file>