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98F-ADF2-4A3B-88F7-5A9A33C4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9CED-6E50-45EE-85AD-34F4E77F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FB71-982E-4871-A025-B1BB0DF5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EA1D-125A-4DE1-9B85-0877AE36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A0F0-256A-4EF6-B609-DE115DDD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95DA-67B2-4DF9-AEEF-54BB6637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E977-53A1-46F2-B7AA-12DD7F54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2554-5AE5-4F0B-B391-E398A6CD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6C65-46B6-44B3-8DC8-E4E3F86B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9501-5B04-4BFC-9441-434A31BB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24F2-16BF-49E3-886F-270FDC9F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754-529E-4BAD-8154-E79E45B3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23BE-9C8C-42F2-B2B9-40EC1BD3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83D1-0E27-4CD9-A61C-F40F93E4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9DA7-97B8-4C67-BF5F-7566451E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BAB4-8A26-4D7E-92C9-35079AE1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DD1E-7F52-4EDF-91A8-CD165F09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1B198-A9D9-46E6-B4E2-A46ACDE8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D2549-5EDF-41EC-8223-F9B06C3D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EA66B-01D0-44BD-A273-46B2C13B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B44B0-9ED2-48B2-85A2-C851B261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C0705-754B-4BA4-A692-E816A132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4F2-5D6E-411E-9347-E03579FE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6506F-DFCF-4493-9E4A-596A5DB5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7A0AC-8B6B-4D16-A508-9AAC9CC6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84722-21CE-41D2-86C9-BD69D625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47E76-9C07-4C62-AE07-9A2E19D3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A2E6A-C9F0-441F-8C1D-13A9ABD5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32038-0E60-4DBA-A344-67F5691F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502A4-E9D5-4DB8-8A86-8DF3739E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70EC5-C884-41A8-ADA1-96743EE0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36C77-5666-4D50-8FD9-9176DB0F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30E3D-578B-4254-904A-CDA57C4D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A92-9E12-46A5-9FE4-421BF1F3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B5617-F34D-4C7F-B428-0BDBE225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39E32-8430-426D-AFC2-0FBEBA07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FB13C-C69B-4270-9BBA-FCF4F33B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12BD4-355F-4A14-97A8-4D5178A3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31AE1-DB98-4693-9761-69A2BE14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92A8B-F0F6-44EB-B544-0AF459B5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5E300-2DE2-4593-BFB6-6D46C27A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D3345-D24A-40C4-9CA4-524AE894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19057-F3D5-4169-83CE-07E090B3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76E78-EF8E-43F0-9D63-02246140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DA02-7742-49EC-AB8D-00A3F700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CE0FA-EF41-4F72-B04A-3226B3EB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9ABA6-8B47-40C5-BE73-83823AA5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E9A88-EC5A-4105-B71B-4BB8F588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ADD89-0156-4D52-BD9D-64308410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607D2-5964-4BD1-83F6-784B8F16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CD9A8-6D55-4DD7-A210-5651FF92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72788-3555-40D9-8242-2A9E536B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F342E-6D24-4D42-AF6C-97F85BC6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8CF51-9F34-4AC6-BC51-A0B9AF91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4DD3D-3184-48C3-9319-E38B166F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4F0-3ABF-46C7-91DD-BC0F39B1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CB062-21B1-434C-B71A-FE65F915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4737A-C859-40D0-A25E-164F2E23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18618-93C2-4846-AD29-CCC9016E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B6609-3BE0-4CDB-B16D-CD783EF0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89954-1473-411F-92E0-49EDED8E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AB6B8-9F4D-4BCC-A141-0248626D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81DE6-F4CE-4DE5-A30F-FB991EC8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B9ACB-9648-49BB-9AE2-01FA00CA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1A407-3912-4041-A34C-79005C92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84A77-E630-43E3-8EEB-C08FD9C8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01DC-C2BA-46CD-ABB9-F507CBFC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0E9B8-7B77-4515-A014-935A9D03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85FD5-D774-4B6E-B041-1E0BA689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DC36E-A298-47A6-910F-257557EE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16270-E824-47D7-AD10-7FA636D9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95A72-F92E-4C06-930E-AC55446B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84BFF-5F6B-4419-83C7-4C1E3B0A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E480C-3217-4B5E-9B00-77E8207A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849AA-D2D4-44E3-BA76-85294464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208F4-3ECB-402B-9E0A-665EB22A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1324F-33F1-4224-8AEA-262A5D92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7B79-E1B1-4323-AA2C-1F6D567F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94236-28CB-446B-A202-0CD9CE45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61719-1675-4AC8-A5C6-50773DDC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54A58-D4C0-495C-A8A4-B319C614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D7AC6-7844-4C79-A8CB-6735E343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A3F7A-4FC3-4AA8-A3F0-F2069CCF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E3DA8-A96E-4168-9F30-4720E6A3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1A1CB-8DFB-4EE4-98EE-E7E12955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0142F-1C31-4F80-8227-AB4F29BE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113A9-43C2-4436-B036-92E1520A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70986-5095-4108-95CE-DBE43474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FEA-57EC-4DA9-8D51-67E5281D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4D35B-C1C1-4801-AC21-632D5C29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62BD7-350E-4479-A33C-84B6D5C5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8CD18-9787-419C-9D91-C58C671A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74A3A-C273-40A0-BD35-9FEAAF52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A32FC-098B-41EF-B712-08804E60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6B6BC-8603-4C2C-8035-4819D402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BECED-CC86-4EAD-8933-2162CD5D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CB32-5B99-4555-88D8-F13F954FA61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D754-BCE0-4550-8B63-FD3C9490CB3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2641-AF45-41BF-8755-A378FC87832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0221-F370-456E-9B73-0B9735B882E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D40B-12CD-434B-B793-42B45DE80D3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BFC1-D965-453D-A0D2-15FF0C23E4C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B783-AB24-4E17-9C98-B653DC4301C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60CA-C5C3-4D54-B295-94F8F8B4C24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ronnen van inkom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adver-online.nl/wp-content/uploads/2013/01/salaris.jpg"/>
          <p:cNvPicPr/>
          <p:nvPr/>
        </p:nvPicPr>
        <p:blipFill>
          <a:blip r:embed="rId2"/>
          <a:stretch/>
        </p:blipFill>
        <p:spPr>
          <a:xfrm>
            <a:off x="0" y="0"/>
            <a:ext cx="32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Lucida Sans Unicode"/>
              </a:rPr>
              <a:t>Bedrag : 100 x percentage = 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Lucida Sans Unicode"/>
              </a:rPr>
              <a:t> € …………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mrekenen van bedra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2"/>
          <a:stretch/>
        </p:blipFill>
        <p:spPr>
          <a:xfrm>
            <a:off x="1835280" y="2060640"/>
            <a:ext cx="60498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oorten inkomsten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salaris oftewel loon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vakantiegeld (8% van jaarsalaris)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eindejaarsuitkering of dertiende maand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prestatietoeslag of andere bon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loon in natura (bijv. bedrijfskleding, auto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 de zaak, telefoon, laptop enz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146160" y="274680"/>
            <a:ext cx="8540640" cy="1444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http://www.deondernemer.nl/beeld/w440/2014/201410/20141031/vakantiegeld.strand.euro.335.jpg"/>
          <p:cNvPicPr/>
          <p:nvPr/>
        </p:nvPicPr>
        <p:blipFill>
          <a:blip r:embed="rId2"/>
          <a:stretch/>
        </p:blipFill>
        <p:spPr>
          <a:xfrm>
            <a:off x="6759720" y="5286240"/>
            <a:ext cx="2374920" cy="1560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http://www.gelderlander.nl/polopoly_fs/1.3473362.1353552068%21image/image-3473362.jpg"/>
          <p:cNvPicPr/>
          <p:nvPr/>
        </p:nvPicPr>
        <p:blipFill>
          <a:blip r:embed="rId3"/>
          <a:stretch/>
        </p:blipFill>
        <p:spPr>
          <a:xfrm>
            <a:off x="6300720" y="60480"/>
            <a:ext cx="2833920" cy="202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4"/>
          <a:stretch/>
        </p:blipFill>
        <p:spPr>
          <a:xfrm>
            <a:off x="3881520" y="5181480"/>
            <a:ext cx="2449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www.taxipro.nl/wp-content/uploads/2010/12/stijgingsalaris-480x296.jpg"/>
          <p:cNvPicPr/>
          <p:nvPr/>
        </p:nvPicPr>
        <p:blipFill>
          <a:blip r:embed="rId3"/>
          <a:stretch/>
        </p:blipFill>
        <p:spPr>
          <a:xfrm>
            <a:off x="6227640" y="5051520"/>
            <a:ext cx="2928960" cy="1806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4"/>
          <a:stretch/>
        </p:blipFill>
        <p:spPr>
          <a:xfrm>
            <a:off x="468360" y="1090440"/>
            <a:ext cx="56163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= eigen bedrijf open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en loon/salaris, maar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inst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als inkomen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http://christine.echtebakker.nl/l/library/download/7iNYqfIzE-a-0HO_a_K125oaafR4RvMZ_a_wJpO/Christine-0014.jpg?width=438&amp;height=657&amp;ext=.jpg"/>
          <p:cNvPicPr/>
          <p:nvPr/>
        </p:nvPicPr>
        <p:blipFill>
          <a:blip r:embed="rId2"/>
          <a:stretch/>
        </p:blipFill>
        <p:spPr>
          <a:xfrm>
            <a:off x="3132000" y="2492280"/>
            <a:ext cx="27799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2876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on van iemand hangt af van 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loonschaal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loonschaal heeft een aanvangsalaris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(=startsalaris)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n e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ximumsalaris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en verschillen door: opleiding, soort functie, ervaring, bijzondere kwaliteiten enz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r verschillen in inkome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lnSpc>
                <a:spcPct val="130000"/>
              </a:lnSpc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anderen de prioriteiten (meer lux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lnSpc>
                <a:spcPct val="130000"/>
              </a:lnSpc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schilt de koopkracht (= meer goederen van hetzelfde kopen, bijv. tweede aut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schillen in inkom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vormen de personele inkomensverdeling (= verdeling van inkomen over een groep mense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worden weergegeven met de Lorenzcurv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overheid gebruikt het modaal inkomen (= meest voorkomende inkomen) om beleid te maken over de koopk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2771640" y="2776680"/>
            <a:ext cx="3600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1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684360" y="1341360"/>
            <a:ext cx="82198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49968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oort bezitting: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oort inkom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Spaargeld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Eigen bedrijf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in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Huizen/kantoorpand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Grond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ac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Aandel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vide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vidend = winstuitkering voor aandeelhou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lle inkomens uit arbeid en bezit in een land bij elkaar opget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u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en + rente + dividend + winst + pacht 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ATIONAAL INK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02T14:45:24Z</dcterms:modified>
  <cp:revision>57</cp:revision>
  <dc:subject/>
  <dc:title> </dc:title>
</cp:coreProperties>
</file>