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9.png" ContentType="image/png"/>
  <Override PartName="/ppt/media/image10.png" ContentType="image/png"/>
  <Override PartName="/ppt/media/image11.png" ContentType="image/png"/>
  <Override PartName="/ppt/media/image12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9ADB0-0166-44D9-A2A6-C5B7DDD4F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45C50-6569-4794-A9B8-4E39AC16C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59334-3235-4876-A8BD-8CF000BF8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0C821-9450-4B1B-B13F-9FEC4966C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13A15-3BF1-4B57-9967-60ACFA1A1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551F4-91B4-4045-BE48-18D9E5E1B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971E3-5F9A-495E-82FD-8FAF14A6E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07905-8A25-4132-93AC-090BE2BC8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C8196-5B86-4269-86EC-AA91392A7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AE6A4-A57E-4804-B4AB-48A759423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98B71-B0F8-4BED-A94C-C4BD748E5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6429E-AFAE-409E-A534-BC7800C99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50863-31D4-4267-A63A-812BF8D1A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3B9C9-DBAC-41FC-86A4-19AEEE232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FA9CA-3475-4E7B-B358-6D203C257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D8422-562A-4D28-BB91-FE117FA40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8837A-C947-46CC-AFFC-15262E608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F2DEF0-4B16-4591-890C-321724ACF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E12977-71FC-4ABC-9779-9387F981D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31BCB4-C0AB-44A1-B99D-4F396C1AA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424EE6-BDD3-433A-9AAF-E64684FB0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C5C474-DC12-4DB5-BB8B-9375AFD83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E47D1-BBE4-433B-8EEC-3D405BCE7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9A6278-F085-43F7-B88B-FBD3804C9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1C20AA-D2F9-47C0-85FD-53612AC3F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51F298-4C0B-47FF-A3E9-6B1313D38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EAD631-E515-4A35-8C2C-F533ABF82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D225E8-F716-4263-826A-C5FD3684F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A84980-9074-4A1A-AF75-B56D4302F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DA71F5-3EC7-4E90-9618-8D5B11B59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774E62-2AA9-474C-B707-CA87FEA3F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B98E7D-4923-43C5-839C-9BB3D2F69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B20D28-E84F-4569-9BC4-792000947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EC7BA-103D-4567-A765-CE7DE5782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A2A6D2-79F0-4051-A6F3-3AA0227E4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7995CB-B5D4-417B-88A2-C146F3C9B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8D412D-C775-4EB4-A02D-4F631ABFA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869EDF-49E9-4495-9F29-A8C9DFD55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E5D0E0-8A7C-4103-B831-C926478ED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CB56BD-1149-4AE7-98A8-9B5FB332D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C7846E-3ABE-4E35-AAA6-631D90B25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15DE08-7785-4319-A597-DC8A56E1A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F78F28-1B97-4EEC-B49C-EF6D41318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E0B724-28A5-4567-90E9-3F7CA928E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48AA6-22ED-4E78-A155-71DC0B181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0FE7D0-DC5E-4863-8404-966B66063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459E95-6C7C-4A63-9A24-E34875303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F8D5C0-63BE-4AF9-BC0B-E30CFDF6D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43C0E4-9A13-4EA4-AA84-6D056A3E1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81011C-DA57-4166-8CD3-AC60E238F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EF8238-D1CD-4CE9-9F5A-B6DF970DB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AE8872-8B45-4765-8EE1-EB839B437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01129A-B264-4590-BA5B-400311503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AD5AE2-39C1-4FCA-AAB1-AE09ABCB7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CFD08E-6485-42D3-BB57-944377394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802B2-9880-4209-A39F-6F51594C1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BEBBEF-FEFB-430A-8EAA-89A2DF7C7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AA1589-DFD9-410C-9EF7-EA319FD42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52E3CE-5349-41DE-AC1B-6CFC042C7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9364AE-C8BE-4E11-8CA6-67DAF4684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91C337-82D2-4080-9DA9-751DBFAB8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54674D-C3DE-4138-86AE-8F328A410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88A076-BCC5-4302-A92B-3AF6F313D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CC1ADC-3CE2-49BA-BC45-007C7CDBB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E3EAF7-3C36-4744-96C6-A426053D2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9F789D-FFD2-4008-91D8-1A27C43CD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A8F66-7E18-4633-B864-EDEEDD52E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71A191-A066-486E-9061-D5520237A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24BA73-ADA1-4165-B425-60F8F0320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2F7E12-F380-4990-96C8-4F770F876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7D0893-7C32-418B-A333-77B3C1ADB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5DB45E-1370-4D23-A749-73D1C26A5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F2A8C9-F206-4951-9700-31CD781C3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AB93BE-02D3-49B8-93E3-22F916BB6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76BE94-B425-4053-903C-427EDCE21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E85092-D2D9-4712-8422-4B6AE1D9C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83E0B2-8D32-4505-867D-47E0225AC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76E00-85C7-4C4E-92A9-03A2181E4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DF4253-AA5B-4DA3-9DB5-C2905979A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173B2F-F43C-463C-A964-789C552AA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F159D7-5C80-400A-A2CB-4BF114CD1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E6E330-C629-4C34-9043-6FAA476FD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BE6A26-9E2D-46D5-A912-D1E5D7A4C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BF0C23-CC3B-41E9-A749-E1CC9DCA2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F3362B-F619-495D-9FC8-FE496E72B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05EA5C-9479-4631-9340-4E5D264A3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A940EB-562A-4531-81AE-AD0931397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8BE2CB-9E8B-4461-A533-FDFFB1F40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00786-DF74-427F-AD56-757839778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6593DA-E8C9-40AF-B7BC-C40705DFD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FE8EAE-5811-4C63-95A7-BB5AE8F56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DFB909-F966-4873-921C-4B48277D2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0D523B-FD87-49B4-9747-5DE6BA32C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2E3DAA-4C12-48AC-A3D1-6E099F2D4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F11C70-2B5F-4C98-941C-FE69C6532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ADD07A-D035-4AD8-8CAF-818B273B2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echthoekige driehoek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Rechte verbindingslijn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0207D-CFC8-42D8-9E29-3B740F0A3284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hthoekige driehoek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e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Vrije vorm 15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Vrije vorm 18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Vrije vorm 18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Vrije vorm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Rechte verbindingslijn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F2BAE-9264-44A9-B334-A576BA30A8FF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Punthaak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unthaak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74274-6DE2-4620-B632-581F249EEA75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3F5B9-A556-4585-950E-BB4E8C223FD5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A9F70-B8F7-4097-9C3D-BC75E648E636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D42B7-A22A-4F70-83AD-24E54C8503E7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3BFC4-A66C-40BF-9D31-FC14C0CA9389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Vrije v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Vrije v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echthoekige driehoek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Rechthoekige driehoek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Rechte verbindingslijn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Punthaak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unthaak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4058E-1639-4B68-B011-8F48DE401A01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el 1" descr=""/>
          <p:cNvPicPr/>
          <p:nvPr/>
        </p:nvPicPr>
        <p:blipFill>
          <a:blip r:embed="rId1"/>
          <a:stretch/>
        </p:blipFill>
        <p:spPr>
          <a:xfrm>
            <a:off x="689040" y="1755720"/>
            <a:ext cx="7772400" cy="18288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684360" y="652320"/>
            <a:ext cx="7772400" cy="3353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Lucida Sans Unicode"/>
              </a:rPr>
              <a:t>ECONOMIE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Paragraaf 3.6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464646"/>
                </a:solidFill>
                <a:latin typeface="Lucida Sans Unicode"/>
              </a:rPr>
              <a:t>Kosten van vervoer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2" name="Picture 6" descr="Afbeeldingsresultaat voor autokosten"/>
          <p:cNvPicPr/>
          <p:nvPr/>
        </p:nvPicPr>
        <p:blipFill>
          <a:blip r:embed="rId2"/>
          <a:stretch/>
        </p:blipFill>
        <p:spPr>
          <a:xfrm>
            <a:off x="7920" y="0"/>
            <a:ext cx="3268800" cy="217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 txBox="1"/>
          <p:nvPr/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401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Afschrijving (= waardevermindering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2401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2401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Brandstof (bijv. diesel, benzine, LPG (=gas)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2401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2401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Motorrijtuigenbelasting (= houderschapsbelasting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2401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2401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Autoverzekering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2401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2401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Onderhoud (grote en kleine beurt, onderdelen, keuringen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4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2" descr="http://ww2.autoscout24.nl/advies/autokosten-en-budget/437524/375467/as24.ratgeber.buy.inform.kosten.png"/>
          <p:cNvPicPr/>
          <p:nvPr/>
        </p:nvPicPr>
        <p:blipFill>
          <a:blip r:embed="rId2"/>
          <a:stretch/>
        </p:blipFill>
        <p:spPr>
          <a:xfrm>
            <a:off x="5413320" y="3930480"/>
            <a:ext cx="3173400" cy="10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Lucida Sans Unicode"/>
              </a:rPr>
              <a:t>Kilometerprijs = Totale autokosten : totaal aantal gereden kilometers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7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2" descr="http://www.2d3d.nl/upload/projecten/kilometerprijs-brochure605/rijkswaterstaat_kilometerprijs_brochure01.jpg"/>
          <p:cNvPicPr/>
          <p:nvPr/>
        </p:nvPicPr>
        <p:blipFill>
          <a:blip r:embed="rId2"/>
          <a:stretch/>
        </p:blipFill>
        <p:spPr>
          <a:xfrm>
            <a:off x="2890800" y="3645000"/>
            <a:ext cx="3600360" cy="28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1T14:51:49Z</dcterms:created>
  <dc:creator>rachid</dc:creator>
  <dc:description/>
  <dc:language>en-US</dc:language>
  <cp:lastModifiedBy>Rachid Hamdi</cp:lastModifiedBy>
  <dcterms:modified xsi:type="dcterms:W3CDTF">2016-11-23T09:46:11Z</dcterms:modified>
  <cp:revision>78</cp:revision>
  <dc:subject/>
  <dc:title> </dc:title>
</cp:coreProperties>
</file>