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B8B-4DA0-4AB6-A556-73F35910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8B7-1B26-459B-8874-FE539B3D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9E7-CBE6-40F3-87A6-FFB069F0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C6A-6C3B-4E01-853E-7E2ABF1D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BC6A-E1BD-43CA-ADC6-FCF717BF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4808-FDFF-475D-8432-96D4D15B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31B0-4945-4F96-BF02-7C6207FC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51C7-EC7C-4F1F-9C09-3816B96F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232C-BFE9-442D-8B86-99AB4509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28F6-751F-4E99-A2A8-EE161356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53BE-DE60-46CE-AF82-3A689E8F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B97-635D-484D-AB65-A48B5026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CE88-0E85-4683-92FE-8E218943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DA2E-305E-4113-A3BF-CA1FD31A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62C5-4FA8-4381-9CD4-C41A7404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D9DE-A884-4256-9217-70B6310C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33B7-8B1C-4764-A90A-61D0CCC7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34D88-C214-4782-8B85-CDCDB614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7DD62-B563-4506-97E2-E2239EC7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CB444-27EA-4AAE-B32F-503FF1A0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1042B-90B0-4BA1-BBAF-37FA0BDA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8223C-70F7-4EC0-9869-271311A0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9428-FD8F-4CDC-A44C-946EF99B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CFF20-9327-463C-8F87-3B0624D1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A6616-6689-41E4-A739-861DE230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79A51-FCA3-4492-A606-58B2DDB8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6D5A7-E92B-4838-BDAC-DFEEEA44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5250D-1635-4C92-8235-B64D21FA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AFA6-E002-40CD-8871-9A555CBE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B799-D103-48A8-8F91-2C8A9B52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ED8A3-F6FD-4217-B76C-E762A64E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FD0CD-D248-41A7-95CB-AD84916E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6CD18-F7BD-43E7-B03E-B14E28A7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2DF-67B8-4A5C-8E39-428C472F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41282-7B94-4845-A3BE-F1817B45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184AD-3632-4150-80FC-A4E812F5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51857-8B9E-4EA9-94EC-1403BBED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7F30E-DA52-4383-9463-F0124464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20F8E-DA8F-45C5-A862-54A794E3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2800C-CFFA-4E21-9FC5-2F526B44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E89E6-E3C5-4719-B8D0-4EFA3640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84A0F-F4D6-4520-A202-371FF8EE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9291C-CA1B-4009-A870-3317478F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3D904-EB3F-4515-AB1B-535B18CE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6F5-637E-401F-BB42-EA4B4A0F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3C717-F350-446F-9C0F-41CA3645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5793F-F15D-40E9-A033-F265FA7E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199E5-FB35-4065-9FB5-A12DBCD8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D2637-9604-4311-B0F5-7CAC0570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A2C8D-C395-446B-82A5-281FCCFF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CA6BA-4203-4CF1-8251-63817B71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07CD8-FE69-4075-B758-E6FB1060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9A90A-0FBB-46BC-9C7C-EB8F51AF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B86F5-1800-4A47-BA55-C536AD92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CD2DB-C40E-45C9-B5E3-7730CBB8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91F-913F-4255-A472-F43345F4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FC98E-77D3-486C-B3ED-15AC18D3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C4B18-1455-4D8B-9C69-0D53DA6A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48D07-D284-418B-9ABE-1178F721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1D76E-1066-48D1-9FDE-A29F4B09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2ADBC-F68B-4B6C-903D-A184BD15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D177B-906A-4715-AE45-2BAADC96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2D86C-6D15-4B49-B6C5-080CB914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D6A22-9309-4DB6-BF4E-54333287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FFA24-9CA0-4BC7-9492-58A82418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FB15F-37ED-41B1-93CE-62CE10B2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877-F190-44B2-9398-0B7DA1C7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5E6DB-22F3-45FD-A35A-0D69864D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7A997-4C9F-46E0-8322-85C8707C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B4FE4-C6D5-42A4-B43B-C67ED234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C8C49-5458-44C5-A0BF-CCDF1B9A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A98DC-3155-4466-AAF7-B19D1BF4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2FF33-1ED5-4633-96BA-3B72087C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A1EB8-F631-432C-AD63-34F14CD5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7D33B-955C-47EA-BA5F-CB26A4F6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F9BDC-CC23-4382-A8B5-ECD02A83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27F29-5C74-4BB0-A5B4-F83BC18B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1A6-F3CB-4D14-ACD3-E5A28EFC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FB3B2-062D-411D-86F7-D62DEE2C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A9BCD-D393-4E16-8032-362D434D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4BBE0-D95F-4703-A500-3DE91E2B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99EBC-0488-4216-B068-DE249AA6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35D7A-8743-4A6C-BB2F-F72E804F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FF770-8FA6-4F1E-9BC6-1E460EBA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92A2C-47F8-4D8F-A265-E3E7D92D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90ED5-6054-4885-A79E-6ACB893A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AECDF-4526-43F8-981C-F1408F25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8B335-D656-4AD1-B5CB-56A6A1F2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036-4C6B-4C73-B751-5B5B4020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F3EB3-AD08-4D78-B730-6A652BBB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288D0-1BFA-4DC5-AE90-E0B1AFE1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10497-5D73-4F39-B6F1-097B3387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4CD89-1BDC-4DDD-8492-8B920E63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2C9E3-B070-4930-8D16-693C634F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592D7-B224-46F7-834F-BF0AEAB7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D2EC1-98CA-4D7D-8FF8-9FB80873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44EC-2183-4CBF-85E3-D000162C3A4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DD11-F2E8-4AD2-9B0A-0898A3A9145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35F1-F197-48E0-B83C-C7322DE4B78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7E43-7BA8-48F1-823F-E008EC2EC29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DFE6-5C4A-4950-8691-B28E0A548FC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D812-D811-4D03-B04A-9AB8FF7DFA3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3EDF-FBC5-43D6-AC7D-DDA1BF8BDD8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5768-B3D0-4295-8324-132E8E7A677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A1oYicwBimo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udgett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s://www.youtube.com/watch?v=A1oYicwBimo</a:t>
            </a:r>
            <a:r>
              <a:rPr b="0" lang="nl-NL" sz="36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linkmijnles.nl/uploaded/2011124333budgetbeheer-flyer.jpg"/>
          <p:cNvPicPr/>
          <p:nvPr/>
        </p:nvPicPr>
        <p:blipFill>
          <a:blip r:embed="rId3"/>
          <a:stretch/>
        </p:blipFill>
        <p:spPr>
          <a:xfrm>
            <a:off x="0" y="0"/>
            <a:ext cx="23335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afstemmen van de uitgaven op de inkomsten. (Totaalbedrag uitgaven + spaarbedrag = totaalbedrag inkomst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dgetplan = een overzicht met de gemiddelde inkomsten en de budgetten (= gemiddelde uitgav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itgaven zijn over het algemeen te verdelen in vier hoofdgroep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- Vaste lasten, 2- huishoudelijke uitgaven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3- persoonlijke uitgaven en 4- incidentele uitgav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6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3"/>
          <a:stretch/>
        </p:blipFill>
        <p:spPr>
          <a:xfrm>
            <a:off x="2195640" y="1341360"/>
            <a:ext cx="489744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gemiddelde inkomsten per maand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uitgavensoorten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erwachte uitgaven (= budgetten) en het gewenste spaarbedrag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udgetten en spaarbedrag afstemmen op de inkom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inkomsten verand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uitgaven verand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werkelijke uitgaven zijn vaak hoger dan de budgetten (verwachte uitgav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spaarbedrag verho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16T09:28:24Z</dcterms:modified>
  <cp:revision>65</cp:revision>
  <dc:subject/>
  <dc:title> </dc:title>
</cp:coreProperties>
</file>