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7.png" ContentType="image/png"/>
  <Override PartName="/ppt/media/image9.png" ContentType="image/png"/>
  <Override PartName="/ppt/media/image6.jpeg" ContentType="image/jpeg"/>
  <Override PartName="/ppt/media/image10.png" ContentType="image/png"/>
  <Override PartName="/ppt/media/image11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D4688-5CCF-4021-8135-7EEAA2413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AFA8E-2076-49DB-877E-33B9627FE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50678-A60F-4747-B296-B3A12DED3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496F9-BB7F-4F38-ACB4-EAA9E6C4F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65712-B112-4F43-B649-60B51E4F4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5ED42-80C3-49D5-8C0C-AFF93C119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58384-8076-4CA5-940A-E788E6837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C7E94-4A72-45C0-9186-F0C4C3F19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BFB2D-6CCA-4E6B-B0FE-AEC9C0282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C731F-15AB-4C1C-AAA7-5962453E2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86E84-E185-4913-8D85-70FB81E62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70BD1-9884-4176-8868-A3FDB5E9B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53669-D92C-4BA6-9FBE-DB2E47276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4FC92-35D5-49E1-B6B3-B8A64692E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36EFA-E34C-42AC-8D7E-E8B1ED757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70606-D903-4EE9-9201-841CE0423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0AE01-C8C4-4CC3-B8B9-9A3359C0A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BEA260-249B-4ABE-BDA0-9246EB9F7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20F52F-D911-4B85-A195-45D79F81B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C517CA-EC59-4862-A62D-4121073C5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2C21FB-4934-43D4-843A-74D80D76B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89CDBB-C66C-408A-A964-A26525E6C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D2B0B-11F7-4890-96C4-2D3899D20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264BBB-8BF5-473B-AD1E-D872920EC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80E62D-75D4-4215-A55F-75F63B332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A2AC3F-163E-4D36-9972-1F3F7EBB6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7E86E4-EA04-4E15-B0F3-88A396AD4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56B9FB-8A5A-43D6-9DB9-5E4342336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85FD9A-2A61-4C15-BE94-D1D7D17BC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CF2CEC-35F7-4CB8-8EE1-12FF18EB9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F7CBB5-1800-4A91-8696-E3FC118C5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87685E-6E46-41D3-876E-22A34A0B6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B04B80-DF45-449D-B04A-1EF186861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4A364-F6CB-43C5-83EF-8DB39DCA1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77EBB2-1898-4288-8071-1531B7AAD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D7D156-F0EC-4CFD-B832-AA014B220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7BD9B6-9B66-4F18-A7C6-C80E52406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5F1156-65B5-495C-B1E6-4A97451FC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656E4D-4C04-4500-A711-0C0E95B30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285B47-BAD8-49C8-9217-87816248C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89C771-0176-4860-BB42-88E7BE8C7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475F85-15C9-4478-855F-A95F99A41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87D43E-C392-4643-9A48-3B54FE49A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A838BD-6B03-4922-923C-F3F1304B9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657C0-7EF4-4E5B-AAA4-82F68F7C5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5A5199-E4AD-4D18-8CA6-57197358A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450238-C9C6-49DF-965A-DF2926132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45BB7D-6964-4F9C-8919-A248FDC12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D1F0F6-B7E9-478B-86CB-86C9914FB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0874C9-C770-4F6F-AEA7-5432E2D9A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464C4F-D668-4D51-80DA-8E0CC2667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E39703-8738-40F3-AA6C-276EA678B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9885A7-C1CC-46B0-8914-54DE51F33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3E1AA6-1679-4074-BF94-166B44614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6BE7BA-B238-44C2-9DAD-E1EB564BC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B1976-3D31-4019-A078-700467FC9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CEDDFD-3740-45C0-8BB9-87301C61A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CB5FE8-1BD2-4AF6-8BE3-1B474AA6F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30B124-72B4-4B70-AA1D-899AD3849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F35E9F-4C95-45D0-B858-616618E78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D80228-A57A-489B-935E-16E27D1B5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FC4705-E6B2-4FCD-846F-1C3211C5D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120475-F279-46D9-98A0-0943D29A5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059CCC-7B83-4D6A-83C7-16F3129CD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1BDF7D-939E-43AC-8377-E6087760C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AAB580-B637-4643-A016-A809F34B6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598BF-FBC9-4530-AE95-6AAE7EF91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242AEB-69BC-4CBB-8E56-B91B68021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95A30F-91F3-4B39-8845-2E9BBF86C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29D7D3-8E8C-44AE-8AA2-160A08C48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E2A784-2220-4B16-B2B9-0536EB79D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EA6136-3FB6-4533-93CC-FDF36EF23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4D286E-616A-4501-A741-F7E793997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D7559F-C745-4F84-A0A9-7E46B71DC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5B7F28-6C09-4A4C-8B92-C636B505A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50CFF2-FD5A-4DAC-B83F-2BD886897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65F9FA-E16F-4995-8C29-374C72F5C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36A20-4808-40E2-93E2-3E681F4D6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DBC892-86F8-4073-8D96-3DB9FADC1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A56C1F-F05C-4566-9D78-5615F9897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784606-6A38-4628-83CB-87E453AE3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2E0188-A592-448D-BCB1-A9A696901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27EAAA-6EAF-457C-973B-D05A7BC80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B4FC08-BD7E-4536-A07A-D7C70D2B8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29465E-5613-4CC8-9DEE-8D751A7E8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AB21B4-BC36-4AD9-95DD-4B15864DD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B15B41-4BAD-4D01-8E08-BA55B2F09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2484F4-EF51-4C9B-9A73-07970BDE8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B2D47-A2AC-43A3-971D-7C1346A9F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ADE6E5-7D50-438D-9731-1A146C45D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AB75B3-D896-4D9F-9982-AC586705F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A3EEEA-2645-4860-9D5E-0B1DCA034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8381B5-AC8F-4708-BE8E-2E56A4D9C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67ABCE-94F9-439D-97D4-9DA2638EE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333E50-6023-4764-996A-F6C3AB975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B4E483-18E7-407F-BCED-BAEF15388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echthoekige driehoek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Rechte verbindingslijn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B1BD3-D7BB-481E-A2EC-D850B06EC82E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hthoekige driehoek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e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Vrije vorm 15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Vrije vorm 18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Vrije vorm 18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Vrije vorm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Rechte verbindingslijn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8840B-AC26-4EF2-A2C6-CBE491E64E20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Punthaak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unthaak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EBA83-5DED-4E62-BFCC-3EAE7BC59D93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1F1AC-5C19-4FB3-B11D-0E0F6DA8813A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A1BBC-AD4F-4CCD-AA18-8F348694DA6E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D6B83-7544-475C-91B1-10B64C2752E1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9347E-2BD0-43EA-8D89-81E1AC4380F4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Vrije v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Vrije v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echthoekige driehoek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Rechthoekige driehoek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Rechte verbindingslijn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Punthaak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unthaak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8AF0D-B19D-4892-80F5-24800961D0A4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el 1" descr=""/>
          <p:cNvPicPr/>
          <p:nvPr/>
        </p:nvPicPr>
        <p:blipFill>
          <a:blip r:embed="rId1"/>
          <a:stretch/>
        </p:blipFill>
        <p:spPr>
          <a:xfrm>
            <a:off x="689040" y="1755720"/>
            <a:ext cx="7772400" cy="18288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755640" y="1125360"/>
            <a:ext cx="7772400" cy="3686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Lucida Sans Unicode"/>
              </a:rPr>
              <a:t>ECONOMIE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Paragraaf 3.5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Geld tekort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2" name="Picture 6" descr="http://publiceer.cashcow.nl/uploads/afbeeldingen/9810_broke.jpg"/>
          <p:cNvPicPr/>
          <p:nvPr/>
        </p:nvPicPr>
        <p:blipFill>
          <a:blip r:embed="rId2"/>
          <a:stretch/>
        </p:blipFill>
        <p:spPr>
          <a:xfrm>
            <a:off x="0" y="15840"/>
            <a:ext cx="3298680" cy="21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 txBox="1"/>
          <p:nvPr/>
        </p:nvSpPr>
        <p:spPr>
          <a:xfrm>
            <a:off x="53964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van een (grote) aankoop af te zien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de aankoop uit te stellen en geld te reserveren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te interen op je spaargeld (= gebruik maken van je spaargeld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te lenen (let op: brengt vaste lasten met zich mee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4" name="Titel 2" descr=""/>
          <p:cNvPicPr/>
          <p:nvPr/>
        </p:nvPicPr>
        <p:blipFill>
          <a:blip r:embed="rId1"/>
          <a:stretch/>
        </p:blipFill>
        <p:spPr>
          <a:xfrm>
            <a:off x="212760" y="189000"/>
            <a:ext cx="8712000" cy="181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527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de bank vindt dat er genoeg inkomen is om de aflossing en de rente te betale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er voldoende bezuinigd kan worde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er maandelijks voldoende overblijf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Lenen om de </a:t>
            </a:r>
            <a:r>
              <a:rPr b="0" lang="nl-NL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blijvende tekorten 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op te vangen is niet verstandig!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6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Banke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Nibud (nationaal instituut voor budgetvoorlichting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Consumentenbond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8" name="Titel 2" descr=""/>
          <p:cNvPicPr/>
          <p:nvPr/>
        </p:nvPicPr>
        <p:blipFill>
          <a:blip r:embed="rId1"/>
          <a:stretch/>
        </p:blipFill>
        <p:spPr>
          <a:xfrm>
            <a:off x="231840" y="274680"/>
            <a:ext cx="8454960" cy="118908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2" descr="http://groenopgewekt.nl/wp-content/uploads/2015/08/consumentenbond11.jpg"/>
          <p:cNvPicPr/>
          <p:nvPr/>
        </p:nvPicPr>
        <p:blipFill>
          <a:blip r:embed="rId2"/>
          <a:stretch/>
        </p:blipFill>
        <p:spPr>
          <a:xfrm>
            <a:off x="5076720" y="4869000"/>
            <a:ext cx="3143520" cy="137160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4" descr="https://www.mijngeldzaken.nl/images/mijngeldzaken-icon_grip-nibud-vergelijken.png"/>
          <p:cNvPicPr/>
          <p:nvPr/>
        </p:nvPicPr>
        <p:blipFill>
          <a:blip r:embed="rId3"/>
          <a:stretch/>
        </p:blipFill>
        <p:spPr>
          <a:xfrm>
            <a:off x="5807160" y="3252960"/>
            <a:ext cx="1681200" cy="1554120"/>
          </a:xfrm>
          <a:prstGeom prst="rect">
            <a:avLst/>
          </a:prstGeom>
          <a:ln w="0">
            <a:noFill/>
          </a:ln>
        </p:spPr>
      </p:pic>
      <p:sp>
        <p:nvSpPr>
          <p:cNvPr id="381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Picture 8" descr="https://petities.nl/system/uploads/4391/original/banken_logos_2013_09_1_.jpg?1443442323"/>
          <p:cNvPicPr/>
          <p:nvPr/>
        </p:nvPicPr>
        <p:blipFill>
          <a:blip r:embed="rId4"/>
          <a:stretch/>
        </p:blipFill>
        <p:spPr>
          <a:xfrm>
            <a:off x="4641840" y="1557360"/>
            <a:ext cx="2857680" cy="13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1T14:51:49Z</dcterms:created>
  <dc:creator>rachid</dc:creator>
  <dc:description/>
  <dc:language>en-US</dc:language>
  <cp:lastModifiedBy>Rachid Hamdi</cp:lastModifiedBy>
  <dcterms:modified xsi:type="dcterms:W3CDTF">2016-11-23T09:33:58Z</dcterms:modified>
  <cp:revision>66</cp:revision>
  <dc:subject/>
  <dc:title> </dc:title>
</cp:coreProperties>
</file>