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504-9868-480E-9E92-412AC420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C4B-2DFC-4D36-9F81-46900A78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5BF-1782-47CA-8681-132A32E9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785-C639-4F19-8ABE-A2B292C9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B952-AF17-477C-AF59-909E25A8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8EA8-5BEF-4110-A1BC-3F7C2780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6363-A50A-417C-A7AE-22B2BED2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3AEF-DC20-43C2-8EA9-82A019BC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BD7-4926-461F-B462-469239D6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CF1-F45B-4756-B1E9-445316C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EAB3-9654-4E50-B32A-B03A31E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490-1CF8-4462-9D8C-CDA7B7B1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A88-E1A2-49CD-B9B4-4A41AA71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E20-4B63-49C3-8FCD-3208B2E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46E6-36DB-4378-99F5-BEBF8C17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4A1D-2213-487C-BAC6-3136C003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F02D-CCE1-4EEC-913A-D167A799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FED8-A6D0-4479-973C-AE955555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74CE-E58C-475B-BB9C-8DA9E94F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2503D-9231-43E7-8C37-4B9A175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6B960-1BE8-45B4-8644-1965E906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8232-A7F0-4844-89FD-F0271F45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2E5-7F3E-4325-BBB3-E906EE1D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4804-5385-49CC-A96F-63A96DC4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E804-F649-459C-BEC0-095660F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D8DD-E4DB-4CD9-9F12-18B6D2BE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01B8-0480-4EBA-892A-6D3E8F1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C59E-AA6C-4A2F-8FAC-324D42A3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3991-63E3-4DEB-8F8C-5B136508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6AE8-4A14-4B12-908F-27FC9731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18FA-C052-4193-A78F-3A131638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7D30-F829-479E-852E-532B454D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E2E43-88AF-450D-B730-FBD8E1AC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3AB-93A2-4D4D-BD11-53C3C47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72C4-961C-4586-B3DC-FC6323F1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66B3-DF5D-42F5-9AB9-8F3625D0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ADBA-FE45-4F05-81C1-DED56BAF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9FD9-A75B-4C18-9592-FAC6D1D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DF2E-C650-4B31-8A02-E68FE774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137E-4EE8-4B53-B777-754B782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56AB-46ED-4C59-9942-FDA0C98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CDF2F-611D-4AE2-9084-27A65DC7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748C-B393-4BB4-8B79-412A4728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A6C7-99E6-464A-8554-D5B28A04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E60-66C8-4129-A66C-A291213F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5EC7-BC00-4FE4-BB8D-A2CE00E3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95B4-1EC7-43E6-9C5B-9594FA09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E143-464E-44C2-BA0F-9C44AFB1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E1EA-0153-46CF-8345-67A5AB20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32A3-9443-4B10-BA86-6DF9982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EB3E9-A477-4DEE-887C-3C3FC825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0BDAA-7247-41FC-BE26-774DC66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25C77-4CCC-44C9-8093-634B0DC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4F77-4CEC-47D6-912E-5E2BDA77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DF92-D8A2-43DF-94C0-F301F26E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F40-2831-4A60-9A67-2D5753D5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5A80-C96D-4B31-892B-070C22B7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831E9-B7C8-4488-AA4E-29E905A1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48859-9E0D-4E64-B014-16C7DA43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BAA56-EB71-466C-8E73-3DE6785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5B974-B27E-4490-9DF7-E19629B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BE92-04AF-42A2-9233-496EF473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8B07E-8E48-4708-A025-F98895C6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82C24-B760-4FD4-8456-DD49AB2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4ABC-4C63-435B-90B2-4D5DFD07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4971-507C-4BE7-8ADD-68531AF8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243-6110-4145-8575-1938802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67D6-CEAA-4F06-B5CC-4C20B36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B862F-5B35-4421-8AF2-40196736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88AD-5755-41C1-A63B-0373CA0C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397EB-DD37-4A73-A6BB-C780019E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617D-B0F9-4C50-9326-030C471A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9A4E-B502-4906-B653-578FA42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4DF2-50F2-4D1D-9114-91E3D7A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71070-274B-4EB2-871F-DBC7581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CC325-9CA7-4C1F-AFB6-560DFCA3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2CCEE-6503-400F-8994-3311EB7A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E31-B5BA-417C-978C-D083B7F7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2133C-9162-48AD-B17E-88E995A3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544DF-C46B-4935-A1E9-E2DAA24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122A-22C6-4181-A175-8B48CE06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7B4B-BD91-4F9F-B527-01F78464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F847C-49E7-4972-A604-8A079457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7E71-6935-4F85-A7AA-1E0A4FB0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3EE40-3256-4448-B299-5073360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C51B7-7B8F-4E9D-A219-4BD9D735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B909A-5CBB-495E-8F4D-BAC89AD8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23525-0C98-455B-A04E-0B0EAA80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E4B-C996-414B-B42E-2516AF3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30506-58E1-4961-A287-F72CB77B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F905-0A3B-4B9D-94DD-6A4B2C6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56123-D6F8-4291-8E43-D96C1920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F736-4383-4592-978C-1B128AF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7FAD6-9C2E-477D-986E-0B363F0F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BE2B-D083-403E-AC54-D127F32C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0E6A3-D1B8-47AE-B467-79DDC1BA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08CE-745E-4AFE-B340-42125E959B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BDF6-2730-44DA-9322-9A3F5984794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423-081F-4B84-9A6B-6FCF53BF1ED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460-48FD-44E0-9398-B79C2C97B2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E98A-8FE2-46B0-8248-CC972C751B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F9CC-115D-4D19-B764-20EC392C16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CF0-209F-46B0-AF32-53C57A62CE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D936-6C74-4C9A-9267-0B5A386FDAB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A1oYicwBimo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udgett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s://www.youtube.com/watch?v=A1oYicwBimo</a:t>
            </a:r>
            <a:r>
              <a:rPr b="0" lang="nl-NL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linkmijnles.nl/uploaded/2011124333budgetbeheer-flyer.jpg"/>
          <p:cNvPicPr/>
          <p:nvPr/>
        </p:nvPicPr>
        <p:blipFill>
          <a:blip r:embed="rId3"/>
          <a:stretch/>
        </p:blipFill>
        <p:spPr>
          <a:xfrm>
            <a:off x="0" y="0"/>
            <a:ext cx="2333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stemmen van de uitgaven op de inkomsten. (Totaalbedrag uitgaven + spaarbedrag = totaalbedrag inkomst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dgetplan = een overzicht met de gemiddelde inkomsten en de budgetten (= gemiddeld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gaven zijn over het algemeen te verdelen in vier hoofdgroep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Vaste lasten, 2- huishoudelijke uitgaven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9320" indent="-217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- persoonlijke uitgaven en 4- incidentele uitga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3"/>
          <a:stretch/>
        </p:blipFill>
        <p:spPr>
          <a:xfrm>
            <a:off x="2195640" y="1341360"/>
            <a:ext cx="489744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gemiddelde inkomsten per maand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soorten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wachte uitgaven (= budgetten) en het gewenste spaarbedrag vaststell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budgetten en spaarbedrag afstemmen op de inkom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inkomst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uitgaven verand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werkelijke uitgaven zijn vaak hoger dan de budgetten (verwachte uitgav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andelijkse spaarbedrag verho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16T09:28:24Z</dcterms:modified>
  <cp:revision>65</cp:revision>
  <dc:subject/>
  <dc:title> </dc:title>
</cp:coreProperties>
</file>