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BD0-AF47-41F6-AB57-9AE8D737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949-1877-4A50-ADC3-29AB7232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5B5-DB58-490A-A1C8-F3188734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C6E-D624-461E-8E35-47532A6A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EFCB-B131-405F-B5DE-61656F63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F85E-920B-4680-A692-5D759926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8B9F-E572-41D8-B418-9C026972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ABFB-481D-440B-979C-5F148746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7F3C-9001-494F-AB43-0577CF98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5DF6-6EB1-4946-A3F9-9E174C5E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F79D-7B05-4352-ABD4-CA0AA013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4A8-887D-43C7-AE87-1149FB62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7164-B2DE-4913-8B32-CC447513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6774-A7D6-4BE7-8675-453ADC83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2A0D-E53C-459D-962A-91F67C7F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D1D7-E2C1-4FF8-9FE8-CB89F878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D5DC-BEF1-4B45-83B5-2BD04CB2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4A9CA-5345-4D3A-ABD8-DD87A9CC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3B55D-6FB7-4813-9940-7B52D772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01B8C-DBB7-4726-95D2-3018744D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A58BC-9D57-408D-8AB8-551441C4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D51A-52B2-436A-8710-079EED5F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663-83A4-4DB0-B7AA-E60E9D2F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A203B-7F7E-4EE1-AAFB-D5163064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74E76-9D4E-4EC2-BDAC-2689E219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F210-131F-4319-8EFB-B922F677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8F6F6-6ECE-47E5-AB43-777FD26D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4ED84-25E2-4CC0-A60B-E0535720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52C36-8306-4F30-8729-AC52D01F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9360-9BBC-4D2C-873C-2B0C6B8B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4C566-8B94-4EB6-8491-562DDCBC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51956-FD2C-44A1-A135-9645C84A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71EAA-12BC-4B1B-A1CE-4BEE5573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F1F-6E3B-4C37-B357-87B3EA58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4502A-BAF3-4AA0-9F4A-6605F6D4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22549-6DB3-4396-B8EF-FF7C7A09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6A53D-D03E-4E98-83F7-9806EEFB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0A1BB-7322-4AEB-B640-8041B2FD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DB71C-3905-4A2F-8561-0D329D25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0C996-3143-4DCF-B6D2-AC75924D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325D-45D7-4422-98E8-E0C9F460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72F14-D6CE-4C8D-94A2-C3C7907A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882E3-24E8-4C0F-ACEC-9DA9490A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46D80-6DE7-45A6-B223-B0D60784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665-C50E-4B9F-8FB2-ED07AFF6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79897-A10F-40EC-B41A-B5F39BD7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421E2-A29C-46A2-8885-4B39CC90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26B79-111E-4291-AEDB-48504D36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F2322-6744-4E6B-AA71-C4425F41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8FB96-BD7D-4954-A5C5-7EE1E714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0A6C9-4C81-47D7-BE42-4B7BA6EF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86C14-6409-434B-8CA5-E10C7DBA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CF45D-E2FD-4782-8012-9CBBCC99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4A9C2-532C-4112-8338-95D3CDCA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4C71A-6500-47BA-8E46-88B8D612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FA67-83E3-4A45-808A-EBABB8F2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62E86-0B0B-4F8D-BCA1-E1AAA2D1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ED6AF-E889-4648-AFF3-3F5E93C2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D0DB2-9ED4-42D7-83F1-D61A584D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51CDF-FB0E-46DA-8FD6-E53DF39F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FAA3A-2DAF-419F-A8A7-0D4BB6D2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B6B10-B02A-478D-ACC1-816711C6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28E69-5370-4B5E-A21F-B7942FD2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9AE81-C7C2-4478-8538-4531C228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D10CD-60A2-4685-B64E-ED15B4A3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2804C-79A2-4BCA-9484-CC140F7D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06B-A4D0-4BE3-B79B-CEBEA8E8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706DC-EE80-47E9-89AA-681B7CD0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CF25D-5E51-4AC6-AF10-954D29EB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7A631-6EF1-43BE-8E96-9B0397AF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2879B-13B3-4248-BE49-C183CE8F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6BC84-4696-42A2-B63C-4ED22838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10E97-41D0-4F94-9566-D7E57A16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2C2BC-31D7-4655-9A12-4B6A01C2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9D800-C841-48D8-BFE1-57AF2704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5FFB7-5EF0-442E-A601-0DCE09A6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F61CB-972C-4515-8140-AD66EE5E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661-675D-4A12-9492-455F1B00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7F914-7936-4AA3-BC5A-270C317E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43F87-C47E-4453-9F0D-7155B1E1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88CE2-9D88-4673-A3F5-767C2C86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AC871-0F8C-43BA-9500-E52F9F01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82AB0-3519-4CE9-A91A-40DE7C1E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7E4A5-4843-4BBF-89A5-3DC8D789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A4985-1D97-401B-A848-0A8B98E9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0A819-1D1D-422F-953A-2F3837F2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D105A-5985-4319-9B17-80878CD3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B8F2E-300D-46B0-BE93-797D0029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644-EE95-45B5-8506-56DC2FF8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71DDF-89C4-45D3-BBED-643654C6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6BE26-A3C2-4CD3-A288-9FA8A28B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EED6D-7CBA-4FAA-A6FE-69059D59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BA7BA-22BC-4FBB-B762-F6A5B8A2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EEE41-9AA3-4950-A1B3-F01395B2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34D38-F11B-4D31-AF2B-0D32AF21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99CF9-A805-4557-B22F-989594B4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549D-63CA-468B-AE4D-539FD91C634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AB7D-D150-4998-9083-DA3787C51A8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A4AE-C6C4-42F0-8132-9CD2A4836DE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D3F8-E9BE-4905-A1FE-557F976ACB4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2E97-65E0-4506-B980-65193042A55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08F0-311B-4BD0-A5DE-E9405284D5C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CBA1-C883-4113-BEA8-EE582B865A3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A9BD-0803-4417-BDE2-4F1AC44A5E5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eserv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content.iviveenendaal.nl/jqzoom/Siemens_gr_HR74W525N.jpg"/>
          <p:cNvPicPr/>
          <p:nvPr/>
        </p:nvPicPr>
        <p:blipFill>
          <a:blip r:embed="rId2"/>
          <a:stretch/>
        </p:blipFill>
        <p:spPr>
          <a:xfrm>
            <a:off x="0" y="0"/>
            <a:ext cx="2700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unnen uitleggen van duurzame gebruiksgoederen zijn en enkele voorbeelden hiervan opno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unnen uitrekenen hoeveel iemand moet reserveren voor de vervanging van duurzame gebruiksgoed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Afbeeldingsresultaat voor lesdoelen"/>
          <p:cNvPicPr/>
          <p:nvPr/>
        </p:nvPicPr>
        <p:blipFill>
          <a:blip r:embed="rId2"/>
          <a:stretch/>
        </p:blipFill>
        <p:spPr>
          <a:xfrm>
            <a:off x="5272200" y="4292640"/>
            <a:ext cx="34542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uurzame gebruiksgoederen gaan meestal lang mee en hebben een hoge aanschafpr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rveren = geld opzij zetten (meestal maandelijks) om later bepaalde consumptiegoederen mee te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rveren kan op bas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ankoopprij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je gaat dan het bedrag waarvoor je een bepaald product hebt gekocht opzij zetten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vervangingsprij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hier houd je rekening met de inflatie, dus leg je wat meer geld opzij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8" name="Titel 2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http://www.nuvola-kastenopmaat.nl/kasten/wandmeubel_op_maat/wandmeubel_maatkast.jpg"/>
          <p:cNvPicPr/>
          <p:nvPr/>
        </p:nvPicPr>
        <p:blipFill>
          <a:blip r:embed="rId3"/>
          <a:stretch/>
        </p:blipFill>
        <p:spPr>
          <a:xfrm>
            <a:off x="5292720" y="1341360"/>
            <a:ext cx="3692520" cy="2157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s://encrypted-tbn0.gstatic.com/images?q=tbn:ANd9GcRKUbGbsjzhj5Axfb8OKYx-Iq7pIBDRJWHH7m-ovsbe1YT_nc3v"/>
          <p:cNvPicPr/>
          <p:nvPr/>
        </p:nvPicPr>
        <p:blipFill>
          <a:blip r:embed="rId4"/>
          <a:stretch/>
        </p:blipFill>
        <p:spPr>
          <a:xfrm>
            <a:off x="155520" y="1414440"/>
            <a:ext cx="3106800" cy="2187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http://www.xead.nl/upload/6ab830af648e830bc0bcf1f480dfeb2eaXBob25lLmpwZw==.jpg"/>
          <p:cNvPicPr/>
          <p:nvPr/>
        </p:nvPicPr>
        <p:blipFill>
          <a:blip r:embed="rId5"/>
          <a:stretch/>
        </p:blipFill>
        <p:spPr>
          <a:xfrm>
            <a:off x="3276720" y="1989000"/>
            <a:ext cx="2016000" cy="249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ttp://paulissenwitgoed.nl/image/cache/data/Producten/Everglades/Fornuizen/EVERGLADES_EVCK022-700x700.jpg"/>
          <p:cNvPicPr/>
          <p:nvPr/>
        </p:nvPicPr>
        <p:blipFill>
          <a:blip r:embed="rId6"/>
          <a:stretch/>
        </p:blipFill>
        <p:spPr>
          <a:xfrm>
            <a:off x="5521320" y="3535200"/>
            <a:ext cx="3235320" cy="3235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http://www.decorwonen.nl/image/cache/data/eettafel%20met%204%20stoelen-840x520.jpg"/>
          <p:cNvPicPr/>
          <p:nvPr/>
        </p:nvPicPr>
        <p:blipFill>
          <a:blip r:embed="rId7"/>
          <a:stretch/>
        </p:blipFill>
        <p:spPr>
          <a:xfrm>
            <a:off x="77760" y="4400640"/>
            <a:ext cx="32623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maandelijks te reserveren bedrag reken je als volg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(Aanschafprijs – restwaarde – al gespaard bedrag) 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ebruiksduur in maan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(Vervangingsprijs – restwaarde – al gespaard bedrag) 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ebruiksduur in maan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52240" indent="-203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52240" indent="-203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18T08:11:49Z</dcterms:modified>
  <cp:revision>65</cp:revision>
  <dc:subject/>
  <dc:title> </dc:title>
</cp:coreProperties>
</file>