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9FC-5D09-42EC-BDEA-6818609A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362-7151-4378-A441-F577BC61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C11-A392-4735-8EC0-7F365790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A6F-A6A1-4ABD-A260-B1220F18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C78F-4A56-42C9-AB3E-54B49C3C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C0BC-AED2-4A31-AA1F-3ECD6200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E2F8-9973-48C5-BFAB-4105566F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EBA3-76B5-4506-8400-ED8E3B85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360D-57C5-46FB-BABF-894F8FAA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3EB2-5F5B-4F29-8EAB-4BFC2497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A467-CD5D-43B7-926F-8ADEB38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F52-137B-48E0-A965-B8948EF7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F14-C75A-4FC3-B42B-C95FA21A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2611-20AD-4864-8021-42FA7708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DF17-BEB8-4F7E-8C60-C19A2BD8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ECEE-5B2A-442A-8718-ADC0C885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DB37-0925-4461-95CC-F947A71E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0998-ECD0-4D29-AE60-7923D1C2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807B-EB46-4E82-8CC5-920691B6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2CCE-D8B2-47E5-BDAE-35BFBDDC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6713-781C-4026-8B3B-15A3A536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5786D-A5C7-4A89-AFE2-41EC3ACA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802-1711-4571-9AD6-71EA7F79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B692B-AA78-41B2-A6D3-B273F5FE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4419-C389-4261-9277-B1448F17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7E4AC-6B31-42C6-BB42-8007DD09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1B64-35FB-4123-842B-D9597028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0E6E-A67B-4502-810D-BE56E29A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EC3C-C0F2-48DE-860A-3D61F231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018C-903D-4873-BBD0-A40FAA15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61F9-F5E1-41CB-AB45-AACBE70F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48A5-CBFF-44BC-B108-22441A2D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3A1D0-BA29-4C86-A4D9-F89DA92B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B67-D59F-4F6D-9FB1-CAD25143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C8B1-A393-4CFF-A2D8-00D04393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7F67-EA94-4D37-A5F9-5296C1F0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6417-A493-4304-8DBF-9B5EBC59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7B253-B1F8-4F2B-8ADC-55E3623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A0527-DD50-4786-9882-F2131A3F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90BB-E1D9-4FAA-95DC-0B4F3308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F52D-FB26-4F76-B44D-0BAC8931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AF11-1E21-4896-979F-2CBB80ED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FCE33-8CDD-43DC-9BB6-84CAC2B6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81E3E-C9B1-4069-9FB5-3FFE2674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C2E-5F7A-4BE5-B29E-47463A3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B4123-5747-452D-9367-0419B5CF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3EF18-6BE6-4C92-AD8B-1AEEACA3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D6CE2-C7B7-4179-8AD6-299E295D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E8C0D-7194-43D3-8552-817BF690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75796-7200-422F-B71C-643F1B56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A6521-5DA2-48B2-9DE6-3B3E03C8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BFD8-FCC2-45BB-B2B1-73970E4D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4200F-912E-4591-9A32-A69417DB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C7CCF-D41F-4E75-892D-ECA3CF7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B0C07-1551-46AA-BF95-9E7A4898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3EA-211D-4FDC-A171-A7128EFE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8BA8B-D6E6-4CFC-A118-E762909C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D879B-431E-4A6A-B76F-3023F06E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7F1C6-5838-4F97-B05D-F4E92BC3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0CA4-9C6F-4051-856B-1A1752FD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49D89-7A6C-4C54-8062-ACCFA5DC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7D34C-3318-408B-A655-17B1CBFC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00C8D-0446-4E6F-A6FB-F9241945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48AE6-CE22-4327-8A76-D77CCF30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1BFB9-07AF-4E97-91A1-6C2698C2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A292-088D-4D41-BC24-9E564601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2AE-AAD4-4958-8432-86464AAC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9FC4A-6FB4-49BB-A88F-2E4BC466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8E1B-E2FE-4718-99F3-6A2BCCD5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F9EB7-1326-4E5C-886A-D43AF38E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CD0F8-F918-4860-87A1-A18F21FD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2B27-492F-46AB-A260-E00606FA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55EB2-A3D3-4479-8049-14FB421E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8F7A0-24B0-4EFE-B4E8-684C528A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3C186-EB76-440D-A363-DFFE8C78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C9B69-7B33-43F5-A3A0-7489F85E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749D-967A-4CAB-AF9A-44B56010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C50-1515-44C2-A9DE-499FBF4B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F4304-7D61-4032-B345-05C0D9FD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34017-012D-4EB5-8EE0-0150D942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413D0-20A4-4B6E-84B1-11350D69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77F00-2DE1-4464-90E8-8A33C733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1B9C9-51C3-4810-901F-A770EE41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350E8-4614-49AC-B03A-8026BCF0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5E397-2D42-4F5A-AC7E-45B93773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1F8C9-1FD8-4CAA-A4E8-1105691C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6480D-EF8C-4AAC-96EC-12FB4F7A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3055B-E18F-41F4-835D-DC9F0E1D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DFA-2472-44EC-AA2C-2F6644C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2D022-CA3D-4736-A79E-5B6CD9E3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92D56-2D89-40E1-B638-3549FFD3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ABAE9-46FB-4304-A8F2-7CD4D9E0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AF3F0-4BBF-4A97-B45C-CB76D45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954F5-7E93-44FD-851A-5407C445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969E3-35C5-46A6-B91B-355B80D1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E8F1-A227-40A4-AFD4-325D2614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A4EA-DE61-41B3-BFDD-F2CEC1A7312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2FF-7999-45B6-81A8-0EEBFACEF9B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10E5-305E-497C-9092-092B75B1DB2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6ED2-791E-4D04-B86D-AD49E0DD4FB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DD23-92F2-4141-B022-FB1604C18F7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8090-22A1-413C-94B9-EC8F41232B9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9D9A-2CCC-4717-A869-7EEC854B49C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8A9D-4284-4152-A6C0-88C7111EAF3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6523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Kosten van vervo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Afbeeldingsresultaat voor autokosten"/>
          <p:cNvPicPr/>
          <p:nvPr/>
        </p:nvPicPr>
        <p:blipFill>
          <a:blip r:embed="rId2"/>
          <a:stretch/>
        </p:blipFill>
        <p:spPr>
          <a:xfrm>
            <a:off x="7920" y="0"/>
            <a:ext cx="32688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chrijving (= waardeverminder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ndstof (bijv. diesel, benzine, LPG (=gas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otorrijtuigenbelasting (= houderschapsbelas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utoverzeke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derhoud (grote en kleine beurt, onderdelen, keuring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2.autoscout24.nl/advies/autokosten-en-budget/437524/375467/as24.ratgeber.buy.inform.kosten.png"/>
          <p:cNvPicPr/>
          <p:nvPr/>
        </p:nvPicPr>
        <p:blipFill>
          <a:blip r:embed="rId2"/>
          <a:stretch/>
        </p:blipFill>
        <p:spPr>
          <a:xfrm>
            <a:off x="5413320" y="3930480"/>
            <a:ext cx="3173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Kilometerprijs = Totale autokosten : totaal aantal gereden kilomet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http://www.2d3d.nl/upload/projecten/kilometerprijs-brochure605/rijkswaterstaat_kilometerprijs_brochure01.jpg"/>
          <p:cNvPicPr/>
          <p:nvPr/>
        </p:nvPicPr>
        <p:blipFill>
          <a:blip r:embed="rId2"/>
          <a:stretch/>
        </p:blipFill>
        <p:spPr>
          <a:xfrm>
            <a:off x="2890800" y="3645000"/>
            <a:ext cx="3600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46:11Z</dcterms:modified>
  <cp:revision>78</cp:revision>
  <dc:subject/>
  <dc:title> </dc:title>
</cp:coreProperties>
</file>