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A9A-AD4E-4543-86E0-EF74EE81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9E9-BFC3-41AF-B0A6-DB069DCE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C7F-24CF-4095-920D-F2382EE1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33D-6DD1-4115-86CD-D4FF7DA8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978D-82A6-4D66-A073-9F011CB5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BFC-E519-420E-B1F7-E183536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BA91-9604-41F8-B870-71B1DE6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37A7-CAF8-44DE-8AD7-0BE5D9B2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54DC-0102-4F98-8F4F-6CEC517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462-E1C2-4557-8312-87132F6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EBC0-A9E2-4BD5-A8C0-2FB36EB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E5A-ED3B-483C-B0C5-7FBBC3F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2509-0307-4F54-BEE7-99867EB8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257-1FA6-4CA9-A1F2-388E4934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8C7-9A0D-40B1-9360-15DA05F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698-D180-47BD-8EA3-B3CD2A90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EF18-7AD8-4F3F-870A-E7EBC50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3F1A-9E45-44AA-9831-A01B09AD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67A2E-3D39-47A5-B92B-DD575042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6FD3-40D2-4682-9226-046AA02A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43B4-F618-4534-A2BF-332FC6A8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1F12-5C7E-4CE0-BFB8-8AFDC30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206-5BC7-485B-8922-BADD846D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1044-8179-4F8E-9BEB-03FA468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DE24-DB2F-4C52-93C2-353D6A64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76BD-8A01-49DE-AA01-2DEDC64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616A-0390-4D23-BF5E-DC77603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3231-D9CE-46D2-A2A6-48A741C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8726-2361-48D6-9C82-46F78880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6A336-CCCC-4695-86C6-6A9F3591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E973-3E9F-4D2A-9F22-B26786E7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8A50-5A7E-41C4-95D7-951A8B98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D784-711E-459E-99DE-EA80122E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A40-F7E2-48F6-968C-83FE965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8056-FC6C-465E-B818-24071D83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2DF5-76F8-4FF0-A4FB-50A777A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C602-FDC0-46C6-96B8-B4DE41C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947A-D020-4DF3-9144-D8770757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C857-F543-47BA-8FB1-6D0D7C7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378E-0861-4C7F-93DA-AD5252E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B512-A7CA-497C-A3AB-26A1FFD7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FBE2-6D8F-4EE4-ACA1-B2211C65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B24D-D807-4E56-9AA8-BEFE6160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6CDF-84FE-49F3-A8E5-AC29AE1B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BFC-8806-4556-90FF-1859689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5459-0C1B-4956-90B0-46F3ADC1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68D3C-3996-4980-9448-5E51BBE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EBBA-49B5-40A5-B07A-EF756D2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2347-AE48-4024-9EB5-C49FE87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1BB5-F671-4A4B-BBC0-D065C505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21C8-AEA5-46CB-967A-8559C97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C043-D824-4567-8BE6-DCDF21D0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C85AA-DDA8-4015-945D-F7C9ECAE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B3043-7F60-49BB-86EB-4722189D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9325A-D742-4767-98EC-B19F778C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752-7AF4-49B0-84A7-688ED954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3634-54ED-4D6F-A8C3-1047AA8F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BD044-99BB-4AD6-A197-AFAF8B62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4B8C7-D418-48AC-AFDA-3C8D80E8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4C952-7F42-4A9A-94D9-3006BE1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38838-3967-4121-B1CC-C6689621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C320F-6964-4BF3-83D1-849490E4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5F1A4-3A95-40FE-93C2-A56DB0C6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001FE-01EB-4D7E-B7FC-E0CF23F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3BE2-6233-4036-A33B-D523F0B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D0B0A-28CE-488B-81D1-54D838EC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2A9-FC3B-4B57-B9A7-262FC93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B2E3D-0E35-4BB0-BF5C-DF7BB8AA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AF2F-45E6-4B40-A1DB-598DD533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A4638-0EDB-4C7D-A12F-6FC5B44B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CD4F-3DA5-4087-8533-762EB4E0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450D8-563A-47D1-A129-A57124C5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6A051-EB06-4DE1-8782-2E95A6C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D20A9-C06F-4AB2-B2AB-1BA5F0CF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019A-2D53-4AF6-9125-B93420A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A530E-5868-4D4B-972B-45EBD6EE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3BF9E-A117-4851-B1EF-FCEC6C9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758-6717-4190-9636-42F0B27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4D43-7180-4778-9AA5-CB078454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CF65-E099-44EE-A133-9415333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7C606-53CB-4837-B1F8-D6BF27E5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2BBA-820F-4E4E-A294-117BE973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6F176-3D74-42B2-9369-748596D9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6CA7-27BB-4498-B8CB-50B3B172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06D92-E914-4387-A143-E326CC2A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1BD5E-7025-46F1-82A9-E7B693C8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AB3F-FEB2-40C5-93BA-28B8008E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C9A48-AA6B-4440-8F02-5BFE0871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4EA-D790-4EF3-80C0-28CA375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430A-E9AE-44CA-B075-E8210E0F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4A117-03AE-4082-91B0-8F18C333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8A0BC-A6AA-426E-9418-4D7F089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EE70-2EE2-415C-857C-B8BFF571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FCA85-3FCD-47F5-A4A6-D648C1BF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4611-2B31-42AE-B6A2-C4C55180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AA82-DC72-413F-97C6-5EACF541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772F-7390-4B72-B24A-76A9955F40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324-CB17-4037-90AF-881A43CFAD5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C46-6198-4B2B-8699-690E91C7B78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9C07-32C8-445A-AB8C-799957F42B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58E-0BCA-449A-AAE2-1F7FA81E27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D6A8-8A52-4FC6-8D53-AD49C124CEE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DB11-9EEE-4179-9DAA-822064251E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3D5-5A7E-48B9-8A42-DE9129DD467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3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ronnen van inkom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adver-online.nl/wp-content/uploads/2013/01/salaris.jpg"/>
          <p:cNvPicPr/>
          <p:nvPr/>
        </p:nvPicPr>
        <p:blipFill>
          <a:blip r:embed="rId2"/>
          <a:stretch/>
        </p:blipFill>
        <p:spPr>
          <a:xfrm>
            <a:off x="0" y="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Bedrag : 100 x percentage =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Lucida Sans Unicode"/>
              </a:rPr>
              <a:t> € …………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mrekenen van bedra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60498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oorten inkomsten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alaris oftewel loon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vakantiegeld (8% van jaarsalaris)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ndejaarsuitkering of dertiende maa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prestatietoeslag of andere bon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loon in natura (bijv. bedrijfskleding, auto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an de zaak, telefoon, laptop enz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46160" y="274680"/>
            <a:ext cx="8540640" cy="1444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http://www.deondernemer.nl/beeld/w440/2014/201410/20141031/vakantiegeld.strand.euro.335.jpg"/>
          <p:cNvPicPr/>
          <p:nvPr/>
        </p:nvPicPr>
        <p:blipFill>
          <a:blip r:embed="rId2"/>
          <a:stretch/>
        </p:blipFill>
        <p:spPr>
          <a:xfrm>
            <a:off x="6759720" y="5286240"/>
            <a:ext cx="2374920" cy="1560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http://www.gelderlander.nl/polopoly_fs/1.3473362.1353552068%21image/image-3473362.jpg"/>
          <p:cNvPicPr/>
          <p:nvPr/>
        </p:nvPicPr>
        <p:blipFill>
          <a:blip r:embed="rId3"/>
          <a:stretch/>
        </p:blipFill>
        <p:spPr>
          <a:xfrm>
            <a:off x="6300720" y="60480"/>
            <a:ext cx="2833920" cy="2023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4"/>
          <a:stretch/>
        </p:blipFill>
        <p:spPr>
          <a:xfrm>
            <a:off x="3881520" y="5181480"/>
            <a:ext cx="244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www.taxipro.nl/wp-content/uploads/2010/12/stijgingsalaris-480x296.jpg"/>
          <p:cNvPicPr/>
          <p:nvPr/>
        </p:nvPicPr>
        <p:blipFill>
          <a:blip r:embed="rId3"/>
          <a:stretch/>
        </p:blipFill>
        <p:spPr>
          <a:xfrm>
            <a:off x="6227640" y="5051520"/>
            <a:ext cx="2928960" cy="18064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"/>
          <p:cNvPicPr/>
          <p:nvPr/>
        </p:nvPicPr>
        <p:blipFill>
          <a:blip r:embed="rId4"/>
          <a:stretch/>
        </p:blipFill>
        <p:spPr>
          <a:xfrm>
            <a:off x="468360" y="1090440"/>
            <a:ext cx="5616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 eigen bedrijf open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en loon/salaris, maar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ns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als inkomen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http://christine.echtebakker.nl/l/library/download/7iNYqfIzE-a-0HO_a_K125oaafR4RvMZ_a_wJpO/Christine-0014.jpg?width=438&amp;height=657&amp;ext=.jpg"/>
          <p:cNvPicPr/>
          <p:nvPr/>
        </p:nvPicPr>
        <p:blipFill>
          <a:blip r:embed="rId2"/>
          <a:stretch/>
        </p:blipFill>
        <p:spPr>
          <a:xfrm>
            <a:off x="3132000" y="2492280"/>
            <a:ext cx="2779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76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on van iemand hangt af van de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loonschaal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 loonschaal heeft een aanvangsalaris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(=startsalaris)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en een 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aximumsalari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verschillen door: opleiding, soort functie, ervaring, bijzondere kwaliteiten enz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3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or verschillen in inkome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anderen de prioriteiten (meer lux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83200" indent="-214560"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schilt de koopkracht (= meer goederen van hetzelfde kopen, bijv. tweede aut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verschillen in inkom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rmen de personele inkomensverdeling (= verdeling van inkomen over een groep mense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worden weergegeven met de Lorenzcur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overheid gebruikt het modaal inkomen (= meest voorkomende inkomen) om beleid te maken over de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771640" y="2776680"/>
            <a:ext cx="3600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84360" y="1341360"/>
            <a:ext cx="8219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499680"/>
            <a:ext cx="822960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bezitting: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oort inkome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96440" indent="-18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Spaargel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Eigen bedrijf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in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Huizen/kantoorpand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Grond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ac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- Aandel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vidend = winstuitkering voor aandeelhou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lle inkomens uit arbeid en bezit in een land bij elkaar opget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u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nen + rente + dividend + winst + pacht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ATIONAAL INK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1-02T14:45:24Z</dcterms:modified>
  <cp:revision>57</cp:revision>
  <dc:subject/>
  <dc:title> </dc:title>
</cp:coreProperties>
</file>