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media/image12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1D78-45F4-4E9E-8DFA-3DD1D9215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E5F0-3563-4291-98F6-70372F45A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2C1A-4D2C-43B9-84F0-8614AD719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2722-06FD-4146-A5D0-21082F33E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8222F-F886-442F-AE40-2DFD79929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3315A-054F-4607-AC20-288560A7D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C965B-9687-41C2-9D20-0C365394B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6A759-5CD1-4B0B-9B53-A251A7745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76280-94F1-41D5-8EF7-8A13D54CD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13146-786F-4D7C-89CB-3B6EED350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95620-6981-42EA-8122-A1CFD7547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4F28-F3A9-4466-B9B5-B3EBA8315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1215F-6BAD-441C-8CFE-F280E1C14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B59FA-616F-47E1-955F-9126B1A80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E4F94-9820-4E36-A224-8527B1437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CB4A9-7A62-424B-A934-42356ED43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A0F69-34B6-44A7-9C45-D1BE262C3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B44F2-373E-4786-BE50-67CCF6B10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F3730-78A8-4CA6-9FE2-9200FDDEA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1E6D4-92D9-485A-A123-E66897721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CE80E-0706-4EA1-83D4-F5DA36BEE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214D4-88F0-444C-8447-B32A40040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1680-16B9-44E4-871F-8FF22471F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ABD07-93F0-4379-8D56-F61BF8CE7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19C7D-F681-4CCE-8E7B-39EBE3CFB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D6852-15D0-4267-9D76-631757721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7DDD3-C03A-4198-A940-B3DAC4028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13480-0958-4190-AC25-B01BDE2E7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DE7F9-88BD-4FC9-A7BE-FF4D01ABD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764FB-3349-4446-929B-907803D61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7FCA0-E29D-48DE-943E-75094E923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B03D2-D7C7-4F24-96EE-1A0BFCA63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F95A6-FC72-46D8-B914-D7A645957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2317-EC9F-46C5-86C1-DC253F7C3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1F1BD-E484-4141-A415-CC9E89303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C4DD3-B22D-4764-ABDF-A7C284707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19990-B72F-4923-8191-442F8DAF5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F850F-7534-4FF2-8B8F-47B8084FB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1B9DC-3488-46E4-BCD8-FC3D647F3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DB4E1-CC18-45B4-82EC-8A46E850D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70FEA-CDDD-43A0-AE1D-ECF195DA9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0CB63-87FE-437C-A528-7D607CE0A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66EBD-9D4B-4C2A-BE5D-E4C87175B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0257D3-8634-4667-9A2E-295395DC9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787F-748D-437F-A4E0-6042CCEFF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EA3AA4-9A56-48CA-8DA9-D183341CF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B3DADB-903D-42BB-B767-A867E223F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2FBDF3-C8AF-46A4-B65B-4B48F21DD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3633CA-C2A9-4B6F-A361-174320818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CA485E-983C-4FEB-9DF7-F078278FC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A37075-0AEB-45E7-88F0-0B2E627D9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301C0E-D5E6-44C8-AE41-CD2D09A98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C0E3F9-BF82-49AC-8CE4-9F8B0D833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DCC358-D5B5-43B5-AFE4-37EB37347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614E85-8A0B-4C29-A79E-F7AA3F620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ED81-E1A7-4F51-9566-BEC5510CC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58BFD4-315A-4816-B1C0-BDA1F9B07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1D5E9E-6690-47B2-A925-31EEDDAA1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DE639F-1955-4B26-BCAE-28EA96E78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179772-D6F5-49E9-ABE8-3423132AA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F67D8E-5F02-4AC4-8A0D-2946176CE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2E7E5F-A252-41CD-BD2A-C8808B891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D2B2C2-1F21-4E8D-A121-3334B70AA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D965F8-87E2-45D5-AEF1-CBF9D51A4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E8A75D-8968-44F3-9EDC-DD8DA62F1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21C474-363D-4692-9878-D6D374B83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1A09-DA1E-41E4-8AAD-99BB55B22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C2A9D5-125B-4950-8999-70F11EBF9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C9DE78-0210-438A-B750-0ECBB0309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518DEC-9422-4B43-8368-C2AA85F4A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E52277-E091-438C-8703-544713BF1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7AF52E-7DAF-4D73-9A5B-5DE8E7347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3B2BA0-D451-439C-8B49-09D120C57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D8FEE2-0C96-4BCA-88E3-86782EB56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EB2DEF-EE9A-4D2B-8EC7-096A8F28E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6F96BE-F42D-4177-A3D4-ABB39D9B3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BB35EB-7595-41D1-B52C-302734851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377E-158F-4C63-945C-7703F1B89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0F8C7E-4274-49CD-9FE4-5195B50CA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E5377C-0D73-4BB3-9072-DC08782EF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BAC57B-F9AB-468F-A000-155E80FC6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2D18FB-2063-4E78-8996-9CEDF1F82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E943AD-B311-482F-85DB-26EEFD7F2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0466BA-5D77-4616-AADB-E5EB79E30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0CAB5F-4F05-4BD2-8175-CB12C8AE4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275335-1B76-4D9A-A055-AE3505577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937969-0349-4DEC-A8EA-E3097CBDF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EFFAFE-F839-478A-ADD7-23E8417AB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41CA-A5FE-4ECA-962C-CC85F565A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ABC5DF-74B0-4A8F-9EB6-5A326E480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9CB77F-4B0A-4DC2-8AC7-CF18AAED6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E0383A-9A9B-4689-81AC-836AE6F8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2D7FCF-CC50-41F2-8A8D-502439CBD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0F0646-7C7C-44DB-9955-7ED61E75F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722018-BE8B-4845-8D9C-FF36F86D0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361D26-1AD9-419C-B3E6-8E11E718A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77822-8D3C-417C-B737-8DB987DCAD6F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0A22B-2271-4E09-8ED9-E6E8A203F13C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8A765-A2D0-42B8-802C-D4BE249C2E3C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EE091-0205-48A0-9A60-625B6801F9D3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462EF-C2B1-44FA-927A-BA36938EF634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C20F0-BF14-4B52-B2A1-F1915430DED9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F7C58-E99D-477D-8973-CA03889B675B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FA1CA-F00E-41FD-80C5-0A7750EC6BAE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4360" y="65232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3.6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464646"/>
                </a:solidFill>
                <a:latin typeface="Lucida Sans Unicode"/>
              </a:rPr>
              <a:t>Kosten van vervoer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6" descr="Afbeeldingsresultaat voor autokosten"/>
          <p:cNvPicPr/>
          <p:nvPr/>
        </p:nvPicPr>
        <p:blipFill>
          <a:blip r:embed="rId2"/>
          <a:stretch/>
        </p:blipFill>
        <p:spPr>
          <a:xfrm>
            <a:off x="7920" y="0"/>
            <a:ext cx="326880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Afschrijving (= waardevermindering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Brandstof (bijv. diesel, benzine, LPG (=gas)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Motorrijtuigenbelasting (= houderschapsbelasting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Autoverzeker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Onderhoud (grote en kleine beurt, onderdelen, keuringen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2" descr="http://ww2.autoscout24.nl/advies/autokosten-en-budget/437524/375467/as24.ratgeber.buy.inform.kosten.png"/>
          <p:cNvPicPr/>
          <p:nvPr/>
        </p:nvPicPr>
        <p:blipFill>
          <a:blip r:embed="rId2"/>
          <a:stretch/>
        </p:blipFill>
        <p:spPr>
          <a:xfrm>
            <a:off x="5413320" y="3930480"/>
            <a:ext cx="3173400" cy="10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Lucida Sans Unicode"/>
              </a:rPr>
              <a:t>Kilometerprijs = Totale autokosten : totaal aantal gereden kilometers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2" descr="http://www.2d3d.nl/upload/projecten/kilometerprijs-brochure605/rijkswaterstaat_kilometerprijs_brochure01.jpg"/>
          <p:cNvPicPr/>
          <p:nvPr/>
        </p:nvPicPr>
        <p:blipFill>
          <a:blip r:embed="rId2"/>
          <a:stretch/>
        </p:blipFill>
        <p:spPr>
          <a:xfrm>
            <a:off x="2890800" y="3645000"/>
            <a:ext cx="360036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1-23T09:46:11Z</dcterms:modified>
  <cp:revision>78</cp:revision>
  <dc:subject/>
  <dc:title> </dc:title>
</cp:coreProperties>
</file>