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07D9-E03D-4FB0-B24C-562EAD458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3D8A-8D4A-4FED-BACC-782E5199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ADE6-42B5-4E7E-A5F9-D99C2B6D2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822D-96DF-4EB6-A404-EAC0CC22C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27B8-9FB4-4FC5-BD4F-39401EB2D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1BF0-3319-4C74-AD84-6B78EA0D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8A95-7F95-4594-A511-677DE89A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D632-2C49-4ADD-87F2-4990C927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780F-9EF7-47E8-AF31-ECECCCA0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BE5A-8D39-41B5-A0EC-50A8482B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8972-051F-4485-B1A0-5FC28487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DA2E-07C6-47D4-B155-CBDFEA84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ECA6-3754-4092-A298-4005419E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3717-DEDE-44FF-B290-91DB90B4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6E3A-A402-45F7-9BD1-A87F3591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5EC5-7752-477F-B455-E4390BAEF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F17A-BF43-4462-81B3-AF6285E3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BB552-72ED-44AD-8D87-143F8AAFA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B0BAA-067E-4190-9B2F-73697D42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71AF0-1552-439F-9E2C-9F188E8B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A8D83-1126-430C-8EB7-E4E67DF0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95C54-D207-436A-91CA-E8FF0E82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16B1-4CD4-481B-A88A-278BCA10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DD71A-B621-452D-BF79-AC79CBD2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5979C-6636-4781-B71B-3E57B052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DE0BF-68E3-411F-B7B4-B7477607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20515-6E4F-4B41-97FB-86F40C8D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1C96D-F06B-4D4C-9BBC-416BA703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436A5-D920-4850-A3BE-718E6C306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3CF2E-93AE-431E-ADF5-5D3309D6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23764-3A76-459C-A266-710BE03E3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BFEDE-114D-4B30-A4DC-0E43C3FD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1E0F3-81CB-49F7-AF1A-90D3B3FD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8A79-1715-46DF-B331-0CD7B57D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97D7E-0616-4B58-9685-820021EB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61702-CB66-4156-8E85-142F7966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7163D-AE40-419C-BC74-CA1FA8A1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10F22-94EA-416B-A62F-9C5EB2A9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98325-8099-436A-B685-49A45DD0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2800D-9EE6-4113-84AA-A2979B26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E47F5-7EAC-4446-9303-236E580C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DE96E-7CA6-4551-8483-ADCC066B6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FBA6D-C560-4AC5-95A5-42950053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D012B-0121-4388-A4CF-BD4B44152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801F-20C1-47F3-BBCE-14559E4E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9BFEF-FFF0-4B66-A6A2-5E74BCDD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B3690-A5CC-4A96-B97B-715169E1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A3986-CB47-4724-8831-F9CF7240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EF188-8227-4BDE-AC62-69A9038B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1329C-82D7-48B2-8F0E-4F70A82E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DCB8F-CD75-4C12-89BD-4F07A213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513DC-407D-475D-90F1-316C0A30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9A043-4C82-457B-A0F1-690C5E17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A207D-208E-4DC5-917B-51922329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56201-BFAD-4EB0-8BEB-B368B533C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AA1B-D42A-4BAC-AEB6-4F6009CA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F3905-1886-46CC-9B39-529C97A8E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11D19-14C8-46F7-A83F-F33861E0D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6BD11-2644-40B4-9E4D-88AD3E39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CF1D2-F6A4-49C3-9AC9-9E632695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E33AA-1153-43E7-9683-DC358274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65E99-4D63-4B35-AD45-74173CB7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21A74-C474-449E-97DC-2FDB9E69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CAFDE-2B85-40C8-A24F-D19E3392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50C25-2AA6-465B-916C-E4B3B53D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7D3BE-E1E3-41D0-84C4-2BC154DD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5B14-E3B9-4020-B494-B32FDCEF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1F098-04BA-4B89-9875-1479462A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5B581-653E-448F-BA71-A4A2A3B5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31DD0-62DE-4D6C-96F2-DF462803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176AC-1CC4-4E67-89C9-928BD8F1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CAEBF-059E-4081-9375-8FF68CC0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2E727-9D91-4C6D-8448-F709CB37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05244-8329-441A-A145-F8656F36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9F635-91F7-4012-98EC-EF1B9C10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50BF5-2182-45D6-9A5D-C9BE129B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E4AD7-E3C3-4944-988C-1C751262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EDCF-A29D-40D6-BC70-2A949899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51702-F5F6-4E62-A9ED-9C28B8B8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859B0-86B0-44A7-A4E7-761AE8F0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204EF-1403-436E-B8CE-DF34C4D5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66CE9-E69C-40EF-B121-70508CFF6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F9C80-F620-4E52-9ABA-494F5F9F2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C79DB-3A6E-407E-BC10-E1EE5B98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7AD6D-36E5-4D1F-B02E-885E0358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94A5B-95D5-470A-BA7E-EB3F8D9F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7A8EF-AFCD-4B1E-A3F9-259C3BD9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31EEC-A458-43C4-AB1F-7006809A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2C88-B9C7-4D76-A171-9708D3AA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910B7-72A2-4346-A94D-F620ADC1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06753-3133-4ADE-8A65-043BADDF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0F6EE-271F-4CF6-AE8F-DF5DC520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EE16F-0AD1-4F88-B758-63E17703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BBEF1-A277-419E-884B-79D252BA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7D8A2-E9F7-48A0-8483-86C6E22BF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43695-E7F2-45DB-BC71-534803E5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F1B5-DFF7-4B4C-84AC-0FB9A61B4B5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5546-CB3C-49B5-B1B6-73AC27BE043C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D0A6-73B5-4ED2-B44B-074F9505367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165B-B012-493A-A44F-4B53E559948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325F-704A-4E53-933D-875A3AFC973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C678-66AC-4EBE-B635-4C5A2FCD90E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FE53-50D6-4237-88A6-DF52F39ABDB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0F07-EAE9-403F-B445-DDF9F48CC063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s://www.youtube.com/watch?v=A1oYicwBimo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Budgetter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s://www.youtube.com/watch?v=A1oYicwBimo</a:t>
            </a:r>
            <a:r>
              <a:rPr b="0" lang="nl-NL" sz="36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linkmijnles.nl/uploaded/2011124333budgetbeheer-flyer.jpg"/>
          <p:cNvPicPr/>
          <p:nvPr/>
        </p:nvPicPr>
        <p:blipFill>
          <a:blip r:embed="rId3"/>
          <a:stretch/>
        </p:blipFill>
        <p:spPr>
          <a:xfrm>
            <a:off x="0" y="0"/>
            <a:ext cx="23335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052640"/>
            <a:ext cx="822960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afstemmen van de uitgaven op de inkomsten. (Totaalbedrag uitgaven + spaarbedrag = totaalbedrag inkomst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dgetplan = een overzicht met de gemiddelde inkomsten en de budgetten (= gemiddelde uitgav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itgaven zijn over het algemeen te verdelen in vier hoofdgroep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- Vaste lasten, 2- huishoudelijke uitgaven,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3- persoonlijke uitgaven en 4- incidentele uitgav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01600" y="176040"/>
            <a:ext cx="8485200" cy="11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76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"/>
          <p:cNvPicPr/>
          <p:nvPr/>
        </p:nvPicPr>
        <p:blipFill>
          <a:blip r:embed="rId3"/>
          <a:stretch/>
        </p:blipFill>
        <p:spPr>
          <a:xfrm>
            <a:off x="2195640" y="1341360"/>
            <a:ext cx="4897440" cy="50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gemiddelde inkomsten per maand vaststellen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uitgavensoorten vaststellen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verwachte uitgaven (= budgetten) en het gewenste spaarbedrag vaststellen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budgetten en spaarbedrag afstemmen op de inkoms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inkomsten verander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uitgaven verander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werkelijke uitgaven zijn vaak hoger dan de budgetten (verwachte uitgav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andelijkse spaarbedrag verhog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16T09:28:24Z</dcterms:modified>
  <cp:revision>65</cp:revision>
  <dc:subject/>
  <dc:title> </dc:title>
</cp:coreProperties>
</file>