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2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F766-CF62-43C8-975B-69E64CC6B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4FC9-76A5-404B-8646-B6AC7B86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5D0D-99B8-4C7B-BC69-6DBC54774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FDCD-3536-4E96-84A6-56583BA06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A6B2-57D2-4D1D-BF26-E2102C3F8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9CA6D-B161-4E23-8F17-69C78049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DD7A-5C73-40C0-A486-CB0FFE45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0302-E48D-4C17-A242-A8BB5F8C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58A1-DBB8-46D2-880A-01F4BAFB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2E1D-025D-4784-A31D-41BE5194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0565-F21A-4AF1-BAC2-5D2F474A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0660-BA2E-414D-84C2-B81222C5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F674-F350-4EE2-8FA7-60D19800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BBF5-9E2F-4DA9-B308-A25CA978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8907-E6F6-4EBD-BD55-9BB74718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AF46-7FD3-43BA-AFE5-8CDD01C9D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D118-957F-4C5E-8C3C-41B624925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51000-4722-4ADB-B48B-0DED4529F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062F8-BE92-450B-A27E-13F5C904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87452-7EF1-4B52-8E4F-3CC7058E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42858-A518-447C-A497-8A409F6C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A7216-AA17-4C99-BF76-E3F3F9ED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F300-C103-4A2A-BCA5-980E09D9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754BA-FCEE-4644-B080-BF2E988C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EE45C-E0AE-45BA-B097-B7DBA5CC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8D7FD-D8D6-4186-9FF0-98D50EDD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B6DF8-2872-4D14-BD0C-6C39BF81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55AF1-135D-446F-A51B-70F1FBBD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4766C-3D6D-48D6-A144-943DF74A7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AC2E2-13A0-4C86-84E6-4FBAC2A1E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E38AB-9D83-4E86-8FF1-F45FB2C45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0165B-C428-4915-9775-ADAF1DBD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71175-07B6-4D6D-8617-18DF3DD5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F4A9-96D1-403E-A830-4FBE90FD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40C3E-0D66-4690-85C0-56394EE6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43B78-FCDB-40A7-BDB3-F144E89C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20536-EC02-4347-9291-0613A0D6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01F58-0F26-40EF-9B0B-22329834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D8177-0605-45F9-AEDA-25BE5FE4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1D4C9-1081-45CB-A072-53F63F3D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218E5-6EDC-4FB3-AF34-D69A77BF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69A73-EBE2-4C76-B281-737D767B2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E892C-F17E-402B-B10C-8FAAA431A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E6BCD-2E79-4FAF-952B-BAA936C52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85EE-1D2F-4A50-9AA5-45307BC3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77C4A-2787-4A9C-BA8D-B144AC12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D79EC-A32A-46FF-A772-703879F9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A9435-826C-435E-ACA3-B0596039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A0689-6F81-4663-955A-0104EE65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33577-10AA-4F3D-A0DF-24FA9743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79822-8926-45A6-9FFA-68322947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EDCA5-83E6-4BA1-A33B-C49FEFA3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5DCCE-9D1D-4AB4-B8E9-2A1EFAE7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5DF39-471A-479A-862E-1FED079F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DD72B-AE4B-44A1-8CC5-C6D8D16C1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A9FA-AF27-449C-A3B3-2DFD494F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A68F5-F59A-4AF9-B837-5D5C11A3D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4FD6A-5059-473E-ADFB-D065B9500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662D6-1E44-47CA-B253-3A71DBA4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81164-1648-4C1F-A4F8-36E76CB6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79E5C-5355-48C8-807E-1A00D46D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9BBE5-5127-4CC4-9153-EA1A639D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EA933-4BCA-4607-8996-435C65AB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5B9FC-E9D6-4E80-B62E-A5CCF45A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02D54-91FA-4426-96EB-2CD60A6B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83245-3619-4877-B0E4-BF139212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A5DB-30B8-499D-97F0-E772534F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AD1D8-8D8D-41DA-8C8A-4BBD96BD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08AB7-D1D9-4588-BCC4-6A20AF151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75CA1-C1EB-4F91-8099-B4785531D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3DE3F-CBD5-45A8-8DEC-BCDBFCE73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4DF52-65C1-46F0-9799-285F56DE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88502-90AC-4EA5-84C0-F8108D1C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C8856-1214-449A-8C89-58CF3DA9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4C0B8-ECFA-47F8-B8AB-85D53B08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71DD5-D60F-430E-B8F4-5D5F7320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D59DC-65E8-47BA-8DCF-480E448A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E913-21CC-4C0F-A670-6850269A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99372-E7D6-4672-8DB6-3ADF5418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91283-4EC3-4AE4-9B5C-D08ADFC2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2B7EB-F7CC-41C7-B630-D817E52A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0EDB2-A852-4D53-B53E-963327DCD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07118-24A1-44A4-86BB-63072758A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04A22-5D7B-478A-8EF4-C1C0C22EE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2DFA3-E3DB-41F5-A9CD-A175E09A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E8B2D-DE9C-4223-BE24-26724B79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4DEFC-2031-4FCA-A569-D3C258A6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F43A3-C5E4-4E65-9ED4-8420A338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DDA2-5FD1-41FE-A010-14439BF6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20C96-B2D7-4DEB-8B49-6026675A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F2E85-9DE8-4EFE-9BC6-68BBECC0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F6329-1B24-4092-8283-B8C19B08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FAB53-4F83-4C08-9B22-13A83B17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9AEC7-9CCD-47B1-9478-976ADB17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85494-8EAC-42D2-A5C4-B95252401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5B9B6-7D22-4F98-89F5-506788F32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CCDB-E0AB-474D-B31B-679408F0AA1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5634-1DD8-4FE9-80EA-56C457477C89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57B2-928C-4271-AE3B-EA17F6CB95E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8876-15F1-4035-B35C-5AB18346E1C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3AED-36A1-4FFD-974F-6B990FC0CFA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7208-A68C-4B5A-B184-1E1279D78FD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3C8E-608D-4DD8-AC07-F9AA71D3F19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1140-1AED-4A32-B106-CC5313582E59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3.1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Bronnen van inkom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www.adver-online.nl/wp-content/uploads/2013/01/salaris.jpg"/>
          <p:cNvPicPr/>
          <p:nvPr/>
        </p:nvPicPr>
        <p:blipFill>
          <a:blip r:embed="rId2"/>
          <a:stretch/>
        </p:blipFill>
        <p:spPr>
          <a:xfrm>
            <a:off x="0" y="0"/>
            <a:ext cx="32860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000000"/>
                </a:solidFill>
                <a:latin typeface="Lucida Sans Unicode"/>
              </a:rPr>
              <a:t>Bedrag : 100 x percentage = 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000000"/>
                </a:solidFill>
                <a:latin typeface="Lucida Sans Unicode"/>
              </a:rPr>
              <a:t> € …………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mrekenen van bedra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"/>
          <p:cNvPicPr/>
          <p:nvPr/>
        </p:nvPicPr>
        <p:blipFill>
          <a:blip r:embed="rId2"/>
          <a:stretch/>
        </p:blipFill>
        <p:spPr>
          <a:xfrm>
            <a:off x="1835280" y="2060640"/>
            <a:ext cx="604980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oorten inkomsten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salaris oftewel loon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vakantiegeld (8% van jaarsalaris)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eindejaarsuitkering of dertiende maand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prestatietoeslag of andere bonu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loon in natura (bijv. bedrijfskleding, auto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an de zaak, telefoon, laptop enz.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146160" y="274680"/>
            <a:ext cx="8540640" cy="14446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http://www.deondernemer.nl/beeld/w440/2014/201410/20141031/vakantiegeld.strand.euro.335.jpg"/>
          <p:cNvPicPr/>
          <p:nvPr/>
        </p:nvPicPr>
        <p:blipFill>
          <a:blip r:embed="rId2"/>
          <a:stretch/>
        </p:blipFill>
        <p:spPr>
          <a:xfrm>
            <a:off x="6759720" y="5286240"/>
            <a:ext cx="2374920" cy="15606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7" descr="http://www.gelderlander.nl/polopoly_fs/1.3473362.1353552068%21image/image-3473362.jpg"/>
          <p:cNvPicPr/>
          <p:nvPr/>
        </p:nvPicPr>
        <p:blipFill>
          <a:blip r:embed="rId3"/>
          <a:stretch/>
        </p:blipFill>
        <p:spPr>
          <a:xfrm>
            <a:off x="6300720" y="60480"/>
            <a:ext cx="2833920" cy="20239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"/>
          <p:cNvPicPr/>
          <p:nvPr/>
        </p:nvPicPr>
        <p:blipFill>
          <a:blip r:embed="rId4"/>
          <a:stretch/>
        </p:blipFill>
        <p:spPr>
          <a:xfrm>
            <a:off x="3881520" y="5181480"/>
            <a:ext cx="24494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79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http://www.taxipro.nl/wp-content/uploads/2010/12/stijgingsalaris-480x296.jpg"/>
          <p:cNvPicPr/>
          <p:nvPr/>
        </p:nvPicPr>
        <p:blipFill>
          <a:blip r:embed="rId3"/>
          <a:stretch/>
        </p:blipFill>
        <p:spPr>
          <a:xfrm>
            <a:off x="6227640" y="5051520"/>
            <a:ext cx="2928960" cy="18064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"/>
          <p:cNvPicPr/>
          <p:nvPr/>
        </p:nvPicPr>
        <p:blipFill>
          <a:blip r:embed="rId4"/>
          <a:stretch/>
        </p:blipFill>
        <p:spPr>
          <a:xfrm>
            <a:off x="468360" y="1090440"/>
            <a:ext cx="561636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= eigen bedrijf open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en loon/salaris, maar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winst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als inkomen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http://christine.echtebakker.nl/l/library/download/7iNYqfIzE-a-0HO_a_K125oaafR4RvMZ_a_wJpO/Christine-0014.jpg?width=438&amp;height=657&amp;ext=.jpg"/>
          <p:cNvPicPr/>
          <p:nvPr/>
        </p:nvPicPr>
        <p:blipFill>
          <a:blip r:embed="rId2"/>
          <a:stretch/>
        </p:blipFill>
        <p:spPr>
          <a:xfrm>
            <a:off x="3132000" y="2492280"/>
            <a:ext cx="277992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28760" y="1357200"/>
            <a:ext cx="82296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lnSpc>
                <a:spcPct val="13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oon van iemand hangt af van d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loonschaal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3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 loonschaal heeft een aanvangsalaris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(=startsalaris)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en een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maximumsalaris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3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onen verschillen door: opleiding, soort functie, ervaring, bijzondere kwaliteiten enz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3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oor verschillen in inkomen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lnSpc>
                <a:spcPct val="130000"/>
              </a:lnSpc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anderen de prioriteiten (meer lux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lnSpc>
                <a:spcPct val="130000"/>
              </a:lnSpc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schilt de koopkracht (= meer goederen van hetzelfde kopen, bijv. tweede auto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12536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verschillen in inkom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0960" indent="-2102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vormen de personele inkomensverdeling (= verdeling van inkomen over een groep mensen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0960" indent="-2102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worden weergegeven met de Lorenzcurv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overheid gebruikt het modaal inkomen (= meest voorkomende inkomen) om beleid te maken over de koopkrach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"/>
          <p:cNvPicPr/>
          <p:nvPr/>
        </p:nvPicPr>
        <p:blipFill>
          <a:blip r:embed="rId2"/>
          <a:stretch/>
        </p:blipFill>
        <p:spPr>
          <a:xfrm>
            <a:off x="2771640" y="2776680"/>
            <a:ext cx="36007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91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3"/>
          <a:stretch/>
        </p:blipFill>
        <p:spPr>
          <a:xfrm>
            <a:off x="684360" y="1341360"/>
            <a:ext cx="821988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499680"/>
            <a:ext cx="822960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lvl="1" marL="496440" indent="-1828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96440" indent="-1828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Soort bezitting:</a:t>
            </a:r>
            <a:r>
              <a:rPr b="1" lang="nl-N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Soort inkomen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96440" indent="-1828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Spaargeld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Ren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Eigen bedrijf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in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Huizen/kantoorpand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Grond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ach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Aandel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ivide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ividend = winstuitkering voor aandeelhoud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lle inkomens uit arbeid en bezit in een land bij elkaar opgete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u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onen + rente + dividend + winst + pacht =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ATIONAAL INKO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1-02T14:45:24Z</dcterms:modified>
  <cp:revision>57</cp:revision>
  <dc:subject/>
  <dc:title> </dc:title>
</cp:coreProperties>
</file>