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6.jpeg" ContentType="image/jpeg"/>
  <Override PartName="/ppt/media/image18.png" ContentType="image/png"/>
  <Override PartName="/ppt/media/image15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2BEF-28FA-4684-A45E-55D285430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5E55-4667-45ED-9A7C-248182A6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29E8-8E4C-487A-9B02-4235EF128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7F89-AC0C-4D98-9A27-40C93CFE3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C8FF-1BFB-4610-B82C-A3C466354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2AD62-521F-4925-98A6-0D927A20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2AC4-F060-4783-841E-23A934D9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C53E1-B75A-467F-8C38-FA935D63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5205-409B-4610-87C5-F4D2067B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10CD-0C9A-4094-AB33-7B37E0C1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5CA5-D7DE-47DD-B168-4C725B3C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53D4-8A7B-4C96-AB37-C546C552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DA8F-2CF7-465A-9F92-980FB6B6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4032-5B24-48EF-89D1-0819408E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46DA-AAC8-4DB2-B237-7774DBA4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A9DB-335E-495A-BDA4-49833FD50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D9C5-8164-49A5-AE4E-3413267D0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91272-BF53-4CD3-9809-D717BC0B3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BB66B-A6C0-4017-BFB6-6FB868AE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1108E-4845-4A18-A439-33F85277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82FAF-4E79-41B6-A3DB-A87779C1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43236-B0CC-489B-AB3F-2A5282A7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7117-8C56-4752-80E1-E8A2EDD9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8C995-4F8D-4D1E-B869-0E919214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4B4FF-F0D6-461B-A561-A9DB593C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160AB-849D-4EEB-879E-21D0EC4D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5D9A4-A732-496F-AEBD-5079FA0B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20AD7-F502-47C0-AE0A-1407C861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98BF4-45EF-4252-8133-3A6BDF186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0BE3B-6083-4701-B522-0F98C0D80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D3E76-20B2-4873-B579-040F0EDBC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93D2E-9784-4865-89EE-BDFF7EBC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A8FD2-2272-4E6F-A1BA-55EC4167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B0BE-36C1-4DC4-B19F-9B894B50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14195-2A90-439F-BA93-35DE1A45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A31B2-007C-4A6F-BD5D-BF1CCFD7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F55A6-1B36-498F-AFCF-130FA52B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CA358-81CA-47BF-AF13-6D0C3572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80F04-DEAD-4EBB-ADB9-5B2999C6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FAC3D-C4FA-4F2A-8CA8-2DC09277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8FF50-8595-4F3B-B477-60097340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79D05-E773-4A54-A4BE-4745B6A91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91EDC-4000-42F8-823E-5622C5A95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393C7-BA51-4BF8-BC27-B144371E3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0C92-F6C8-4A53-89E8-714AB5ED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ED558-549A-4E06-8D71-EE556299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9A0DB-63A1-40C5-936C-678B1941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B59DC-29E7-4AE8-937A-3BA85062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96013-43AC-4C19-AC3D-02125FBC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D49D4-A67F-449D-8CFC-CF7786C7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1E81D-5184-43DD-87FC-D861A68C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10478-7205-4E30-B416-2CB0073B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7CC86-F61C-476F-A997-ABBF6110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5A6B9-9ECE-406D-9CC8-CBED79A24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3CA22-B418-4356-A482-A21029688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3838-FBF1-4142-8F8A-068B5772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BB0EB-AB88-4949-A677-B6389010F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CDECF-85AC-4D34-A770-C88EA677E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FAAD1-0BB1-48DB-85C8-F53D66B6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085C2-7F1E-4EA1-97D7-6AC934BB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7A1F3-F78D-4444-957E-C9D5B50A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E35B0-9A14-4835-9F29-C78141A6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DD8CD-7683-4774-9995-6C20A7F8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735A6-2FAC-4C52-AFD7-E92DE5B5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02D0E-2296-47CF-AEEB-D065B889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F7513-1C4D-47FE-BA9E-5AF56E9E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D048-CC5B-4185-84F8-2F0F585B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205A9-80DE-4E18-8664-6825769F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9C99B-6BEC-4415-9C8E-837B1086E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7B6B5-278F-49F2-A82A-B8E045498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82D7E-CFC9-4F45-8867-9CB64A0A8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41135-DF8A-428D-9869-0FECC9EF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9F524-7DBC-4C9B-8CA6-99ECE0FA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3D535-63AB-41E8-90B5-CD1282AA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54528-F3F2-41E0-9D88-41C056AF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AAD62-95D4-4E3F-8294-02856BAD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06458-0A7B-4C6F-9D09-09C26FF7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A9AE-9DDF-4293-9958-0BB54380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5D932-4D26-4385-8B48-67FA4F94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DA762-B7B1-4C0B-B7F9-1124F7D4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55F26-46C8-45CC-A31A-B7C07418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9A165-2F8B-4361-A490-C6925870A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4442A-7858-4F25-92B8-A4C15D41B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D690F-2C56-4D8F-AD74-DAC4B5CD7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EBB94-0F3F-42A5-8E2A-2E893B6C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C3812-B8CE-4984-95B1-14AA0425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6EE26-1E0B-4CAC-83C8-43F7B69D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75648-B3D0-442D-834B-E8A1EC62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FF6B-DC7B-4A08-9D1A-81AD8DB4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078C0-6660-451B-8739-02CB187E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76C12-98E6-4EBA-A490-C4C339E9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7FEE9-54B9-4D98-8B43-D7ED00D5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373E4-D386-41B7-9B8D-715C771B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AB2AB-8D13-4145-902C-AB9D1A73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CE3B3-4F59-4E4E-B6F5-8575A7532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B6A30-1496-45C1-BA79-5D905D4AD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097C-4B2B-4B99-8850-8CED25D9040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712D-F2DF-4CF1-B74B-5CBA53D17F4F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84CB-F654-4B8A-B022-368CEC1DB92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F635-0E1F-4D3B-B3C7-F82F383F54A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21AD-4F52-42E4-A35F-9272D61294A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5F47-DEDC-4F85-A379-C6DA21A337F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2AEB-955E-4B42-891D-AC6FADF1370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9638-B82B-4386-98DD-786FAC6BDE9E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3.4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Reserver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content.iviveenendaal.nl/jqzoom/Siemens_gr_HR74W525N.jpg"/>
          <p:cNvPicPr/>
          <p:nvPr/>
        </p:nvPicPr>
        <p:blipFill>
          <a:blip r:embed="rId2"/>
          <a:stretch/>
        </p:blipFill>
        <p:spPr>
          <a:xfrm>
            <a:off x="0" y="0"/>
            <a:ext cx="270036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Kunnen uitleggen van duurzame gebruiksgoederen zijn en enkele voorbeelden hiervan opnoem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Kunnen uitrekenen hoeveel iemand moet reserveren voor de vervanging van duurzame gebruiksgoeder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" descr="Afbeeldingsresultaat voor lesdoelen"/>
          <p:cNvPicPr/>
          <p:nvPr/>
        </p:nvPicPr>
        <p:blipFill>
          <a:blip r:embed="rId2"/>
          <a:stretch/>
        </p:blipFill>
        <p:spPr>
          <a:xfrm>
            <a:off x="5272200" y="4292640"/>
            <a:ext cx="345420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62064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uurzame gebruiksgoederen gaan meestal lang mee en hebben een hoge aanschafprij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serveren = geld opzij zetten (meestal maandelijks) om later bepaalde consumptiegoederen mee te kop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serveren kan op basis va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aankoopprij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(je gaat dan het bedrag waarvoor je een bepaald product hebt gekocht opzij zetten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vervangingsprijs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hier houd je rekening met de inflatie, dus leg je wat meer geld opzij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78" name="Titel 2" descr=""/>
          <p:cNvPicPr/>
          <p:nvPr/>
        </p:nvPicPr>
        <p:blipFill>
          <a:blip r:embed="rId2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  <p:sp>
        <p:nvSpPr>
          <p:cNvPr id="37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4" descr="http://www.nuvola-kastenopmaat.nl/kasten/wandmeubel_op_maat/wandmeubel_maatkast.jpg"/>
          <p:cNvPicPr/>
          <p:nvPr/>
        </p:nvPicPr>
        <p:blipFill>
          <a:blip r:embed="rId3"/>
          <a:stretch/>
        </p:blipFill>
        <p:spPr>
          <a:xfrm>
            <a:off x="5292720" y="1341360"/>
            <a:ext cx="3692520" cy="21574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6" descr="https://encrypted-tbn0.gstatic.com/images?q=tbn:ANd9GcRKUbGbsjzhj5Axfb8OKYx-Iq7pIBDRJWHH7m-ovsbe1YT_nc3v"/>
          <p:cNvPicPr/>
          <p:nvPr/>
        </p:nvPicPr>
        <p:blipFill>
          <a:blip r:embed="rId4"/>
          <a:stretch/>
        </p:blipFill>
        <p:spPr>
          <a:xfrm>
            <a:off x="155520" y="1414440"/>
            <a:ext cx="3106800" cy="21877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" descr="http://www.xead.nl/upload/6ab830af648e830bc0bcf1f480dfeb2eaXBob25lLmpwZw==.jpg"/>
          <p:cNvPicPr/>
          <p:nvPr/>
        </p:nvPicPr>
        <p:blipFill>
          <a:blip r:embed="rId5"/>
          <a:stretch/>
        </p:blipFill>
        <p:spPr>
          <a:xfrm>
            <a:off x="3276720" y="1989000"/>
            <a:ext cx="2016000" cy="24955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0" descr="http://paulissenwitgoed.nl/image/cache/data/Producten/Everglades/Fornuizen/EVERGLADES_EVCK022-700x700.jpg"/>
          <p:cNvPicPr/>
          <p:nvPr/>
        </p:nvPicPr>
        <p:blipFill>
          <a:blip r:embed="rId6"/>
          <a:stretch/>
        </p:blipFill>
        <p:spPr>
          <a:xfrm>
            <a:off x="5521320" y="3535200"/>
            <a:ext cx="3235320" cy="32353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2" descr="http://www.decorwonen.nl/image/cache/data/eettafel%20met%204%20stoelen-840x520.jpg"/>
          <p:cNvPicPr/>
          <p:nvPr/>
        </p:nvPicPr>
        <p:blipFill>
          <a:blip r:embed="rId7"/>
          <a:stretch/>
        </p:blipFill>
        <p:spPr>
          <a:xfrm>
            <a:off x="77760" y="4400640"/>
            <a:ext cx="326232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27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t maandelijks te reserveren bedrag reken je als volgt ui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(Aanschafprijs – restwaarde – al gespaard bedrag) :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gebruiksduur in maand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(Vervangingsprijs – restwaarde – al gespaard bedrag) :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gebruiksduur in maand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52240" indent="-2034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52240" indent="-2034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1-18T08:11:49Z</dcterms:modified>
  <cp:revision>65</cp:revision>
  <dc:subject/>
  <dc:title> </dc:title>
</cp:coreProperties>
</file>