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9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D66-D86C-4F10-8D5D-6E1FF456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7627-7CEC-4D01-ABAC-46E4E8DE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DA6D-7747-452E-9E8F-38503855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D12-F143-4BA6-85F3-EE019D78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CD33-59F2-4C47-B49A-AF82476E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9927-21C9-471F-A5F0-101C5C4C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A962-C054-4CF3-86EC-73EFDCE2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74D3-6077-4632-91E3-26A03644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C021-4D0B-424F-B2BF-D6D83473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EC14-767D-4DE2-B502-C118CB8E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7C35-E898-40F7-A7E3-BAFA6D1A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0A49-4395-48F5-8C08-8BBAF1D3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A00C-1224-445C-B8AE-AD24B136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2401-7550-46A3-BA62-87C65E25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9162-01DA-441A-A97D-7746DE54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8B6D-E36E-49E2-8E4B-1F93CD20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6F6D-C8DC-40E5-8178-C2284B00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CDCA0-1A46-4034-8FD1-01F3AFC5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5EFDF-FA28-4F0E-A20E-0EFD16A7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CDC27-10B2-4144-A790-B0F30262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2DFBF-EB40-4123-AA4B-9AA0CF41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1894E-F807-4056-83C4-C717B86A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F9CA-2CBF-4585-934D-99EF5164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F5F20-8119-4537-8FB0-6C1045AF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A63A5-319D-4477-8F7C-BA4669C3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52610-2C68-4078-AB01-82799A61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D3458-68B1-49B5-8D15-784D5A6E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92D66-4216-4677-B09B-6DF4E616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B99A6-0581-4DBB-8922-A6DCAF26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C77E2-A5D7-4A09-97C2-F47FCE54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D5678-1F8D-4479-8493-6BEE4340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77B8F-5792-416F-BE84-DACF9E7E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27F6C-04D0-446C-8F56-F9A3BF35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49A-7E7F-4FA3-9274-8B3C14E2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7413D-63C7-49D3-B227-958810B5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F9F16-9068-4B72-9C70-3EF8D313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54A98-84E4-4A6F-B985-A98777BF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295FE-253F-4F61-ACEF-083393BA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1DFDB-7F1C-4ACE-90DE-77311F64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50C43-EF0F-493A-98EF-859B0678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5A000-55A7-47D1-AFB5-AC49FE73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7D74E-D3AA-4F6C-B9FD-CE4CDCC9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9FC49-1C4E-44B6-BC39-00EE5C2E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F9C76-BA0E-47B7-B1BD-19B98AEC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CED-443C-42B7-994C-DA2B123D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749CE-6830-448F-8076-E633F188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7C368-9505-482E-BB5F-A2562B1A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95996-495C-4E15-A748-A63D8990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235F1-982C-44FB-824D-DD975023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7FEFA-BB64-4BAE-9477-3AD4FD59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427FA-8820-4FDC-93E4-7FE6DB8B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2265C-63F9-4FD6-8661-10887A35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503BD-C9D9-4F7B-BB0E-EC8F1EBD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F54FD-0AFD-4298-A602-1F84F0AF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8FFA0-39C9-4CF8-A633-6D5AD76F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3B6-630D-49D6-A7D5-6CB0D9D8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3910D-C245-4C89-8CC0-EDA10EE0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5A3E3-A42C-429D-8868-3B588B89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B12FC-8E06-49B3-848D-55F4482C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E4980-4CB8-4280-941D-45663E8C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1005A-B78A-4EFA-9D28-FE005521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EE71E-2AC2-4C24-BFB7-87CFAF0B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822AB-3F48-4423-8A6C-2ABA2303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AC472-B1FE-4833-AC42-42D68ADB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47B92-4FC3-4407-89C1-890D7442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3FC54-98FF-4A43-8579-1CEE2FD8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778-BCF8-4AE3-B4D5-6C620629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D68A3-B1C8-48EA-9849-D544F877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4EC40-5180-4089-9115-FB387C25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D4C2C-44D0-4A25-A3C5-6CFA5917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F6CEC-2DE0-4897-9F15-9DDECE6C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69ADA-E37E-4625-B662-1FE30744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59638-4FCF-4A60-935C-A7F0BAB3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228FD-7E2E-4F1E-835B-CC32852F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78B23-D218-4D26-BDC7-F7675440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471CA-7E03-4711-9058-FBAF1F2C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2BA10-0AEE-4162-8D68-30D5878B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D317-0E80-4B80-863A-AAF46E03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5FF6B-D2FD-43B6-940F-2E8D4FE1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A0678-0F8E-4BF2-A1CD-7906D69B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F9F9D-944A-4547-919C-D1332497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BB8EB-2AF2-449D-9F03-1B8CB2BD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EA306-3EE3-45C3-AB53-B08BEFBF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727DA-0C54-43AD-B548-B377E6B3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50BAA-73E6-421F-9910-FDA6EFDB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41999-6446-4333-BB5D-3738C3BF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52B2C-AF83-4489-A1A6-7EA2B9B3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D4EDA-8C79-4569-87C3-715F179D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59F-3DD6-4EB6-905D-8494FED8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BDBD4-4736-40DC-88DD-E66CAF10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A5EB0-722B-4768-8FD5-C7F38184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98007-C1AE-448E-8403-E442CFE1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9DB3F-B1AF-4A13-808A-82F783B1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9DA5C-DD21-439D-BC4A-B4109CBF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D1772-05BA-45C9-BC24-995FABC1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9FB81-EF4C-4DB6-9C96-69DA84C2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1A7C-6B92-4FE3-8D6C-97A24381B2A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968F-601F-4E22-B395-B78C44448F8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5432-3EFF-413D-990C-A13181407FC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BBF1-12B1-47B7-B25D-4B10139D1A8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1E61-66D7-4532-85A4-6388456DECC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3468-8752-4342-A292-85673968FAB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9D51-FA2A-4C18-B52D-B5D5E11A0E8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D83E-877A-4147-B079-8320B51D5F7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eld tekor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publiceer.cashcow.nl/uploads/afbeeldingen/9810_broke.jpg"/>
          <p:cNvPicPr/>
          <p:nvPr/>
        </p:nvPicPr>
        <p:blipFill>
          <a:blip r:embed="rId2"/>
          <a:stretch/>
        </p:blipFill>
        <p:spPr>
          <a:xfrm>
            <a:off x="0" y="15840"/>
            <a:ext cx="32986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 een (grote) aankoop af te zi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aankoop uit te stellen en geld te reserver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 interen op je spaargeld (= gebruik maken van je spaargel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 lenen (let op: brengt vaste lasten met zich me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87120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ank vindt dat er genoeg inkomen is om de aflossing en de rente te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voldoende bezuinigd kan wo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maandelijks voldoende overblijf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enen om de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blijvende tekorten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 te vangen is niet verstandig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an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bud (nationaal instituut voor budgetvoorlicht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sumentenbo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http://groenopgewekt.nl/wp-content/uploads/2015/08/consumentenbond11.jpg"/>
          <p:cNvPicPr/>
          <p:nvPr/>
        </p:nvPicPr>
        <p:blipFill>
          <a:blip r:embed="rId2"/>
          <a:stretch/>
        </p:blipFill>
        <p:spPr>
          <a:xfrm>
            <a:off x="5076720" y="4869000"/>
            <a:ext cx="3143520" cy="1371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https://www.mijngeldzaken.nl/images/mijngeldzaken-icon_grip-nibud-vergelijken.png"/>
          <p:cNvPicPr/>
          <p:nvPr/>
        </p:nvPicPr>
        <p:blipFill>
          <a:blip r:embed="rId3"/>
          <a:stretch/>
        </p:blipFill>
        <p:spPr>
          <a:xfrm>
            <a:off x="5807160" y="3252960"/>
            <a:ext cx="1681200" cy="1554120"/>
          </a:xfrm>
          <a:prstGeom prst="rect">
            <a:avLst/>
          </a:prstGeom>
          <a:ln w="0">
            <a:noFill/>
          </a:ln>
        </p:spPr>
      </p:pic>
      <p:sp>
        <p:nvSpPr>
          <p:cNvPr id="3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8" descr="https://petities.nl/system/uploads/4391/original/banken_logos_2013_09_1_.jpg?1443442323"/>
          <p:cNvPicPr/>
          <p:nvPr/>
        </p:nvPicPr>
        <p:blipFill>
          <a:blip r:embed="rId4"/>
          <a:stretch/>
        </p:blipFill>
        <p:spPr>
          <a:xfrm>
            <a:off x="4641840" y="1557360"/>
            <a:ext cx="28576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23T09:33:58Z</dcterms:modified>
  <cp:revision>66</cp:revision>
  <dc:subject/>
  <dc:title> </dc:title>
</cp:coreProperties>
</file>