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media/image12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071A-ED59-4A9D-91B2-DAEA94F96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1EFA-FC01-42EF-B8AF-C4468FCA0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A34D-BDB0-42A7-B889-87203ABDF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7862-258F-41C5-8C69-4AB5D572C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06804-8F2F-4662-942F-94BE26B2F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D7EBA-8D56-416C-9923-83FDCAB41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4F2A5-A2A8-4D5C-8A93-2EA41D1F1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2A8DA-916D-4E57-8216-E11176A57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E6946-C1F4-4DFA-B5AB-CB3B80CEB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2535C-D543-403E-ACA1-ACA7EB9E2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C0A9C-AAF7-4792-9410-E9556ADCF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3CAE-B0BB-40FE-B4E3-60CD8A4ED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D47DB-DA13-4DBB-8FC0-0A485C336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3E6CB-5F72-40E8-82E1-E28DDFDB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F5483-1B9D-41DF-B6CC-27EEE3164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449FA-DB46-4DA2-8E1A-EEA2B1BC7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F70A5-023D-4F6D-B70F-87D98DA5D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9BCEB-2E35-4E7C-A59F-FD44E4B22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9CC7A-AF79-4493-B984-205BA0544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F3E3A-862F-40BC-B0E1-2DEF74380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ED110-BC8F-4815-BD39-C910EAACD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7B151-F9A7-4CD6-B645-FD823A9FD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6B04-4563-4796-BC9D-18E0CCB0D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70CB9-5FC8-440B-B34C-F3E590229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DEAD5-2576-448C-B708-12C591753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245FF-155D-42CF-B623-7FE796481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3F275-EAF9-4317-AB53-6C4CE5A1B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EACAA-CF90-441C-9B67-2D24B42CE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83176-8016-4449-AF26-E07E481CF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F9D6D-181C-427F-901B-F871401B4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41AD3-D7E0-4A2C-A88C-F153DBCB3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D8699-10A2-4272-96B3-929FCBD24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EE720-919D-4D06-8BE2-649DEC06D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3C02-E6BE-4B15-A3C2-D6D2B8735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0DB42-E70B-4DE5-8906-1931EF5E1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F36DE-286A-4648-9418-9255D1E60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A8881-5272-4E53-98B2-7DECE6EBC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26CCA-778E-4120-A1CA-C82497E18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A1328-5ABC-491D-957C-AF137F201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B8ED0-5DC2-4F50-980E-B6D3B77C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66F4D-4876-4650-957C-985DC5504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A63D0-F5DB-4287-9B89-6AF43D56C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94D8E-FFC1-4957-B7A2-C0A8AFDC9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3B7286-B4FF-400F-9CD0-2A79D2B7B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1F6C-BF64-43B0-8FD5-CA9DDF83C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44428-D810-4E67-B158-75423874B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F3A701-B2EC-450D-879B-87127492F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E6A827-CC47-4575-BAFD-2B9B315E9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AC3A0-98CC-4AB5-AA67-D39029B65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BB639-0D6B-40B2-86D8-C7C7A9181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08C72C-6A86-438B-959E-81F42CA9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7BBE6-3E30-46B4-8B9C-4EF4FDDB1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8F4DE8-5924-4BA3-B44A-EF961DD8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110F8-E01E-47A0-BB22-3B9817891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C05EF-72DE-495B-AAC6-34B9CD00F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301D-766A-4791-A05F-D86714AF9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81B17-FD1F-46B5-B0C5-83528060D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5AA43C-FE20-4021-8161-BD7864052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7F3AE2-0D29-489E-9D6F-30F3E49DA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76C18B-BAA2-4D4E-8C61-CB5861D81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51187A-C555-4EDF-8D09-B3564C62C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F341CA-EC17-411A-8D43-16CC4C9E0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E87B21-F641-4C82-ADFE-62F185356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3E9033-4F51-4242-BF39-0B26B615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9A3CAF-42E7-4C4A-B955-867C484C4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AD3D63-7069-4065-9325-06BB37D7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2259-882C-4424-887A-553C3F941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4300C0-71CC-4821-99DD-D43DE3392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65E730-ED37-4F1A-A1AD-331D93760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68A408-3D82-47ED-85B3-B800ECEC2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D06B2A-0FFF-4064-A0CB-09B40FA62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667BCB-635B-4664-8A5E-F2B4C0983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88FBF4-DD13-413B-A397-AA7D960E4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02E083-6DBB-46EA-9D19-20936E20B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763D58-1EDF-48E2-98C4-81D8E9148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0F3035-C160-44D4-B049-66A527D69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127421-7F95-44F7-AF40-57801637B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A2A6-FECF-4719-B139-546AE732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52CD2E-5E82-4869-9ABC-BF75C8B0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40D1ED-22C3-4ECA-BE62-2986E2664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52FCE0-97F7-431E-90D6-04691C2F9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EB7A37-0999-4747-9B95-E411C63A2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D49542-5C2F-4EA4-9335-AEFC97416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0A9EA7-853F-4379-BF9A-E74CDE087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B962FA-46C8-44B9-9209-12E0D3F1A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333242-D9D3-4CBF-9057-E8740D728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B8B1E9-FB5D-4C9A-936D-3690813C0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8C381D-C0E2-4664-B999-861829049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ADDC-3EB8-4F42-B177-D70F58B9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EDC89A-786F-4DD6-86E5-0CE690259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27B368-6C68-4718-BCE8-479232755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9A6250-2A81-40A0-9A96-B4CC1921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D923C2-62AC-4E28-A0D8-BFBA36F5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464F60-1F90-4BE9-9DB7-69CEDCA44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5DC5F4-F8CD-4E82-9660-49980EE19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3A7E53-F6BE-4777-AE3C-69961CE5F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ED3E3-E4AA-4CA0-94F4-B436A6CD1ED1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F61AD-7EE6-4417-AFFC-79BD9F2B5B6E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DDC6B-12AF-42B7-BCAB-694C84CB69C7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4980C-EDB4-4916-A1C4-34742036867A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B0D0E-6EEC-4A07-AF7C-381FC3035073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D4128-B36F-4830-8B4A-82A883773A4D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02376-CE35-4E53-BF8B-1713BBA0B03B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43BEF-2AEC-4049-B2CE-AF33F07D3EFE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4360" y="65232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3.6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464646"/>
                </a:solidFill>
                <a:latin typeface="Lucida Sans Unicode"/>
              </a:rPr>
              <a:t>Kosten van vervoer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6" descr="Afbeeldingsresultaat voor autokosten"/>
          <p:cNvPicPr/>
          <p:nvPr/>
        </p:nvPicPr>
        <p:blipFill>
          <a:blip r:embed="rId2"/>
          <a:stretch/>
        </p:blipFill>
        <p:spPr>
          <a:xfrm>
            <a:off x="7920" y="0"/>
            <a:ext cx="326880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fschrijving (= waardevermindering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randstof (bijv. diesel, benzine, LPG (=gas)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Motorrijtuigenbelasting (= houderschapsbelasting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utoverzeker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Onderhoud (grote en kleine beurt, onderdelen, keuringe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2" descr="http://ww2.autoscout24.nl/advies/autokosten-en-budget/437524/375467/as24.ratgeber.buy.inform.kosten.png"/>
          <p:cNvPicPr/>
          <p:nvPr/>
        </p:nvPicPr>
        <p:blipFill>
          <a:blip r:embed="rId2"/>
          <a:stretch/>
        </p:blipFill>
        <p:spPr>
          <a:xfrm>
            <a:off x="5413320" y="3930480"/>
            <a:ext cx="3173400" cy="10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Lucida Sans Unicode"/>
              </a:rPr>
              <a:t>Kilometerprijs = Totale autokosten : totaal aantal gereden kilometers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2" descr="http://www.2d3d.nl/upload/projecten/kilometerprijs-brochure605/rijkswaterstaat_kilometerprijs_brochure01.jpg"/>
          <p:cNvPicPr/>
          <p:nvPr/>
        </p:nvPicPr>
        <p:blipFill>
          <a:blip r:embed="rId2"/>
          <a:stretch/>
        </p:blipFill>
        <p:spPr>
          <a:xfrm>
            <a:off x="2890800" y="3645000"/>
            <a:ext cx="360036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1-23T09:46:11Z</dcterms:modified>
  <cp:revision>78</cp:revision>
  <dc:subject/>
  <dc:title> </dc:title>
</cp:coreProperties>
</file>