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6B2-D000-417B-9DE7-1ECE6E93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82F-7E23-4925-817F-835468ED7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8A9-2BB2-4644-9190-0DED49F7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3A2-5D15-4B6E-9798-926EE871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2CD7-FB02-484B-8A33-00E08228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059-2771-43CC-A4AB-00643513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E4B-9F34-4FB3-AE0E-9BA1C309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28C4-0F0B-4E5A-9D0D-18C021F8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B652-D778-40D8-A986-798E11C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4E82-D394-4B26-AA0F-5B6ABF62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3774-4D67-43EA-819C-937BE99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C2A-8745-4645-829C-FFFFC72B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621F-8A2E-4DBD-BBA6-7186930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5596-3CC2-4254-B600-0CA86E39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AFC4-8F52-4D77-AC69-083AEAB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D2D8-640E-4663-89A4-A2E7927B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5897-A6B6-46F5-9B59-BEEF1AB2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FCD-0EA4-4BCF-9123-7604195C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501-E07F-474F-9622-9195BFC3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66A-27B7-4956-8085-DF539A15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1C9-B2E5-4D68-92D8-3ABDCA55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B7F-4CB4-4545-8E7D-73217993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8D44-A94E-47D1-913E-754C09F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9E3-CB90-4DD3-A505-B786CCA3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1A17-B152-44A7-96F3-C1825C2A77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9161-318E-4818-8BB5-5C3A977E2BD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   </a:t>
            </a:r>
            <a:r>
              <a:rPr b="0" lang="nl-NL" sz="4000" spc="-1" strike="noStrike">
                <a:solidFill>
                  <a:srgbClr val="221304"/>
                </a:solidFill>
                <a:latin typeface="Times New Roman"/>
              </a:rPr>
              <a:t>JGZ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er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187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kindermishande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ke vorm va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oor een minderjarige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dreigende of gewelddadige interacti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van fysieke, psychische of sexuele aard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e de ouders of andere person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ten opzichte van wie de minderjarige in een relatie van afhankelijkheid of van onvrijheid staat, actief of passief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pdringen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waardoor ernstige schade wordt berokkend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of dreigt te worden berokkend </a:t>
            </a: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an de minderjarige</a:t>
            </a:r>
            <a:r>
              <a:rPr b="0" i="1" lang="nl-NL" sz="2800" spc="-1" strike="noStrike">
                <a:solidFill>
                  <a:srgbClr val="000000"/>
                </a:solidFill>
                <a:latin typeface="Times New Roman"/>
              </a:rPr>
              <a:t> in de vorm van fysiek of psychisch lets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6201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laan, schoppen, branden, snijde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amelijk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ndervoeding, slechte hygiene, niet in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mishand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reiteren, bang maken, je bent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ische verwaarlo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brek aan warmte/veiligheid, niet naar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exueel misbr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k sexueel gericht 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snijdenis bij meisj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vaak komt het voo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, topje van de ijsber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ssen 50.000 – 80.000 per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0 kinderen komen om door mishan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1 op de 6 a 7 vrouwen sexueel misbrui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hoe ontstaat he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gaan van oorz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macht, onverm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ek aan kennis of gevo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uders hebben zelf probl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isch, financieel, huw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is niet gew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ind voldoet niet aan verwach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uk, zi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lossing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ieder geval meld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ooit beloven dat je het niet verder vert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standigheden voor het kind worden verbete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s (ook zelf in nood) worden begel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G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Een goed uitgevoerde anamnese, screening en lichamelij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beoordeling tijdens het PGO kan een globaal beeld g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Times New Roman"/>
              </a:rPr>
              <a:t>van lichanmelijke en geestelijke gezondheid van het ki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Times New Roman"/>
              </a:rPr>
              <a:t>op dat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p 2 BO / 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assis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am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korte tijd een beeld krijgen hoe het met het kind ga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ramatisch’ moeilij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voel, intuitie ontwikk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ichamelijk onderzoek (gehoor, ogen, groei, gew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B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,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ort en spel –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s – broers, zusjes, vriend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duimzuigen, nagelbij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nderwerpen V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agen 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tes, medic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uissit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latie met vrie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oontes (roken, alcohol, dru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asispakket JGZ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schatten zorgbehoefte (maatwerk-rugzak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eventie (vaccina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orlichting en ad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sporen bedreigende randfact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steunen ouders/verzor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ARI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gunstige gewoo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uimzuigen, nagelbijten, niet willen eten, bedpl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lendermethode (belon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raakprob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emmisbruik, stotteren, brod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ogope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aapstoorni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chtmerries, paniekaanvallen, slaapwand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ruststellen, besch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62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toriek (vaak door hersenbeschadig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uding –safwijkingen (scoliose, Scheuerman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ysi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rtho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voelbare zaadb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iet problema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erat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himosis (vernauwde voorhu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ircumcisie bij blijvende klach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-Nederlandse ou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idee over ziekte/gezond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 eetpatroon, uit ander klimaat, gebrek vit D (zonli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dere opvoedingsmeth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g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ormaal / stoornis bij belemmering normaal l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aniekaanval, dwanggedachte –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tss (post traumatisch stress synd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sycholo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uders betrek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otorisch (knipperen, neus ophal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caal (kuchen, grommen, korte geluidj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ste gaan vanzelf voo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ndroom van Gilles de la Tou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&gt; 1 jaar motorische en vocale 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sychothera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dicij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 volwassen leeftijd weinig of geen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26:14Z</dcterms:created>
  <dc:creator>custom</dc:creator>
  <dc:description/>
  <dc:language>en-US</dc:language>
  <cp:lastModifiedBy>Bouke Cuperus</cp:lastModifiedBy>
  <dcterms:modified xsi:type="dcterms:W3CDTF">2018-07-15T10:56:06Z</dcterms:modified>
  <cp:revision>67</cp:revision>
  <dc:subject/>
  <dc:title>Conclusies enquête panel DA</dc:title>
</cp:coreProperties>
</file>