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37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2C69-0FA2-4AFC-A45A-9CAE1957F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446C-409F-4025-A561-E6641F6AE2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DF81-071B-4E93-A768-4EAB149052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art eerste dag van de menstruatie meteen betrouwba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70E7-9D51-42D8-ADCD-C22D13931E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1C14-453C-453C-85BE-53AE623A63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9393-6A67-4303-90BB-596E894C02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B76-E60A-449D-B661-85825CFCA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BC3F-0CCB-4079-A276-F987FF3A34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inip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alt ook de prilpil, implanon o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524E-1106-4617-B00E-8560564315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B5F7-4853-49F0-B72F-54761F775C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A702-4CA0-4DEF-8443-12BEFFBA3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ypofyse : aanhangsel dat ligt onder de hersenen in Turks zadel, hormonen met bloedstroom mee en werking doen in bepaald deel van het lichaam . In dit geval de eierstokken ( interne secretie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9EDB-A107-4A3D-861A-41AF666A56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: de eileiders groeien geleidelijk dicht door het inbrengen van veertjes met polyester vezeltjes. Zaadcellen kunnen zo niet bij de eitjes komen. Poliklinis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8B7E-02BE-49CF-AD5E-B93C940F5E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breken van de zaadleiders, zodat er geen zaadcellen in het sperma terecht k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DEEB-56EF-486B-B2CA-0EBFA4B88E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3875-8AF6-4518-9544-56A214098E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0D83-C1AF-4A6A-A265-1CC49173F4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69E-F827-4208-BEB2-5A565EC7A0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ezonde voeding en genoeg bewegen en goed slapen helpen om in deze periode fit te blij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6C86-885F-401B-B767-FC6C945B7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D27-B6E7-4070-906E-E2831D380D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C85-E52E-428A-A0B9-192BB2AF22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BD9-3EF9-447B-91CD-343F814F28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E01E-D371-477B-8725-2DD79EC09E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estrogenen ook verantwoordelijk voor ontwikkeling van primaire ( eierstokken, eileiders etc)  en secundaire geslachtskenmerken (borstklieren, optreden menarche, verbreding bekk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6234-420F-46AE-AD90-C29794BDD9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FAC-69E5-4D37-9EDB-09BCD1496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0A5-D910-472B-912E-FC3B9A5B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2B8-A2B7-4513-AA35-E88DCDC5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C08-C22B-4B71-BE89-CD623F7A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A79-56BD-497B-A987-3B756A2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95B-19CE-4BA5-8A74-9D9CC5DD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2143-7CC8-4231-97C7-F2D953B8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E53B-EC58-41EE-AFD8-D353CA5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93F2-F07F-4E65-8D13-09D961D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9884-E6A1-4FF7-BBF6-EEFC0B9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5ED1-F7D3-4597-857D-6B3ECD13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61E-3CE5-47D7-9D2B-704AEA0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46C-907B-4C27-B593-0C59B4F8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EB39-CFC8-4EB8-BD06-569C100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065B-1A48-487C-8121-1C0A2B8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A7F-4043-48C8-8837-BC64E725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6524-62E8-4A0E-9850-D13AE1D3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53EA-FFE0-4500-A598-C651BC19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EDF-B0A4-4958-8D04-8919830B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8FF-7D67-459C-88D3-6F0BA783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275F-E442-4226-B7D6-21502175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0A8-E31C-4B67-B49B-6E48FF77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05D-605E-4B1C-9126-16310E19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2B9-FBF6-4659-8573-793C3BD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04A-90C0-4708-BE5B-B44CCED1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2E55-ACFD-4DD9-B7E5-503F59874B62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666666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E6E-7489-44A3-A3F7-D4F648FDD1A2}" type="slidenum">
              <a:rPr b="0" lang="nl-NL" sz="1400" spc="-1" strike="noStrike">
                <a:solidFill>
                  <a:srgbClr val="666666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pessarium&amp;hl=nl&amp;safe=active&amp;biw=1111&amp;bih=669&amp;tbm=isch&amp;tbnid=S_CbkTYvCw3sQM:&amp;imgrefurl=http://users.telenet.be/apotheek.nagels/medisamedatabank2.htm&amp;docid=LO4-luYesSZEQM&amp;w=309&amp;h=426&amp;ei=_Pp5Ts6PMMGcOrKtxK8C&amp;zoom=1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J5-Xcpkc0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Bookman Old Style"/>
              </a:rPr>
              <a:t>Menstruatiecyclus &amp; anticonceptie </a:t>
            </a:r>
            <a:endParaRPr b="0" lang="en-US" sz="29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666520" y="5105160"/>
            <a:ext cx="3429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66"/>
                </a:solidFill>
                <a:latin typeface="Bookman Old Style"/>
              </a:rPr>
              <a:t>en het climacterium             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562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mperatuur methode: basaal temp.: elke dag op hetzelfde tijdstip T meten, stijgt het een halve graad , dan is het progesteron gehalte gestegen en een eisprong geweest,en dus oppassen gebla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nauwkeurige toepassing erg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chanisch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ndoom, betrouwbaarheid wordt beter met zaaddodende middelen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-10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aaddodende middelen 15 minuten voor coïtus inbre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oordeel: bescherming tegen SOA’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24" name="Picture 4" descr="http://www.belgium.be/nl/binaries/210_ist_5868618_tcm117-9727.jpg"/>
          <p:cNvPicPr/>
          <p:nvPr/>
        </p:nvPicPr>
        <p:blipFill>
          <a:blip r:embed="rId1"/>
          <a:stretch/>
        </p:blipFill>
        <p:spPr>
          <a:xfrm>
            <a:off x="380880" y="1901880"/>
            <a:ext cx="3772080" cy="30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http://t0.gstatic.com/images?q=tbn:ANd9GcRAqm9lDUzBz3HxbZhEOLLwfcmNnwiXr15F_l91P-cNek_b8RzZ9ljlYXxYvQ"/>
          <p:cNvPicPr/>
          <p:nvPr/>
        </p:nvPicPr>
        <p:blipFill>
          <a:blip r:embed="rId2"/>
          <a:stretch/>
        </p:blipFill>
        <p:spPr>
          <a:xfrm>
            <a:off x="5562720" y="2590920"/>
            <a:ext cx="2655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el condoom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unnen knapp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en condoom ritselt tijdens de cohabit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ervolg  mech.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ssarium occlusivum, dit wordt door de arts aangeme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adeel moet moeilijk in te brengen en moet na de coïtus 8 uu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1-10 zwangerschappenbij gebruik van zaaddodende midd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t3.gstatic.com/images?q=tbn:ANd9GcQxq2C3c7gRfeMWpymjl-0crL_wd9aHtgfxm5W0jUH0WxycSPN1K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066680"/>
            <a:ext cx="203976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http://www.xead.nl/upload/9c62084191e9589ab754debdabd880c815-3-2004-13-52-pessarium_fw.jpg"/>
          <p:cNvPicPr/>
          <p:nvPr/>
        </p:nvPicPr>
        <p:blipFill>
          <a:blip r:embed="rId3"/>
          <a:stretch/>
        </p:blipFill>
        <p:spPr>
          <a:xfrm>
            <a:off x="2895480" y="380880"/>
            <a:ext cx="2667240" cy="2667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www.feelgoodsports.nl/Images/cup1.jpg"/>
          <p:cNvPicPr/>
          <p:nvPr/>
        </p:nvPicPr>
        <p:blipFill>
          <a:blip r:embed="rId4"/>
          <a:stretch/>
        </p:blipFill>
        <p:spPr>
          <a:xfrm>
            <a:off x="5867280" y="380880"/>
            <a:ext cx="2895840" cy="2851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http://www.gyn-care.nl/uploads/pessaria.001.jpg"/>
          <p:cNvPicPr/>
          <p:nvPr/>
        </p:nvPicPr>
        <p:blipFill>
          <a:blip r:embed="rId5"/>
          <a:stretch/>
        </p:blipFill>
        <p:spPr>
          <a:xfrm>
            <a:off x="2011320" y="3581280"/>
            <a:ext cx="51213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IUD(intra uterine device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opstijgen van zaadcellen naar de eileid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innesteling van het bevruchte eitje in het baarmoeder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-2 zwangerschappen per jaar per 100 vrouw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6" name="Picture 4" descr="http://t2.gstatic.com/images?q=tbn:ANd9GcTqgF39tkIF9hc6nuSbvMkpgiyH8ctIrF0DkQ1C1IdN8Df1dp9E1w"/>
          <p:cNvPicPr/>
          <p:nvPr/>
        </p:nvPicPr>
        <p:blipFill>
          <a:blip r:embed="rId1"/>
          <a:stretch/>
        </p:blipFill>
        <p:spPr>
          <a:xfrm>
            <a:off x="152280" y="4114800"/>
            <a:ext cx="3962520" cy="1919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http://www.xead.nl/upload/c3560a5299820ebbad993ee743e59d59spiraaltje_365x243.jpg"/>
          <p:cNvPicPr/>
          <p:nvPr/>
        </p:nvPicPr>
        <p:blipFill>
          <a:blip r:embed="rId2"/>
          <a:stretch/>
        </p:blipFill>
        <p:spPr>
          <a:xfrm>
            <a:off x="4343400" y="3886200"/>
            <a:ext cx="46483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Wanneer het spiraaltje vervan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renaspiraaltje(bevat hormonen) om de 5 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tje kan wat langer blijven 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l moet de vrouw regelmatig controleren of zij de draadjes nog kan voelen, want soms gaat het door de baarmoederwand de buikholte in.  Zonodig moet er een echoscopie plaatsv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der gebruik spiraal: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orning after spiraal, kan tot 5 dagen na de coïtus worden geplaat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indert de innesteling van de bevruchte eice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Nadelen spiraaltj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erste menstruaties zijn erg pijn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ussentijds 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rampen van de uter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draadjes te kort afgeknipt, dit veroorzaakt een pijnlijke eikel bij de ma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ontsteking( pelvic inflammatoiry dise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hoogde kans op EUG(extra uteriene graviditeit) bij ontstane zwangersch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Menstruatiecyclu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17bbfd"/>
                </a:solidFill>
                <a:uFillTx/>
                <a:latin typeface="Gill Sans MT"/>
                <a:hlinkClick r:id="rId1"/>
              </a:rPr>
              <a:t>http://www.youtube.com/watch?v=TiJ5-Xcpkc0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19320"/>
            <a:ext cx="82296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Onderdrukken van  eisprong ( ovulatie) , geen eitje vrij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slijmvlies minder geschikt maken v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innesteling van mogelijk bevruchte eic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inder geschikt maken van slijmvlies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baarmoederhals voor het toelaten van zaadcell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ttp://www.youtube.com/watch?v=CMFZlkNXdvg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Kunstmatige cyclus”: baarmoederslijmvlies dikker m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397640" y="17002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29" descr="http://t0.gstatic.com/images?q=tbn:ANd9GcRjAaf_d6Z34R8ARlU205mobLcH5hts8zrxf9jjZeX4Q2XefE2Tjs7o6XbTig"/>
          <p:cNvPicPr/>
          <p:nvPr/>
        </p:nvPicPr>
        <p:blipFill>
          <a:blip r:embed="rId2"/>
          <a:stretch/>
        </p:blipFill>
        <p:spPr>
          <a:xfrm>
            <a:off x="2987640" y="4764240"/>
            <a:ext cx="360036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even – dagen - regel 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zijn na zeven dagen pilgebruik in slaa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uurt weer minimaal zeven dagen om te ontwak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4922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Drie hoofdregels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ussen innemen van 2 pillen, mag nooit meer dan 36 uur zitt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topweek nooit  verlengen ( &gt; 7 dagen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ls er 7 dagen achtereenvolgens geslikt is, is de anticonceptie gewaarborg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juist gebruik worden 2 vrouwen per 1000 vrouwen zwanger per jaar. De kans op zwangerschap is dus aanwezi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Let wel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trouwbaarheid bij vooral superlichte pillen neemt  af bij gebruik van ander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dicatie , die afbraak van geneesmiddelen in lever versnellen, zoa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ntibioticum, Anti-epileptica , orale Antimycotica, Sint-janskrui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braken: binnen 3-4 uur van inname van de tablet 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nl-NL" sz="1800" spc="-1" strike="noStrike">
                <a:solidFill>
                  <a:srgbClr val="000000"/>
                </a:solidFill>
                <a:latin typeface="Gill Sans MT"/>
              </a:rPr>
              <a:t>Advies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nieuwe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-diarree: alleen bij heftige vorm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Advies: extra tablet in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e meeste pillen zijn combinatiepillen en bevatten chemische varianten van d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natuurlijke geslachtshormonen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Oestrogeen: ethinylestradiol ( EE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Progesteron: progestageen: levonorgestrel, lynestrenol, desogestrel, gestodeen, norgestimaat, norethister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Combinatie/Generatie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 één fase pillen, gelijke verdeling in pillen,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evatten bepaalde hoeveelheid aan oestrogenen en bepaald progestageen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Te verdelen in 4 groepen: 1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2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, 3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7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 generatiepillen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Gill Sans MT"/>
              </a:rPr>
              <a:t>Driefase pillen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: ongelijke verdeling van oestrogenen en progestageen in pil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rie verschillende kleuren. Alleen laatste fase uit nieuwe strip doorslikken of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strip microgynon 30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ff0000"/>
                </a:solidFill>
                <a:latin typeface="Gill Sans MT"/>
              </a:rPr>
              <a:t>Voordeel: </a:t>
            </a: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ootst natuurlijke cyclus het meest na, totale hormoon per strip minder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dan bij vaste combinatie.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732720" y="11592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riefase pil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2666880" y="17827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Gill Sans MT"/>
              </a:rPr>
              <a:t>Bijwerkingen, die na aantal maanden verdwijnen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Misselijkhei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spannen borst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Tepelvloe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Doorbraakbloedinge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Bijwerkingen, die mogelijk niet meer verdwijnen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Spott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t haa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Acn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Gewichtstoena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irsutism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lib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Gill Sans MT"/>
              </a:rPr>
              <a:t>Zeldzaam: 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verandering in bloedstolling &gt; risico op trombose: 3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en 4</a:t>
            </a:r>
            <a:r>
              <a:rPr b="0" lang="nl-NL" sz="1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 generatie pillen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( Marvelon, Yasmin), vrouwen&gt; 35 jaar bij oac + roken!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Gill Sans MT"/>
              </a:rPr>
              <a:t>http://www.youtube.com/watch?v=CMFZlkNXdvg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2676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rale anticoncep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5280" y="12542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Progestageen pi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Gill Sans MT"/>
              </a:rPr>
              <a:t>Indicatie</a:t>
            </a:r>
            <a:r>
              <a:rPr b="0" lang="nl-NL" sz="19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oor vrouwen die geen oestrogeen mogen of willen gebruiken, bijv. tijdens  borstvoeding  of geen oestrogeen kunnen verdra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nregelmatige werktijd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Regelmaat pil vergeten in te nem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ij stemmingswisselinge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Gill Sans MT"/>
              </a:rPr>
              <a:t>Nadeel: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in het begin onregelmatige doorbraakbloedingen, na half jaar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verdwijnen bloedingen en daarmee de controle op zwangerschap, bij stop duu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et lang eer de eisprong op gang kom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012000" y="692280"/>
            <a:ext cx="2232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6666"/>
                </a:solidFill>
                <a:latin typeface="Bookman Old Style"/>
              </a:rPr>
              <a:t>Progestageen pill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orten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ikpil:  Depo provera: één keer per 3 maanden inje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ipil: Cerazette, geen stopweek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mplanon: implantaat tablet, werkingsduur; 3j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925720" cy="147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35520" y="3716280"/>
            <a:ext cx="36212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MAP: morning after pil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ie NHG telefoonwijzer voor advies bij vergeten p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 coïtu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levo (levonorgestrel): binnen 72 uu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perspiraal: binnen een wee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940360" y="4149720"/>
            <a:ext cx="961920" cy="1371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20000" y="2708280"/>
            <a:ext cx="1333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Functie geslachtshormonen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rogestagene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imuleert vochtafdrijving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heeft een positieve invloed op ste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stevigd bloedvatenweefse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Oestrogen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eschermen tegen een hartinfarct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vanwege hun positieve invloed op het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tgehalt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in het bloe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verwijden bloedvaten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, daardoor lopen veel vrouwen na de overgang, wanneer oestrogenen sterk verminderd zijn, een hoger risico op hart- en vaatziekt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sterke botten.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Wanneer hun werking vervalt, na de overgang, lopen vrouwen ook het risico op </a:t>
            </a:r>
            <a:r>
              <a:rPr b="0" i="1" lang="nl-NL" sz="2000" spc="-1" strike="noStrike">
                <a:solidFill>
                  <a:srgbClr val="000000"/>
                </a:solidFill>
                <a:latin typeface="Gill Sans MT"/>
              </a:rPr>
              <a:t>botontkalking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meeste  vrouwen hebben elke maand een eispro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duurt meestal circa 28 dag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begint op eerste dag van de menstruati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Cyclus staat onder controle van  2 geslachtstimuleren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hormonen ( gonadotrope hormonen)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Follikelstimul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Luteïniserend hormo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09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peratieve anticonceptiemethode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vrouw: sterilis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twVjagdQfFA  Essu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de man: vasecto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1kTvWIgneS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rappig http://www.youtube.com/watch?v=ezIAyynSILQ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erilisatie bij de vrouw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7" name="Picture 3" descr="http://www.voorbehoedsmiddelen.net/img/sterelisatie-castratie.jpg"/>
          <p:cNvPicPr/>
          <p:nvPr/>
        </p:nvPicPr>
        <p:blipFill>
          <a:blip r:embed="rId1"/>
          <a:stretch/>
        </p:blipFill>
        <p:spPr>
          <a:xfrm>
            <a:off x="1874880" y="1406520"/>
            <a:ext cx="539424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Essure method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79" name="Picture 3" descr="http://www.sterilisatievrouw.nl/css/images/Essure-ingreep.png"/>
          <p:cNvPicPr/>
          <p:nvPr/>
        </p:nvPicPr>
        <p:blipFill>
          <a:blip r:embed="rId1"/>
          <a:stretch/>
        </p:blipFill>
        <p:spPr>
          <a:xfrm>
            <a:off x="79200" y="2895480"/>
            <a:ext cx="1749600" cy="2590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kliniekdelairesse.nl/images/made/uploads/behandelingen/Essure04_220_264_all_3_c1.png"/>
          <p:cNvPicPr/>
          <p:nvPr/>
        </p:nvPicPr>
        <p:blipFill>
          <a:blip r:embed="rId2"/>
          <a:stretch/>
        </p:blipFill>
        <p:spPr>
          <a:xfrm>
            <a:off x="6248520" y="2590920"/>
            <a:ext cx="2514600" cy="301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http://www.vrouwenzaken.nl/wp-content/uploads/2012/12/1-Essure-plaatsing-def-638x330.jpg"/>
          <p:cNvPicPr/>
          <p:nvPr/>
        </p:nvPicPr>
        <p:blipFill>
          <a:blip r:embed="rId3"/>
          <a:stretch/>
        </p:blipFill>
        <p:spPr>
          <a:xfrm>
            <a:off x="2133720" y="3276720"/>
            <a:ext cx="3535200" cy="25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www.stephenwellsmd.com/images/Essure.gif"/>
          <p:cNvPicPr/>
          <p:nvPr/>
        </p:nvPicPr>
        <p:blipFill>
          <a:blip r:embed="rId4"/>
          <a:stretch/>
        </p:blipFill>
        <p:spPr>
          <a:xfrm>
            <a:off x="4114800" y="380880"/>
            <a:ext cx="25146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Vasectomie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4" name="Picture 3" descr="http://t1.gstatic.com/images?q=tbn:ANd9GcQBXK0MlH-icJB93yo-Tif0gxO62RFbs9NV4y7EK4J-KgOBilWVKIKK_kn6"/>
          <p:cNvPicPr/>
          <p:nvPr/>
        </p:nvPicPr>
        <p:blipFill>
          <a:blip r:embed="rId1"/>
          <a:stretch/>
        </p:blipFill>
        <p:spPr>
          <a:xfrm>
            <a:off x="533520" y="1523880"/>
            <a:ext cx="2681280" cy="4570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http://www.heelmeester.nl/heelmeestercms/images/ingrepen/vasectomie/slides/vasductus.JPG"/>
          <p:cNvPicPr/>
          <p:nvPr/>
        </p:nvPicPr>
        <p:blipFill>
          <a:blip r:embed="rId2"/>
          <a:stretch/>
        </p:blipFill>
        <p:spPr>
          <a:xfrm>
            <a:off x="403848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7" name="Afbeelding 3" descr=""/>
          <p:cNvPicPr/>
          <p:nvPr/>
        </p:nvPicPr>
        <p:blipFill>
          <a:blip r:embed="rId1"/>
          <a:stretch/>
        </p:blipFill>
        <p:spPr>
          <a:xfrm>
            <a:off x="247680" y="743040"/>
            <a:ext cx="86486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Het climacterium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89" name="Picture 4" descr="http://www.sintlucasandreasziekenhuis.nl/INTERNET/Specialismen/Gynaecologie/menopauze372.jpg"/>
          <p:cNvPicPr/>
          <p:nvPr/>
        </p:nvPicPr>
        <p:blipFill>
          <a:blip r:embed="rId1"/>
          <a:stretch/>
        </p:blipFill>
        <p:spPr>
          <a:xfrm>
            <a:off x="2446200" y="2438280"/>
            <a:ext cx="4251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ologisch proces op middelbare leeftijd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Tussen het  40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en 55</a:t>
            </a:r>
            <a:r>
              <a:rPr b="0" lang="nl-NL" sz="20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levensjaar van de vrouw neem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activiteit van de eierstokken af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Climacterium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eriode waarin de hormonale verander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plaatsvind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moment waarbij de menstruatie volledig wegblijft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Postmenopauze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1 jaar na de menopauz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156360" y="115920"/>
            <a:ext cx="2209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ierstokken reageren niet meer op de stimuler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uit de hypofyse d.m.v. FSH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follikels in eierstokken raken op  als gevolg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arvan mindert de oestrogeen producti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unctie van oestrogeen is het verminderen van d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SH productie (o.b.v.  feedback mechanisme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vens geen/minder eisprong ( invloed FSH) 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erdoor geen/minder geel lichaam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ze produceert normaal progesteron, die invlo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eft op aanmaak van het LH hormoon in de hypofy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 feedbackmechanisme). FSH en LH in bloed lijdt to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lacht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esteron en oestrogeen zorgen tevens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bouw baarmoederslijmvlies, dit verdwijnt 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nstruaties  stoppen.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Klachten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De menstruatie kan eerst heviger worden en vaker komen. Uiteindelijk worden de tussenpozen langer en blijft de menstruatie we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pvliegers, korte, hevige warmteaanvallen, waarbij gezicht, hals en borst rood worde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komen (nachtelijke) zweetaanvallen vo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t slijmvlies in de vagina wordt dunner en droger. Vrijen kan hierdoor een onaangenaam branderig gevoel geven of pijn doen, of kans op jeuk en vaginaal bloedverli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Gill Sans MT"/>
              </a:rPr>
              <a:t>Langer termij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otontkalking ( oteoporos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174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2828880" cy="3305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SH:   bevordert bij de vrouw de groei en de ontwikkeling van follikels in de eierstokken en zet ze aan tot  productie van het hormoon oestroge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LH: stimuleert bij de vrouw de ontwikkeling van het gele lichaam ( corpus luteum) in de eierstok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Elke follikel bevat één onrijpe eicel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2452680" y="5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overgangs verschijnselen"/>
          <p:cNvPicPr/>
          <p:nvPr/>
        </p:nvPicPr>
        <p:blipFill>
          <a:blip r:embed="rId1"/>
          <a:stretch/>
        </p:blipFill>
        <p:spPr>
          <a:xfrm>
            <a:off x="2452680" y="519120"/>
            <a:ext cx="423864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Hormonale therap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Wanneer oestrogeenproductie daalt, vermindert dus 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scherming tegen bepaalde ziekten. Of brengt  het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bepaalde klachten teweeg. Reden(en) om als arts hormona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producten voor te  schrijven, bijvoorbeel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sub 50 pil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lokaal oestrogenen ( synapause/estradio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hormoonpleisters (synapause E3, 1 keer per week vervangen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Gill Sans MT"/>
              </a:rPr>
              <a:t>Let wel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ergangsmedicijnen (tabletten of pleisters) die alleen oestrogeen bevatten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zijn alleen geschikt voor vrouwen die geen baarmoeder meer hebben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estrogeen, zonder toevoeging van progesteron, vergroot  de kans op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kanker van het baarmoederslijmvlies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227640" y="0"/>
            <a:ext cx="17049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Nog vragen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43160" y="2163600"/>
            <a:ext cx="2857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De overgang 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ynm2GtLcVI0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ntracademie.nl/cursussen/cursuspagina/10-stappencursus-omgaan-met-de-overgang/stap/1.htm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6ZCTb5UjgMo&amp;src_vid=DLNR4c8VshM&amp;feature=iv&amp;annotation_id=annotation_582144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ttp://www.youtube.com/watch?v=o42y0BMP-NM   Conference door Karin Bloe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De eierstokken produceren geslachtshormon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Oestrogenen: 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hebben o.a. een stimulerende werking op de baarmoederslijmvlies d.w.z. opbouw van baarmoederslijmvlies dat tevens rijker aan voedingstoffen en bloed 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Gill Sans MT"/>
              </a:rPr>
              <a:t>Progesteron: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 onder invloed van LH wordt dit hormoon geproduceerd in het corpus luteum ( gele lichaam: follikel waarin het eitje rijpt en ontspringt tijdens eisprong). Stimuleert klieren in het baarmoederslijmvl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Ook wel zwangerschapvoorbereidend hormoon genoemd, bereidt baarmoederwand voor op evt. innesteling van een bevruchte eicel  door afscheiding te producer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Bij géén innesteling gaat het ten gronde; baarmoederslijmvlies afgebroke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Ovulatie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5600" y="2259000"/>
            <a:ext cx="3905280" cy="285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355640" y="1197000"/>
            <a:ext cx="404172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begint op eerste dag van de menstruatie. Oestrogeenspiegel het laagst en neemt daarna to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Tijdens groeifase (proliferatiefase) wordt slijmvlies dikker ( uit wand van Graafs follikel&gt; oestron&gt; oiv FSH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Ovulatie treedt op rond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dag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Daarna secretiefase: progesteron door gele lichaam geproduceerd oiv LH , baarmoederslijmvlies wordt dikker en rijker van bloedvaten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Menstruatiefase: treedt op wanneer er geen bevruchting plaatsvindt, het gele lichaam is 14 dagen na ovulatie te gronde. Progesteronproductie stopt. Slijmvlies sterft af en afgestote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</a:rPr>
              <a:t>Cyclus herhaalt zich opnieuw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Stadia van follikelrijping in de eierstok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113" name="Picture 3" descr="http://www.kennislink.nl/upload/113073_962_1087480491149-Follikel.jpg"/>
          <p:cNvPicPr/>
          <p:nvPr/>
        </p:nvPicPr>
        <p:blipFill>
          <a:blip r:embed="rId1"/>
          <a:stretch/>
        </p:blipFill>
        <p:spPr>
          <a:xfrm>
            <a:off x="2143080" y="1954080"/>
            <a:ext cx="485784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Anticoncepti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ologis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chanisch en chemisch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rmonal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eratiev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66666"/>
                </a:solidFill>
                <a:latin typeface="Bookman Old Style"/>
              </a:rPr>
              <a:t>Biologische method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Coïtus interruptus(voor het zingen de kerk ui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trouwbaarheid: 10-40 zwangeren per 100 vrouwen per jaar, dus on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eriodieke onthouding: 10- 40 zwangerschappen per 100 vrouwen per jaar, 10 bij goede uitvoering en 40 bij slordigheden, niet betrouwbaa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0:18:29Z</dcterms:created>
  <dc:creator>Rhea</dc:creator>
  <dc:description/>
  <dc:language>en-US</dc:language>
  <cp:lastModifiedBy>marlies bouland</cp:lastModifiedBy>
  <dcterms:modified xsi:type="dcterms:W3CDTF">2018-11-26T11:13:27Z</dcterms:modified>
  <cp:revision>52</cp:revision>
  <dc:subject/>
  <dc:title>Dia 1</dc:title>
</cp:coreProperties>
</file>