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2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7.png" ContentType="image/png"/>
  <Override PartName="/ppt/media/image22.jpeg" ContentType="image/jpeg"/>
  <Override PartName="/ppt/media/image11.jpeg" ContentType="image/jpeg"/>
  <Override PartName="/ppt/media/image8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B9C7A-F4D0-4FE6-BDA2-B360A025590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Cardiotocografie: hartslag foet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042F8-0A6A-4BF4-8D7D-411770D70D8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oorliggende placen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51A70-B407-482E-8D98-63D5064E172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Loslating moederkoe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3A617-2191-4B42-9AD1-2708DFBF8A6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22 weken zwanger tot 8 dgn na bevalling. Zwangerschapsvergiftig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B9A32-C088-47AE-BD80-8A476C195FF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oofdpijn, vaag zien, lichtflitsen of sterretjes, riem om de buik, misselijk, vocht vasthoud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3561E-8783-424B-8FA0-8D80E19DB98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econium: eerste ontlas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FE316-632E-4143-8B86-BF9CFA8C76A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eparine: zorgt ervoor dat bloed minder makkelijk samenklonte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Comarine: antistollingsmidd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1DA64-C451-4A7A-B090-534C42CD10F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488E-F67B-4191-BF09-6EC02717D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B916-5C05-44A9-BA03-759CEF75A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A437-E74B-4ED4-82FC-9E909C0E7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285E-A966-44D0-BEC0-849DD3781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421E-41C1-4870-8DBE-4333A18CC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A8F5-4404-4D78-BAFE-939267917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9539-5745-4D40-877A-BC41FB09D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F8D9-E46E-4F37-982B-FAE40C2C9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EBE2-A08A-4EBF-9270-FCDBCE533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AAA6-5ACC-4B11-A4F7-65C6F1169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BE34-6C66-45B8-9936-18DC27BB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CBB4-CC24-4FE4-9E42-EA139191F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8192C-44EB-4E7B-BD2C-8270447D287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rlv__4YhH1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dailymotion.com/video/xasqsd_pregnancy-risks-placental-abruption_schoo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google.nl/imgres?q=tangverlossing&amp;hl=nl&amp;safe=active&amp;biw=1280&amp;bih=762&amp;tbm=isch&amp;tbnid=8g00nAMMfP-4YM:&amp;imgrefurl=http://mediatheek.thinkquest.nl/~lld094/geboorte/vaginalekunstverlossing.htm&amp;docid=X0mn-QQAGP_lTM&amp;w=432&amp;h=406&amp;ei=hjqDTs_3JMW6-Ab4q-TUDw&amp;zoom=1" TargetMode="External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hyperlink" Target="http://www.google.nl/imgres?q=zwangerschap&amp;hl=nl&amp;safe=active&amp;sa=X&amp;biw=1280&amp;bih=801&amp;tbm=isch&amp;prmd=imvnsu&amp;tbnid=qFDYWjYx5u2h1M:&amp;imgrefurl=http://www.babybytes.nl/zwangerschap/kalender/week/12&amp;docid=sSVY3D6kEgzEUM&amp;w=450&amp;h=300&amp;ei=0yaDTvmwM4qXOrPOkCA&amp;zoom=1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www.google.nl/imgres?q=zwangerschap&amp;hl=nl&amp;safe=active&amp;sa=X&amp;biw=1280&amp;bih=801&amp;tbm=isch&amp;prmd=imvnsu&amp;tbnid=N-Gra7mSo1aHTM:&amp;imgrefurl=http://www.gezondheid.nl/demens3d/zwangerschap.php&amp;docid=FLIAA8lwwC4c7M&amp;w=400&amp;h=400&amp;ei=0yaDTvmwM4qXOrPOkCA&amp;zoom=1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www.youtube.com/watch?v=GNp6oySz6V4" TargetMode="External"/><Relationship Id="rId8" Type="http://schemas.openxmlformats.org/officeDocument/2006/relationships/hyperlink" Target="http://www.youtube.com/watch?v=AcLso3g4-0o" TargetMode="External"/><Relationship Id="rId9" Type="http://schemas.openxmlformats.org/officeDocument/2006/relationships/hyperlink" Target="http://www.youtube.com/watch?v=w1810c_fzZo%60" TargetMode="External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hyperlink" Target="http://www.checkzis.com/nl/lijst/473/zwangerschapskwaaltjes/4502/pigmentvlekken/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905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Gravidite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4360" y="2781360"/>
            <a:ext cx="7772400" cy="1660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Zwangersch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http://www.afvallen-weblog.nl/media/99/2009_06/zwangerschap_aankomen.jpg"/>
          <p:cNvPicPr/>
          <p:nvPr/>
        </p:nvPicPr>
        <p:blipFill>
          <a:blip r:embed="rId1"/>
          <a:stretch/>
        </p:blipFill>
        <p:spPr>
          <a:xfrm>
            <a:off x="5562720" y="3276720"/>
            <a:ext cx="2286000" cy="3429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http://www.gezondheidsnet.nl/upload/zwangerschap/zwanger_eten/zwanger_eten_365x243.jpg"/>
          <p:cNvPicPr/>
          <p:nvPr/>
        </p:nvPicPr>
        <p:blipFill>
          <a:blip r:embed="rId2"/>
          <a:stretch/>
        </p:blipFill>
        <p:spPr>
          <a:xfrm>
            <a:off x="399960" y="650880"/>
            <a:ext cx="3943440" cy="2625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http://www.borstvoeden.nl/site/images/stories/veiligheid/zwanger_alcohol.jpg"/>
          <p:cNvPicPr/>
          <p:nvPr/>
        </p:nvPicPr>
        <p:blipFill>
          <a:blip r:embed="rId3"/>
          <a:stretch/>
        </p:blipFill>
        <p:spPr>
          <a:xfrm>
            <a:off x="5334120" y="228600"/>
            <a:ext cx="284940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Foliumzuur gebrui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715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Foliumzuur is vitamine B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Zit in voedingsmiddelen, zoals  verse groenten, fruit, aardappelen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olkoren producten en zui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Tijdens zwangerschap onvoldoende uit voedsel, extra aanvulling noodzakelij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Advies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start van foliumzuur een maand voordat je gaat stoppen met pil of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ander voorbehoedsmiddel,  tot 2 maanden zwangerscha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Duurt 4 weken eer het in je lichaam is opgeno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Foliumzuur tablet 0,5 mg, 1 maal daa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Doe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oorkomen van een open ruggetje(spina bifida)/open sche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7500960" y="4943520"/>
            <a:ext cx="191448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Onderzoeken tijdens zwangerschap i.v.m. ongeboren ki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choscopi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20 weken, deze zit in het basispakk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erste trimestercombinatietest: bloedonderzoek,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ekplooimeting + leeftijd moeder en duur zwangerschap geeft risico op kind met S. van 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lokkentes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ruchtwateronderzoe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T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s://www.youtube.com/watch?v=rlv__4YhH1o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zwangerschapsduu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Cyclus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gerekend vanaf 1</a:t>
            </a:r>
            <a:r>
              <a:rPr b="0" lang="nl-NL" sz="20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 dag van de menstruati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Zwanger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graviditei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Normale zwangerschapsduur 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40 weken, één tot twee weken te vroeg of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       over tij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Vroeggeboorte: ( prematuur) : 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als nog voor zwangerschapsduur van 37 weken de weeën beginnen, bloed verlies en baarmoeder open en vruchtwater verlies. Dreigende vroeggeboorte is </a:t>
            </a: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SPOED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Serotiniteit: 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als zwangerschap langer duurt dan 42 we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reken fout? Hoe is het met conditie van het kind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Evt  kunstmatig inleid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752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De bevalling kondigt zich aan door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76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aarmoedercontracties die in pijn toene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et tekenen: verliezen van een bloedslijmpr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reken van de vliez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Bevallingsfase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I ontsluitingstijdperk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; baarmoedermond gaat openstaan agv weeë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II uitdrijvingstijdperk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: bij 10 cm vo (volkomen ontsluiting) mag de vrouw persen en het kind wordt gebo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III nageboortetijdperk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: placenta en vliezen worden gebo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" descr="uitdrijving baby"/>
          <p:cNvPicPr/>
          <p:nvPr/>
        </p:nvPicPr>
        <p:blipFill>
          <a:blip r:embed="rId1"/>
          <a:stretch/>
        </p:blipFill>
        <p:spPr>
          <a:xfrm>
            <a:off x="500040" y="1295280"/>
            <a:ext cx="8143920" cy="2133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"/>
          <p:cNvPicPr/>
          <p:nvPr/>
        </p:nvPicPr>
        <p:blipFill>
          <a:blip r:embed="rId2"/>
          <a:stretch/>
        </p:blipFill>
        <p:spPr>
          <a:xfrm>
            <a:off x="5638680" y="4437000"/>
            <a:ext cx="266544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828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Puerperium (Kraamb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e tijd die het lichaam nodig heeft om te ontzwangere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uur ongeveer 6 we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5638680" y="4495680"/>
            <a:ext cx="24386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Normale verschijnsel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lies van lochia: vaginale afscheiding bestaande uit wondvocht en bloed, verandert van rood via roze naar geel en vervolgens naar witgeel de normale kle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bstipatie,  aambeien : bang op te persen en/of  verslapte spi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ijn, zwelling in de borsten door het toeschieten van de mel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3de, 4de dag kraamtra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Doen tijdens kraambed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ctiviteiten  geleidelijk opvoeren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oldoende rust ne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zelrijk di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pieroefeningen /postnatale gymnasti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Times New Roman"/>
              </a:rPr>
              <a:t>Zwanger?</a:t>
            </a:r>
            <a:r>
              <a:rPr b="1" lang="nl-NL" sz="4400" spc="-1" strike="noStrike">
                <a:solidFill>
                  <a:srgbClr val="e6b9b8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700" spc="-1" strike="noStrike">
                <a:solidFill>
                  <a:srgbClr val="000000"/>
                </a:solidFill>
                <a:latin typeface="Times New Roman"/>
              </a:rPr>
              <a:t>Zwangerschapstest : 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aantonen Humaan Chorion Gonadotrofine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hormoon ( HCG) in urine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15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nl-NL" sz="1500" spc="-1" strike="noStrike">
                <a:solidFill>
                  <a:srgbClr val="000000"/>
                </a:solidFill>
                <a:latin typeface="Times New Roman"/>
              </a:rPr>
              <a:t>Niet vergoedt , tenzij op medische indicatie!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700" spc="-1" strike="noStrike">
                <a:solidFill>
                  <a:srgbClr val="000000"/>
                </a:solidFill>
                <a:latin typeface="Times New Roman"/>
              </a:rPr>
              <a:t>Zwangerschap gewenst en test positief :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Felicitati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Afspraak huisart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Advies foliumzuur en stop roke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700" spc="-1" strike="noStrike">
                <a:solidFill>
                  <a:srgbClr val="000000"/>
                </a:solidFill>
                <a:latin typeface="Times New Roman"/>
              </a:rPr>
              <a:t>Zwangerschap gewenst en test negatief: 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Vragen hoe lang de vrouw a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zwanger probeert te raken; evt. afspraak huisart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Regel: &lt; 30 jaar , criteria 1 jaa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&gt; 30 jaar , criteria ½ jaar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700" spc="-1" strike="noStrike">
                <a:solidFill>
                  <a:srgbClr val="000000"/>
                </a:solidFill>
                <a:latin typeface="Times New Roman"/>
              </a:rPr>
              <a:t>Zwangerschap niet gewenst en  test positief: 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afspraak huisart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700" spc="-1" strike="noStrike">
                <a:solidFill>
                  <a:srgbClr val="000000"/>
                </a:solidFill>
                <a:latin typeface="Times New Roman"/>
              </a:rPr>
              <a:t>Zwangerschap niet gewenst en test negatief: </a:t>
            </a:r>
            <a:r>
              <a:rPr b="0" lang="nl-NL" sz="1700" spc="-1" strike="noStrike">
                <a:solidFill>
                  <a:srgbClr val="000000"/>
                </a:solidFill>
                <a:latin typeface="Times New Roman"/>
              </a:rPr>
              <a:t>vragen naar anticoncepti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4952880" y="2209680"/>
            <a:ext cx="336240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Ziekten / afwijkingen tijdens 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zwangerschap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de bevalling en in het kraamb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Ziekten tijdens de zwangersch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Abortus spontanus = miskra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E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Hyperemesis gravidar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Bekkeninstabilit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wangerschapsdiabe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wangerschapshypertensie – toxicose –HELLPsyndroom – (pre-)ecclamps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lacenta prev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Bevalling komt voor de 37ste week op ga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Solutio placenta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Miskra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791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Spontane  abortus: in de eerste 16 weken, 1 op 10 zwangerschappe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kan dit op een natuurlijke wijze zich voordo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Symptomen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vaginaal bloedverlies/stolsels ( niet meer dan een forse menstruatie), buikpijn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vergelijkbaar met menstruatie, misselijkheid, kan paar dagen tot een  week duren, pijn 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bloedverlies wordt geleidelijk aan mi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Oorzaak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aanlegstoornis, vruchtje niet in orde,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geen miskraam maar bloeding duidt op wondje, poliep, innestelingsbloed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Risico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eerdere miskramen gehad ( antistoffen) , leeftij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Advies/behandeling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contact huisarts ivm emotioneel gebeuren, evt. ech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(vanaf 6 wek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Let wel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Bij aanhoudend bloedverlies ( 1 week) ,koorts, hevig bloedverlies en buikpijn &gt; verwijzing gynaecolo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Hyperemesis gravidar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Zeer ernstig braken tijdens zwangersch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orzaak: hormonaal? Overbezorgdheid omgev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erschijnsel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eel braken, ziek, niet kunnen function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Gewicht daalt + uitdro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itaminetek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Elektrolytenbalans versto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Kan meerdere keren terugk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Ac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ventueel ziekenhuisop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Placenta prev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Tijdens de tweede helft van de zwangerschap is de  moederkoe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( placenta) geheel of gedeeltelijk voor de uitgang gaan ligge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De rand van moederkoek kan klein beetje losscheuren van  baarmoederwa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Symptomen: plotseling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pijnloos bloedverlies en uiteindelijk hev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loedverlies doordat baarmoeder opengaa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Onderzoek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echo , beleid evt. afwacht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Risico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gevaar voor kind en moeder, evt keizersn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Placenta prev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3" descr="https://verloskunde.slingeland.nl/wms/fm/userfiles/content/verloskunde/placenta_ligging.jpg"/>
          <p:cNvPicPr/>
          <p:nvPr/>
        </p:nvPicPr>
        <p:blipFill>
          <a:blip r:embed="rId1"/>
          <a:stretch/>
        </p:blipFill>
        <p:spPr>
          <a:xfrm>
            <a:off x="152280" y="2141640"/>
            <a:ext cx="4191120" cy="2574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http://img.webmd.com/dtmcms/live/webmd/consumer_assets/site_images/articles/health_and_medical_reference/womens_health/understanding_placenta_previa_basics_Placenta_Previa.jpg"/>
          <p:cNvPicPr/>
          <p:nvPr/>
        </p:nvPicPr>
        <p:blipFill>
          <a:blip r:embed="rId2"/>
          <a:stretch/>
        </p:blipFill>
        <p:spPr>
          <a:xfrm>
            <a:off x="4876920" y="2438280"/>
            <a:ext cx="380988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5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olutio placentae </a:t>
            </a:r>
            <a:br>
              <a:rPr sz="4400"/>
            </a:br>
            <a:r>
              <a:rPr b="0" lang="nl-NL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dailymotion.com/video/xasqsd_pregnancy-risks-placental-abruption_school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772400" cy="558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Moederkoek laat in tweede helft van zwangerschap plotsel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geheel of gedeeltelijk los. Veroorzaakt door een scheur in bloedvaten, tuss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moederkoek en baarmoederwand , bloeding achter moederkoek ontstaat 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Kan helemaal losscheuren, hoe groter de loslating hoe ernstiger de verschijnselen. </a:t>
            </a: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SPOED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Relatief veel voor bij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hoge bloeddruk en roken, drugs(cocaine) valpartij, trauma, erfelijkheid en stollingsziekt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Symptom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acuut optredende heftige buikpij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vaginaal bloedverl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een harde buik ('harde uterus') door een continue weeënkram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door zuurstoftekort kan het kind een onregelmatige hartslag krijgen en zelfs overlijd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duizeligheid en kans op flauw vallen door de pijn en de bloeding in de baarmoed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Risico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kans op overlijden van het kind  is groot, evt bevalling afwachten of keizersnee,  klachten moeder behand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4595760" y="6597720"/>
            <a:ext cx="308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47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Zwangerschapshypertens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eel voorkomende aandoening in 2</a:t>
            </a:r>
            <a:r>
              <a:rPr b="0" lang="nl-NL" sz="20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 helft van zwangerscha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loeddruk is te hoog, dit leidt tot beschadiging van bloedvaten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moederkoek. Ontwikkeling moederkoek onvoldoen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Foetus kans op groeivertraging, te weinig zuurstof of fatale af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Ook moeder loopt risico: vocht vasthouden, gewichtstoename , nier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eschadigen, eiwit in urine ( proteïnurie 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Pre-eclampsie: combinatie van hypertensie, proteïnurie en oedee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Kan leiden tot orgaanschade ( lever /nieren/hersenen) en epileptisch in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62120" y="990720"/>
            <a:ext cx="7772400" cy="5410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Onderdeel van ernstige vorm pre- eclampsi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HELPP-syndroom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Hemolysis elevated Liver enzymes Low platelet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Hemolyse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etekent dat de rode bloedlichaampjes kapot ga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Elevated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:  ernstige lever functie stoornis; betekent dat de bloeduitslagen van de  lever afwijkend zijn en aangeven dat de lever niet meer goed functionee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Low Platelet: 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erlaagd aantal  bloedplaatjes;  zorgen voor de stolling; als er te weinig zijn, dan geeft dat een stollingsstoorn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6019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Times New Roman"/>
              </a:rPr>
              <a:t>Bij een pre-eclampsie kunnen naast de HELLP syndroo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Times New Roman"/>
              </a:rPr>
              <a:t>afwijkingen, verder de volgende verschijnselen aanwezig zijn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(sterk) verhoogde bloeddru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eiwit in de uri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hoofdpijn en sterretjes zien, tintelingen voelen in de vinge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vocht vasthouden (oedeem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heftige reactie op het uitvoeren van de 'kniepees reflex'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knellend gevoel in de bovenbuik (maagstreek) door een verhoogde spanning bij de lev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misselijkheid en brak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ernstig ziek gevo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Complicaties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hersenbloeding, nierinsufficiëntie , loslating place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Risico bij geen behandeling 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in coma raken, insul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Behandeling: o.a. opname ziekenhuis, bedrust,anti- hypertensiva, keizersn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Wel/niet gewens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257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Abortus provocatus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oortijdig afbreken van een zwangerschap door medisch ingrijpen, voordat het levensvatbaar 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Method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Morning afterpil 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binnen 72 uur na geslachtsgemeensch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Morning  afterspiraal: 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na  72 uur en  binnen een week na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                geslachtsgemeensch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Overtijdsbehandeling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12 tot 16 dagen overtijd, middels zuigcurretage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nl-NL" sz="1800" spc="-1" strike="noStrike">
                <a:solidFill>
                  <a:srgbClr val="000000"/>
                </a:solidFill>
                <a:latin typeface="Times New Roman"/>
              </a:rPr>
              <a:t>geen wettelijke bedenktijd van 5 dag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Abortuspil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tot 7 weken overtijd: afstoten bevruchte eic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Zuigcurretage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12 tot 13 weken , wettelijke bedenktijd van vijf dagen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Beperkte klinieken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13 -20 weken abortus uitgevoerd ( wettelijk t/m 22 wk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Levensvatbaarheidgrens: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24 weken, vrucht buiten baarmoeder levensvatbaar i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Extra Uteriene Graviditeit( EUG 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5257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innesteling in baarmoederslijmvlies van de eileider, buitenbaarmoederlijk zwangersch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Symptomen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overtijd, vage klachten, vaginale bloeding, bloeding in buikhol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eroorzaakt  uiteindelijk hevige buikpijn: peritonitis ( fatale afloop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Oorzaak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littekens en verklevingen na een appendicitis ; eerdere operatie aan eileid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Times New Roman"/>
              </a:rPr>
              <a:t>Soms per toeval ontdekt tijdens eerste echo control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Behandeling/advies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ij hevige buikpijn spoed, zwangerschapstest , echo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laparoscopie en operatief verwijde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Geen behandeling: LEVENSBEDREIG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3935520" y="6608880"/>
            <a:ext cx="307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Problemen tijdens de beval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800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uurt te lang de vrouw raakt uitge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ind krijgt het benauwd, te merken door veranderde hartslag, groene ontla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Uitdrijving gaat langzaam: forceps(tang) of vacuümpomp toepass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lacenta blijft vastzit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loed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2997360" y="2011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2997360" y="2011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4400640" y="2460600"/>
            <a:ext cx="1657440" cy="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71280" rIns="-71280" tIns="-66600" bIns="-66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3086280" y="2355840"/>
            <a:ext cx="7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6" descr="http://t0.gstatic.com/images?q=tbn:ANd9GcSnyBKpAjf51pbg-si9xETClTZelCKOseXFyXYx4oi1T-Iw2aUHLw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457200"/>
            <a:ext cx="2651040" cy="249228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8"/>
          <p:cNvSpPr/>
          <p:nvPr/>
        </p:nvSpPr>
        <p:spPr>
          <a:xfrm>
            <a:off x="3197160" y="2544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3197160" y="2544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4714920" y="4165560"/>
            <a:ext cx="1143000" cy="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71280" rIns="-71280" tIns="-66600" bIns="-66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3"/>
          <p:cNvSpPr/>
          <p:nvPr/>
        </p:nvSpPr>
        <p:spPr>
          <a:xfrm>
            <a:off x="3286080" y="2889360"/>
            <a:ext cx="7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12"/>
          <p:cNvSpPr/>
          <p:nvPr/>
        </p:nvSpPr>
        <p:spPr>
          <a:xfrm>
            <a:off x="3286080" y="2889360"/>
            <a:ext cx="792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14"/>
          <p:cNvSpPr/>
          <p:nvPr/>
        </p:nvSpPr>
        <p:spPr>
          <a:xfrm>
            <a:off x="2868480" y="2222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5"/>
          <p:cNvSpPr/>
          <p:nvPr/>
        </p:nvSpPr>
        <p:spPr>
          <a:xfrm>
            <a:off x="2868480" y="2222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6"/>
          <p:cNvSpPr/>
          <p:nvPr/>
        </p:nvSpPr>
        <p:spPr>
          <a:xfrm>
            <a:off x="4200480" y="3568680"/>
            <a:ext cx="1986120" cy="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71280" rIns="-71280" tIns="-66600" bIns="-66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9"/>
          <p:cNvSpPr/>
          <p:nvPr/>
        </p:nvSpPr>
        <p:spPr>
          <a:xfrm>
            <a:off x="2957400" y="2567160"/>
            <a:ext cx="7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20"/>
          <p:cNvSpPr/>
          <p:nvPr/>
        </p:nvSpPr>
        <p:spPr>
          <a:xfrm>
            <a:off x="42840" y="2343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21"/>
          <p:cNvSpPr/>
          <p:nvPr/>
        </p:nvSpPr>
        <p:spPr>
          <a:xfrm>
            <a:off x="42840" y="2343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22"/>
          <p:cNvSpPr/>
          <p:nvPr/>
        </p:nvSpPr>
        <p:spPr>
          <a:xfrm>
            <a:off x="7869240" y="3308400"/>
            <a:ext cx="1143000" cy="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71280" rIns="-71280" tIns="-66600" bIns="-66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25"/>
          <p:cNvSpPr/>
          <p:nvPr/>
        </p:nvSpPr>
        <p:spPr>
          <a:xfrm>
            <a:off x="131760" y="2687760"/>
            <a:ext cx="7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24" descr="http://t0.gstatic.com/images?q=tbn:ANd9GcS-Jy2RF6gGy93e94Hfvad-OyWq4kYU-sAp7hisAi_SbyqBFmzBJw"/>
          <p:cNvPicPr/>
          <p:nvPr/>
        </p:nvPicPr>
        <p:blipFill>
          <a:blip r:embed="rId3"/>
          <a:stretch/>
        </p:blipFill>
        <p:spPr>
          <a:xfrm>
            <a:off x="6629400" y="60948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26"/>
          <p:cNvSpPr/>
          <p:nvPr/>
        </p:nvSpPr>
        <p:spPr>
          <a:xfrm>
            <a:off x="1739880" y="2297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27"/>
          <p:cNvSpPr/>
          <p:nvPr/>
        </p:nvSpPr>
        <p:spPr>
          <a:xfrm>
            <a:off x="1739880" y="2297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28"/>
          <p:cNvSpPr/>
          <p:nvPr/>
        </p:nvSpPr>
        <p:spPr>
          <a:xfrm>
            <a:off x="5165640" y="3227400"/>
            <a:ext cx="2151000" cy="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71280" rIns="-71280" tIns="-66600" bIns="-66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31"/>
          <p:cNvSpPr/>
          <p:nvPr/>
        </p:nvSpPr>
        <p:spPr>
          <a:xfrm>
            <a:off x="1828800" y="2641680"/>
            <a:ext cx="7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30" descr="http://t1.gstatic.com/images?q=tbn:ANd9GcRK4ndeqtzEIoxOd1LtfnkOHXLAhKNVH5A4jOnRBz9-LrgEwXPSWg"/>
          <p:cNvPicPr/>
          <p:nvPr/>
        </p:nvPicPr>
        <p:blipFill>
          <a:blip r:embed="rId4"/>
          <a:stretch/>
        </p:blipFill>
        <p:spPr>
          <a:xfrm>
            <a:off x="1828800" y="3095640"/>
            <a:ext cx="6019920" cy="33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38120" y="31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Problemen in het kraamb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77724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Lage weerstand , kans op infec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Koorts in kraambed denk aan de 4 B’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Blaas 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UWI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Benen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thrombophlebitis of trombo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Borsten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mastitis, tepelklov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Buik: </a:t>
            </a: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endometritis ( ontsteking baarmoederslijmvlies) buikpijn gepaard met stinkende loch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ostnatale depressie, kan maanden na de bevalling optreden, somber, slecht slapen, binding moeder kind versto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Kraambedpsychose: verward, achterdochtig, angsti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evaar voor moeder en kind: spo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Zie hoofdstuk 9 medische ken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5562720" y="2209680"/>
            <a:ext cx="264780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Medicatie bij trombosebe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epar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Injectie 1dd, 5 d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umarine tablet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Acenocouma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Zodra cumarine werkt, stoppen met Hepar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Zwang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Plac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aarmoe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Rect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aarmoederh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Vag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Bla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Foe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Navelstre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4964040" y="1981080"/>
            <a:ext cx="3178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0" descr="http://www.xead.nl/upload/0693e57cccc734dcb7843b3432435cfbd2VlazE1LWZldHVzLmpwZw==.jpg"/>
          <p:cNvPicPr/>
          <p:nvPr/>
        </p:nvPicPr>
        <p:blipFill>
          <a:blip r:embed="rId1"/>
          <a:stretch/>
        </p:blipFill>
        <p:spPr>
          <a:xfrm>
            <a:off x="457200" y="228600"/>
            <a:ext cx="3587760" cy="3657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1" descr="http://www.helingdoorbachbloesems.nl/afbeeldingen/zwanger16.jpg"/>
          <p:cNvPicPr/>
          <p:nvPr/>
        </p:nvPicPr>
        <p:blipFill>
          <a:blip r:embed="rId2"/>
          <a:stretch/>
        </p:blipFill>
        <p:spPr>
          <a:xfrm>
            <a:off x="4572000" y="3124080"/>
            <a:ext cx="4419720" cy="335124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22"/>
          <p:cNvSpPr/>
          <p:nvPr/>
        </p:nvSpPr>
        <p:spPr>
          <a:xfrm>
            <a:off x="152892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3"/>
          <p:cNvSpPr/>
          <p:nvPr/>
        </p:nvSpPr>
        <p:spPr>
          <a:xfrm>
            <a:off x="152892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7"/>
          <p:cNvSpPr/>
          <p:nvPr/>
        </p:nvSpPr>
        <p:spPr>
          <a:xfrm>
            <a:off x="1617840" y="2189160"/>
            <a:ext cx="7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26" descr="http://t0.gstatic.com/images?q=tbn:ANd9GcR5f6DaVdWiDyiZ9w4b9A7X-n7FlEY-cbzKGBKPOUhn6Mxfx9PY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00600" y="533520"/>
            <a:ext cx="3657600" cy="22446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28"/>
          <p:cNvSpPr/>
          <p:nvPr/>
        </p:nvSpPr>
        <p:spPr>
          <a:xfrm>
            <a:off x="3017880" y="1971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29"/>
          <p:cNvSpPr/>
          <p:nvPr/>
        </p:nvSpPr>
        <p:spPr>
          <a:xfrm>
            <a:off x="3017880" y="1971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33"/>
          <p:cNvSpPr/>
          <p:nvPr/>
        </p:nvSpPr>
        <p:spPr>
          <a:xfrm>
            <a:off x="3106800" y="2316240"/>
            <a:ext cx="7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32" descr="http://t3.gstatic.com/images?q=tbn:ANd9GcTUBWRLkq4FuAnzZsbc76dHoAJJRDscz22qD1leMWYSq1TkXmgdyQ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914400" y="3962520"/>
            <a:ext cx="2571840" cy="257148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34"/>
          <p:cNvSpPr/>
          <p:nvPr/>
        </p:nvSpPr>
        <p:spPr>
          <a:xfrm>
            <a:off x="4495680" y="152280"/>
            <a:ext cx="624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7"/>
              </a:rPr>
              <a:t>http://www.youtube.com/watch?v=GNp6oySz6V4</a:t>
            </a:r>
            <a:r>
              <a:rPr b="0" lang="nl-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35"/>
          <p:cNvSpPr/>
          <p:nvPr/>
        </p:nvSpPr>
        <p:spPr>
          <a:xfrm>
            <a:off x="1521720" y="6400800"/>
            <a:ext cx="47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http://www.youtube.com/watch?v=AcLso3g4-0o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hthoek 1"/>
          <p:cNvSpPr/>
          <p:nvPr/>
        </p:nvSpPr>
        <p:spPr>
          <a:xfrm>
            <a:off x="4062240" y="27874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http://www.youtube.com/watch?v=w1810c_fzZo`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Verschijnselen tijdens de zwangersch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486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Gespannen bors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wangerschapslus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Misselijkheid en bra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Rugpijn houding verande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Striae tgv snelle groei scheurtjes in de onderhu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arices druk van foetus op de va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Chloasma gravidaru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Obstipatie agv minder bewe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Maagklachten  kind drukt de maag we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oor hormonale veranderingen, tenzij anders aangege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0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Chloasma gravidarum = zwangerschapsmask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324000" y="2060640"/>
            <a:ext cx="4876560" cy="3341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3"/>
          <a:stretch/>
        </p:blipFill>
        <p:spPr>
          <a:xfrm>
            <a:off x="5381640" y="3095640"/>
            <a:ext cx="3762360" cy="3762360"/>
          </a:xfrm>
          <a:prstGeom prst="rect">
            <a:avLst/>
          </a:prstGeom>
          <a:ln w="0">
            <a:noFill/>
          </a:ln>
        </p:spPr>
      </p:pic>
      <p:sp>
        <p:nvSpPr>
          <p:cNvPr id="77" name="Rechthoek 1"/>
          <p:cNvSpPr/>
          <p:nvPr/>
        </p:nvSpPr>
        <p:spPr>
          <a:xfrm>
            <a:off x="324000" y="56577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www.checkzis.com/nl/lijst/473/zwangerschapskwaaltjes/4502/pigmentvlekken/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Lichamelijke en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psychische veranderi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876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In de eerste 3 maanden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Ochtend misselijkheid/overgev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smaakverand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Gespannen bors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Slaper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Stemmingswisseli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anaf 3 maanden – 6 maand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Aspecifieke maagklachten:zuurbrand en opgeblazen gevo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Veranderingen van de huid; vetter / pigment neem to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Kans op evt. zwangerschapsmaske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Toename gewich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Psychische veranderingen: gespannen, bezorgd, angstig en/of prikkelba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In de laatste maand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slecht slapen, pijn in rug/bekken, vaak plassen, slecht tegen warmte kunn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4098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Leefregels tijdens de zwangersch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eweging en rust afwisse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Zich (goed laten) voorlich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Zwangerschapsgymnasti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Letten op voeding, eten voor 2 is onz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iet roken, geen alcoh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edicijnen alleen na overleg arts/verloskundi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8T14:15:25Z</dcterms:created>
  <dc:creator>Agnieta</dc:creator>
  <dc:description/>
  <dc:language>en-US</dc:language>
  <cp:lastModifiedBy>marlies bouland</cp:lastModifiedBy>
  <dcterms:modified xsi:type="dcterms:W3CDTF">2018-09-30T17:31:32Z</dcterms:modified>
  <cp:revision>36</cp:revision>
  <dc:subject/>
  <dc:title>Graviditeit</dc:title>
</cp:coreProperties>
</file>