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9E9A3-FE5F-4A88-858E-09648B734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5F99-F19F-4B19-9475-225B7184B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58B24-7862-4C58-B8E8-B44D870F3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E3A8B-EA74-4EF8-9E20-61FEB6903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4AB556-9935-4699-84DC-D96141476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3E8D67-DB64-4B54-AF88-45993B2B5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A6A16-D56A-489B-8131-FBDA5D7A7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68E26B-4AC3-482F-930A-F19AEFC76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7F7B6-09D6-41E3-9B2F-C23080D02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F6F99-D16E-4568-9184-8BE867C71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DA096-35F8-4300-9BEC-A6B957B68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4510F-8F1D-485E-84D0-2C7DEC62A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52D34-AFB7-437B-A3C6-9D829CD9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4C318-FEDD-4837-918D-28CAE92BF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388D5-821B-42B7-AE46-58E20065D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0602A-8444-4187-9E7F-57A473F805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0EB35-9DDD-47CE-A463-C35C27513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B25F7-21A6-4F79-A25B-45F0A9F7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E81D9-E1E9-421D-BAA1-A094B48B8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81951-0F4F-4A7E-83C9-EA90F0A32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0AFAF-0442-4938-9D24-D9EC99E45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6062E-0572-43E1-BF62-9F6BA74A3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9831B-9574-4FD1-BA4D-4064982B5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986BE-0414-4FE2-B3EA-143F026AB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CFF4-DBA3-46D3-9BB4-897F12C0EE4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0F04-0907-49E5-B5B6-2106F3B0B2C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Leefgewoonte en verslav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ie(t) , wat, hoe…</a:t>
            </a:r>
            <a:endParaRPr b="1" lang="en-US" sz="3600" spc="-1" strike="noStrike">
              <a:solidFill>
                <a:srgbClr val="006666"/>
              </a:solidFill>
              <a:latin typeface="Arial"/>
            </a:endParaRPr>
          </a:p>
        </p:txBody>
      </p:sp>
      <p:sp>
        <p:nvSpPr>
          <p:cNvPr id="114" name=""/>
          <p:cNvSpPr txBox="1"/>
          <p:nvPr/>
        </p:nvSpPr>
        <p:spPr>
          <a:xfrm>
            <a:off x="838080" y="2361960"/>
            <a:ext cx="7694640" cy="41432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 van de Nederlanders gebruikt dagelijks cannabis (wiet en hasj, Nationale Drugs Monitor 2013/14)</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ijst 2: cannabisproducten( ghb gehalte &gt;15%), maar ook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laapmiddelen en kalmeringsmiddelen</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oals diazepam en nitrazepam</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5" name="Picture 2" descr=""/>
          <p:cNvPicPr/>
          <p:nvPr/>
        </p:nvPicPr>
        <p:blipFill>
          <a:blip r:embed="rId1"/>
          <a:stretch/>
        </p:blipFill>
        <p:spPr>
          <a:xfrm>
            <a:off x="6980400" y="4724280"/>
            <a:ext cx="3105000" cy="206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ijna 2 miljoen mensen in Nederland kregen slaap of kalmeringstabletten voorgeschrev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Langer dan 3 mnd gebruik verslaaf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600.000 mensen gebruiken dagelijks benziodiazepines, barbituraten en/of psychopharmatic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 descr=""/>
          <p:cNvPicPr/>
          <p:nvPr/>
        </p:nvPicPr>
        <p:blipFill>
          <a:blip r:embed="rId1"/>
          <a:stretch/>
        </p:blipFill>
        <p:spPr>
          <a:xfrm>
            <a:off x="838080" y="2361960"/>
            <a:ext cx="7693200" cy="3724200"/>
          </a:xfrm>
          <a:prstGeom prst="rect">
            <a:avLst/>
          </a:prstGeom>
          <a:ln w="0">
            <a:noFill/>
          </a:ln>
        </p:spPr>
      </p:pic>
      <p:pic>
        <p:nvPicPr>
          <p:cNvPr id="118" name="Picture 2" descr=""/>
          <p:cNvPicPr/>
          <p:nvPr/>
        </p:nvPicPr>
        <p:blipFill>
          <a:blip r:embed="rId2"/>
          <a:stretch/>
        </p:blipFill>
        <p:spPr>
          <a:xfrm>
            <a:off x="0" y="1155600"/>
            <a:ext cx="9144000" cy="534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iumwet</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piumwet maakt onderscheid naar gevaar voor de volksgezondheid.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rugs met een onaanvaardbaar risico staan op lijst 1 (harddru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ddelen met minder groot risico op lijst 2 (softdrugs :hasj en weed/wiet, slaap en kalmeringsmiddel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hard drug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rslavend vanwege de ‘beleving’ het ‘goede gevoel’</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verdosering = dodelijk</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 </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agressief, versnelde ademhaling en hartslag, diaree, misselijk, braken, delier</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ulpverlening, afkicken</a:t>
            </a: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jst 1</a:t>
            </a:r>
            <a:endParaRPr b="1" lang="en-US" sz="3600" spc="-1" strike="noStrike">
              <a:solidFill>
                <a:srgbClr val="006666"/>
              </a:solidFill>
              <a:latin typeface="Arial"/>
            </a:endParaRPr>
          </a:p>
        </p:txBody>
      </p:sp>
      <p:sp>
        <p:nvSpPr>
          <p:cNvPr id="124" name=""/>
          <p:cNvSpPr txBox="1"/>
          <p:nvPr/>
        </p:nvSpPr>
        <p:spPr>
          <a:xfrm>
            <a:off x="837720" y="2361960"/>
            <a:ext cx="7766280" cy="4306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XTC / MDMA: party of festivaldrugs.  In 2013 had 34.8% in de laatste maand xtc gebruik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mfetaminen /spe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ca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ro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S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ddo/truffe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H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9880" y="766440"/>
            <a:ext cx="8021880" cy="65160"/>
          </a:xfrm>
          <a:prstGeom prst="rect">
            <a:avLst/>
          </a:prstGeom>
          <a:noFill/>
          <a:ln w="0">
            <a:noFill/>
          </a:ln>
        </p:spPr>
        <p:txBody>
          <a:bodyPr tIns="19440" bIns="19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Picture 4" descr=""/>
          <p:cNvPicPr/>
          <p:nvPr/>
        </p:nvPicPr>
        <p:blipFill>
          <a:blip r:embed="rId1"/>
          <a:stretch/>
        </p:blipFill>
        <p:spPr>
          <a:xfrm>
            <a:off x="655560" y="765000"/>
            <a:ext cx="3411720" cy="2303640"/>
          </a:xfrm>
          <a:prstGeom prst="rect">
            <a:avLst/>
          </a:prstGeom>
          <a:ln w="0">
            <a:noFill/>
          </a:ln>
        </p:spPr>
      </p:pic>
      <p:pic>
        <p:nvPicPr>
          <p:cNvPr id="128" name="Picture 5" descr=""/>
          <p:cNvPicPr/>
          <p:nvPr/>
        </p:nvPicPr>
        <p:blipFill>
          <a:blip r:embed="rId2"/>
          <a:stretch/>
        </p:blipFill>
        <p:spPr>
          <a:xfrm>
            <a:off x="2771640" y="907920"/>
            <a:ext cx="6242040" cy="533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ragen/advies/hulp/testen. Jellinek.nl</a:t>
            </a:r>
            <a:endParaRPr b="1" lang="en-US" sz="3600" spc="-1" strike="noStrike">
              <a:solidFill>
                <a:srgbClr val="006666"/>
              </a:solidFill>
              <a:latin typeface="Arial"/>
            </a:endParaRPr>
          </a:p>
        </p:txBody>
      </p:sp>
      <p:sp>
        <p:nvSpPr>
          <p:cNvPr id="130" name="PlaceHolder 1"/>
          <p:cNvSpPr>
            <a:spLocks noGrp="1"/>
          </p:cNvSpPr>
          <p:nvPr>
            <p:ph/>
          </p:nvPr>
        </p:nvSpPr>
        <p:spPr>
          <a:xfrm>
            <a:off x="838080" y="2362320"/>
            <a:ext cx="7693200" cy="43797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linek is dé expert op het gebied van verslavingen van alcohol en drugs en biedt naast basisgegevens ook info over o.a. gokverslaving, gameverslaving, seksverslaving, internetverslaving, eetverslavingen enz. </a:t>
            </a:r>
            <a:endParaRPr b="0" lang="en-US" sz="2400" spc="-1" strike="noStrike">
              <a:solidFill>
                <a:srgbClr val="003366"/>
              </a:solidFill>
              <a:latin typeface="Arial"/>
            </a:endParaRPr>
          </a:p>
        </p:txBody>
      </p:sp>
      <p:pic>
        <p:nvPicPr>
          <p:cNvPr id="131" name="Picture 4" descr=""/>
          <p:cNvPicPr/>
          <p:nvPr/>
        </p:nvPicPr>
        <p:blipFill>
          <a:blip r:embed="rId1"/>
          <a:stretch/>
        </p:blipFill>
        <p:spPr>
          <a:xfrm>
            <a:off x="6516720" y="4338720"/>
            <a:ext cx="1466640" cy="181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34400" y="814680"/>
            <a:ext cx="7891200" cy="692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Leefgewoonten bij jongeren</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BS (onderzoek 2011) </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erimenteren met roken, alcohol en drugs hoort bij overgang van jeugd naar volwassenheid (15-25 jr)</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oenemend probleem is onvoldoende lichaamsbeweging en obesitas</a:t>
            </a: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slaving / afhankelijkheid</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800" spc="-1" strike="noStrike">
                <a:solidFill>
                  <a:srgbClr val="003366"/>
                </a:solidFill>
                <a:latin typeface="Arial"/>
              </a:rPr>
              <a:t>Er is sprake van verslaving als de stof of de gewoonte een centrale positie inneemt in het leven en als er sprake is van 1) een gebrek aan controle over het gebruik, 2) tolerantie, 3) hunkering </a:t>
            </a:r>
            <a:r>
              <a:rPr b="0" i="1" lang="nl-NL" sz="2800" spc="-1" strike="noStrike">
                <a:solidFill>
                  <a:srgbClr val="003366"/>
                </a:solidFill>
                <a:latin typeface="Arial"/>
              </a:rPr>
              <a:t>(craving)</a:t>
            </a:r>
            <a:r>
              <a:rPr b="0" lang="nl-NL" sz="2800" spc="-1" strike="noStrike">
                <a:solidFill>
                  <a:srgbClr val="003366"/>
                </a:solidFill>
                <a:latin typeface="Arial"/>
              </a:rPr>
              <a:t> en 4) onthoudings-verschijnselen </a:t>
            </a:r>
            <a:r>
              <a:rPr b="0" i="1" lang="nl-NL" sz="2800" spc="-1" strike="noStrike">
                <a:solidFill>
                  <a:srgbClr val="003366"/>
                </a:solidFill>
                <a:latin typeface="Arial"/>
              </a:rPr>
              <a:t>(abstinenti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ndere verslavingen</a:t>
            </a:r>
            <a:endParaRPr b="1" lang="en-US" sz="3600" spc="-1" strike="noStrike">
              <a:solidFill>
                <a:srgbClr val="006666"/>
              </a:solidFill>
              <a:latin typeface="Arial"/>
            </a:endParaRPr>
          </a:p>
        </p:txBody>
      </p:sp>
      <p:sp>
        <p:nvSpPr>
          <p:cNvPr id="102"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tstoorniss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am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ocial media/internet</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Gokk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dicijnen</a:t>
            </a:r>
            <a:endParaRPr b="0" lang="en-US" sz="28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ksverslav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roken</a:t>
            </a:r>
            <a:endParaRPr b="1" lang="en-US" sz="3600" spc="-1" strike="noStrike">
              <a:solidFill>
                <a:srgbClr val="006666"/>
              </a:solidFill>
              <a:latin typeface="Arial"/>
            </a:endParaRPr>
          </a:p>
        </p:txBody>
      </p:sp>
      <p:sp>
        <p:nvSpPr>
          <p:cNvPr id="104" name="PlaceHolder 1"/>
          <p:cNvSpPr>
            <a:spLocks noGrp="1"/>
          </p:cNvSpPr>
          <p:nvPr>
            <p:ph/>
          </p:nvPr>
        </p:nvSpPr>
        <p:spPr>
          <a:xfrm>
            <a:off x="837720" y="2361960"/>
            <a:ext cx="7766280" cy="40194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Nicotine = verslavend + extreem schadelijk voor de gezondheid. 1 op de 5 jongeren rookt dagelijks: matige roker tot 20 sigaretten, zware roker &gt; 2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ngst, somber, kort lontje, concentratieproblemen, hoofdpijn, slaapklachten, toename eetlust + gewich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1 x, goede motivatie, hulp van omgeving, veel lichaamsbeweging, veel en vaak de VOORDELEN benoemen ipv de nadel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BS: conclusie en discussie..</a:t>
            </a:r>
            <a:endParaRPr b="1" lang="en-US" sz="3600" spc="-1" strike="noStrike">
              <a:solidFill>
                <a:srgbClr val="006666"/>
              </a:solidFill>
              <a:latin typeface="Arial"/>
            </a:endParaRPr>
          </a:p>
        </p:txBody>
      </p:sp>
      <p:sp>
        <p:nvSpPr>
          <p:cNvPr id="106"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 ongezonde gewoonten die jongeren erop nahouden hangen deels samen met hun onderwijsnivea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e hoger het niveau, hoe hoger het aandeel  zware drink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agelijks roken, onvoldoende beweging en overgewicht daarentegen komen juist meer voor onder laag opgeleide jong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nnabisgebruik laat geen verschil zi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cohol</a:t>
            </a:r>
            <a:endParaRPr b="1" lang="en-US" sz="3600" spc="-1" strike="noStrike">
              <a:solidFill>
                <a:srgbClr val="006666"/>
              </a:solidFill>
              <a:latin typeface="Arial"/>
            </a:endParaRPr>
          </a:p>
        </p:txBody>
      </p:sp>
      <p:sp>
        <p:nvSpPr>
          <p:cNvPr id="108" name="PlaceHolder 1"/>
          <p:cNvSpPr>
            <a:spLocks noGrp="1"/>
          </p:cNvSpPr>
          <p:nvPr>
            <p:ph/>
          </p:nvPr>
        </p:nvSpPr>
        <p:spPr>
          <a:xfrm>
            <a:off x="826560" y="2361960"/>
            <a:ext cx="7704360" cy="430668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als genotmiddel (beperkt) is prim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cohol = zeer verslavend + extreem schadelijk voor de gezondhei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ware drinker: minstens 1 dag in de week meer dan 6 glaze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Onrustig, versnelde hartslag, zweten, trillen (delirium tremens), misselijk, braken, angst, slecht slapen, insult</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Stoppen:</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edicijnen, AA, hulpverlening, afkicken</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ge-drinken</a:t>
            </a:r>
            <a:endParaRPr b="1" lang="en-US" sz="3600" spc="-1" strike="noStrike">
              <a:solidFill>
                <a:srgbClr val="006666"/>
              </a:solidFill>
              <a:latin typeface="Arial"/>
            </a:endParaRPr>
          </a:p>
        </p:txBody>
      </p:sp>
      <p:sp>
        <p:nvSpPr>
          <p:cNvPr id="110" name=""/>
          <p:cNvSpPr txBox="1"/>
          <p:nvPr/>
        </p:nvSpPr>
        <p:spPr>
          <a:xfrm>
            <a:off x="826560" y="2362320"/>
            <a:ext cx="770436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t gebruik van alcohol is in Nederland tussen 1965 en 1980 verdubbel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bijzondere variant van problematisch alcohogebruik is ‘binge-drinken’ : (comazuipen); het drinken van grote hoeveelheden alcohol in korte periode, afgewisseld met dagen zonder alcohogebrui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en huisartsenpraktijk van 2300 patiënten telt circa 200 probleemdrink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ft drug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152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ntspanning, rust, dromerig, vrolijk, opgewonde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In hoge dosering: paniekaanvallen, uitlokken van psycho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bstinenti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oofdpijn, misselijk, algehele malais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3:43:58Z</dcterms:created>
  <dc:creator>-</dc:creator>
  <dc:description/>
  <dc:language>en-US</dc:language>
  <cp:lastModifiedBy>Bouke Cuperus</cp:lastModifiedBy>
  <dcterms:modified xsi:type="dcterms:W3CDTF">2018-07-15T10:55:04Z</dcterms:modified>
  <cp:revision>28</cp:revision>
  <dc:subject/>
  <dc:title>Leefgewoonte en verslaving</dc:title>
</cp:coreProperties>
</file>