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C6C3-9A7C-446A-B524-4AE29EBA9D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angeboren of erfelij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ED75-A18A-4B69-9685-B54343C502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ijdens samensmelten gaat er iets mis het de chromoso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616F-EAA3-4500-8EA7-D149E7D58F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it syndroom 47 lichaamscellen, 1 crom 21 teveel. Wordt ook wel trisomie 21 genoemd. Uiterlijk: kleine schedel, kliene oren, korte lengte, grote tong, scheelzi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ans op complicaties groot: gehoor/zicht, obstipatie, hartaf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DDC7-8051-42F1-BCB1-6167133AC5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ijven klein, geen borsten, menstruatie blijft uit. Kunnen ook hart- en nierafw, gehoorproblemen. Geen 46 maar 45 ch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A63F-D9E8-4DD5-8D4B-E5E0DB35D6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 helft is er niet veel aan de hand. Mannen zien er relatief vrouwelijk uit. Kleine geslachtsorganen, borstvorming. Lichte spraak, motoriek proble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65F1-BB3F-4CE9-81F7-3C174E249E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laat langgerekt, oren een zaadballen relatief groot, gedragsproblemen, luisteren/concentreren. Vermijden oogcontact, veel bij jonge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AF97-4838-4EA3-B326-45F18EE89C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minant: vader of moeder hebben h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816A-7DD3-422D-B57C-718ED6FF18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unt: verstandelijke achteruitgang, onwillekeurige bewegingen, d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eck: tumoren van zenuwtakjes h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ol: vetten niet goed kunnen verwer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64D7-A695-4878-84F7-A62B339B92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E9BB-457F-491F-8593-D139B6DC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E88-E268-488D-9E76-0939A26F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4D9-886C-4B46-9CFF-42E7BE27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624-0833-41B9-8306-3AD93C8C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F42-42FB-4C05-8D0E-76F5A44E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156-D909-4CD9-B38A-4AF55F6A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321-F992-4B7A-8E60-815C1E4A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647-FD28-427A-A9CA-2AA184FC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C9C-6148-495D-9F95-9C709030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980-5155-4B1C-A23F-14FF0375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94C-EBEB-4309-AC70-E77AE425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0E4-2B9D-4DF7-AE8D-5C77CFA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2714-FC7B-4BDB-A446-532A5566F3FF}" type="slidenum">
              <a:rPr b="0" lang="nl-NL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urnercontact.nl/syndroom-van-turner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nl/imgres?imgurl=https%3A%2F%2Fmijnkinderarts.nl%2Fwp-content%2Fuploads%2Fsites%2F166%2F2015%2F08%2Ffragile-X-syndrome-206x300.jpg&amp;imgrefurl=https%3A%2F%2Fmijnkinderarts.nl%2Fziekten%2Ferfelijke-en-aangeboren-afwijkingen%2Ffragile-x-syndroom%2F&amp;docid=mAM5Lde8Y9EUQM&amp;tbnid=M5Ni1WVSy4L-lM%3A&amp;vet=10ahUKEwjh_t-qsfTdAhUO3KQKHaEcASgQMwgxKAEwAQ..i&amp;w=206&amp;h=300&amp;bih=747&amp;biw=1536&amp;q=fragiele%20x%20syndroom&amp;ved=0ahUKEwjh_t-qsfTdAhUO3KQKHaEcASgQMwgxKAEwAQ&amp;iact=mrc&amp;uact=8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Aangeboren aandoeningen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ngenitaal en hereditai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Autosomaal recessieve overerv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owel van vader als van moeder een afwijkend gen krij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ystische fibro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aaislijmziek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enylketonurie, congenitale hypothyreoidie, adrenogenitaal syndroom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KU: bepaalde stof in voeding wordt niet verwerkt, : ophoping in herse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HT: schildklier te tra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GS: Ernstige hormoonstoring in bijnierschors. Mannelijk uiterlijk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mochromatose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veel ijzer opname vanuit de darmen. Op volwassen leeftijd tot uiting. Soms bloedafname, ijzer wegnem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slachtsgebonden overerving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mofilie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loederziekte: stollingsstoorni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ekte van Duchen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rogressieve spierafbraa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eurenblind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et name voor ROOD en GROEN, 8% van de jong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eling genetisch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terosomaal als het defecte gen op een geslachtshormoon zit , bijv:hemofilie , kleurenblind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utosomaal als het gen op een van de andere chromosomen zit, bijv.: stofwisselingsziekten(PKU, Pompe, Tay- Sachs), cystic fibrose, Ziekte van Huntington,  adiposit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ultifactoriële aandoe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rzaak onbekend: zowel erfelijk als omgeving invl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k wel multifactorieel genoem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angeboren hartafwijk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chisis&gt; gespleten lip / gehemel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angeboren heupafwijk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echterbors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ompvo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pina Bifida &gt; open ruggetj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Embryonale stor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ijdens de embryonale ontwikkelingen gaat er iets mis, bijv. door ziekte van de moeder: Rode hond, DM, contact met straling, giftige stoffen(medicijnen, alcohol, drug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hesusantago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ak geen aanwijz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b: hartafwijkingen, slokdarmatresie, heupluxatie, spina bifi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el hiervan zijn erfel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erinatale beschadi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schadigingen die zijn ontstaan vlak voor, tijdens of vlak na de geboorte, bijv.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rsenbloed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uurstofgebrek m.a.g. spasticiteit, ADH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elzucht door Rhesusantagonis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eventie en Opspo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felijkheidsvoorlichting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mboomonderzoek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mosomenonderzoe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iochemisch erfelijkheidsonderzoek door bloedonderzoe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renataal onderzoek; vlokkentest, vruchtwaterpunctie, bloedonderzoek, echoscop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el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mosomale afwijk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netische afwijk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mbryonale stoorniss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schadiging tijdens de geboorte ontsta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Chromosomal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tstaan a.g.v. delingsfouten, hetgeen resulteert in te veel of te weinig chromos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: syndroom van D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droom van Turner (X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droom van Klinefelter (XX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yndroom van Dow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Picture 2" descr="downsyndrome1"/>
          <p:cNvPicPr/>
          <p:nvPr/>
        </p:nvPicPr>
        <p:blipFill>
          <a:blip r:embed="rId1"/>
          <a:stretch/>
        </p:blipFill>
        <p:spPr>
          <a:xfrm>
            <a:off x="628560" y="1235160"/>
            <a:ext cx="15242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Jongetje met het Down-syndroom, een van de meest voorkomende aangeboren afwijkingen. Foto Paul van Trotsenburg."/>
          <p:cNvPicPr/>
          <p:nvPr/>
        </p:nvPicPr>
        <p:blipFill>
          <a:blip r:embed="rId2"/>
          <a:stretch/>
        </p:blipFill>
        <p:spPr>
          <a:xfrm>
            <a:off x="3564000" y="1413000"/>
            <a:ext cx="2314440" cy="244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59914094222-thumb1"/>
          <p:cNvPicPr/>
          <p:nvPr/>
        </p:nvPicPr>
        <p:blipFill>
          <a:blip r:embed="rId3"/>
          <a:stretch/>
        </p:blipFill>
        <p:spPr>
          <a:xfrm>
            <a:off x="236520" y="3141720"/>
            <a:ext cx="2967120" cy="37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downsyndrome2"/>
          <p:cNvPicPr/>
          <p:nvPr/>
        </p:nvPicPr>
        <p:blipFill>
          <a:blip r:embed="rId4"/>
          <a:stretch/>
        </p:blipFill>
        <p:spPr>
          <a:xfrm>
            <a:off x="7305840" y="965160"/>
            <a:ext cx="1831680" cy="234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eisje met Turner syndroom is te klein, en vertoont de brede nekplooien, en opgezwollen voetjes"/>
          <p:cNvPicPr/>
          <p:nvPr/>
        </p:nvPicPr>
        <p:blipFill>
          <a:blip r:embed="rId5"/>
          <a:stretch/>
        </p:blipFill>
        <p:spPr>
          <a:xfrm>
            <a:off x="6948360" y="3429000"/>
            <a:ext cx="156852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2857"/>
          <p:cNvPicPr/>
          <p:nvPr/>
        </p:nvPicPr>
        <p:blipFill>
          <a:blip r:embed="rId6"/>
          <a:stretch/>
        </p:blipFill>
        <p:spPr>
          <a:xfrm>
            <a:off x="3995640" y="4473720"/>
            <a:ext cx="2473560" cy="19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40428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yndroom van Turn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uwen met slechts 1 X- chromosoom  in de lichaamscell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turnercontact.nl/syndroom-van-turner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31132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 van Klinefelter</a:t>
            </a:r>
            <a:br>
              <a:rPr sz="3300"/>
            </a:br>
            <a:br>
              <a:rPr sz="3300"/>
            </a:b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annen met minimaal 1</a:t>
            </a:r>
            <a:br>
              <a:rPr sz="3300"/>
            </a:b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X-chromosoom teveel!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681520" y="1728720"/>
            <a:ext cx="1606680" cy="472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7524720" y="1728720"/>
            <a:ext cx="1409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Fragiele X-syndroo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61680" y="1717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wakke plek op X-chromosoom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Afbeeldingsresultaat voor fragiele x syndro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9520" y="2030400"/>
            <a:ext cx="1771560" cy="258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Afbeeldingsresultaat voor fragiele x syndroom"/>
          <p:cNvPicPr/>
          <p:nvPr/>
        </p:nvPicPr>
        <p:blipFill>
          <a:blip r:embed="rId3"/>
          <a:stretch/>
        </p:blipFill>
        <p:spPr>
          <a:xfrm>
            <a:off x="662040" y="3429000"/>
            <a:ext cx="2628720" cy="1733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fbeeldingsresultaat voor fragiele x syndroom"/>
          <p:cNvPicPr/>
          <p:nvPr/>
        </p:nvPicPr>
        <p:blipFill>
          <a:blip r:embed="rId4"/>
          <a:stretch/>
        </p:blipFill>
        <p:spPr>
          <a:xfrm>
            <a:off x="6156360" y="3321000"/>
            <a:ext cx="19526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netische afwijk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Autosomaal dominante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Een van de ouders heeft de ziekte oo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Autosomaal recessieve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Van vader en moeder het afwijkende gen krij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X-recessief (geslachtsgebonden) overer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  <a:ea typeface="Arial"/>
              </a:rPr>
              <a:t>Als moeder afwijking heeft op X-chrom is er kans op 50% overdracht naar kin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Autosomaal dominante overerv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Een van de ouders heeft de ziekte ook, herhalingsrisico is 50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Hunting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Tast bepaalde delen aan van hersenen, latere leeftijd klach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Von Recklinghau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Ontstaan neurofibromen: cafe-au-lait vlekken op hu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Familiaire hypercholesterolem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Ziekte van Steine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Spierafbraak &gt; spierzwakt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Erfelijke vormen van kan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  <a:ea typeface="Arial"/>
              </a:rPr>
              <a:t>Borstkanker, Dikke darm kank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16:00Z</dcterms:created>
  <dc:creator>Onderwijs</dc:creator>
  <dc:description/>
  <dc:language>en-US</dc:language>
  <cp:lastModifiedBy>marlies bouland</cp:lastModifiedBy>
  <dcterms:modified xsi:type="dcterms:W3CDTF">2018-10-08T08:05:18Z</dcterms:modified>
  <cp:revision>14</cp:revision>
  <dc:subject/>
  <dc:title>Aangeboren aandoeningen</dc:title>
</cp:coreProperties>
</file>