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EF4-A114-4717-968F-1B26A0B5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C40-5ADD-4C4C-8621-E4C71CD6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04A5-F666-4F4A-A41D-933CC03B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45B-288E-46FF-8AB3-1DCC5279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3A24-3CC5-4B38-BB65-A47A7179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50C5-B84C-464B-AD4E-0468E9AB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CF0D-97A5-4CED-A72D-36BC2C9E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4F06-5B94-4716-A900-DE068EAE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FD9C-A86E-43B8-A3FD-2474B964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BE75-9818-4509-A9EC-A380FB96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A4D2-5265-4E90-AEB4-921C0ECB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466C-819E-4A8C-B5BA-8670CA80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B232-2B70-40D6-B076-D5C56AA0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40A1-E2D1-4C3F-8B21-0B51BCA5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46C7-3B8A-4256-9F6E-AC6FAF48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5BD9-0294-4B72-9A10-7A3E87EC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9716-7A91-47AB-9B10-E9581BEF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5E2-C62D-4055-8E16-316F6C5F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D91-2E83-40B8-9777-AAAB966A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58D-5EF9-4B1A-85A6-6F7785DE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9D2-4CE3-4599-877B-7E418244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737E-2894-42BF-AC32-CB748950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1E28-7884-4A37-89C0-D1404833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D6E1-19DC-48A1-8FA2-A1FA0587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B9BB-A968-4370-8525-D6CC346B9FF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FBC0-C02E-4E29-8CED-905DD2205D2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221304"/>
                </a:solidFill>
                <a:latin typeface="Times New Roman"/>
              </a:rPr>
              <a:t>   </a:t>
            </a:r>
            <a:r>
              <a:rPr b="0" lang="nl-NL" sz="4000" spc="-1" strike="noStrike">
                <a:solidFill>
                  <a:srgbClr val="221304"/>
                </a:solidFill>
                <a:latin typeface="Times New Roman"/>
              </a:rPr>
              <a:t>JGZ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1928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indermishan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187280" y="3860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kindermishandel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ke vorm van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voor een minderjarige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dreigende of gewelddadige interactie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van fysieke, psychische of sexuele aard,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e de ouders of andere personen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ten opzichte van wie de minderjarige in een relatie van afhankelijkheid of van onvrijheid staat, actief of passief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pdringen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waardoor ernstige schade wordt berokkend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of dreigt te worden berokkend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an de minderjarige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in de vorm van fysiek of psychisch lets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6201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amelijke mishan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laan, schoppen, branden, snijden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amelijke verwaarlo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ndervoeding, slechte hygiene, niet in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sychische mishan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reiteren, bang maken, je bent 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sychische verwaarlo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brek aan warmte/veiligheid, niet naar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exueel misbru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lk sexueel gericht 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snijdenis bij meisj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hoe vaak komt het vo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bekend, topje van de ijsberg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ssen 50.000 – 80.000 per j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0 kinderen komen om door mishan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 op de 6 a 7 vrouwen sexueel misbrui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hoe ontstaat he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amengaan van oorz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nmacht, onverm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brek aan kennis of gevo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uders hebben zelf probl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sychisch, financieel, huw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ind is niet gew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ind voldoet niet aan verwach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ruk, zi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lossing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ieder geval meld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ooit beloven dat je het niet verder vert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mstandigheden voor het kind worden verbete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uders (ook zelf in nood) worden begel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G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Een goed uitgevoerde anamnese, screening en lichamelij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eoordeling tijdens het PGO kan een globaal beeld g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van lichanmelijke en geestelijke gezondheid van het ki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Times New Roman"/>
              </a:rPr>
              <a:t>op dat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oep 2 BO / 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 assisten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am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korte tijd een beeld krijgen hoe het met het kind ga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ramatisch’ moeilij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voel, intuitie ontwikke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ichamelijk onderzoek (gehoor, ogen, groei, gewi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nderwerpen B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ten, eet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aappatr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ort en spel – vriend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s – broers, zusjes, vriend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woontes (duimzuigen, nagelbij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nderwerpen V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agen 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ektes, medicij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huissitu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 met ou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 met vrie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woontes (roken, alcohol, dru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asispakket JGZ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schatten zorgbehoefte (maatwerk-rugzakj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eventie (vaccinat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lichting en adv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sporen bedreigende randfact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steunen ouders/verzor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AR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gunstige gewoo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uimzuigen, nagelbijten, niet willen eten, bedp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alendermethode (belon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raakprobl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emmisbruik, stotteren, bro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ogope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aapstoorni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chtmerries, paniekaanvallen, slaapw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ruststellen, be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62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toriek (vaak door hersenbeschadig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ysiothera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uding –safwijkingen (scoliose, Scheuerman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ysiothera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rtho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voelbare zaadba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iet problemat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perat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himosis (vernauwde voorhui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ircumcisie bij blijvende 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-Nederlandse ou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der idee over ziekte/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der eetpatroon, uit ander klimaat, gebrek vit D (zonli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dere opvoedingsmeth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g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ormaal / stoornis bij belemmering normaal l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niekaanval, dwanggedachte –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tss (post traumatisch stress synd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sycholo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uders betr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i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torisch (knipperen, neus opha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caal (kuchen, grommen, korte geluidj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este gaan vanzelf voor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yndroom van Gilles de la Tour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gt; 1 jaar motorische en vocale 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sychothera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dicij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p volwassen leeftijd weinig of geen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26:14Z</dcterms:created>
  <dc:creator>custom</dc:creator>
  <dc:description/>
  <dc:language>en-US</dc:language>
  <cp:lastModifiedBy>Bouke Cuperus</cp:lastModifiedBy>
  <dcterms:modified xsi:type="dcterms:W3CDTF">2018-07-15T10:56:06Z</dcterms:modified>
  <cp:revision>67</cp:revision>
  <dc:subject/>
  <dc:title>Conclusies enquête panel DA</dc:title>
</cp:coreProperties>
</file>