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9D5-AD55-4C91-ACFD-B884B8B19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geboren of erf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D08-7535-4008-A517-0DF8193DE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ens samensmelten gaat er iets mis het de chromos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0B53-DDBA-45F5-9E76-1822BFAAFD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it syndroom 47 lichaamscellen, 1 crom 21 teveel. Wordt ook wel trisomie 21 genoemd. Uiterlijk: kleine schedel, kliene oren, korte lengte, grote tong, scheelz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ans op complicaties groot: gehoor/zicht, obstipatie, hartaf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3045-7B3B-444B-8BFC-DCF05DFCFC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ijven klein, geen borsten, menstruatie blijft uit. Kunnen ook hart- en nierafw, gehoorproblemen. Geen 46 maar 45 ch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47A-27C4-44FE-8CE3-169293B44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helft is er niet veel aan de hand. Mannen zien er relatief vrouwelijk uit. Kleine geslachtsorganen, borstvorming. Lichte spraak, motoriek probl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0E24-F419-4924-9E87-93C74A3FC0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laat langgerekt, oren een zaadballen relatief groot, gedragsproblemen, luisteren/concentreren. Vermijden oogcontact, veel bij jong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E7EE-7B2F-4F17-BB36-0D9EC26372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minant: vader of moeder hebben 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2C15-15D4-4655-9C18-E0592BA89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unt: verstandelijke achteruitgang, onwillekeurige bewegingen, d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ck: tumoren van zenuwtakjes h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ol: vetten niet goed kunnen verwer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5CB1-BD20-46FE-AA8E-A67849EC9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7EA-6F8F-4E73-A218-29B5E385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49D-3329-41A9-8154-2BEC335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69B-DDBE-4D3F-A2F7-42F3668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353-958B-494C-AA7C-6AFC1283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BBE-1620-46D8-B5F4-335A643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7BF-E5E4-4615-9B08-20C8059F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B93-A281-4022-B846-6383CD1E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7E5-5789-488C-AEF3-37ECCFCF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94B-4588-400B-9742-536692E5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E7B-5493-4DBD-BB58-4E8DB40F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B5-F832-45E0-A60A-CD7A0F8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6BB-925A-42AF-B17C-11F6F0F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5EB-CF96-4981-9227-0145B98B62E7}" type="slidenum">
              <a:rPr b="0" lang="nl-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urnercontact.nl/syndroom-van-turner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nl/imgres?imgurl=https%3A%2F%2Fmijnkinderarts.nl%2Fwp-content%2Fuploads%2Fsites%2F166%2F2015%2F08%2Ffragile-X-syndrome-206x300.jpg&amp;imgrefurl=https%3A%2F%2Fmijnkinderarts.nl%2Fziekten%2Ferfelijke-en-aangeboren-afwijkingen%2Ffragile-x-syndroom%2F&amp;docid=mAM5Lde8Y9EUQM&amp;tbnid=M5Ni1WVSy4L-lM%3A&amp;vet=10ahUKEwjh_t-qsfTdAhUO3KQKHaEcASgQMwgxKAEwAQ..i&amp;w=206&amp;h=300&amp;bih=747&amp;biw=1536&amp;q=fragiele%20x%20syndroom&amp;ved=0ahUKEwjh_t-qsfTdAhUO3KQKHaEcASgQMwgxKAEwAQ&amp;iact=mrc&amp;uact=8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Aangeboren aandoeninge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genitaal en heredita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recessiev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owel van vader als van moeder een afwijkend gen krij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ystische fibr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aaislijmziek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nylketonurie, congenitale hypothyreoidie, adrenogenitaal syndroo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KU: bepaalde stof in voeding wordt niet verwerkt, : ophoping in herse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T: schildklier te tr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GS: Ernstige hormoonstoring in bijnierschors. Mannelijk uiterlijk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chromatos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veel ijzer opname vanuit de darmen. Op volwassen leeftijd tot uiting. Soms bloedafname, ijzer wegn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slachtsgebonden overerving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fili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oederziekte: stollingsstoorn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ekte van Duchen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gressieve spierafbra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t name voor ROOD en GROEN, 8% van de jon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 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erosomaal als het defecte gen op een geslachtshormoon zit , bijv:hemofilie , 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tosomaal als het gen op een van de andere chromosomen zit, bijv.: stofwisselingsziekten(PKU, Pompe, Tay- Sachs), cystic fibrose, Ziekte van Huntington,  adiposit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ultifactoriële aandoe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zaak onbekend: zowel erfelijk als omgeving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k wel multifactorieel genoem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art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chisis&gt; gespleten lip / gehemel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eup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echterbor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ompvo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pina Bifida &gt; open rugget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mbryonale sto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ens de embryonale ontwikkelingen gaat er iets mis, bijv. door ziekte van de moeder: Rode hond, DM, contact met straling, giftige stoffen(medicijnen, alcohol, drug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hesusantago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ak geen aanwijz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: hartafwijkingen, slokdarmatresie, heupluxatie, spina bif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el hiervan zijn erf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erinatale beschadi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en die zijn ontstaan vlak voor, tijdens of vlak na de geboorte, bijv.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rsenbloed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uurstofgebrek m.a.g. spasticiteit, ADH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lzucht door Rhesusantagonis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eventie en Opspo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felijkheidsvoorlichting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mboomonderzoek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en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iochemisch erfelijkheidsonderzoek door bloed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nataal onderzoek; vlokkentest, vruchtwaterpunctie, bloedonderzoek, echoscop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al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netisch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mbryonale stoorniss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 tijdens de geboorte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hromosomal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aan a.g.v. delingsfouten, hetgeen resulteert in te veel of te weinig chromos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syndroom van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Turner (X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Klinefelter (XX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Dow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downsyndrome1"/>
          <p:cNvPicPr/>
          <p:nvPr/>
        </p:nvPicPr>
        <p:blipFill>
          <a:blip r:embed="rId1"/>
          <a:stretch/>
        </p:blipFill>
        <p:spPr>
          <a:xfrm>
            <a:off x="628560" y="1235160"/>
            <a:ext cx="15242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ongetje met het Down-syndroom, een van de meest voorkomende aangeboren afwijkingen. Foto Paul van Trotsenburg."/>
          <p:cNvPicPr/>
          <p:nvPr/>
        </p:nvPicPr>
        <p:blipFill>
          <a:blip r:embed="rId2"/>
          <a:stretch/>
        </p:blipFill>
        <p:spPr>
          <a:xfrm>
            <a:off x="3564000" y="1413000"/>
            <a:ext cx="2314440" cy="24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59914094222-thumb1"/>
          <p:cNvPicPr/>
          <p:nvPr/>
        </p:nvPicPr>
        <p:blipFill>
          <a:blip r:embed="rId3"/>
          <a:stretch/>
        </p:blipFill>
        <p:spPr>
          <a:xfrm>
            <a:off x="236520" y="3141720"/>
            <a:ext cx="296712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ownsyndrome2"/>
          <p:cNvPicPr/>
          <p:nvPr/>
        </p:nvPicPr>
        <p:blipFill>
          <a:blip r:embed="rId4"/>
          <a:stretch/>
        </p:blipFill>
        <p:spPr>
          <a:xfrm>
            <a:off x="7305840" y="965160"/>
            <a:ext cx="183168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eisje met Turner syndroom is te klein, en vertoont de brede nekplooien, en opgezwollen voetjes"/>
          <p:cNvPicPr/>
          <p:nvPr/>
        </p:nvPicPr>
        <p:blipFill>
          <a:blip r:embed="rId5"/>
          <a:stretch/>
        </p:blipFill>
        <p:spPr>
          <a:xfrm>
            <a:off x="6948360" y="3429000"/>
            <a:ext cx="156852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2857"/>
          <p:cNvPicPr/>
          <p:nvPr/>
        </p:nvPicPr>
        <p:blipFill>
          <a:blip r:embed="rId6"/>
          <a:stretch/>
        </p:blipFill>
        <p:spPr>
          <a:xfrm>
            <a:off x="3995640" y="4473720"/>
            <a:ext cx="2473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Turn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uwen met slechts 1 X- chromosoom  in de lichaamscell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turnercontact.nl/syndroom-van-turne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3113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 van Klinefelter</a:t>
            </a:r>
            <a:br>
              <a:rPr sz="3300"/>
            </a:b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nnen met minimaal 1</a:t>
            </a: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X-chromosoom teveel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681520" y="1728720"/>
            <a:ext cx="1606680" cy="472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524720" y="1728720"/>
            <a:ext cx="1409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Fragiele X-syndro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61680" y="1717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wakke plek op X-chromosoo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fbeeldingsresultaat voor fragiele x synd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9520" y="20304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fbeeldingsresultaat voor fragiele x syndroom"/>
          <p:cNvPicPr/>
          <p:nvPr/>
        </p:nvPicPr>
        <p:blipFill>
          <a:blip r:embed="rId3"/>
          <a:stretch/>
        </p:blipFill>
        <p:spPr>
          <a:xfrm>
            <a:off x="662040" y="342900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fbeeldingsresultaat voor fragiele x syndroom"/>
          <p:cNvPicPr/>
          <p:nvPr/>
        </p:nvPicPr>
        <p:blipFill>
          <a:blip r:embed="rId4"/>
          <a:stretch/>
        </p:blipFill>
        <p:spPr>
          <a:xfrm>
            <a:off x="6156360" y="332100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dominant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recessiev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Van vader en moeder het afwijkende gen krij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X-recessief (geslachtsgebonden)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Als moeder afwijking heeft op X-chrom is er kans op 50% overdracht naar k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dominant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, herhalingsrisico is 5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Hunting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Tast bepaalde delen aan van hersenen, latere leeftijd kla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Von Recklinghau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Ontstaan neurofibromen: cafe-au-lait vlekken op hu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Familiaire hypercholesterole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Stein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Spierafbraak &gt; spierzwakt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rfelijke vormen van kan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Borstkanker, Dikke darm kan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16:00Z</dcterms:created>
  <dc:creator>Onderwijs</dc:creator>
  <dc:description/>
  <dc:language>en-US</dc:language>
  <cp:lastModifiedBy>marlies bouland</cp:lastModifiedBy>
  <dcterms:modified xsi:type="dcterms:W3CDTF">2018-10-08T08:05:18Z</dcterms:modified>
  <cp:revision>14</cp:revision>
  <dc:subject/>
  <dc:title>Aangeboren aandoeningen</dc:title>
</cp:coreProperties>
</file>