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move the slide</a:t>
            </a:r>
            <a:endParaRPr b="0" lang="en-US" sz="3000" spc="-1" strike="noStrike">
              <a:solidFill>
                <a:srgbClr val="424456"/>
              </a:solidFill>
              <a:latin typeface="Century Schoolbook"/>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DEBA-AA44-426F-A8F3-A865E66C7B8C}"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4A0E-87E7-41D0-A6C9-94DF29C62D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4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A2E9-9039-474C-AB45-F96B858134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ysterscopie: met kijkbuis via v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T: afbeeldingen van doorsneden van lich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RI: beeldvorming van binnenste lichaam. Magneet en radiogol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B0A5-1DD8-4BC8-A7A8-BA6FA97D1F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leider: vervoer van eicel naar embr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erstok: produceren verschillende hormonen. Rol bij bevruch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armoederslijmvlies: endometrium. Reageert op 2 vrouwelijke hormonen. Oestrogeen: dikker, progesteron: meer slijmkliertj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FA77-0839-4F90-96A0-8069B5F8F2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sexcisie: met lis een stukje wegne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isatie: kegelvormig wegsnij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lposcoop: microscoop en blauw verkleuring</a:t>
            </a:r>
            <a:endParaRPr b="0" lang="en-US" sz="1200" spc="-1" strike="noStrike">
              <a:solidFill>
                <a:srgbClr val="000000"/>
              </a:solidFill>
              <a:latin typeface="Calibri"/>
            </a:endParaRPr>
          </a:p>
        </p:txBody>
      </p:sp>
      <p:sp>
        <p:nvSpPr>
          <p:cNvPr id="2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C4DA-4D09-4C02-8CD4-E6509959A1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CF3F-1C46-43BF-9CBB-70705FEF7E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90C1-6410-4C1B-A79D-0918A469B1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44FB-74D1-4967-B6F5-A09844C269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9548-476D-4CDC-A04A-769E9593FE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2922-082A-4860-A9C2-9B37862396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yspareunie: pijn, branderig gevoel bij vrijen </a:t>
            </a: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87DE-ECD5-4C82-997E-78E10C78B0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A93F-0E23-43BB-AA65-92C1B71769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CCC9F-9D85-493A-9A81-C73A890BB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FAA2D-6283-4707-9DD9-33204BF93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97696-6D97-4690-93DA-D367F4FFC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CC2DB-DC27-43A2-B3CE-55958F171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FB89F-FD76-41B9-9F26-D1DF1C37B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0CE3C-8247-4127-A55C-C2362A2CE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D3ED4-89CE-4106-8B2C-499A2561A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44E74-5D6D-4D2B-B8B1-311E1042D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00059-9825-4618-942D-CE5FED685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AF287-AA8A-42F1-B3E8-5B3DA8B34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545B0-8F84-4178-8C46-BF282F758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4DAED-58F3-4F93-9BBD-4102DC33B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FB5CF-D5D4-460A-94D7-2D9A366CB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9CB3D-2027-4F78-A522-A9282C1FD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86840-DC1D-4BC4-B3DE-675540D5B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C47B2-6914-45A5-8C27-D0DDACDFA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1C042-1B79-4110-8C5B-60D4361B2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89ECA84-222E-4812-BB88-796EAC0CAA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A9802E-2A05-4471-9AEE-A9AB52936E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D65553E-49A1-4EC4-9A39-593F884CAD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268DE02-B19F-46A9-9FF7-AA1EE3BBEC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ABB9E4B-B3F4-4680-9E1F-ED77CB80CE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0F440-9E59-401D-B11F-C358492B9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4668EB-B19C-460E-88BC-631C662BC6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9021FB-8336-45BC-A01B-5B3AE2953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068B30-1816-459D-83F1-4BEEB5D49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9FD6611-4E6C-4247-86C4-4C61BB296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E00D665-D2FB-4AA8-974A-F8148BBD6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EACD92-FDD3-4690-ACEE-7C0B478D96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DB10DF8-E8A1-438C-BA14-EA099875D7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A5FBD-FAD5-4F21-A797-E0A31B3D0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64900-B021-402A-9D42-C99E7EDF4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A5E39-B893-434B-B499-2AEDA437F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D43B3-59C4-4B52-8185-B4E89668A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3FF4E-6BDF-4F46-B46C-33C50D4CE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3A396-DF71-4B4F-A1AD-FADF86612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 verbindingslijn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hte verbindingslijn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hthoek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hte verbindingslijn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F8A0-482B-4CB0-8BAA-795B8B9C1893}"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 9"/>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hthoek 11"/>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hthoek 13"/>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hthoek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hte verbindingslijn 10"/>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Rechte verbindingslijn 17"/>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hte verbindingslijn 19"/>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chte verbindingslijn 15"/>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Rechte verbindingslijn 1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hte verbindingslijn 21"/>
          <p:cNvSpPr/>
          <p:nvPr/>
        </p:nvSpPr>
        <p:spPr>
          <a:xfrm>
            <a:off x="911376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hthoek 26"/>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al 20"/>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al 22"/>
          <p:cNvSpPr/>
          <p:nvPr/>
        </p:nvSpPr>
        <p:spPr>
          <a:xfrm>
            <a:off x="1309680" y="4867200"/>
            <a:ext cx="64152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al 23"/>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25"/>
          <p:cNvSpPr/>
          <p:nvPr/>
        </p:nvSpPr>
        <p:spPr>
          <a:xfrm>
            <a:off x="1663560" y="578808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24"/>
          <p:cNvSpPr/>
          <p:nvPr/>
        </p:nvSpPr>
        <p:spPr>
          <a:xfrm>
            <a:off x="1905120" y="4495680"/>
            <a:ext cx="365040" cy="36540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D832-195B-4CE5-9FDE-F431C72F5E3F}"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hte verbindingslijn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hte verbindingslijn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hte verbindingslijn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hthoek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hte verbindingslijn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D563-36CF-4510-A196-20A196EE583D}"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google.nl/imgres?q=endometriumcarcinoom&amp;um=1&amp;hl=nl&amp;biw=1280&amp;bih=801&amp;tbm=isch&amp;tbnid=SXQywXa-CMIEyM:&amp;imgrefurl=http://www.zorgaanbieders.nl/aandoening/Baarmoederkanker/&amp;docid=hv0kvqke6WjjNM&amp;imgurl=http://www.zorgaanbieders.nl/zorgfoto/3/64/405x1877669778.jpg&amp;w=700&amp;h=520&amp;ei=Vw8uUY_aJaa10QX0xoGwDQ&amp;zoom=1&amp;iact=hc&amp;vpx=453&amp;vpy=504&amp;dur=7593&amp;hovh=193&amp;hovw=261&amp;tx=130&amp;ty=110&amp;sig=110308519874302738132&amp;page=1&amp;tbnh=146&amp;tbnw=192&amp;start=0&amp;ndsp=30&amp;ved=1t:429,r:25,s:0,i:159" TargetMode="External"/><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5640" y="3124080"/>
            <a:ext cx="6172200" cy="2895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1" lang="nl-NL" sz="2700" spc="-1" strike="noStrike">
                <a:solidFill>
                  <a:srgbClr val="424456"/>
                </a:solidFill>
                <a:latin typeface="Century Schoolbook"/>
              </a:rPr>
              <a:t>Gynaecologie </a:t>
            </a:r>
            <a:br>
              <a:rPr sz="2700"/>
            </a:br>
            <a:br>
              <a:rPr sz="2700"/>
            </a:br>
            <a:r>
              <a:rPr b="1" lang="nl-NL" sz="2700" spc="-1" strike="noStrike">
                <a:solidFill>
                  <a:srgbClr val="424456"/>
                </a:solidFill>
                <a:latin typeface="Century Schoolbook"/>
              </a:rPr>
              <a:t>AFWIJKINGEN IN DE  VROUWELIJKE GESLACHTSORGANEN </a:t>
            </a:r>
            <a:endParaRPr b="0" lang="en-US" sz="2700" spc="-1" strike="noStrike">
              <a:solidFill>
                <a:srgbClr val="424456"/>
              </a:solidFill>
              <a:latin typeface="Century Schoolbook"/>
            </a:endParaRPr>
          </a:p>
        </p:txBody>
      </p:sp>
      <p:pic>
        <p:nvPicPr>
          <p:cNvPr id="159" name="Picture 2" descr=""/>
          <p:cNvPicPr/>
          <p:nvPr/>
        </p:nvPicPr>
        <p:blipFill>
          <a:blip r:embed="rId1"/>
          <a:stretch/>
        </p:blipFill>
        <p:spPr>
          <a:xfrm>
            <a:off x="6732720" y="692280"/>
            <a:ext cx="1542960" cy="255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sp>
        <p:nvSpPr>
          <p:cNvPr id="178"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Endometriose is een chronische ziekte waarbij het weefsel dat normaal de binnenkant van de baarmoeder bekleedt (endometrium), groeit op plaatsen buiten de baarmoeder.</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Komt veel voor in vruchtbare periode van de vrouw</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óór  de menarche en na menopauze ( geen oestrogeen aanmaak meer) komt het niet meer voor</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pic>
        <p:nvPicPr>
          <p:cNvPr id="180" name="Picture 2" descr=""/>
          <p:cNvPicPr/>
          <p:nvPr/>
        </p:nvPicPr>
        <p:blipFill>
          <a:blip r:embed="rId1"/>
          <a:stretch/>
        </p:blipFill>
        <p:spPr>
          <a:xfrm>
            <a:off x="611280" y="1800360"/>
            <a:ext cx="7216560" cy="479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sp>
        <p:nvSpPr>
          <p:cNvPr id="182"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ac ( welke meer progesteron bevat en minder oestrogeen) door deze  door te slikken blijft baarmoederslijmvlies dun&gt;  menstruatie uitblijf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 verwijderen baarmoeder en of eierstokken: door ontbreken van geslachtshormonen verschrompeling van endometriosehaard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 (PCO)</a:t>
            </a:r>
            <a:endParaRPr b="0" lang="en-US" sz="3000" spc="-1" strike="noStrike">
              <a:solidFill>
                <a:srgbClr val="424456"/>
              </a:solidFill>
              <a:latin typeface="Century Schoolbook"/>
            </a:endParaRPr>
          </a:p>
        </p:txBody>
      </p:sp>
      <p:sp>
        <p:nvSpPr>
          <p:cNvPr id="184"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eierstokken ontstaan vele kleine cystes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Oorzaak: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De eierstokken (ovaria) van elke vrouw maken niet alleen veel vrouwelijk hormoon aan, maar ook een klein beetje mannelijk hormoon.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ij meisjes en vrouwen met PCO syndroom produceren de eierstokken te veel mannelijk hormoo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p:txBody>
      </p:sp>
      <p:pic>
        <p:nvPicPr>
          <p:cNvPr id="185" name="Picture 2" descr=""/>
          <p:cNvPicPr/>
          <p:nvPr/>
        </p:nvPicPr>
        <p:blipFill>
          <a:blip r:embed="rId1"/>
          <a:stretch/>
        </p:blipFill>
        <p:spPr>
          <a:xfrm>
            <a:off x="5508720" y="2492280"/>
            <a:ext cx="2438280" cy="10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a:t>
            </a:r>
            <a:r>
              <a:rPr b="0" lang="nl-NL" sz="3000" spc="-1" strike="noStrike">
                <a:solidFill>
                  <a:srgbClr val="424456"/>
                </a:solidFill>
                <a:latin typeface="Century Schoolbook"/>
              </a:rPr>
              <a:t>	</a:t>
            </a:r>
            <a:br>
              <a:rPr sz="3000"/>
            </a:br>
            <a:r>
              <a:rPr b="0" lang="nl-NL" sz="3000" spc="-1" strike="noStrike">
                <a:solidFill>
                  <a:srgbClr val="424456"/>
                </a:solidFill>
                <a:latin typeface="Century Schoolbook"/>
              </a:rPr>
              <a:t> ( PCO)</a:t>
            </a:r>
            <a:endParaRPr b="0" lang="en-US" sz="3000" spc="-1" strike="noStrike">
              <a:solidFill>
                <a:srgbClr val="424456"/>
              </a:solidFill>
              <a:latin typeface="Century Schoolbook"/>
            </a:endParaRPr>
          </a:p>
        </p:txBody>
      </p:sp>
      <p:sp>
        <p:nvSpPr>
          <p:cNvPr id="187"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Symptomen:</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eisprong en menstruatie niet op gang komen of onregelmatig zijn of blijft maanden weg.  Het is niet te voorspellen of en wanneer er (weer) een eicel vrijkomt. Daardoor is het niet duidelijk of en wanneer  men vruchtbaar  is</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door het teveel aan mannelijk hormoon vaak veel puistjes en meer haar op  de  huid (soms ook haren op de kin, de borsten of de onderbuik)</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aat vaak samen met overgewicht en/of DM II</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Onvruchtbaarheid </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a:t>
            </a:r>
            <a:endParaRPr b="0" lang="en-US" sz="3000" spc="-1" strike="noStrike">
              <a:solidFill>
                <a:srgbClr val="424456"/>
              </a:solidFill>
              <a:latin typeface="Century Schoolbook"/>
            </a:endParaRPr>
          </a:p>
        </p:txBody>
      </p:sp>
      <p:sp>
        <p:nvSpPr>
          <p:cNvPr id="18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cho onderbuik</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loedonderzoek ( afwijkende hormoonspiegel)</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ormonale medicatie ( eisprong opwekken)</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fvall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KWAADAARDIGE (MALIGNE) AFWIJKINGEN </a:t>
            </a:r>
            <a:endParaRPr b="0" lang="en-US" sz="3000" spc="-1" strike="noStrike">
              <a:solidFill>
                <a:srgbClr val="424456"/>
              </a:solidFill>
              <a:latin typeface="Century Schoolbook"/>
            </a:endParaRPr>
          </a:p>
        </p:txBody>
      </p:sp>
      <p:sp>
        <p:nvSpPr>
          <p:cNvPr id="1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ndometrium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Cervix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varium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CARCINOOM</a:t>
            </a:r>
            <a:endParaRPr b="0" lang="en-US" sz="3000" spc="-1" strike="noStrike">
              <a:solidFill>
                <a:srgbClr val="424456"/>
              </a:solidFill>
              <a:latin typeface="Century Schoolbook"/>
            </a:endParaRPr>
          </a:p>
        </p:txBody>
      </p:sp>
      <p:sp>
        <p:nvSpPr>
          <p:cNvPr id="193"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Kanker in het slijmvlies aan de</a:t>
            </a:r>
            <a:r>
              <a:rPr b="1" lang="nl-NL" sz="2400" spc="-1" strike="noStrike">
                <a:solidFill>
                  <a:srgbClr val="000000"/>
                </a:solidFill>
                <a:latin typeface="Century Schoolbook"/>
              </a:rPr>
              <a:t> binnenkant </a:t>
            </a:r>
            <a:r>
              <a:rPr b="0" lang="nl-NL" sz="2400" spc="-1" strike="noStrike">
                <a:solidFill>
                  <a:srgbClr val="000000"/>
                </a:solidFill>
                <a:latin typeface="Century Schoolbook"/>
              </a:rPr>
              <a:t>van de baarmoede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ooral op de leeftijd van  55-80 jaa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bnormaal bloedverlies of bloederige afscheiding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 na overgang)</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later stadium ook buikpij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CARCINOOM</a:t>
            </a:r>
            <a:endParaRPr b="0" lang="en-US" sz="3000" spc="-1" strike="noStrike">
              <a:solidFill>
                <a:srgbClr val="424456"/>
              </a:solidFill>
              <a:latin typeface="Century Schoolbook"/>
            </a:endParaRPr>
          </a:p>
        </p:txBody>
      </p:sp>
      <p:sp>
        <p:nvSpPr>
          <p:cNvPr id="19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wendig onderzoek</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Transvaginale echografie ( geluidsgolven zichtbaar op monitor)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ysterscopie en evt curretage ( onder narcose)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dien wenselijk verder onderzoek ( bloed, Rontgen, CT scan, MRI etc.)</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Meestal: abdominale uterusextirpatie ( eileiders en stokken verwijderd)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196" name="Picture 6" descr="http://t2.gstatic.com/images?q=tbn:ANd9GcSEmY065IgWcCma9WQ4PYTvN9f2vle7CN4v3umT3ekJY3yZO3oI">
            <a:hlinkClick r:id="rId1"/>
          </p:cNvPr>
          <p:cNvPicPr/>
          <p:nvPr/>
        </p:nvPicPr>
        <p:blipFill>
          <a:blip r:embed="rId2"/>
          <a:stretch/>
        </p:blipFill>
        <p:spPr>
          <a:xfrm>
            <a:off x="5621400" y="981000"/>
            <a:ext cx="2335320" cy="172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CERVIXCARCINOOM</a:t>
            </a:r>
            <a:endParaRPr b="0" lang="en-US" sz="3000" spc="-1" strike="noStrike">
              <a:solidFill>
                <a:srgbClr val="424456"/>
              </a:solidFill>
              <a:latin typeface="Century Schoolbook"/>
            </a:endParaRPr>
          </a:p>
        </p:txBody>
      </p:sp>
      <p:sp>
        <p:nvSpPr>
          <p:cNvPr id="198"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aarmoederhalskanker in de meeste gevallen veroorzaakt door HPV.</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Komt met name veel voor op middelbare leeftijd</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Preventie: </a:t>
            </a:r>
            <a:r>
              <a:rPr b="0" lang="nl-NL" sz="2400" spc="-1" strike="noStrike">
                <a:solidFill>
                  <a:srgbClr val="000000"/>
                </a:solidFill>
                <a:latin typeface="Century Schoolbook"/>
              </a:rPr>
              <a:t>BVO 30-60 jaar om de 5 jaa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n vaccinatie op 12 jarige leeftijd</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bnormaal bloedverlies</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contactbloeding</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eftige pijn door aantasting van zenuw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0" descr="https://gynaecologie.slingeland.nl/wms/fm/userfiles/content/gynaecologie/baarmoederkanker.bmp"/>
          <p:cNvPicPr/>
          <p:nvPr/>
        </p:nvPicPr>
        <p:blipFill>
          <a:blip r:embed="rId1"/>
          <a:stretch/>
        </p:blipFill>
        <p:spPr>
          <a:xfrm>
            <a:off x="2514600" y="1447920"/>
            <a:ext cx="5851440" cy="394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CERVIXCARCINOOM</a:t>
            </a:r>
            <a:endParaRPr b="0" lang="en-US" sz="3000" spc="-1" strike="noStrike">
              <a:solidFill>
                <a:srgbClr val="424456"/>
              </a:solidFill>
              <a:latin typeface="Century Schoolbook"/>
            </a:endParaRPr>
          </a:p>
        </p:txBody>
      </p:sp>
      <p:sp>
        <p:nvSpPr>
          <p:cNvPr id="200"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wendig onderzoek ( blote oog waarneembaar):</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aarmoedermond ziet er afwijkend uit</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uitstrijkje</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iopt ( colposcopie en curretage)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vroegstadia plaatselijk behandeld: verwijderen deel van baarmoeder of kankerweefsel bevriezen/laseren </a:t>
            </a:r>
            <a:endParaRPr b="0" lang="en-US" sz="2400" spc="-1" strike="noStrike">
              <a:solidFill>
                <a:srgbClr val="000000"/>
              </a:solidFill>
              <a:latin typeface="Century Schoolbook"/>
            </a:endParaRPr>
          </a:p>
        </p:txBody>
      </p:sp>
      <p:pic>
        <p:nvPicPr>
          <p:cNvPr id="201" name="Picture 2" descr=""/>
          <p:cNvPicPr/>
          <p:nvPr/>
        </p:nvPicPr>
        <p:blipFill>
          <a:blip r:embed="rId1"/>
          <a:stretch/>
        </p:blipFill>
        <p:spPr>
          <a:xfrm>
            <a:off x="5292720" y="260280"/>
            <a:ext cx="2390760" cy="191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3"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Tumor van de eierstokk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Goedaardig: </a:t>
            </a:r>
            <a:r>
              <a:rPr b="0" lang="nl-NL" sz="2400" spc="-1" strike="noStrike">
                <a:solidFill>
                  <a:srgbClr val="000000"/>
                </a:solidFill>
                <a:latin typeface="Century Schoolbook"/>
              </a:rPr>
              <a:t>vaak geen klachten, vage buikpijn en menstruatiestoorniss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varium kan door gezwel draaien &gt; vaat en zenuwvoorziening in de knel waardoor hevige buikpijn. SPOED! Om afsterving van eierstok  voorkomen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www.menselijk-lichaam.com/wp-content/uploads/eierstokkanker.png"/>
          <p:cNvPicPr/>
          <p:nvPr/>
        </p:nvPicPr>
        <p:blipFill>
          <a:blip r:embed="rId1"/>
          <a:stretch/>
        </p:blipFill>
        <p:spPr>
          <a:xfrm>
            <a:off x="3809880" y="3124080"/>
            <a:ext cx="4911840" cy="3171960"/>
          </a:xfrm>
          <a:prstGeom prst="rect">
            <a:avLst/>
          </a:prstGeom>
          <a:ln w="0">
            <a:noFill/>
          </a:ln>
        </p:spPr>
      </p:pic>
      <p:pic>
        <p:nvPicPr>
          <p:cNvPr id="205" name="Picture 3" descr="https://gynaecologie.slingeland.nl/wms/fm/userfiles/content/gynaecologie/eierstokkanker.bmp"/>
          <p:cNvPicPr/>
          <p:nvPr/>
        </p:nvPicPr>
        <p:blipFill>
          <a:blip r:embed="rId2"/>
          <a:stretch/>
        </p:blipFill>
        <p:spPr>
          <a:xfrm>
            <a:off x="380880" y="217440"/>
            <a:ext cx="4648320" cy="290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7"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Kwaadaardig</a:t>
            </a:r>
            <a:r>
              <a:rPr b="0" lang="nl-NL" sz="2400" spc="-1" strike="noStrike">
                <a:solidFill>
                  <a:srgbClr val="000000"/>
                </a:solidFill>
                <a:latin typeface="Century Schoolbook"/>
              </a:rPr>
              <a:t>:</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t>
            </a:r>
            <a:r>
              <a:rPr b="0" lang="nl-NL" sz="2400" spc="-1" strike="noStrike">
                <a:solidFill>
                  <a:srgbClr val="000000"/>
                </a:solidFill>
                <a:latin typeface="Century Schoolbook"/>
              </a:rPr>
              <a:t>Silent Killer”: pas in later stadium ontdekt.</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ak al metastase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ewichtsverlies</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dikkere buik</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ginaal bloedverlies</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uikpijn</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mictieklachte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tiek/ Behandeling:</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ginaal /rectaal touche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chografie</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loedonderzoek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istologisch onderzoek</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Behandeling: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erwijderen van tumor en ovarium en nabehandeling ( radio en chemotherapie)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Century Schoolbook"/>
              </a:rPr>
              <a:t>Zijn er nog vragen?</a:t>
            </a:r>
            <a:endParaRPr b="0" lang="en-US" sz="6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GOEDAARDIGE ( BENIGNE) AFWIJKINGEN  </a:t>
            </a:r>
            <a:endParaRPr b="0" lang="en-US" sz="3000" spc="-1" strike="noStrike">
              <a:solidFill>
                <a:srgbClr val="424456"/>
              </a:solidFill>
              <a:latin typeface="Century Schoolbook"/>
            </a:endParaRPr>
          </a:p>
        </p:txBody>
      </p:sp>
      <p:sp>
        <p:nvSpPr>
          <p:cNvPr id="1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Endometriumpoliep</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Myoom ( vleesboom)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Endometrios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Polycysteus ovariumsyndroom (PCO) </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a:t>
            </a:r>
            <a:endParaRPr b="0" lang="en-US" sz="3000" spc="-1" strike="noStrike">
              <a:solidFill>
                <a:srgbClr val="424456"/>
              </a:solidFill>
              <a:latin typeface="Century Schoolbook"/>
            </a:endParaRPr>
          </a:p>
        </p:txBody>
      </p:sp>
      <p:sp>
        <p:nvSpPr>
          <p:cNvPr id="164"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esteelde zwelling in het slijmvlies aan binnenkant</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van de baarmoeder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Oorzaak: </a:t>
            </a:r>
            <a:r>
              <a:rPr b="0" lang="nl-NL" sz="2200" spc="-1" strike="noStrike">
                <a:solidFill>
                  <a:srgbClr val="000000"/>
                </a:solidFill>
                <a:latin typeface="Century Schoolbook"/>
              </a:rPr>
              <a:t>door overmatige stimulatie van de</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bekledende laag van de baarmoeder door oestroge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geslachtshormoon afgescheiden door eierstokk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Symptomen:  </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abnormaal vaginaal bloedverlies</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tijdens menstruatie en pijnklachten in onderbuik,</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tussentijds bloedverlies of “spotting” na</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eslachtgemeenschap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 </a:t>
            </a:r>
            <a:endParaRPr b="0" lang="en-US" sz="3000" spc="-1" strike="noStrike">
              <a:solidFill>
                <a:srgbClr val="424456"/>
              </a:solidFill>
              <a:latin typeface="Century Schoolbook"/>
            </a:endParaRPr>
          </a:p>
        </p:txBody>
      </p:sp>
      <p:sp>
        <p:nvSpPr>
          <p:cNvPr id="166"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Klachten en lichamelijk onderzoek door huisarts va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belang voor vaststelling</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Onderzoek/behandeling:</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Hysterosalpingografie ( HSG):</a:t>
            </a:r>
            <a:r>
              <a:rPr b="0" i="1" lang="nl-NL" sz="2200" spc="-1" strike="noStrike">
                <a:solidFill>
                  <a:srgbClr val="000000"/>
                </a:solidFill>
                <a:latin typeface="Century Schoolbook"/>
              </a:rPr>
              <a:t>baarmoeder 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entury Schoolbook"/>
              </a:rPr>
              <a:t>	</a:t>
            </a:r>
            <a:r>
              <a:rPr b="0" i="1" lang="nl-NL" sz="2200" spc="-1" strike="noStrike">
                <a:solidFill>
                  <a:srgbClr val="000000"/>
                </a:solidFill>
                <a:latin typeface="Century Schoolbook"/>
              </a:rPr>
              <a:t>eileiders zichtbaar gemaakt door röntgenopname na injectie van contrastmiddel.</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Hysteroscopie: </a:t>
            </a:r>
            <a:r>
              <a:rPr b="0" i="1" lang="nl-NL" sz="2200" spc="-1" strike="noStrike">
                <a:solidFill>
                  <a:srgbClr val="000000"/>
                </a:solidFill>
                <a:latin typeface="Century Schoolbook"/>
              </a:rPr>
              <a:t>gebruikt voor diagnose stellen en ingreepje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onder narcose</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buisachtig instrument aangesloten op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camera en monitor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bevat vloeistof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 </a:t>
            </a:r>
            <a:endParaRPr b="0" lang="en-US" sz="3000" spc="-1" strike="noStrike">
              <a:solidFill>
                <a:srgbClr val="424456"/>
              </a:solidFill>
              <a:latin typeface="Century Schoolbook"/>
            </a:endParaRPr>
          </a:p>
        </p:txBody>
      </p:sp>
      <p:sp>
        <p:nvSpPr>
          <p:cNvPr id="168" name=""/>
          <p:cNvSpPr txBox="1"/>
          <p:nvPr/>
        </p:nvSpPr>
        <p:spPr>
          <a:xfrm>
            <a:off x="457200" y="1600200"/>
            <a:ext cx="4402080" cy="4572000"/>
          </a:xfrm>
          <a:prstGeom prst="rect">
            <a:avLst/>
          </a:prstGeom>
          <a:noFill/>
          <a:ln w="0">
            <a:noFill/>
          </a:ln>
        </p:spPr>
        <p:txBody>
          <a:bodyPr anchor="t">
            <a:normAutofit fontScale="99000"/>
          </a:bodyPr>
          <a:p>
            <a:pPr marL="270000" indent="-27000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urettage: verwijderen van</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baarmoederslijmvlies/ poliep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diagnostisch</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therapeutisch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Poliep kan kwaadaardig worden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erwijderen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Evt. baarmoeder verwijderd i.v.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het risico op endometriu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arcinoo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ontrole gynaecoloog noodzakelijk </a:t>
            </a:r>
            <a:endParaRPr b="0" lang="en-US" sz="2000" spc="-1" strike="noStrike">
              <a:solidFill>
                <a:srgbClr val="000000"/>
              </a:solidFill>
              <a:latin typeface="Century Schoolbook"/>
            </a:endParaRPr>
          </a:p>
        </p:txBody>
      </p:sp>
      <p:pic>
        <p:nvPicPr>
          <p:cNvPr id="169" name="Picture 2" descr=""/>
          <p:cNvPicPr/>
          <p:nvPr/>
        </p:nvPicPr>
        <p:blipFill>
          <a:blip r:embed="rId1"/>
          <a:stretch/>
        </p:blipFill>
        <p:spPr>
          <a:xfrm>
            <a:off x="4859280" y="2349360"/>
            <a:ext cx="3522600" cy="28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 </a:t>
            </a:r>
            <a:endParaRPr b="0" lang="en-US" sz="3000" spc="-1" strike="noStrike">
              <a:solidFill>
                <a:srgbClr val="424456"/>
              </a:solidFill>
              <a:latin typeface="Century Schoolbook"/>
            </a:endParaRPr>
          </a:p>
        </p:txBody>
      </p:sp>
      <p:sp>
        <p:nvSpPr>
          <p:cNvPr id="171" name=""/>
          <p:cNvSpPr txBox="1"/>
          <p:nvPr/>
        </p:nvSpPr>
        <p:spPr>
          <a:xfrm>
            <a:off x="457200" y="1600200"/>
            <a:ext cx="3657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oedaardige tumor va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spiercellen in de wan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n de baarmoeder, di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roeien onder invloe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n oestroge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rouwen boven de 30 jaar</a:t>
            </a:r>
            <a:endParaRPr b="0" lang="en-US" sz="2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na overgang inkrimping</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	</a:t>
            </a:r>
            <a:r>
              <a:rPr b="0" lang="nl-NL" sz="2000" spc="-1" strike="noStrike">
                <a:solidFill>
                  <a:srgbClr val="000000"/>
                </a:solidFill>
                <a:latin typeface="Century Schoolbook"/>
              </a:rPr>
              <a:t>van myoom </a:t>
            </a:r>
            <a:endParaRPr b="0" lang="en-US" sz="2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ontaarding maligniteit vrijwel afwezig </a:t>
            </a:r>
            <a:endParaRPr b="0" lang="en-US" sz="20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172" name="Picture 2" descr=""/>
          <p:cNvPicPr/>
          <p:nvPr/>
        </p:nvPicPr>
        <p:blipFill>
          <a:blip r:embed="rId1"/>
          <a:stretch/>
        </p:blipFill>
        <p:spPr>
          <a:xfrm>
            <a:off x="4932360" y="2276640"/>
            <a:ext cx="3292560" cy="208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a:t>
            </a:r>
            <a:endParaRPr b="0" lang="en-US" sz="3000" spc="-1" strike="noStrike">
              <a:solidFill>
                <a:srgbClr val="424456"/>
              </a:solidFill>
              <a:latin typeface="Century Schoolbook"/>
            </a:endParaRPr>
          </a:p>
        </p:txBody>
      </p:sp>
      <p:sp>
        <p:nvSpPr>
          <p:cNvPr id="174" name=""/>
          <p:cNvSpPr txBox="1"/>
          <p:nvPr/>
        </p:nvSpPr>
        <p:spPr>
          <a:xfrm>
            <a:off x="610920" y="162864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Symptomen:</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niet altijd klacht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overmatig bloedverlies bij menstruatie ( stolsels)</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tussentijds en onregelmatig bloedverlies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pijn in onderbuik en rug tijdens menstruatie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rukgevoel bijv. op blaas&gt; mictieklachten</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yspareunie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anemie</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et wel of niet overgaan tot een behandeling hangt van een aantal factoren af: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ernst van de klacht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leeftijd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eventuele kinderwens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grootte en het aantal myom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et soort myoom, geheel in de baarmoederholte of juist met een steel vast aan de baarmoeder </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a:t>
            </a:r>
            <a:endParaRPr b="0" lang="en-US" sz="3000" spc="-1" strike="noStrike">
              <a:solidFill>
                <a:srgbClr val="424456"/>
              </a:solidFill>
              <a:latin typeface="Century Schoolbook"/>
            </a:endParaRPr>
          </a:p>
        </p:txBody>
      </p:sp>
      <p:sp>
        <p:nvSpPr>
          <p:cNvPr id="176" name=""/>
          <p:cNvSpPr txBox="1"/>
          <p:nvPr/>
        </p:nvSpPr>
        <p:spPr>
          <a:xfrm>
            <a:off x="539640" y="1484280"/>
            <a:ext cx="746784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Onderzoek /behandeling:</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vaginaal toucher ( VT) </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uit- inwendige echo onderzoek </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ormonale beïnvloeding: bijv.  anticonceptie ( remt opbouw baarmoederslijmvlies af ( tegen pijn en sluit bloedvaten af)</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operatie: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u="sng">
                <a:solidFill>
                  <a:srgbClr val="000000"/>
                </a:solidFill>
                <a:uFillTx/>
                <a:latin typeface="Century Schoolbook"/>
              </a:rPr>
              <a:t>Waarbij baarmoeder wordt gespaard ( bij kinderwens):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  Hysteroscopie: middels een kijkbuis in de baarmoeder de myoom  operatief verwijderen (als deze in de baarmoederholte zit of  in de baarmoederholte)</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 Laparoscopie: via een kijkbuis in de buik de myoom operatief verwijderen     (  als deze met een steel aan de baarmoeder vastzit)</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u="sng">
                <a:solidFill>
                  <a:srgbClr val="000000"/>
                </a:solidFill>
                <a:uFillTx/>
                <a:latin typeface="Century Schoolbook"/>
              </a:rPr>
              <a:t>Verwijdering van de baarmoeder (uterusextirpatie)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via buikwand</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of via schede</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9:29:13Z</dcterms:created>
  <dc:creator>Rhea</dc:creator>
  <dc:description/>
  <dc:language>en-US</dc:language>
  <cp:lastModifiedBy>Marlies Bouland</cp:lastModifiedBy>
  <dcterms:modified xsi:type="dcterms:W3CDTF">2019-09-03T13:58:54Z</dcterms:modified>
  <cp:revision>32</cp:revision>
  <dc:subject/>
  <dc:title>Tumoren van de vrouwelijke geslachtsorganen</dc:title>
</cp:coreProperties>
</file>