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37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CE82-BC18-495E-8512-1F111A6F23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2166-2318-4409-99D3-F9B7164CF9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6F04-B86C-44C6-AEFF-06A430289F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art eerste dag van de menstruatie meteen betrouwb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80BF-1EC3-4386-8227-6F77A0DA33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7341-BB02-45C7-991E-EACE313550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84BC-CC4B-492D-9548-515CE9BE4A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E7BF-C299-4870-9FA1-356273D218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8327-6DAC-4BE5-9FF1-E693BCA2F9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ip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alt ook de prilpil, implanon o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0FC4-8A9C-4EE9-BEAB-4B0161FEE5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B30C-AECF-4EFF-B25E-8A7F9FB21A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80A2-301F-4C91-B0BE-6CD9E7EEC7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ypofyse : aanhangsel dat ligt onder de hersenen in Turks zadel, hormonen met bloedstroom mee en werking doen in bepaald deel van het lichaam . In dit geval de eierstokken ( interne secretie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F56B-6B60-45E6-9667-BAF9D2F58B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hode: de eileiders groeien geleidelijk dicht door het inbrengen van veertjes met polyester vezeltjes. Zaadcellen kunnen zo niet bij de eitjes komen. Poliklinis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38B9-5046-476C-93D9-421F75E277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breken van de zaadleiders, zodat er geen zaadcellen in het sperma terecht k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83BA-F23C-49DB-9FF1-9C86900EB5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6E8F-2547-4AC4-8834-4DAC9C6A5B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8B33-8BAB-4BE5-BE22-FA1AD9B639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5655-B83C-485C-8174-508BEE00B4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zonde voeding en genoeg bewegen en goed slapen helpen om in deze periode fit te blij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E913-7F61-4EE4-AAD5-9DC151771A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39B5-95AB-4488-9C6F-0F5BCA31D9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835E-84B2-4B1C-B33A-C1E6155413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B7E3-E8EF-424C-9648-780D445FFA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07AE-8ACC-4D7E-8EB9-22405A0FCD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estrogenen ook verantwoordelijk voor ontwikkeling van primaire ( eierstokken, eileiders etc)  en secundaire geslachtskenmerken (borstklieren, optreden menarche, verbreding bekk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A5FD-B8E4-4EF0-A401-4F5D657753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DBE7-6B8E-4487-B6FE-75E425FF0D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1E3-5403-4E46-B77C-9AFDE6EE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2B1-19D6-461C-AEE4-B1D02EF2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585-3364-409B-B2BF-2CB490C1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122-6EC3-4C18-B1A4-2D614B8C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378F-BA6D-46A9-81F1-BD7BE3A7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DFB5-E36A-42FC-B99A-13F955F3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6665-373A-4CD1-8C38-2767C444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51F7-F3B5-44C7-AB47-4238F578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285A-2276-4D33-BF3F-04547CA5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B9EF-C28E-4F34-A837-5D1C27E7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C63E-02AC-488B-8219-E1AC888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72E-FF1E-4166-9072-7574D6C3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B43E-1747-4B1E-8CB0-D000ADA5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07A1-E836-43B7-936F-48551B0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2DC2-A289-4878-A6B9-12AB43D1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62D9-EA12-405D-AD38-498D39F2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B0C8-73F2-4B5D-BD45-C874909E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D51-3633-47D7-8CB8-D2DF5B36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A5D-8076-4A08-B0EB-1A0A1757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E10-56CB-47FF-9BC7-7CBFFB18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35A-A78D-41F2-95B0-22041034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783-0ADB-44F5-8053-D41A7C0B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9CF-9492-49CF-8F20-36243EC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3E2-11C9-4D0D-813C-7092CA93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CAA0-559B-42F9-81FB-82D1C4E91027}" type="slidenum"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4B7F-64E3-409C-8144-4D372DD9C433}" type="slidenum"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pessarium&amp;hl=nl&amp;safe=active&amp;biw=1111&amp;bih=669&amp;tbm=isch&amp;tbnid=S_CbkTYvCw3sQM:&amp;imgrefurl=http://users.telenet.be/apotheek.nagels/medisamedatabank2.htm&amp;docid=LO4-luYesSZEQM&amp;w=309&amp;h=426&amp;ei=_Pp5Ts6PMMGcOrKtxK8C&amp;zoom=1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iJ5-Xcpkc0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Bookman Old Style"/>
              </a:rPr>
              <a:t>Menstruatiecyclus &amp; anticonceptie </a:t>
            </a:r>
            <a:endParaRPr b="0" lang="en-US" sz="29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666520" y="5105160"/>
            <a:ext cx="3429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6666"/>
                </a:solidFill>
                <a:latin typeface="Bookman Old Style"/>
              </a:rPr>
              <a:t>en het climacterium             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5621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Biologische metho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mperatuur methode: basaal temp.: elke dag op hetzelfde tijdstip T meten, stijgt het een halve graad , dan is het progesteron gehalte gestegen en een eisprong geweest,en dus oppassen gebla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nauwkeurige toepassing erg betrouwb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Mechanische metho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Condoom, betrouwbaarheid wordt beter met zaaddodende middelen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-10 zwangerschappen per jaar per 100 vrouw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aaddodende middelen 15 minuten voor coïtus inbre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Voordeel: bescherming tegen SOA’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4" name="Picture 4" descr="http://www.belgium.be/nl/binaries/210_ist_5868618_tcm117-9727.jpg"/>
          <p:cNvPicPr/>
          <p:nvPr/>
        </p:nvPicPr>
        <p:blipFill>
          <a:blip r:embed="rId1"/>
          <a:stretch/>
        </p:blipFill>
        <p:spPr>
          <a:xfrm>
            <a:off x="380880" y="1901880"/>
            <a:ext cx="3772080" cy="3052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http://t0.gstatic.com/images?q=tbn:ANd9GcRAqm9lDUzBz3HxbZhEOLLwfcmNnwiXr15F_l91P-cNek_b8RzZ9ljlYXxYvQ"/>
          <p:cNvPicPr/>
          <p:nvPr/>
        </p:nvPicPr>
        <p:blipFill>
          <a:blip r:embed="rId2"/>
          <a:stretch/>
        </p:blipFill>
        <p:spPr>
          <a:xfrm>
            <a:off x="5562720" y="2590920"/>
            <a:ext cx="2655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Nadeel condoom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unnen knapp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rouwen condoom ritselt tijdens de cohabit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Vervolg  mech.method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essarium occlusivum, dit wordt door de arts aangeme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adeel moet moeilijk in te brengen en moet na de coïtus 8 uur blijven z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trouwbaarheid1-10 zwangerschappenbij gebruik van zaaddodende midd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t3.gstatic.com/images?q=tbn:ANd9GcQxq2C3c7gRfeMWpymjl-0crL_wd9aHtgfxm5W0jUH0WxycSPN1K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066680"/>
            <a:ext cx="203976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http://www.xead.nl/upload/9c62084191e9589ab754debdabd880c815-3-2004-13-52-pessarium_fw.jpg"/>
          <p:cNvPicPr/>
          <p:nvPr/>
        </p:nvPicPr>
        <p:blipFill>
          <a:blip r:embed="rId3"/>
          <a:stretch/>
        </p:blipFill>
        <p:spPr>
          <a:xfrm>
            <a:off x="2895480" y="380880"/>
            <a:ext cx="2667240" cy="2667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www.feelgoodsports.nl/Images/cup1.jpg"/>
          <p:cNvPicPr/>
          <p:nvPr/>
        </p:nvPicPr>
        <p:blipFill>
          <a:blip r:embed="rId4"/>
          <a:stretch/>
        </p:blipFill>
        <p:spPr>
          <a:xfrm>
            <a:off x="5867280" y="380880"/>
            <a:ext cx="2895840" cy="285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http://www.gyn-care.nl/uploads/pessaria.001.jpg"/>
          <p:cNvPicPr/>
          <p:nvPr/>
        </p:nvPicPr>
        <p:blipFill>
          <a:blip r:embed="rId5"/>
          <a:stretch/>
        </p:blipFill>
        <p:spPr>
          <a:xfrm>
            <a:off x="2011320" y="3581280"/>
            <a:ext cx="51213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IUD(intra uterine device)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indert opstijgen van zaadcellen naar de eileid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indert innesteling van het bevruchte eitje in het baarmoeder slijmv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trouwbaarheid: 1-2 zwangerschappen per jaar per 100 vrouw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6" name="Picture 4" descr="http://t2.gstatic.com/images?q=tbn:ANd9GcTqgF39tkIF9hc6nuSbvMkpgiyH8ctIrF0DkQ1C1IdN8Df1dp9E1w"/>
          <p:cNvPicPr/>
          <p:nvPr/>
        </p:nvPicPr>
        <p:blipFill>
          <a:blip r:embed="rId1"/>
          <a:stretch/>
        </p:blipFill>
        <p:spPr>
          <a:xfrm>
            <a:off x="152280" y="4114800"/>
            <a:ext cx="3962520" cy="1919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ttp://www.xead.nl/upload/c3560a5299820ebbad993ee743e59d59spiraaltje_365x243.jpg"/>
          <p:cNvPicPr/>
          <p:nvPr/>
        </p:nvPicPr>
        <p:blipFill>
          <a:blip r:embed="rId2"/>
          <a:stretch/>
        </p:blipFill>
        <p:spPr>
          <a:xfrm>
            <a:off x="4343400" y="3886200"/>
            <a:ext cx="46483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Wanneer het spiraaltje vervangen?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renaspiraaltje(bevat hormonen) om de 5 j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perspiraaltje kan wat langer blijven z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el moet de vrouw regelmatig controleren of zij de draadjes nog kan voelen, want soms gaat het door de baarmoederwand de buikholte in.  Zonodig moet er een echoscopie plaatsv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Ander gebruik spiraal: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orning after spiraal, kan tot 5 dagen na de coïtus worden geplaat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indert de innesteling van de bevruchte eice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Nadelen spiraaltj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erste menstruaties zijn erg pijn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ussentijds 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rampen van de uter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draadjes te kort afgeknipt, dit veroorzaakt een pijnlijke eikel bij de ma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oogde kans op ontsteking( pelvic inflammatoiry dise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oogde kans op EUG(extra uteriene graviditeit) bij ontstane zwangerscha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Menstruatiecyclu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17bbfd"/>
                </a:solidFill>
                <a:uFillTx/>
                <a:latin typeface="Gill Sans MT"/>
                <a:hlinkClick r:id="rId1"/>
              </a:rPr>
              <a:t>http://www.youtube.com/watch?v=TiJ5-Xcpkc0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Onderdrukken van  eisprong ( ovulatie) , geen eitje vr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Baarmoederslijmvlies minder geschikt maken v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innesteling van mogelijk bevruchte eic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Minder geschikt maken van slijmvlies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baarmoederhals voor het toelaten van zaad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http://www.youtube.com/watch?v=CMFZlkNXdvg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Kunstmatige cyclus”: baarmoederslijmvlies dikker mak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397640" y="17002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29" descr="http://t0.gstatic.com/images?q=tbn:ANd9GcRjAaf_d6Z34R8ARlU205mobLcH5hts8zrxf9jjZeX4Q2XefE2Tjs7o6XbTig"/>
          <p:cNvPicPr/>
          <p:nvPr/>
        </p:nvPicPr>
        <p:blipFill>
          <a:blip r:embed="rId2"/>
          <a:stretch/>
        </p:blipFill>
        <p:spPr>
          <a:xfrm>
            <a:off x="2987640" y="4764240"/>
            <a:ext cx="36003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even – dagen - regel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ierstokken zijn na zeven dagen pilgebruik in slaa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uurt weer minimaal zeven dagen om te ontwake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14922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Gill Sans MT"/>
              </a:rPr>
              <a:t>Drie hoofdregel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Tussen innemen van 2 pillen, mag nooit meer dan 36 uur zitt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Stopweek nooit  verlengen ( &gt; 7 dagen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Als er 7 dagen achtereenvolgens geslikt is, is de anticonceptie gewaarborg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ij juist gebruik worden 2 vrouwen per 1000 vrouwen zwanger per jaar. De kans op zwangerschap is dus aanwezi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Gill Sans MT"/>
              </a:rPr>
              <a:t>Let wel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etrouwbaarheid bij vooral superlichte pillen neemt  af bij gebruik van and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medicatie , die afbraak van geneesmiddelen in lever versnellen, zoa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Antibioticum, Anti-epileptica , orale Antimycotica, Sint-janskrui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-braken: binnen 3-4 uur van inname van de tablet 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nl-NL" sz="1800" spc="-1" strike="noStrike">
                <a:solidFill>
                  <a:srgbClr val="000000"/>
                </a:solidFill>
                <a:latin typeface="Gill Sans MT"/>
              </a:rPr>
              <a:t>Advies: 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nieuwe tablet innem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-diarree: alleen bij heftige vorm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Advies: extra tablet innem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De meeste pillen zijn combinatiepillen en bevatten chemische varianten van d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natuurlijke geslachtshormonen: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Oestrogeen: ethinylestradiol ( EE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Progesteron: progestageen: levonorgestrel, lynestrenol, desogestrel, gestodeen, norgestimaat, norethisteron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ill Sans MT"/>
              </a:rPr>
              <a:t>Combinatie/Generatiepillen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:  één fase pillen, gelijke verdeling in pillen,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bevatten bepaalde hoeveelheid aan oestrogenen en bepaald progestageen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Te verdelen in 4 groepen: 1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, 2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, 3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 en 4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 generatiepillen.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ill Sans MT"/>
              </a:rPr>
              <a:t>Driefase pillen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: ongelijke verdeling van oestrogenen en progestageen in pil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drie verschillende kleuren. Alleen laatste fase uit nieuwe strip doorslikken of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strip microgynon 30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ff0000"/>
                </a:solidFill>
                <a:latin typeface="Gill Sans MT"/>
              </a:rPr>
              <a:t>Voordeel: 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Bootst natuurlijke cyclus het meest na, totale hormoon per strip minde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dan bij vaste combinatie.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732720" y="11592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riefase pil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666880" y="17827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Bijwerkingen, die na aantal maanden verdwijnen: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Misselijkhei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Gespannen borste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Tepelvlo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Doorbraakbloedinge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Bijwerkingen, die mogelijk niet meer verdwijnen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Spott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Vet haa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Acn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Gewichtstoenam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Hirsutism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Verandering in lib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ill Sans MT"/>
              </a:rPr>
              <a:t>Zeldzaam: </a:t>
            </a: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verandering in bloedstolling &gt; risico op trombose: 3</a:t>
            </a:r>
            <a:r>
              <a:rPr b="0" lang="nl-NL" sz="16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 en 4</a:t>
            </a:r>
            <a:r>
              <a:rPr b="0" lang="nl-NL" sz="16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 generatie pillen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( Marvelon, Yasmin), vrouwen&gt; 35 jaar bij oac + roken!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http://www.youtube.com/watch?v=CMFZlkNXdvg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580000" y="2708280"/>
            <a:ext cx="2676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2542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Progestageen pillen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Gill Sans MT"/>
              </a:rPr>
              <a:t>Indicatie</a:t>
            </a:r>
            <a:r>
              <a:rPr b="0" lang="nl-NL" sz="19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Voor vrouwen die geen oestrogeen mogen of willen gebruiken, bijv. tijdens  borstvoeding  of geen oestrogeen kunnen verdrag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nregelmatige werktijd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Regelmaat pil vergeten in te nem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ij stemmingswisseling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Gill Sans MT"/>
              </a:rPr>
              <a:t>Nadeel: 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in het begin onregelmatige doorbraakbloedingen, na half jaar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verdwijnen bloedingen en daarmee de controle op zwangerschap, bij stop duu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het lang eer de eisprong op gang kom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6012000" y="692280"/>
            <a:ext cx="2232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6666"/>
                </a:solidFill>
                <a:latin typeface="Bookman Old Style"/>
              </a:rPr>
              <a:t>Progestageen pill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orten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ikpil:  Depo provera: één keer per 3 maanden inje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ipil: Cerazette, geen stopweek!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Implanon: implantaat tablet, werkingsduur; 3j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2925720" cy="1474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835520" y="3716280"/>
            <a:ext cx="36212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MAP: morning after pil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ie NHG telefoonwijzer voor advies bij vergeten pi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 coïtu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levo (levonorgestrel): binnen 72 uu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perspiraal: binnen een wee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961920" cy="1371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020000" y="270828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Functie geslachtshormonen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Progestagene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stimuleert vochtafdrijving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heeft een positieve invloed op stemm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stevigd bloedvatenweef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Oestrogenen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schermen tegen een hartinfarct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, vanwege hun positieve invloed op het </a:t>
            </a: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tgehalte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in het bloed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wijden bloedvaten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, daardoor lopen veel vrouwen na de overgang, wanneer oestrogenen sterk verminderd zijn, een hoger risico op hart- en vaatziekte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zorgen voor </a:t>
            </a: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sterke botten.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Wanneer hun werking vervalt, na de overgang, lopen vrouwen ook het risico op </a:t>
            </a: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otontkalking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vulat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De meeste  vrouwen hebben elke maand een eispro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Cyclus duurt meestal circa 28 dag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Cyclus begint op eerste dag van de menstruati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Cyclus staat onder controle van  2 geslachtstimuleren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hormonen ( gonadotrope hormonen)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SH: Follikelstimulerend hormo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LH: Luteïniserend hormo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156360" y="4005360"/>
            <a:ext cx="22096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Operatieve anticonceptiemethode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de vrouw: sterilis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twVjagdQfFA  Essu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de man: vasectom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1kTvWIg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rappig http://www.youtube.com/watch?v=ezIAyynSILQ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Sterilisatie bij de vrouw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77" name="Picture 3" descr="http://www.voorbehoedsmiddelen.net/img/sterelisatie-castratie.jpg"/>
          <p:cNvPicPr/>
          <p:nvPr/>
        </p:nvPicPr>
        <p:blipFill>
          <a:blip r:embed="rId1"/>
          <a:stretch/>
        </p:blipFill>
        <p:spPr>
          <a:xfrm>
            <a:off x="1874880" y="1406520"/>
            <a:ext cx="53942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Essure metho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79" name="Picture 3" descr="http://www.sterilisatievrouw.nl/css/images/Essure-ingreep.png"/>
          <p:cNvPicPr/>
          <p:nvPr/>
        </p:nvPicPr>
        <p:blipFill>
          <a:blip r:embed="rId1"/>
          <a:stretch/>
        </p:blipFill>
        <p:spPr>
          <a:xfrm>
            <a:off x="79200" y="2895480"/>
            <a:ext cx="1749600" cy="2590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kliniekdelairesse.nl/images/made/uploads/behandelingen/Essure04_220_264_all_3_c1.png"/>
          <p:cNvPicPr/>
          <p:nvPr/>
        </p:nvPicPr>
        <p:blipFill>
          <a:blip r:embed="rId2"/>
          <a:stretch/>
        </p:blipFill>
        <p:spPr>
          <a:xfrm>
            <a:off x="6248520" y="2590920"/>
            <a:ext cx="2514600" cy="3017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http://www.vrouwenzaken.nl/wp-content/uploads/2012/12/1-Essure-plaatsing-def-638x330.jpg"/>
          <p:cNvPicPr/>
          <p:nvPr/>
        </p:nvPicPr>
        <p:blipFill>
          <a:blip r:embed="rId3"/>
          <a:stretch/>
        </p:blipFill>
        <p:spPr>
          <a:xfrm>
            <a:off x="2133720" y="3276720"/>
            <a:ext cx="3535200" cy="2587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www.stephenwellsmd.com/images/Essure.gif"/>
          <p:cNvPicPr/>
          <p:nvPr/>
        </p:nvPicPr>
        <p:blipFill>
          <a:blip r:embed="rId4"/>
          <a:stretch/>
        </p:blipFill>
        <p:spPr>
          <a:xfrm>
            <a:off x="4114800" y="380880"/>
            <a:ext cx="25146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Vasectom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84" name="Picture 3" descr="http://t1.gstatic.com/images?q=tbn:ANd9GcQBXK0MlH-icJB93yo-Tif0gxO62RFbs9NV4y7EK4J-KgOBilWVKIKK_kn6"/>
          <p:cNvPicPr/>
          <p:nvPr/>
        </p:nvPicPr>
        <p:blipFill>
          <a:blip r:embed="rId1"/>
          <a:stretch/>
        </p:blipFill>
        <p:spPr>
          <a:xfrm>
            <a:off x="533520" y="1523880"/>
            <a:ext cx="2681280" cy="4570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http://www.heelmeester.nl/heelmeestercms/images/ingrepen/vasectomie/slides/vasductus.JPG"/>
          <p:cNvPicPr/>
          <p:nvPr/>
        </p:nvPicPr>
        <p:blipFill>
          <a:blip r:embed="rId2"/>
          <a:stretch/>
        </p:blipFill>
        <p:spPr>
          <a:xfrm>
            <a:off x="4038480" y="1981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87" name="Afbeelding 3" descr=""/>
          <p:cNvPicPr/>
          <p:nvPr/>
        </p:nvPicPr>
        <p:blipFill>
          <a:blip r:embed="rId1"/>
          <a:stretch/>
        </p:blipFill>
        <p:spPr>
          <a:xfrm>
            <a:off x="247680" y="743040"/>
            <a:ext cx="86486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Het climacterium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89" name="Picture 4" descr="http://www.sintlucasandreasziekenhuis.nl/INTERNET/Specialismen/Gynaecologie/menopauze372.jpg"/>
          <p:cNvPicPr/>
          <p:nvPr/>
        </p:nvPicPr>
        <p:blipFill>
          <a:blip r:embed="rId1"/>
          <a:stretch/>
        </p:blipFill>
        <p:spPr>
          <a:xfrm>
            <a:off x="2446200" y="2438280"/>
            <a:ext cx="4251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iologisch proces op middelbare leeftijd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Tussen het  40</a:t>
            </a:r>
            <a:r>
              <a:rPr b="0" lang="nl-NL" sz="20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en 55</a:t>
            </a:r>
            <a:r>
              <a:rPr b="0" lang="nl-NL" sz="20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levensjaar van de vrouw neem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de activiteit van de eierstokken af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Climacterium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periode waarin de hormonale verandering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plaatsvind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Menopauze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moment waarbij de menstruatie volledig wegblijft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Postmenopauze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1 jaar na de menopauz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156360" y="115920"/>
            <a:ext cx="2209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ierstokken reageren niet meer op de stimuler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uit de hypofyse d.m.v. FSH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 follikels in eierstokken raken op  als gevol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arvan mindert de oestrogeen producti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unctie van oestrogeen is het verminderen va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SH productie (o.b.v.  feedback mechanisme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vens geen/minder eisprong ( invloed FSH) 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erdoor geen/minder geel lichaa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ze produceert normaal progesteron, die invlo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eeft op aanmaak van het LH hormoon in de hypofy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 feedbackmechanisme). FSH en LH in bloed lijdt to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lacht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ogesteron en oestrogeen zorgen tevens vo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bouw baarmoederslijmvlies, dit verdwijnt 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nstruaties  stoppen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Klachten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De menstruatie kan eerst heviger worden en vaker komen. Uiteindelijk worden de tussenpozen langer en blijft de menstruatie weg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Opvliegers, korte, hevige warmteaanvallen, waarbij gezicht, hals en borst rood worde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Ook komen (nachtelijke) zweetaanvallen vo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Het slijmvlies in de vagina wordt dunner en droger. Vrijen kan hierdoor een onaangenaam branderig gevoel geven of pijn doen, of kans op jeuk en vaginaal bloedverli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Langer termij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otontkalking ( oteoporos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6174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2828880" cy="3305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vulatie</a:t>
            </a: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SH:   bevordert bij de vrouw de groei en de ontwikkeling van follikels in de eierstokken en zet ze aan tot  productie van het hormoon oestroge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LH: stimuleert bij de vrouw de ontwikkeling van het gele lichaam ( corpus luteum) in de eiersto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Elke follikel bevat één onrijpe eic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2452680" y="5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overgangs verschijnselen"/>
          <p:cNvPicPr/>
          <p:nvPr/>
        </p:nvPicPr>
        <p:blipFill>
          <a:blip r:embed="rId1"/>
          <a:stretch/>
        </p:blipFill>
        <p:spPr>
          <a:xfrm>
            <a:off x="2452680" y="519120"/>
            <a:ext cx="42386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Hormonale therap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Wanneer oestrogeenproductie daalt, vermindert dus 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escherming tegen bepaalde ziekten. Of brengt  het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epaalde klachten teweeg. Reden(en) om als arts hormona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producten voor te  schrijven, bijvoorbeel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sub 50 pi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lokaal oestrogenen ( synapause/estradiol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hormoonpleisters (synapause E3, 1 keer per week vervangen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Gill Sans MT"/>
              </a:rPr>
              <a:t>Let wel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vergangsmedicijnen (tabletten of pleisters) die alleen oestrogeen bevatten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zijn alleen geschikt voor vrouwen die geen baarmoeder meer hebben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estrogeen, zonder toevoeging van progesteron, vergroot  de kans op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kanker van het baarmoederslijmvlie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227640" y="0"/>
            <a:ext cx="17049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Nog vragen?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143160" y="216360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ynm2GtLcVI0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ntracademie.nl/cursussen/cursuspagina/10-stappencursus-omgaan-met-de-overgang/stap/1.htm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6ZCTb5UjgMo&amp;src_vid=DLNR4c8VshM&amp;feature=iv&amp;annotation_id=annotation_582144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o42y0BMP-NM   Conference door Karin Bloem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vula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De eierstokken produceren geslachtshormon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ill Sans MT"/>
              </a:rPr>
              <a:t>Oestrogenen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hebben o.a. een stimulerende werking op de baarmoederslijmvlies d.w.z. opbouw van baarmoederslijmvlies dat tevens rijker aan voedingstoffen en bloed 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ill Sans MT"/>
              </a:rPr>
              <a:t>Progesteron: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onder invloed van LH wordt dit hormoon geproduceerd in het corpus luteum ( gele lichaam: follikel waarin het eitje rijpt en ontspringt tijdens eisprong). Stimuleert klieren in het baarmoederslijmvl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Ook wel zwangerschapvoorbereidend hormoon genoemd, bereidt baarmoederwand voor op evt. innesteling van een bevruchte eicel  door afscheiding te producer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ij géén innesteling gaat het ten gronde; baarmoederslijmvlies afgebrok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Ovula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25600" y="2259000"/>
            <a:ext cx="3905280" cy="285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355640" y="119700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Cyclus begint op eerste dag van de menstruatie. Oestrogeenspiegel het laagst en neemt daarna to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Tijdens groeifase (proliferatiefase) wordt slijmvlies dikker ( uit wand van Graafs follikel&gt; oestron&gt; oiv FSH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vulatie treedt op rond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 dag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Daarna secretiefase: progesteron door gele lichaam geproduceerd oiv LH , baarmoederslijmvlies wordt dikker en rijker van bloedvat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Menstruatiefase: treedt op wanneer er geen bevruchting plaatsvindt, het gele lichaam is 14 dagen na ovulatie te gronde. Progesteronproductie stopt. Slijmvlies sterft af en afgestote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Cyclus herhaalt zich opnieuw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Stadia van follikelrijping in de eierstok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13" name="Picture 3" descr="http://www.kennislink.nl/upload/113073_962_1087480491149-Follikel.jpg"/>
          <p:cNvPicPr/>
          <p:nvPr/>
        </p:nvPicPr>
        <p:blipFill>
          <a:blip r:embed="rId1"/>
          <a:stretch/>
        </p:blipFill>
        <p:spPr>
          <a:xfrm>
            <a:off x="2143080" y="1954080"/>
            <a:ext cx="485784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Anticonceptie method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ologis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chanisch en chemisch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rmona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eratiev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Biologische method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Coïtus interruptus(voor het zingen de kerk ui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trouwbaarheid: 10-40 zwangeren per 100 vrouwen per jaar, dus onbetrouwb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eriodieke onthouding: 10- 40 zwangerschappen per 100 vrouwen per jaar, 10 bij goede uitvoering en 40 bij slordigheden, niet betrouwb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0:18:29Z</dcterms:created>
  <dc:creator>Rhea</dc:creator>
  <dc:description/>
  <dc:language>en-US</dc:language>
  <cp:lastModifiedBy>marlies bouland</cp:lastModifiedBy>
  <dcterms:modified xsi:type="dcterms:W3CDTF">2018-11-26T11:13:27Z</dcterms:modified>
  <cp:revision>52</cp:revision>
  <dc:subject/>
  <dc:title>Dia 1</dc:title>
</cp:coreProperties>
</file>