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843-9B7A-4FA0-9E46-E5665989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B07D-77BA-4485-AE44-2A8D4B86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951A-0933-467D-9FDF-5C9428BD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3F2D-5508-4164-A342-4671A651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9CD0-F9FF-49EF-A9EE-91D14BA8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F977-E40B-4DDA-9ADE-71664772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79B5-6096-4BD0-A095-1AA39847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458C-AB70-40E5-B3B7-4C82AC49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C550-8C68-4B53-9081-A5EF3C61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D3CF-07CA-43A0-B37C-B5608141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9EA7-3904-4F34-A297-9201A90F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ABBF-D3BB-4E74-B379-7FEA7B06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E8BC-5629-4351-A6D3-EC231280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0D68-BD48-455D-B216-9AF1F052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5E49-4B7C-4398-90A7-07E3CC0E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AA42-940C-4A71-B21B-ED59C1A2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5EA6-2209-4EC0-B362-C6F518AF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B56-2026-4E5C-B405-A4C20145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DB49-FF6B-4672-AF18-366D4D5D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76A-D7E6-4068-BD57-1663469A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6BC0-4F99-4FB1-9C10-062CD1FB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76D-05E3-41FB-AE1F-EC597D0A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F7F-AE3E-427C-8F02-C7531AF9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50C-A911-4B77-B6E9-6EB137DD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3B48-6DAC-432C-96E7-2FFFE9C8CF8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C16F-1FCC-433C-987F-FA26759DE39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221304"/>
                </a:solidFill>
                <a:latin typeface="Times New Roman"/>
              </a:rPr>
              <a:t>   </a:t>
            </a:r>
            <a:r>
              <a:rPr b="0" lang="nl-NL" sz="4000" spc="-1" strike="noStrike">
                <a:solidFill>
                  <a:srgbClr val="221304"/>
                </a:solidFill>
                <a:latin typeface="Times New Roman"/>
              </a:rPr>
              <a:t>JGZ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1928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indermishan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187280" y="3860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kindermishandel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ke vorm van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voor een minderjarige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dreigende of gewelddadige interactie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van fysieke, psychische of sexuele aard,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e de ouders of andere personen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ten opzichte van wie de minderjarige in een relatie van afhankelijkheid of van onvrijheid staat, actief of passief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pdringen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waardoor ernstige schade wordt berokkend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of dreigt te worden berokkend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an de minderjarige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in de vorm van fysiek of psychisch lets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6201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amelijke mishan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laan, schoppen, branden, snijden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amelijke verwaarlo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ndervoeding, slechte hygiene, niet in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sychische mishan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reiteren, bang maken, je bent 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sychische verwaarlo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brek aan warmte/veiligheid, niet naar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exueel misbru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lk sexueel gericht 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snijdenis bij meisj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hoe vaak komt het vo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bekend, topje van de ijsberg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ssen 50.000 – 80.000 per j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0 kinderen komen om door mishan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 op de 6 a 7 vrouwen sexueel misbrui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hoe ontstaat he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amengaan van oorz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nmacht, onverm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brek aan kennis of gevo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uders hebben zelf probl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sychisch, financieel, huw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ind is niet gew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ind voldoet niet aan verwach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ruk, zi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lossing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ieder geval meld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ooit beloven dat je het niet verder vert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mstandigheden voor het kind worden verbete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uders (ook zelf in nood) worden begel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G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Een goed uitgevoerde anamnese, screening en lichamelij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eoordeling tijdens het PGO kan een globaal beeld g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van lichanmelijke en geestelijke gezondheid van het ki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Times New Roman"/>
              </a:rPr>
              <a:t>op dat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oep 2 BO / 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 assisten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am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korte tijd een beeld krijgen hoe het met het kind ga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ramatisch’ moeilij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voel, intuitie ontwikke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ichamelijk onderzoek (gehoor, ogen, groei, gewi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nderwerpen B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ten, eet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aappatr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ort en spel – vriend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s – broers, zusjes, vriend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woontes (duimzuigen, nagelbij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nderwerpen V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agen 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ektes, medicij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huissitu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 met ou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 met vrie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woontes (roken, alcohol, dru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asispakket JGZ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schatten zorgbehoefte (maatwerk-rugzakj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eventie (vaccinat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lichting en adv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sporen bedreigende randfact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steunen ouders/verzor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AR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gunstige gewoo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uimzuigen, nagelbijten, niet willen eten, bedp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alendermethode (belon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raakprobl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emmisbruik, stotteren, bro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ogope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aapstoorni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chtmerries, paniekaanvallen, slaapw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ruststellen, be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62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toriek (vaak door hersenbeschadig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ysiothera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uding –safwijkingen (scoliose, Scheuerman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ysiothera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rtho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voelbare zaadba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iet problemat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perat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himosis (vernauwde voorhui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ircumcisie bij blijvende 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-Nederlandse ou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der idee over ziekte/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der eetpatroon, uit ander klimaat, gebrek vit D (zonli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dere opvoedingsmeth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g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ormaal / stoornis bij belemmering normaal l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niekaanval, dwanggedachte –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tss (post traumatisch stress synd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sycholo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uders betr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i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torisch (knipperen, neus opha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caal (kuchen, grommen, korte geluidj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este gaan vanzelf voor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yndroom van Gilles de la Tour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gt; 1 jaar motorische en vocale 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sychothera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dicij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p volwassen leeftijd weinig of geen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26:14Z</dcterms:created>
  <dc:creator>custom</dc:creator>
  <dc:description/>
  <dc:language>en-US</dc:language>
  <cp:lastModifiedBy>Bouke Cuperus</cp:lastModifiedBy>
  <dcterms:modified xsi:type="dcterms:W3CDTF">2018-07-15T10:56:06Z</dcterms:modified>
  <cp:revision>67</cp:revision>
  <dc:subject/>
  <dc:title>Conclusies enquête panel DA</dc:title>
</cp:coreProperties>
</file>