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A446-78C1-44DB-814A-D376A20ED52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rdiotocografie: hartslag foe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AD9E-300F-4ED3-BA2A-45BE76E3B8D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liggende place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4E45-F31F-43FD-BF44-215975ED58E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oslating moederk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3923-B9A6-41F8-9998-0009C74D9F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2 weken zwanger tot 8 dgn na bevalling. Zwangerschapsvergifti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4A17-FC03-4B4F-AD4F-FC1B842608B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fdpijn, vaag zien, lichtflitsen of sterretjes, riem om de buik, misselijk, vocht vasthou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0CCA-2576-468D-9A73-2E0630F08C3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conium: eerste ontl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E561-AC28-4F09-9EA8-7DF04393F7C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parine: zorgt ervoor dat bloed minder makkelijk samenklont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marine: antistollingsmid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825E-8A43-445D-863B-EF1FA8CD107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BB4-4D9D-4BE2-BF7D-A2EB3D32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DBD-212E-44E1-8E29-29E3B496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370-6864-4E00-9337-0236F813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8D5-BEF4-4DFA-B9EB-A659609D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EE5-AC00-478B-B4BE-0035AF6F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7CB-D3A4-4DA9-B9AB-FF09809E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D56-C9BF-4DB4-866A-8B8B78B8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B58-A53A-4403-ABFC-E201B4E9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D8C-C49F-4741-A75F-1B08A51A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928-2281-430D-890B-2D3EF9C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E06-B845-4CBA-96A9-9485F55C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CFD-70EC-4701-8AA3-898A03EC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645A-CC35-4593-B27A-6B8E95BF2AD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lv__4YhH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asqsd_pregnancy-risks-placental-abruption_schoo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tangverlossing&amp;hl=nl&amp;safe=active&amp;biw=1280&amp;bih=762&amp;tbm=isch&amp;tbnid=8g00nAMMfP-4YM:&amp;imgrefurl=http://mediatheek.thinkquest.nl/~lld094/geboorte/vaginalekunstverlossing.htm&amp;docid=X0mn-QQAGP_lTM&amp;w=432&amp;h=406&amp;ei=hjqDTs_3JMW6-Ab4q-TUDw&amp;zoom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google.nl/imgres?q=zwangerschap&amp;hl=nl&amp;safe=active&amp;sa=X&amp;biw=1280&amp;bih=801&amp;tbm=isch&amp;prmd=imvnsu&amp;tbnid=qFDYWjYx5u2h1M:&amp;imgrefurl=http://www.babybytes.nl/zwangerschap/kalender/week/12&amp;docid=sSVY3D6kEgzEUM&amp;w=450&amp;h=300&amp;ei=0yaDTvmwM4qXOrPOkCA&amp;zoom=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nl/imgres?q=zwangerschap&amp;hl=nl&amp;safe=active&amp;sa=X&amp;biw=1280&amp;bih=801&amp;tbm=isch&amp;prmd=imvnsu&amp;tbnid=N-Gra7mSo1aHTM:&amp;imgrefurl=http://www.gezondheid.nl/demens3d/zwangerschap.php&amp;docid=FLIAA8lwwC4c7M&amp;w=400&amp;h=400&amp;ei=0yaDTvmwM4qXOrPOkCA&amp;zoom=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youtube.com/watch?v=GNp6oySz6V4" TargetMode="External"/><Relationship Id="rId8" Type="http://schemas.openxmlformats.org/officeDocument/2006/relationships/hyperlink" Target="http://www.youtube.com/watch?v=AcLso3g4-0o" TargetMode="External"/><Relationship Id="rId9" Type="http://schemas.openxmlformats.org/officeDocument/2006/relationships/hyperlink" Target="http://www.youtube.com/watch?v=w1810c_fzZo%60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checkzis.com/nl/lijst/473/zwangerschapskwaaltjes/4502/pigmentvlekke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vidit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781360"/>
            <a:ext cx="7772400" cy="166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www.afvallen-weblog.nl/media/99/2009_06/zwangerschap_aankomen.jpg"/>
          <p:cNvPicPr/>
          <p:nvPr/>
        </p:nvPicPr>
        <p:blipFill>
          <a:blip r:embed="rId1"/>
          <a:stretch/>
        </p:blipFill>
        <p:spPr>
          <a:xfrm>
            <a:off x="5562720" y="32767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gezondheidsnet.nl/upload/zwangerschap/zwanger_eten/zwanger_eten_365x243.jpg"/>
          <p:cNvPicPr/>
          <p:nvPr/>
        </p:nvPicPr>
        <p:blipFill>
          <a:blip r:embed="rId2"/>
          <a:stretch/>
        </p:blipFill>
        <p:spPr>
          <a:xfrm>
            <a:off x="399960" y="650880"/>
            <a:ext cx="3943440" cy="262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www.borstvoeden.nl/site/images/stories/veiligheid/zwanger_alcohol.jpg"/>
          <p:cNvPicPr/>
          <p:nvPr/>
        </p:nvPicPr>
        <p:blipFill>
          <a:blip r:embed="rId3"/>
          <a:stretch/>
        </p:blipFill>
        <p:spPr>
          <a:xfrm>
            <a:off x="5334120" y="228600"/>
            <a:ext cx="2849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oliumzuur gebr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liumzuur is vitamine B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Zit in voedingsmiddelen, zoals  verse groenten, fruit, aardappel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lkoren producten en zu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zwangerschap onvoldoende uit voedsel, extra aanvulling noodzak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art van foliumzuur een maand voordat je gaat stoppen met pil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der voorbehoedsmiddel,  tot 2 maande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uurt 4 weken eer het in je lichaam is opgen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liumzuur tablet 0,5 mg, 1 maal da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komen van een open ruggetje(spina bifida)/open sche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00960" y="49435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nderzoeken tijdens zwangerschap i.v.m. ongeboren 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0 weken, deze zit in het basispak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rste trimestercombinatietest: bloedonderzoek,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kplooimeting + leeftijd moeder en duur zwangerschap geeft risico op kind met S. va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okken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uchtwater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://www.youtube.com/watch?v=rlv__4YhH1o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d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Cycl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rekend vanaf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dag van de menstru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Zwanger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ravidit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Normale zwangerschapsduur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40 weken, één tot twee weken te vroeg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over ti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Vroeggeboorte: ( prematuur) 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nog voor zwangerschapsduur van 37 weken de weeën beginnen, bloed verlies en baarmoeder open en vruchtwater verlies. Dreigende vroeggeboorte is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PO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erotinitei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zwangerschap langer duurt dan 42 we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ken fout? Hoe is het met conditie van het kin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vt  kunstmatig inlei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bevalling kondigt zich aan do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armoedercontracties die in pijn toe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tekenen: verliezen van een bloedslijm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eken van de vlie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vallingsfas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 ontsluit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; baarmoedermond gaat openstaan agv wee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 uitdrijv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bij 10 cm vo (volkomen ontsluiting) mag de vrouw persen en het kind wordt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I nageboorte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placenta en vliezen worden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uitdrijving baby"/>
          <p:cNvPicPr/>
          <p:nvPr/>
        </p:nvPicPr>
        <p:blipFill>
          <a:blip r:embed="rId1"/>
          <a:stretch/>
        </p:blipFill>
        <p:spPr>
          <a:xfrm>
            <a:off x="500040" y="1295280"/>
            <a:ext cx="81439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638680" y="4437000"/>
            <a:ext cx="2665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erperium (Kraamb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ijd die het lichaam nodig heeft om te ontzwanger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 ongeveer 6 w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638680" y="44956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ormale 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lochia: vaginale afscheiding bestaande uit wondvocht en bloed, verandert van rood via roze naar geel en vervolgens naar witgeel de normale kl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bstipatie,  aambeien : bang op te persen en/of  verslapte sp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zwelling in de borsten door het toeschieten van de me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de, 4de dag kraamtr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oen tijdens kraamb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tiviteiten  geleidelijk opvoer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rust 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zelrijk 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oefeningen /postnatale 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Zwanger?</a:t>
            </a:r>
            <a:r>
              <a:rPr b="1" lang="nl-NL" sz="4400" spc="-1" strike="noStrike">
                <a:solidFill>
                  <a:srgbClr val="e6b9b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stest 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antonen Humaan Chorion Gonadotrof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hormoon ( HCG) in ur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Niet vergoedt , tenzij op medische indicati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positief 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Felicita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dvies foliumzuur en stop rok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hoe lang de vrouw 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zwanger probeert te raken; evt. 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Regel: &lt; 30 jaar , criteria 1 ja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&gt; 30 jaar , criteria ½ jaa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 test posi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naar anticoncep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3624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iekten / afwijkingen tijdens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wangerscha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e bevalling en in het kraam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bortus spontanus = miskr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kkenins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diab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hypertensie – toxicose –HELLPsyndroom – (pre-)ecclamp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valling komt voor de 37ste week op 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lutio placen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skra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pontane  abortus: in de eerste 16 weken, 1 op 10 zwangerschapp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dit op een natuurlijke wijze zich voordo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/stolsels ( niet meer dan een forse menstruatie), buikpij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gelijkbaar met menstruatie, misselijkheid, kan paar dagen tot een  week duren, pijn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loedverlies wordt geleidelijk aan 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anlegstoornis, vruchtje niet in orde,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miskraam maar bloeding duidt op wondje, poliep, innestelingsbl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rdere miskramen gehad ( antistoffen) , leeftij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dvies/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ontact huisarts ivm emotioneel gebeuren, evt. ech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vanaf 6 wek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t we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aanhoudend bloedverlies ( 1 week) ,koorts, hevig bloedverlies en buikpijn &gt; verwijzing gynaecolo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er ernstig braken tijdens zwanger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rzaak: hormonaal? Overbezorgdheid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braken, ziek, niet kunnen functi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wicht daalt + uitdro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te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ektrolytenbalans verst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n meerdere keren terug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entueel ziekenhuiso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de tweede helft van de zwangerschap is de  moederko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 placenta) geheel of gedeeltelijk voor de uitgang gaan lig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 rand van moederkoek kan klein beetje losscheuren van  baarmoederw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plotseling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ijnloos bloedverlies en uiteindelijk hev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verlies doordat baarmoeder openga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nderzoe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cho , beleid evt. afwach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vaar voor kind en moeder, evt keizers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https://verloskunde.slingeland.nl/wms/fm/userfiles/content/verloskunde/placenta_ligging.jpg"/>
          <p:cNvPicPr/>
          <p:nvPr/>
        </p:nvPicPr>
        <p:blipFill>
          <a:blip r:embed="rId1"/>
          <a:stretch/>
        </p:blipFill>
        <p:spPr>
          <a:xfrm>
            <a:off x="152280" y="2141640"/>
            <a:ext cx="4191120" cy="257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g.webmd.com/dtmcms/live/webmd/consumer_assets/site_images/articles/health_and_medical_reference/womens_health/understanding_placenta_previa_basics_Placenta_Previa.jpg"/>
          <p:cNvPicPr/>
          <p:nvPr/>
        </p:nvPicPr>
        <p:blipFill>
          <a:blip r:embed="rId2"/>
          <a:stretch/>
        </p:blipFill>
        <p:spPr>
          <a:xfrm>
            <a:off x="4876920" y="2438280"/>
            <a:ext cx="3809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 placentae </a:t>
            </a:r>
            <a:br>
              <a:rPr sz="4400"/>
            </a:b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dailymotion.com/video/xasqsd_pregnancy-risks-placental-abruption_school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58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laat in tweede helft van zwangerschap plotse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heel of gedeeltelijk los. Veroorzaakt door een scheur in bloedvaten, tuss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en baarmoederwand , bloeding achter moederkoek ontstaa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helemaal losscheuren, hoe groter de loslating hoe ernstiger de verschijnselen.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O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latief veel voor bij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ge bloeddruk en roken, drugs(cocaine) valpartij, trauma, erfelijkheid en stollingsziekt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cuut optredende heftige buikpij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n harde buik ('harde uterus') door een continue weeënkra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oor zuurstoftekort kan het kind een onregelmatige hartslag krijgen en zelfs overlijd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uizeligheid en kans op flauw vallen door de pijn en de bloeding in de baarmoe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overlijden van het kind  is groot, evt bevalling afwachten of keizersnee,  klachten moeder behand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95760" y="65977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hyperten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el voorkomende aandoening in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helft va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druk is te hoog, dit leidt tot beschadiging van bloedvat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oederkoek. Ontwikkeling moederkoek onvoldoe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 kans op groeivertraging, te weinig zuurstof of fatale af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ok moeder loopt risico: vocht vasthouden, gewichtstoename , n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schadigen, eiwit in urine ( proteïnurie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re-eclampsie: combinatie van hypertensie, proteïnurie en oede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an leiden tot orgaanschade ( lever /nieren/hersenen) en epileptisch in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nderdeel van ernstige vorm pre- eclamps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ELPP-syndroom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emolysis elevated Liver enzymes Low platele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emolyse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ekent dat de rode bloedlichaampjes kapot g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Elevat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 ernstige lever functie stoornis; betekent dat de bloeduitslagen van de  lever afwijkend zijn en aangeven dat de lever niet meer goed functione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Low Platele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laagd aantal  bloedplaatjes;  zorgen voor de stolling; als er te weinig zijn, dan geeft dat een stollingsstoor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Bij een pre-eclampsie kunnen naast de HELLP syndr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afwijkingen, verder de volgende verschijnselen aanwezig zij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sterk) verhoogde bloeddr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iwit in de ur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ofdpijn en sterretjes zien, tintelingen voelen in de ving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cht vasthouden (oede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ftige reactie op het uitvoeren van de 'kniepees reflex'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nellend gevoel in de bovenbuik (maagstreek) door een verhoogde spanning bij de l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isselijkheid en bra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rnstig ziek gevo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Complicatie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rsenbloeding, nierinsufficiëntie , loslating plac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 bij geen behandeling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coma raken, insu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handeling: o.a. opname ziekenhuis, bedrust,anti- hypertensiva, keizersn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el/niet gewen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bortus provocat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tijdig afbreken van een zwangerschap door medisch ingrijpen, voordat het levensvatbaar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afterpil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nnen 72 uur na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 afterspiraal: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a  72 uur en  binnen een week na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vertijds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6 dagen overtijd, middels zuigcurretage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een wettelijke bedenktijd van 5 da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bortuspi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7 weken overtijd: afstoten bevruchte e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Zuigcurretage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3 weken , wettelijke bedenktijd van vijf dage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perkte kliniek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3 -20 weken abortus uitgevoerd ( wettelijk t/m 22 wk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Levensvatbaarheidgren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4 weken, vrucht buiten baarmoeder levensvatbaar i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xtra Uteriene Graviditeit( EUG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nesteling in baarmoederslijmvlies van de eileider, buitenbaarmoederlijk zwangersch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vertijd, vage klachten, vaginale bloeding, bloeding in buikhol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oorzaakt  uiteindelijk hevige buikpijn: peritonitis ( fatale afloo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ittekens en verklevingen na een appendicitis ; eerdere operatie aan eileid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Soms per toeval ontdekt tijdens eerste echo contro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handeling/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hevige buikpijn spoed, zwangerschapstest , ech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paroscopie en operatief verwijde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behandeling: LEVENSBEDREI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35520" y="66088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tijdens de beva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t te lang de vrouw raakt uitge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 krijgt het benauwd, te merken door veranderde hartslag, groene ont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drijving gaat langzaam: forceps(tang) of vacuümpomp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centa blijft vastz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400640" y="2460600"/>
            <a:ext cx="1657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086280" y="23558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http://t0.gstatic.com/images?q=tbn:ANd9GcSnyBKpAjf51pbg-si9xETClTZelCKOseXFyXYx4oi1T-Iw2aUHL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2651040" cy="2492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714920" y="416556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86080" y="2889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86080" y="2889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4200480" y="3568680"/>
            <a:ext cx="19861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2957400" y="2567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7869240" y="330840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131760" y="26877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4" descr="http://t0.gstatic.com/images?q=tbn:ANd9GcS-Jy2RF6gGy93e94Hfvad-OyWq4kYU-sAp7hisAi_SbyqBFmzBJw"/>
          <p:cNvPicPr/>
          <p:nvPr/>
        </p:nvPicPr>
        <p:blipFill>
          <a:blip r:embed="rId3"/>
          <a:stretch/>
        </p:blipFill>
        <p:spPr>
          <a:xfrm>
            <a:off x="6629400" y="609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6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165640" y="3227400"/>
            <a:ext cx="2151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1828800" y="264168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0" descr="http://t1.gstatic.com/images?q=tbn:ANd9GcRK4ndeqtzEIoxOd1LtfnkOHXLAhKNVH5A4jOnRBz9-LrgEwXPSWg"/>
          <p:cNvPicPr/>
          <p:nvPr/>
        </p:nvPicPr>
        <p:blipFill>
          <a:blip r:embed="rId4"/>
          <a:stretch/>
        </p:blipFill>
        <p:spPr>
          <a:xfrm>
            <a:off x="1828800" y="3095640"/>
            <a:ext cx="60199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812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in het kraamb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ge weerstand , kans op infec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Koorts in kraambed denk aan de 4 B’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laas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UW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n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rombophlebitis of tromb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orst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stitis, tepelk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ui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ndometritis ( ontsteking baarmoederslijmvlies) buikpijn gepaard met stinkende loch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stnatale depressie, kan maanden na de bevalling optreden, somber, slecht slapen, binding moeder kind versto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ambedpsychose: verward, achterdochtig, angsti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vaar voor moeder en kind: spo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hoofdstuk 9 medische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dicatie bij trombose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jectie 1dd, 5 d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umarine tabl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enocouma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dra cumarine werkt, stoppen met 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h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a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avelstr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64040" y="1981080"/>
            <a:ext cx="317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http://www.xead.nl/upload/0693e57cccc734dcb7843b3432435cfbd2VlazE1LWZldHVzLmpwZw==.jpg"/>
          <p:cNvPicPr/>
          <p:nvPr/>
        </p:nvPicPr>
        <p:blipFill>
          <a:blip r:embed="rId1"/>
          <a:stretch/>
        </p:blipFill>
        <p:spPr>
          <a:xfrm>
            <a:off x="457200" y="228600"/>
            <a:ext cx="358776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ttp://www.helingdoorbachbloesems.nl/afbeeldingen/zwanger16.jpg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2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1617840" y="2189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6" descr="http://t0.gstatic.com/images?q=tbn:ANd9GcR5f6DaVdWiDyiZ9w4b9A7X-n7FlEY-cbzKGBKPOUhn6Mxfx9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533520"/>
            <a:ext cx="3657600" cy="2244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8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106800" y="23162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2" descr="http://t3.gstatic.com/images?q=tbn:ANd9GcTUBWRLkq4FuAnzZsbc76dHoAJJRDscz22qD1leMWYSq1TkXmgdy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9625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4"/>
          <p:cNvSpPr/>
          <p:nvPr/>
        </p:nvSpPr>
        <p:spPr>
          <a:xfrm>
            <a:off x="4495680" y="15228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GNp6oySz6V4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1521720" y="6400800"/>
            <a:ext cx="47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youtube.com/watch?v=AcLso3g4-0o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hthoek 1"/>
          <p:cNvSpPr/>
          <p:nvPr/>
        </p:nvSpPr>
        <p:spPr>
          <a:xfrm>
            <a:off x="4062240" y="2787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www.youtube.com/watch?v=w1810c_fzZo`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lu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ugpijn houding verand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riae tgv snelle groei scheurtjes in de onder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arices druk van foetus op de v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hloasma gravidar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bstipatie agv minder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gklachten  kind drukt de maag w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or hormonale veranderingen, tenzij anders aangeg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hloasma gravidarum = zwangerschapsmas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876560" cy="334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381640" y="3095640"/>
            <a:ext cx="3762360" cy="3762360"/>
          </a:xfrm>
          <a:prstGeom prst="rect">
            <a:avLst/>
          </a:prstGeom>
          <a:ln w="0">
            <a:noFill/>
          </a:ln>
        </p:spPr>
      </p:pic>
      <p:sp>
        <p:nvSpPr>
          <p:cNvPr id="77" name="Rechthoek 1"/>
          <p:cNvSpPr/>
          <p:nvPr/>
        </p:nvSpPr>
        <p:spPr>
          <a:xfrm>
            <a:off x="324000" y="5657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heckzis.com/nl/lijst/473/zwangerschapskwaaltjes/4502/pigmentvlekke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e 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psychische verander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eerste 3 maand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chtend misselijkheid/overg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maakvera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ape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emmingswisse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naf 3 maanden – 6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specifieke maagklachten:zuurbrand en opgeblazen gev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anderingen van de huid; vetter / pigment neem to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evt. zwangerschapsmask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ename gewic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sychische veranderingen: gespannen, bezorgd, angstig en/of prikkelb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laatste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echt slapen, pijn in rug/bekken, vaak plassen, slecht tegen warmte ku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4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fregels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eging en rust af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ch (goed laten) voorl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s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tten op voeding, eten voor 2 is onz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, geen 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 alleen na overleg arts/verloskund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4:15:25Z</dcterms:created>
  <dc:creator>Agnieta</dc:creator>
  <dc:description/>
  <dc:language>en-US</dc:language>
  <cp:lastModifiedBy>marlies bouland</cp:lastModifiedBy>
  <dcterms:modified xsi:type="dcterms:W3CDTF">2018-09-30T17:31:32Z</dcterms:modified>
  <cp:revision>36</cp:revision>
  <dc:subject/>
  <dc:title>Graviditeit</dc:title>
</cp:coreProperties>
</file>