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28.jpeg" ContentType="image/jpeg"/>
  <Override PartName="/ppt/media/image36.jpeg" ContentType="image/jpeg"/>
  <Override PartName="/ppt/media/image20.png" ContentType="image/pn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5.png" ContentType="image/png"/>
  <Override PartName="/ppt/media/image5.jpeg" ContentType="image/jpeg"/>
  <Override PartName="/ppt/media/image18.png" ContentType="image/png"/>
  <Override PartName="/ppt/media/image6.jpeg" ContentType="image/jpeg"/>
  <Override PartName="/ppt/media/image37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1758-1520-4A33-95BD-D0B8008DAA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D31D-A625-4907-B730-FF8FE8E0A3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96A7-5B17-46BC-A7F8-10010CDF40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art eerste dag van de menstruatie meteen betrouwba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A218-9981-4D44-92C9-0C645E2B1F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43BF-7B01-4CFB-8CD9-83631CDC37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17EE-2230-4C1E-ABBF-6BAE2A4709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FE5A-3C4E-46C5-BAC7-9F557BADA5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8663-24BC-407C-9880-5D00230A9F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inip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alt ook de prilpil, implanon o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1B77-6300-46F0-BAD3-B8958843DF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6B0D-F450-4BDC-AB4C-7396EF1909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A9DA-8E76-4201-A9EF-A3617299FB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ypofyse : aanhangsel dat ligt onder de hersenen in Turks zadel, hormonen met bloedstroom mee en werking doen in bepaald deel van het lichaam . In dit geval de eierstokken ( interne secretie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9272-83A8-4EB7-958E-3BB692E038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thode: de eileiders groeien geleidelijk dicht door het inbrengen van veertjes met polyester vezeltjes. Zaadcellen kunnen zo niet bij de eitjes komen. Poliklinis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CC34-E84F-4D4B-817D-67C464DF1A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derbreken van de zaadleiders, zodat er geen zaadcellen in het sperma terecht ko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7AE1-2766-413A-83BF-475521D03E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4D6C-D89F-42C7-AA49-B5C2597F3A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D818-AB92-4A74-86EE-FCFBD434EC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5023-E5ED-48E0-A738-37E8F22651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zonde voeding en genoeg bewegen en goed slapen helpen om in deze periode fit te blij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BA18-EF29-4AA2-879B-62B6539718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6CD5-5C17-4137-A8B9-B39083C33D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B1DD-05F9-4EBF-9DAE-1FE42543ED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F6B8-3819-4A81-B8C4-FA8C44417E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04D3-0C66-4B2B-BFF5-A7E63561B4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estrogenen ook verantwoordelijk voor ontwikkeling van primaire ( eierstokken, eileiders etc)  en secundaire geslachtskenmerken (borstklieren, optreden menarche, verbreding bekken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566E-D136-45AA-A40C-E9BBBFE08B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7947-E5D5-49B1-A801-AA1830AD7B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9840-9ECC-424F-925B-319C40F0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8CD0-F8D5-476D-8AC0-F78B2F56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5141-35BF-43A4-ABF3-16478216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9407-6A4C-4DA4-9E7C-242A37C1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3DB2-08EA-419A-98C7-687640B6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FA8F-DE06-4ECE-8DC2-6ECC5B74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3CC3-9084-40C9-9012-1684B3DD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632D-EA37-4540-9831-D87025D9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2CCB-5175-40A5-8473-32B2ED0E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7726-636D-42F2-91C1-A70D470B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1A59-7DDB-4269-BE39-50C030D2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E523-3A33-4595-863C-0A691CF1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C9D2-26CF-4D14-8639-D988FC3C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9838-CFA1-44E7-A4BF-8E924523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B3CA-A9C2-44A4-A454-2FF30FCF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7C6F-192B-476B-BD94-D9EA522E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299E-724A-4ACB-8CC1-D8982590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4B44-2932-458E-A32B-5B86AB23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7DFC-2CF6-4A2A-9840-906C87CE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5B9-C27A-470A-9523-126F4EE7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9C3B-CFD2-46B2-B8C3-76167A4A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B71-AAC7-498F-88AB-DEFC8969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BAA4-59AC-4F11-9F54-E541ED30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5CA2-E39D-44D2-B4FE-B7ECB08A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66666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666666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66666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B192-CD9D-4F61-A060-0081B05F1F29}" type="slidenum">
              <a:rPr b="0" lang="nl-NL" sz="1400" spc="-1" strike="noStrike">
                <a:solidFill>
                  <a:srgbClr val="66666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hoek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66666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666666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66666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435F-226D-4370-9F1B-1BB08300BF4E}" type="slidenum">
              <a:rPr b="0" lang="nl-NL" sz="1400" spc="-1" strike="noStrike">
                <a:solidFill>
                  <a:srgbClr val="66666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pessarium&amp;hl=nl&amp;safe=active&amp;biw=1111&amp;bih=669&amp;tbm=isch&amp;tbnid=S_CbkTYvCw3sQM:&amp;imgrefurl=http://users.telenet.be/apotheek.nagels/medisamedatabank2.htm&amp;docid=LO4-luYesSZEQM&amp;w=309&amp;h=426&amp;ei=_Pp5Ts6PMMGcOrKtxK8C&amp;zoom=1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iJ5-Xcpkc0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Bookman Old Style"/>
              </a:rPr>
              <a:t>Menstruatiecyclus &amp; anticonceptie </a:t>
            </a:r>
            <a:endParaRPr b="0" lang="en-US" sz="29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666520" y="5105160"/>
            <a:ext cx="3429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6666"/>
                </a:solidFill>
                <a:latin typeface="Bookman Old Style"/>
              </a:rPr>
              <a:t>en het climacterium                   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256212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Biologische method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mperatuur methode: basaal temp.: elke dag op hetzelfde tijdstip T meten, stijgt het een halve graad , dan is het progesteron gehalte gestegen en een eisprong geweest,en dus oppassen gebla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ij nauwkeurige toepassing erg betrouwba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Mechanische method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Condoom, betrouwbaarheid wordt beter met zaaddodende middelen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-10 zwangerschappen per jaar per 100 vrouw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aaddodende middelen 15 minuten voor coïtus inbre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Voordeel: bescherming tegen SOA’s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4" name="Picture 4" descr="http://www.belgium.be/nl/binaries/210_ist_5868618_tcm117-9727.jpg"/>
          <p:cNvPicPr/>
          <p:nvPr/>
        </p:nvPicPr>
        <p:blipFill>
          <a:blip r:embed="rId1"/>
          <a:stretch/>
        </p:blipFill>
        <p:spPr>
          <a:xfrm>
            <a:off x="380880" y="1901880"/>
            <a:ext cx="3772080" cy="3052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http://t0.gstatic.com/images?q=tbn:ANd9GcRAqm9lDUzBz3HxbZhEOLLwfcmNnwiXr15F_l91P-cNek_b8RzZ9ljlYXxYvQ"/>
          <p:cNvPicPr/>
          <p:nvPr/>
        </p:nvPicPr>
        <p:blipFill>
          <a:blip r:embed="rId2"/>
          <a:stretch/>
        </p:blipFill>
        <p:spPr>
          <a:xfrm>
            <a:off x="5562720" y="2590920"/>
            <a:ext cx="2655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Nadeel condooms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unnen knapp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rouwen condoom ritselt tijdens de cohabit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Vervolg  mech.methoden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essarium occlusivum, dit wordt door de arts aangeme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adeel moet moeilijk in te brengen en moet na de coïtus 8 uur blijven zit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trouwbaarheid1-10 zwangerschappenbij gebruik van zaaddodende midd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t3.gstatic.com/images?q=tbn:ANd9GcQxq2C3c7gRfeMWpymjl-0crL_wd9aHtgfxm5W0jUH0WxycSPN1K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066680"/>
            <a:ext cx="2039760" cy="281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http://www.xead.nl/upload/9c62084191e9589ab754debdabd880c815-3-2004-13-52-pessarium_fw.jpg"/>
          <p:cNvPicPr/>
          <p:nvPr/>
        </p:nvPicPr>
        <p:blipFill>
          <a:blip r:embed="rId3"/>
          <a:stretch/>
        </p:blipFill>
        <p:spPr>
          <a:xfrm>
            <a:off x="2895480" y="380880"/>
            <a:ext cx="2667240" cy="2667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www.feelgoodsports.nl/Images/cup1.jpg"/>
          <p:cNvPicPr/>
          <p:nvPr/>
        </p:nvPicPr>
        <p:blipFill>
          <a:blip r:embed="rId4"/>
          <a:stretch/>
        </p:blipFill>
        <p:spPr>
          <a:xfrm>
            <a:off x="5867280" y="380880"/>
            <a:ext cx="2895840" cy="2851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http://www.gyn-care.nl/uploads/pessaria.001.jpg"/>
          <p:cNvPicPr/>
          <p:nvPr/>
        </p:nvPicPr>
        <p:blipFill>
          <a:blip r:embed="rId5"/>
          <a:stretch/>
        </p:blipFill>
        <p:spPr>
          <a:xfrm>
            <a:off x="2011320" y="3581280"/>
            <a:ext cx="51213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IUD(intra uterine device)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hindert opstijgen van zaadcellen naar de eileid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hindert innesteling van het bevruchte eitje in het baarmoeder slijmv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trouwbaarheid: 1-2 zwangerschappen per jaar per 100 vrouw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6" name="Picture 4" descr="http://t2.gstatic.com/images?q=tbn:ANd9GcTqgF39tkIF9hc6nuSbvMkpgiyH8ctIrF0DkQ1C1IdN8Df1dp9E1w"/>
          <p:cNvPicPr/>
          <p:nvPr/>
        </p:nvPicPr>
        <p:blipFill>
          <a:blip r:embed="rId1"/>
          <a:stretch/>
        </p:blipFill>
        <p:spPr>
          <a:xfrm>
            <a:off x="152280" y="4114800"/>
            <a:ext cx="3962520" cy="1919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http://www.xead.nl/upload/c3560a5299820ebbad993ee743e59d59spiraaltje_365x243.jpg"/>
          <p:cNvPicPr/>
          <p:nvPr/>
        </p:nvPicPr>
        <p:blipFill>
          <a:blip r:embed="rId2"/>
          <a:stretch/>
        </p:blipFill>
        <p:spPr>
          <a:xfrm>
            <a:off x="4343400" y="3886200"/>
            <a:ext cx="46483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Wanneer het spiraaltje vervangen?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renaspiraaltje(bevat hormonen) om de 5 ja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perspiraaltje kan wat langer blijven zit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el moet de vrouw regelmatig controleren of zij de draadjes nog kan voelen, want soms gaat het door de baarmoederwand de buikholte in.  Zonodig moet er een echoscopie plaatsv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Ander gebruik spiraal: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orning after spiraal, kan tot 5 dagen na de coïtus worden geplaat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hindert de innesteling van de bevruchte eicel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Nadelen spiraaltj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erste menstruaties zijn erg pijn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ussentijds 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rampen van de uteru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draadjes te kort afgeknipt, dit veroorzaakt een pijnlijke eikel bij de ma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hoogde kans op ontsteking( pelvic inflammatoiry dise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hoogde kans op EUG(extra uteriene graviditeit) bij ontstane zwangerscha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Menstruatiecyclus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17bbfd"/>
                </a:solidFill>
                <a:uFillTx/>
                <a:latin typeface="Gill Sans MT"/>
                <a:hlinkClick r:id="rId1"/>
              </a:rPr>
              <a:t>http://www.youtube.com/watch?v=TiJ5-Xcpkc0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rale anticoncept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19320"/>
            <a:ext cx="82296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Onderdrukken van  eisprong ( ovulatie) , geen eitje vrij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Baarmoederslijmvlies minder geschikt maken v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innesteling van mogelijk bevruchte eic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Minder geschikt maken van slijmvlies 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baarmoederhals voor het toelaten van zaadcell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http://www.youtube.com/watch?v=CMFZlkNXdvg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Kunstmatige cyclus”: baarmoederslijmvlies dikker mak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397640" y="170028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29" descr="http://t0.gstatic.com/images?q=tbn:ANd9GcRjAaf_d6Z34R8ARlU205mobLcH5hts8zrxf9jjZeX4Q2XefE2Tjs7o6XbTig"/>
          <p:cNvPicPr/>
          <p:nvPr/>
        </p:nvPicPr>
        <p:blipFill>
          <a:blip r:embed="rId2"/>
          <a:stretch/>
        </p:blipFill>
        <p:spPr>
          <a:xfrm>
            <a:off x="2987640" y="4764240"/>
            <a:ext cx="360036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rale anticoncept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even – dagen - regel 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ierstokken zijn na zeven dagen pilgebruik in slaa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uurt weer minimaal zeven dagen om te ontwake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6300720" y="3716280"/>
            <a:ext cx="14922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rale anticonceptie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Gill Sans MT"/>
              </a:rPr>
              <a:t>Drie hoofdregels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Tussen innemen van 2 pillen, mag nooit meer dan 36 uur zitt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Stopweek nooit  verlengen ( &gt; 7 dagen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Als er 7 dagen achtereenvolgens geslikt is, is de anticonceptie gewaarborg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Bij juist gebruik worden 2 vrouwen per 1000 vrouwen zwanger per jaar. De kans op zwangerschap is dus aanwezi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Gill Sans MT"/>
              </a:rPr>
              <a:t>Let wel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Betrouwbaarheid bij vooral superlichte pillen neemt  af bij gebruik van ander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medicatie , die afbraak van geneesmiddelen in lever versnellen, zoal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Antibioticum, Anti-epileptica , orale Antimycotica, Sint-janskruid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-braken: binnen 3-4 uur van inname van de tablet 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nl-NL" sz="1800" spc="-1" strike="noStrike">
                <a:solidFill>
                  <a:srgbClr val="000000"/>
                </a:solidFill>
                <a:latin typeface="Gill Sans MT"/>
              </a:rPr>
              <a:t>Advies: </a:t>
            </a: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nieuwe tablet innem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-diarree: alleen bij heftige vorm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Advies: extra tablet innem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rale anticoncept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De meeste pillen zijn combinatiepillen en bevatten chemische varianten van d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natuurlijke geslachtshormonen: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Oestrogeen: ethinylestradiol ( EE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Progesteron: progestageen: levonorgestrel, lynestrenol, desogestrel, gestodeen, norgestimaat, norethisteron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Gill Sans MT"/>
              </a:rPr>
              <a:t>Combinatie/Generatiepillen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:  één fase pillen, gelijke verdeling in pillen,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bevatten bepaalde hoeveelheid aan oestrogenen en bepaald progestageen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Te verdelen in 4 groepen: 1</a:t>
            </a:r>
            <a:r>
              <a:rPr b="0" lang="nl-NL" sz="17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, 2</a:t>
            </a:r>
            <a:r>
              <a:rPr b="0" lang="nl-NL" sz="17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, 3</a:t>
            </a:r>
            <a:r>
              <a:rPr b="0" lang="nl-NL" sz="17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 en 4</a:t>
            </a:r>
            <a:r>
              <a:rPr b="0" lang="nl-NL" sz="17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 generatiepillen.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Gill Sans MT"/>
              </a:rPr>
              <a:t>Driefase pillen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: ongelijke verdeling van oestrogenen en progestageen in pil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drie verschillende kleuren. Alleen laatste fase uit nieuwe strip doorslikken of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strip microgynon 30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ff0000"/>
                </a:solidFill>
                <a:latin typeface="Gill Sans MT"/>
              </a:rPr>
              <a:t>Voordeel: 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Bootst natuurlijke cyclus het meest na, totale hormoon per strip minder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dan bij vaste combinatie.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732720" y="115920"/>
            <a:ext cx="1333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Driefase pil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2666880" y="178272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rale anticoncept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Bijwerkingen, die na aantal maanden verdwijnen: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Misselijkhei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Gespannen borste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Tepelvloe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Doorbraakbloedinge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Bijwerkingen, die mogelijk niet meer verdwijnen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Spotting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Vet haa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Acn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Gewichtstoenam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Hirsutism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Verandering in libi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ill Sans MT"/>
              </a:rPr>
              <a:t>Zeldzaam: </a:t>
            </a: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verandering in bloedstolling &gt; risico op trombose: 3</a:t>
            </a:r>
            <a:r>
              <a:rPr b="0" lang="nl-NL" sz="16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 en 4</a:t>
            </a:r>
            <a:r>
              <a:rPr b="0" lang="nl-NL" sz="16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 generatie pillen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( Marvelon, Yasmin), vrouwen&gt; 35 jaar bij oac + roken!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http://www.youtube.com/watch?v=CMFZlkNXdvg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5580000" y="2708280"/>
            <a:ext cx="2676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rale anticonceptie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25424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Gill Sans MT"/>
              </a:rPr>
              <a:t>Progestageen pillen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Gill Sans MT"/>
              </a:rPr>
              <a:t>Indicatie</a:t>
            </a:r>
            <a:r>
              <a:rPr b="0" lang="nl-NL" sz="19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Voor vrouwen die geen oestrogeen mogen of willen gebruiken, bijv. tijdens  borstvoeding  of geen oestrogeen kunnen verdrag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Onregelmatige werktijde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Regelmaat pil vergeten in te nem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Bij stemmingswisseling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Gill Sans MT"/>
              </a:rPr>
              <a:t>Nadeel: </a:t>
            </a: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in het begin onregelmatige doorbraakbloedingen, na half jaar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verdwijnen bloedingen en daarmee de controle op zwangerschap, bij stop duur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het lang eer de eisprong op gang kom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6012000" y="692280"/>
            <a:ext cx="22320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6666"/>
                </a:solidFill>
                <a:latin typeface="Bookman Old Style"/>
              </a:rPr>
              <a:t>Progestageen pillen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orten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ikpil:  Depo provera: één keer per 3 maanden inje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ipil: Cerazette, geen stopweek!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Implanon: implantaat tablet, werkingsduur; 3ja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2925720" cy="1474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4835520" y="3716280"/>
            <a:ext cx="36212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MAP: morning after pil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ie NHG telefoonwijzer voor advies bij vergeten pi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 coïtu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levo (levonorgestrel): binnen 72 uu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perspiraal: binnen een wee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940360" y="4149720"/>
            <a:ext cx="961920" cy="1371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7020000" y="2708280"/>
            <a:ext cx="1333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Functie geslachtshormonen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Progestagene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stimuleert vochtafdrijving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heeft een positieve invloed op stemm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erstevigd bloedvatenweef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Oestrogenen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beschermen tegen een hartinfarct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, vanwege hun positieve invloed op het </a:t>
            </a: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etgehalte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 in het bloed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erwijden bloedvaten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, daardoor lopen veel vrouwen na de overgang, wanneer oestrogenen sterk verminderd zijn, een hoger risico op hart- en vaatziekte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zorgen voor </a:t>
            </a: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sterke botten. 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Wanneer hun werking vervalt, na de overgang, lopen vrouwen ook het risico op </a:t>
            </a: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botontkalking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vulatie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De meeste  vrouwen hebben elke maand een eispro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Cyclus duurt meestal circa 28 dag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Cyclus begint op eerste dag van de menstruati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Cyclus staat onder controle van  2 geslachtstimuleren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hormonen ( gonadotrope hormonen) 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FSH: Follikelstimulerend hormo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LH: Luteïniserend hormo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156360" y="4005360"/>
            <a:ext cx="22096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Operatieve anticonceptiemethodes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ij de vrouw: sterilis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ttp://www.youtube.com/watch?v=twVjagdQfFA  Essu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ij de man: vasectom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ttp://www.youtube.com/watch?v=1kTvWIgneS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rappig http://www.youtube.com/watch?v=ezIAyynSILQ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Sterilisatie bij de vrouw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77" name="Picture 3" descr="http://www.voorbehoedsmiddelen.net/img/sterelisatie-castratie.jpg"/>
          <p:cNvPicPr/>
          <p:nvPr/>
        </p:nvPicPr>
        <p:blipFill>
          <a:blip r:embed="rId1"/>
          <a:stretch/>
        </p:blipFill>
        <p:spPr>
          <a:xfrm>
            <a:off x="1874880" y="1406520"/>
            <a:ext cx="539424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Essure method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79" name="Picture 3" descr="http://www.sterilisatievrouw.nl/css/images/Essure-ingreep.png"/>
          <p:cNvPicPr/>
          <p:nvPr/>
        </p:nvPicPr>
        <p:blipFill>
          <a:blip r:embed="rId1"/>
          <a:stretch/>
        </p:blipFill>
        <p:spPr>
          <a:xfrm>
            <a:off x="79200" y="2895480"/>
            <a:ext cx="1749600" cy="2590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www.kliniekdelairesse.nl/images/made/uploads/behandelingen/Essure04_220_264_all_3_c1.png"/>
          <p:cNvPicPr/>
          <p:nvPr/>
        </p:nvPicPr>
        <p:blipFill>
          <a:blip r:embed="rId2"/>
          <a:stretch/>
        </p:blipFill>
        <p:spPr>
          <a:xfrm>
            <a:off x="6248520" y="2590920"/>
            <a:ext cx="2514600" cy="3017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http://www.vrouwenzaken.nl/wp-content/uploads/2012/12/1-Essure-plaatsing-def-638x330.jpg"/>
          <p:cNvPicPr/>
          <p:nvPr/>
        </p:nvPicPr>
        <p:blipFill>
          <a:blip r:embed="rId3"/>
          <a:stretch/>
        </p:blipFill>
        <p:spPr>
          <a:xfrm>
            <a:off x="2133720" y="3276720"/>
            <a:ext cx="3535200" cy="2587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http://www.stephenwellsmd.com/images/Essure.gif"/>
          <p:cNvPicPr/>
          <p:nvPr/>
        </p:nvPicPr>
        <p:blipFill>
          <a:blip r:embed="rId4"/>
          <a:stretch/>
        </p:blipFill>
        <p:spPr>
          <a:xfrm>
            <a:off x="4114800" y="380880"/>
            <a:ext cx="25146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Vasectomie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84" name="Picture 3" descr="http://t1.gstatic.com/images?q=tbn:ANd9GcQBXK0MlH-icJB93yo-Tif0gxO62RFbs9NV4y7EK4J-KgOBilWVKIKK_kn6"/>
          <p:cNvPicPr/>
          <p:nvPr/>
        </p:nvPicPr>
        <p:blipFill>
          <a:blip r:embed="rId1"/>
          <a:stretch/>
        </p:blipFill>
        <p:spPr>
          <a:xfrm>
            <a:off x="533520" y="1523880"/>
            <a:ext cx="2681280" cy="4570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http://www.heelmeester.nl/heelmeestercms/images/ingrepen/vasectomie/slides/vasductus.JPG"/>
          <p:cNvPicPr/>
          <p:nvPr/>
        </p:nvPicPr>
        <p:blipFill>
          <a:blip r:embed="rId2"/>
          <a:stretch/>
        </p:blipFill>
        <p:spPr>
          <a:xfrm>
            <a:off x="4038480" y="19810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87" name="Afbeelding 3" descr=""/>
          <p:cNvPicPr/>
          <p:nvPr/>
        </p:nvPicPr>
        <p:blipFill>
          <a:blip r:embed="rId1"/>
          <a:stretch/>
        </p:blipFill>
        <p:spPr>
          <a:xfrm>
            <a:off x="247680" y="743040"/>
            <a:ext cx="86486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Het climacterium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89" name="Picture 4" descr="http://www.sintlucasandreasziekenhuis.nl/INTERNET/Specialismen/Gynaecologie/menopauze372.jpg"/>
          <p:cNvPicPr/>
          <p:nvPr/>
        </p:nvPicPr>
        <p:blipFill>
          <a:blip r:embed="rId1"/>
          <a:stretch/>
        </p:blipFill>
        <p:spPr>
          <a:xfrm>
            <a:off x="2446200" y="2438280"/>
            <a:ext cx="4251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De Overgang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Biologisch proces op middelbare leeftijd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Tussen het  40</a:t>
            </a:r>
            <a:r>
              <a:rPr b="0" lang="nl-NL" sz="20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 en 55</a:t>
            </a:r>
            <a:r>
              <a:rPr b="0" lang="nl-NL" sz="20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 levensjaar van de vrouw neem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de activiteit van de eierstokken af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Climacterium: 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periode waarin de hormonale verandering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plaatsvind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Menopauze: 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moment waarbij de menstruatie volledig wegblijft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Postmenopauze: 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1 jaar na de menopauz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6156360" y="115920"/>
            <a:ext cx="22096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De overgang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ierstokken reageren niet meer op de stimuler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uit de hypofyse d.m.v. FSH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e follikels in eierstokken raken op  als gevol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arvan mindert de oestrogeen producti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Functie van oestrogeen is het verminderen van d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FSH productie (o.b.v.  feedback mechanisme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De overgang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vens geen/minder eisprong ( invloed FSH) 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erdoor geen/minder geel lichaam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eze produceert normaal progesteron, die invlo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eeft op aanmaak van het LH hormoon in de hypofy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 feedbackmechanisme). FSH en LH in bloed lijdt to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lacht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ogesteron en oestrogeen zorgen tevens vo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bouw baarmoederslijmvlies, dit verdwijnt 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nstruaties  stoppen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De overgang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Klachten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De menstruatie kan eerst heviger worden en vaker komen. Uiteindelijk worden de tussenpozen langer en blijft de menstruatie weg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Opvliegers, korte, hevige warmteaanvallen, waarbij gezicht, hals en borst rood worde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Ook komen (nachtelijke) zweetaanvallen voo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Het slijmvlies in de vagina wordt dunner en droger. Vrijen kan hierdoor een onaangenaam branderig gevoel geven of pijn doen, of kans op jeuk en vaginaal bloedverlie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Langer termij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Botontkalking ( oteoporose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7020000" y="404640"/>
            <a:ext cx="161748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012000" y="2997360"/>
            <a:ext cx="2828880" cy="3305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vulatie</a:t>
            </a: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FSH:   bevordert bij de vrouw de groei en de ontwikkeling van follikels in de eierstokken en zet ze aan tot  productie van het hormoon oestroge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LH: stimuleert bij de vrouw de ontwikkeling van het gele lichaam ( corpus luteum) in de eierstok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Elke follikel bevat één onrijpe eice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2452680" y="5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overgangs verschijnselen"/>
          <p:cNvPicPr/>
          <p:nvPr/>
        </p:nvPicPr>
        <p:blipFill>
          <a:blip r:embed="rId1"/>
          <a:stretch/>
        </p:blipFill>
        <p:spPr>
          <a:xfrm>
            <a:off x="2452680" y="519120"/>
            <a:ext cx="423864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Hormonale therap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Wanneer oestrogeenproductie daalt, vermindert dus 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bescherming tegen bepaalde ziekten. Of brengt  het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bepaalde klachten teweeg. Reden(en) om als arts hormonal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producten voor te  schrijven, bijvoorbeel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sub 50 pil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lokaal oestrogenen ( synapause/estradiol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hormoonpleisters (synapause E3, 1 keer per week vervangen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Gill Sans MT"/>
              </a:rPr>
              <a:t>Let wel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Overgangsmedicijnen (tabletten of pleisters) die alleen oestrogeen bevatten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zijn alleen geschikt voor vrouwen die geen baarmoeder meer hebben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Oestrogeen, zonder toevoeging van progesteron, vergroot  de kans op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kanker van het baarmoederslijmvlies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227640" y="0"/>
            <a:ext cx="17049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Nog vragen?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3143160" y="2163600"/>
            <a:ext cx="2857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De overgang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ttp://www.youtube.com/watch?v=ynm2GtLcVI0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ttp://ntracademie.nl/cursussen/cursuspagina/10-stappencursus-omgaan-met-de-overgang/stap/1.html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ttp://www.youtube.com/watch?v=6ZCTb5UjgMo&amp;src_vid=DLNR4c8VshM&amp;feature=iv&amp;annotation_id=annotation_582144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ttp://www.youtube.com/watch?v=o42y0BMP-NM   Conference door Karin Bloem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vulat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De eierstokken produceren geslachtshormone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ill Sans MT"/>
              </a:rPr>
              <a:t>Oestrogenen: 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hebben o.a. een stimulerende werking op de baarmoederslijmvlies d.w.z. opbouw van baarmoederslijmvlies dat tevens rijker aan voedingstoffen en bloed 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ill Sans MT"/>
              </a:rPr>
              <a:t>Progesteron: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 onder invloed van LH wordt dit hormoon geproduceerd in het corpus luteum ( gele lichaam: follikel waarin het eitje rijpt en ontspringt tijdens eisprong). Stimuleert klieren in het baarmoederslijmvl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Ook wel zwangerschapvoorbereidend hormoon genoemd, bereidt baarmoederwand voor op evt. innesteling van een bevruchte eicel  door afscheiding te producer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Bij géén innesteling gaat het ten gronde; baarmoederslijmvlies afgebrok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Ovulat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525600" y="2259000"/>
            <a:ext cx="3905280" cy="2857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355640" y="119700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Cyclus begint op eerste dag van de menstruatie. Oestrogeenspiegel het laagst en neemt daarna to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Tijdens groeifase (proliferatiefase) wordt slijmvlies dikker ( uit wand van Graafs follikel&gt; oestron&gt; oiv FSH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Ovulatie treedt op rond 14</a:t>
            </a:r>
            <a:r>
              <a:rPr b="0" lang="nl-NL" sz="18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 dag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Daarna secretiefase: progesteron door gele lichaam geproduceerd oiv LH , baarmoederslijmvlies wordt dikker en rijker van bloedvate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Menstruatiefase: treedt op wanneer er geen bevruchting plaatsvindt, het gele lichaam is 14 dagen na ovulatie te gronde. Progesteronproductie stopt. Slijmvlies sterft af en afgestote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Cyclus herhaalt zich opnieuw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Stadia van follikelrijping in de eierstok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13" name="Picture 3" descr="http://www.kennislink.nl/upload/113073_962_1087480491149-Follikel.jpg"/>
          <p:cNvPicPr/>
          <p:nvPr/>
        </p:nvPicPr>
        <p:blipFill>
          <a:blip r:embed="rId1"/>
          <a:stretch/>
        </p:blipFill>
        <p:spPr>
          <a:xfrm>
            <a:off x="2143080" y="1954080"/>
            <a:ext cx="485784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Anticonceptie methoden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iologisch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chanisch en chemisch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rmona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eratiev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Biologische methoden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Coïtus interruptus(voor het zingen de kerk ui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trouwbaarheid: 10-40 zwangeren per 100 vrouwen per jaar, dus onbetrouwba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eriodieke onthouding: 10- 40 zwangerschappen per 100 vrouwen per jaar, 10 bij goede uitvoering en 40 bij slordigheden, niet betrouwba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0:18:29Z</dcterms:created>
  <dc:creator>Rhea</dc:creator>
  <dc:description/>
  <dc:language>en-US</dc:language>
  <cp:lastModifiedBy>marlies bouland</cp:lastModifiedBy>
  <dcterms:modified xsi:type="dcterms:W3CDTF">2018-11-26T11:13:27Z</dcterms:modified>
  <cp:revision>52</cp:revision>
  <dc:subject/>
  <dc:title>Dia 1</dc:title>
</cp:coreProperties>
</file>