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8D55-1604-47DC-A8E2-941A71CFE5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angeboren of erfelij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3309-F63F-4123-A4D4-D26BD14EC1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ijdens samensmelten gaat er iets mis het de chromosom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BB5E-F25C-4B54-8023-5DC5194A85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j dit syndroom 47 lichaamscellen, 1 crom 21 teveel. Wordt ook wel trisomie 21 genoemd. Uiterlijk: kleine schedel, kliene oren, korte lengte, grote tong, scheelzi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ans op complicaties groot: gehoor/zicht, obstipatie, hartafw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B508-4573-412B-A72A-8CC9BB8462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lijven klein, geen borsten, menstruatie blijft uit. Kunnen ook hart- en nierafw, gehoorproblemen. Geen 46 maar 45 chro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9FE4-5AD2-401F-9D08-42EB369B61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j de helft is er niet veel aan de hand. Mannen zien er relatief vrouwelijk uit. Kleine geslachtsorganen, borstvorming. Lichte spraak, motoriek problem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D902-A5CC-4D29-9F88-F808912DE1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laat langgerekt, oren een zaadballen relatief groot, gedragsproblemen, luisteren/concentreren. Vermijden oogcontact, veel bij jongen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69C2-84AC-428D-9E79-FA6D050C92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ominant: vader of moeder hebben h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3C80-1085-4CCD-AFC7-9AC5CD45DE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unt: verstandelijke achteruitgang, onwillekeurige bewegingen, d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Reck: tumoren van zenuwtakjes h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hol: vetten niet goed kunnen verwer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E5C6-2AD3-44D7-B8CF-2E3E62BEB5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1CE1-9CC1-4ED2-A0EF-5ED2150BB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DD7C-41D2-4FBB-8018-943052DD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D6CC-CF69-4A80-92ED-4F4D4653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69D9-A745-40C4-8334-57BC00171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07AD-F943-425F-B42E-BCF9AAC6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56DB-9E63-4771-BC90-E6DFA2E3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4E47-DF68-4984-AB12-8BD28764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7712-2609-47CB-A7AA-66A6751B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1FD3-5E8C-4BDA-A5A7-981094C1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802F-50FB-41A9-8D47-58E9C785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1FDC-DCDB-4E5F-B3FE-075BE54E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DA9D-B2C9-49E2-8ECA-150E3AB6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45EB-FD50-4292-8C20-4C0C46F9E9E1}" type="slidenum">
              <a:rPr b="0" lang="nl-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turnercontact.nl/syndroom-van-turner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google.nl/imgres?imgurl=https%3A%2F%2Fmijnkinderarts.nl%2Fwp-content%2Fuploads%2Fsites%2F166%2F2015%2F08%2Ffragile-X-syndrome-206x300.jpg&amp;imgrefurl=https%3A%2F%2Fmijnkinderarts.nl%2Fziekten%2Ferfelijke-en-aangeboren-afwijkingen%2Ffragile-x-syndroom%2F&amp;docid=mAM5Lde8Y9EUQM&amp;tbnid=M5Ni1WVSy4L-lM%3A&amp;vet=10ahUKEwjh_t-qsfTdAhUO3KQKHaEcASgQMwgxKAEwAQ..i&amp;w=206&amp;h=300&amp;bih=747&amp;biw=1536&amp;q=fragiele%20x%20syndroom&amp;ved=0ahUKEwjh_t-qsfTdAhUO3KQKHaEcASgQMwgxKAEwAQ&amp;iact=mrc&amp;uact=8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500" spc="-1" strike="noStrike">
                <a:solidFill>
                  <a:srgbClr val="000000"/>
                </a:solidFill>
                <a:latin typeface="Calibri Light"/>
              </a:rPr>
              <a:t>Aangeboren aandoeningen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ngenitaal en hereditai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Autosomaal recessieve overerv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owel van vader als van moeder een afwijkend gen krijg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Cystische fibros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aaislijmziek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Fenylketonurie, congenitale hypothyreoidie, adrenogenitaal syndroom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KU: bepaalde stof in voeding wordt niet verwerkt, : ophoping in hersen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HT: schildklier te traa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GS: Ernstige hormoonstoring in bijnierschors. Mannelijk uiterlijk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Hemochromatose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eveel ijzer opname vanuit de darmen. Op volwassen leeftijd tot uiting. Soms bloedafname, ijzer wegnem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Geslachtsgebonden overerving.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Hemofilie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loederziekte: stollingsstoorni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iekte van Duchenn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rogressieve spierafbraa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Kleurenblindhei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et name voor ROOD en GROEN, 8% van de jonge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eling genetische afwijkinge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Heterosomaal als het defecte gen op een geslachtshormoon zit , bijv:hemofilie , kleurenblindhei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utosomaal als het gen op een van de andere chromosomen zit, bijv.: stofwisselingsziekten(PKU, Pompe, Tay- Sachs), cystic fibrose, Ziekte van Huntington,  adiposita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Multifactoriële aandoen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rzaak onbekend: zowel erfelijk als omgeving invloed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k wel multifactorieel genoemd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angeboren hartafwijk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chisis&gt; gespleten lip / gehemel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angeboren heupafwijk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Trechterborst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Klompvo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pina Bifida &gt; open ruggetj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Embryonale storinge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ijdens de embryonale ontwikkelingen gaat er iets mis, bijv. door ziekte van de moeder: Rode hond, DM, contact met straling, giftige stoffen(medicijnen, alcohol, drug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hesusantagonis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aak geen aanwijz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b: hartafwijkingen, slokdarmatresie, heupluxatie, spina bifi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el hiervan zijn erfelij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Perinatale beschadig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eschadigingen die zijn ontstaan vlak voor, tijdens of vlak na de geboorte, bijv.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Hersenbloeding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uurstofgebrek m.a.g. spasticiteit, ADH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Geelzucht door Rhesusantagonism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Preventie en Opspor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rfelijkheidsvoorlichting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tamboomonderzoek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Chromosomenonderzoe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iochemisch erfelijkheidsonderzoek door bloedonderzoe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Prenataal onderzoek; vlokkentest, vruchtwaterpunctie, bloedonderzoek, echoscopi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el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Chromosomale afwijking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Genetische afwijking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mbryonale stoorniss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eschadiging tijdens de geboorte ontstaa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Chromosomale afwijkinge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ntstaan a.g.v. delingsfouten, hetgeen resulteert in te veel of te weinig chromoso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v: syndroom van D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yndroom van Turner (X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yndroom van Klinefelter (XX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Syndroom van Dow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5" name="Picture 2" descr="downsyndrome1"/>
          <p:cNvPicPr/>
          <p:nvPr/>
        </p:nvPicPr>
        <p:blipFill>
          <a:blip r:embed="rId1"/>
          <a:stretch/>
        </p:blipFill>
        <p:spPr>
          <a:xfrm>
            <a:off x="628560" y="1235160"/>
            <a:ext cx="1524240" cy="1904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Jongetje met het Down-syndroom, een van de meest voorkomende aangeboren afwijkingen. Foto Paul van Trotsenburg."/>
          <p:cNvPicPr/>
          <p:nvPr/>
        </p:nvPicPr>
        <p:blipFill>
          <a:blip r:embed="rId2"/>
          <a:stretch/>
        </p:blipFill>
        <p:spPr>
          <a:xfrm>
            <a:off x="3564000" y="1413000"/>
            <a:ext cx="2314440" cy="2447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59914094222-thumb1"/>
          <p:cNvPicPr/>
          <p:nvPr/>
        </p:nvPicPr>
        <p:blipFill>
          <a:blip r:embed="rId3"/>
          <a:stretch/>
        </p:blipFill>
        <p:spPr>
          <a:xfrm>
            <a:off x="236520" y="3141720"/>
            <a:ext cx="2967120" cy="3716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downsyndrome2"/>
          <p:cNvPicPr/>
          <p:nvPr/>
        </p:nvPicPr>
        <p:blipFill>
          <a:blip r:embed="rId4"/>
          <a:stretch/>
        </p:blipFill>
        <p:spPr>
          <a:xfrm>
            <a:off x="7305840" y="965160"/>
            <a:ext cx="1831680" cy="2343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Meisje met Turner syndroom is te klein, en vertoont de brede nekplooien, en opgezwollen voetjes"/>
          <p:cNvPicPr/>
          <p:nvPr/>
        </p:nvPicPr>
        <p:blipFill>
          <a:blip r:embed="rId5"/>
          <a:stretch/>
        </p:blipFill>
        <p:spPr>
          <a:xfrm>
            <a:off x="6948360" y="3429000"/>
            <a:ext cx="1568520" cy="3429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2857"/>
          <p:cNvPicPr/>
          <p:nvPr/>
        </p:nvPicPr>
        <p:blipFill>
          <a:blip r:embed="rId6"/>
          <a:stretch/>
        </p:blipFill>
        <p:spPr>
          <a:xfrm>
            <a:off x="3995640" y="4473720"/>
            <a:ext cx="2473560" cy="19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4042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Syndroom van Turne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rouwen met slechts 1 X- chromosoom  in de lichaamscell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s://turnercontact.nl/syndroom-van-turner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1116000" y="2637000"/>
            <a:ext cx="311328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S van Klinefelter</a:t>
            </a:r>
            <a:br>
              <a:rPr sz="3300"/>
            </a:br>
            <a:br>
              <a:rPr sz="3300"/>
            </a:b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Mannen met minimaal 1</a:t>
            </a:r>
            <a:br>
              <a:rPr sz="3300"/>
            </a:b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X-chromosoom teveel!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5681520" y="1728720"/>
            <a:ext cx="1606680" cy="4721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7524720" y="1728720"/>
            <a:ext cx="14097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Fragiele X-syndroom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61680" y="1717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wakke plek op X-chromosoom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Afbeeldingsresultaat voor fragiele x syndro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19520" y="2030400"/>
            <a:ext cx="1771560" cy="2581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Afbeeldingsresultaat voor fragiele x syndroom"/>
          <p:cNvPicPr/>
          <p:nvPr/>
        </p:nvPicPr>
        <p:blipFill>
          <a:blip r:embed="rId3"/>
          <a:stretch/>
        </p:blipFill>
        <p:spPr>
          <a:xfrm>
            <a:off x="662040" y="3429000"/>
            <a:ext cx="2628720" cy="1733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Afbeeldingsresultaat voor fragiele x syndroom"/>
          <p:cNvPicPr/>
          <p:nvPr/>
        </p:nvPicPr>
        <p:blipFill>
          <a:blip r:embed="rId4"/>
          <a:stretch/>
        </p:blipFill>
        <p:spPr>
          <a:xfrm>
            <a:off x="6156360" y="3321000"/>
            <a:ext cx="195264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Genetische afwijkinge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Arial"/>
              </a:rPr>
              <a:t>Autosomaal dominante overer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Arial"/>
              </a:rPr>
              <a:t>Een van de ouders heeft de ziekte oo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Arial"/>
              </a:rPr>
              <a:t>Autosomaal recessieve overer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Arial"/>
              </a:rPr>
              <a:t>Van vader en moeder het afwijkende gen krijg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Arial"/>
              </a:rPr>
              <a:t>X-recessief (geslachtsgebonden) overer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Arial"/>
              </a:rPr>
              <a:t>Als moeder afwijking heeft op X-chrom is er kans op 50% overdracht naar kin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Autosomaal dominante overerv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Een van de ouders heeft de ziekte ook, herhalingsrisico is 50 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Ziekte van Hunting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  <a:ea typeface="Arial"/>
              </a:rPr>
              <a:t>Tast bepaalde delen aan van hersenen, latere leeftijd klacht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Ziekte van Von Recklinghau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  <a:ea typeface="Arial"/>
              </a:rPr>
              <a:t>Ontstaan neurofibromen: cafe-au-lait vlekken op hui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Familiaire hypercholesterolem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Ziekte van Steine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  <a:ea typeface="Arial"/>
              </a:rPr>
              <a:t>Spierafbraak &gt; spierzwakte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Erfelijke vormen van kank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  <a:ea typeface="Arial"/>
              </a:rPr>
              <a:t>Borstkanker, Dikke darm kank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3:16:00Z</dcterms:created>
  <dc:creator>Onderwijs</dc:creator>
  <dc:description/>
  <dc:language>en-US</dc:language>
  <cp:lastModifiedBy>marlies bouland</cp:lastModifiedBy>
  <dcterms:modified xsi:type="dcterms:W3CDTF">2018-10-08T08:05:18Z</dcterms:modified>
  <cp:revision>14</cp:revision>
  <dc:subject/>
  <dc:title>Aangeboren aandoeningen</dc:title>
</cp:coreProperties>
</file>