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2CE-F84E-4A8E-AFEB-D54A9A17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434-03EA-41D5-8CA0-3B33FEB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AE2-550D-4737-8EE7-65B19C16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E74-69CF-495C-B4A5-18EFC4CF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6E1-A90A-464A-A11B-450E483C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8E8-042B-44A9-906E-AFB9FF6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FDE-01B7-4AC5-8F77-A9E6EAF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500C-AEB6-4AA3-B2F0-F2657C4F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D94A-6884-4DC5-A79E-007B108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38E5-2F19-4CAF-A1AB-AD131C0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8EEA-44D0-4941-9A45-F4FCB18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940-8779-4987-A568-404B3843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255F-0ACD-4FA3-8E99-C687D80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BF8D-4FFF-4FA1-BCB9-EE956BC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29A7-7069-4EB1-A120-05F302D0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FA8E-071A-4BFD-BD5D-6BC8D708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61C-2B64-4C38-BF25-3D40AD50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9FC-BC94-4175-8B63-47CA6D0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EEC-458D-480D-89D3-3EFADDB5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10E-6E58-4C4E-A2B6-F684DB4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0EB-81C9-4248-B6CF-B43C0B2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DE3-D4B4-4128-B590-B6A5074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896-1D8A-4A16-ACAB-92C0123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67A-2454-4CB0-963C-09B04D43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B02C-327D-4861-8FC8-188C690BA0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2AA-9C09-4B49-B5C9-EDB79C2132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JGZ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er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kindermishande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e vorm va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oor een minderjarige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dreigende of gewelddadige interacti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an fysieke, psychische of sexuele aard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e de ouders of andere person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ten opzichte van wie de minderjarige in een relatie van afhankelijkheid of van onvrijheid staat, actief of passief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dring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ardoor ernstige schade wordt berokkend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of dreigt te worden berokkend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an de minderjarig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in de vorm van fysiek of psychisch lets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laan, schoppen, branden, snijde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dervoeding, slechte hygiene, niet i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eiteren, bang maken, je bent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brek aan warmte/veiligheid, niet naa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exueel misbr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k sexueel gericht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snijdenis bij meisj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vaak komt het vo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, topje van de ijsber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ssen 50.000 – 80.000 per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0 kinderen komen om door 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op de 6 a 7 vrouwen sexueel misbrui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ontstaat he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gaan van oorz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macht, onver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ek aan kennis of gevo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uders hebben zelf probl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isch, financieel, huw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is niet gew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voldoet niet aan verwac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uk, z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lossing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ieder geval meld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oit beloven dat je het niet verder vert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tandigheden voor het kind worden verbet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s (ook zelf in nood) worden begel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G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Een goed uitgevoerde anamnese, screening en lichamelij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eoordeling tijdens het PGO kan een globaal beeld g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an lichanmelijke en geestelijke gezondheid van het k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Times New Roman"/>
              </a:rPr>
              <a:t>op dat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 2 BO / 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assis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am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korte tijd een beeld krijgen hoe het met het kind ga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amatisch’ moeili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voel, intuitie ontwikk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chamelijk onderzoek (gehoor, ogen, groei, gew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B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,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ort en spel –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s – broers, zusjes,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duimzuigen, nagelbij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V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agen 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s, medic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uissit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vri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roken, alcohol, dru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asispakket JG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schatten zorgbehoefte (maatwerk-rugzak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 (vaccina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lichting en ad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sporen bedreigende rand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steunen ouders/verzor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unstige gewo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imzuigen, nagelbijten, niet willen eten, bedp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lendermethode (bel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raakprob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mmisbruik, stotteren, bro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ope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stoorn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chtmerries, paniekaanvallen, slaapw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ruststellen,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toriek (vaak door hersenbeschadi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uding –safwijkingen (scoliose, Scheuer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tho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voelbare zaadb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iet problem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himosis (vernauwde voorhu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rcumcisie bij blijvende 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-Nederlandse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idee over ziekte/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eetpatroon, uit ander klimaat, gebrek vit D (zonl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e opvoedingsme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rmaal / stoornis bij belemmering normaal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aanval, dwanggedachte –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tss (post traumatisch stress synd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sycho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uders betr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isch (knipperen, neus opha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caal (kuchen, grommen, korte geluid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e gaan vanzelf voo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ndroom van Gilles de la Tou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gt; 1 jaar motorische en vocale 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 volwassen leeftijd weinig of gee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Bouke Cuperus</cp:lastModifiedBy>
  <dcterms:modified xsi:type="dcterms:W3CDTF">2018-07-15T10:56:06Z</dcterms:modified>
  <cp:revision>67</cp:revision>
  <dc:subject/>
  <dc:title>Conclusies enquête panel DA</dc:title>
</cp:coreProperties>
</file>