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move the slide</a:t>
            </a:r>
            <a:endParaRPr b="0" lang="en-US" sz="3000" spc="-1" strike="noStrike">
              <a:solidFill>
                <a:srgbClr val="424456"/>
              </a:solidFill>
              <a:latin typeface="Century Schoolbook"/>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0D23-1C57-416C-812D-7B90EACE035C}"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C3196-7677-4DDA-9E0D-8D658DA9F6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4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B2FC5-895C-4418-B37C-7575251A4F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ysterscopie: met kijkbuis via vag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T: afbeeldingen van doorsneden van licha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RI: beeldvorming van binnenste lichaam. Magneet en radiogol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3015-3CF8-4C3B-A444-DA83F4BF8D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ileider: vervoer van eicel naar embr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ierstok: produceren verschillende hormonen. Rol bij bevruch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aarmoederslijmvlies: endometrium. Reageert op 2 vrouwelijke hormonen. Oestrogeen: dikker, progesteron: meer slijmkliertj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5330-1224-46C9-B6C6-E335DF8A3C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isexcisie: met lis een stukje wegne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onisatie: kegelvormig wegsnijd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olposcoop: microscoop en blauw verkleuring</a:t>
            </a:r>
            <a:endParaRPr b="0" lang="en-US" sz="1200" spc="-1" strike="noStrike">
              <a:solidFill>
                <a:srgbClr val="000000"/>
              </a:solidFill>
              <a:latin typeface="Calibri"/>
            </a:endParaRPr>
          </a:p>
        </p:txBody>
      </p:sp>
      <p:sp>
        <p:nvSpPr>
          <p:cNvPr id="24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C14C-B40B-4D50-BA90-54E3FC8C34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9E3C-A3E7-49B2-ADDD-72E200147E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163E-A19B-4F82-84EA-FC6DB466E9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3DD8D-A5E4-4C88-9140-C2DE41C675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C0EA-0AB3-4C40-B65B-FA9B01358C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CBA4-BFAA-4E56-B652-84A373332E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yspareunie: pijn, branderig gevoel bij vrijen </a:t>
            </a:r>
            <a:endParaRPr b="0" lang="en-US" sz="1200" spc="-1" strike="noStrike">
              <a:solidFill>
                <a:srgbClr val="000000"/>
              </a:solidFill>
              <a:latin typeface="Calibri"/>
            </a:endParaRPr>
          </a:p>
        </p:txBody>
      </p:sp>
      <p:sp>
        <p:nvSpPr>
          <p:cNvPr id="2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75DD-D5F4-4A31-BAE6-65C21D7CFE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3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AE24-52DA-428F-ACFA-0FF6AAD689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85DD6-DAC7-478F-9E8E-C1B0C6044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5F405-09C8-44AF-9B61-CDDC774B4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17826-3160-40F5-BFEE-BC0A9CC1F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F638E-AEA1-4B5D-9770-7473F04A2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745FE-DE71-400F-AE25-B3920A29B1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53E82-E7A8-4059-BB61-B3F706722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0270E-DDF7-472D-B338-922FDC860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373D8-6272-40EB-81E5-1EEA0F376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59AE9-4498-425F-A768-5CAD9D176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74E52-099A-4B9F-8286-A23A6DE97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DCB06-F4CC-47DE-BA70-D6700F2A0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DBC60-16E6-49AA-B3DE-2275C9C01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B4C87-3ABB-4952-8FA9-FECDAAF4C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5261F-40B5-4D45-AE63-0002A1C4E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C97FD-E2B3-45AC-B37D-D9DBA59DF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9C838F-449D-41DD-A5EE-730A540543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C03AD-20CF-476B-8A5E-ACB3EF9E94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98BA14C-7948-4CB7-84AA-A2A39442ED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1053229-93CC-4AC7-A02B-D2437BDB58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252FABF-B9E5-4B88-8AF2-628511F7D5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DF9E572-F918-44E6-B087-5E1159F4E8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6BDDE80-24E2-4703-B8FB-8502FAD732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8C957-B9ED-4FCB-9629-FEBA6F746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2C73512-2E55-465B-B437-BBF8FCA2AB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0FA493D-2F06-475D-84F5-E6F341E54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0D59726-7E22-4DEC-BCFE-E2F8D8684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1B5E04-4AA9-413E-A271-B35DC75F8E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F401015-3E22-4F4B-9B9B-006BDAF8E8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15DBB4F-D4D1-4BF4-BD48-3D440DE61A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2929E8C-5BE5-4497-8C50-56AC7BD5B5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1588F-CBCC-4EB9-9955-C4CD70C09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71982-86F7-4989-86DD-538797A9F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14848-7D53-497C-8C96-2A75645BD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82D2F-A95B-4579-8EB7-2E125E367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98D3F-05BC-4D21-BA84-E6F281025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E8271-7749-45EE-9981-B16473843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 verbindingslijn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24456"/>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hte verbindingslijn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hthoek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hte verbindingslijn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4921-6CFB-481C-A96D-0CEA665FF480}" type="slidenum">
              <a:rPr b="1" lang="nl-N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hthoek 9"/>
          <p:cNvSpPr/>
          <p:nvPr/>
        </p:nvSpPr>
        <p:spPr>
          <a:xfrm>
            <a:off x="380880" y="0"/>
            <a:ext cx="609840" cy="6858000"/>
          </a:xfrm>
          <a:prstGeom prst="rect">
            <a:avLst/>
          </a:prstGeom>
          <a:solidFill>
            <a:srgbClr val="b3b3c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hthoek 11"/>
          <p:cNvSpPr/>
          <p:nvPr/>
        </p:nvSpPr>
        <p:spPr>
          <a:xfrm>
            <a:off x="276120" y="0"/>
            <a:ext cx="104760" cy="6858000"/>
          </a:xfrm>
          <a:prstGeom prst="rect">
            <a:avLst/>
          </a:prstGeom>
          <a:solidFill>
            <a:srgbClr val="d1d1d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hthoek 13"/>
          <p:cNvSpPr/>
          <p:nvPr/>
        </p:nvSpPr>
        <p:spPr>
          <a:xfrm>
            <a:off x="990720" y="0"/>
            <a:ext cx="182520" cy="6858000"/>
          </a:xfrm>
          <a:prstGeom prst="rect">
            <a:avLst/>
          </a:prstGeom>
          <a:solidFill>
            <a:srgbClr val="d1d1d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hthoek 17"/>
          <p:cNvSpPr/>
          <p:nvPr/>
        </p:nvSpPr>
        <p:spPr>
          <a:xfrm>
            <a:off x="1141560" y="0"/>
            <a:ext cx="230040" cy="6858000"/>
          </a:xfrm>
          <a:prstGeom prst="rect">
            <a:avLst/>
          </a:prstGeom>
          <a:solidFill>
            <a:srgbClr val="e9e9ed">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hte verbindingslijn 10"/>
          <p:cNvSpPr/>
          <p:nvPr/>
        </p:nvSpPr>
        <p:spPr>
          <a:xfrm>
            <a:off x="106200" y="0"/>
            <a:ext cx="0" cy="6858000"/>
          </a:xfrm>
          <a:prstGeom prst="line">
            <a:avLst/>
          </a:prstGeom>
          <a:ln w="57240">
            <a:solidFill>
              <a:srgbClr val="b3b3c4">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Rechte verbindingslijn 17"/>
          <p:cNvSpPr/>
          <p:nvPr/>
        </p:nvSpPr>
        <p:spPr>
          <a:xfrm>
            <a:off x="914400" y="0"/>
            <a:ext cx="0" cy="6858000"/>
          </a:xfrm>
          <a:prstGeom prst="line">
            <a:avLst/>
          </a:prstGeom>
          <a:ln w="57240">
            <a:solidFill>
              <a:srgbClr val="e9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Rechte verbindingslijn 19"/>
          <p:cNvSpPr/>
          <p:nvPr/>
        </p:nvSpPr>
        <p:spPr>
          <a:xfrm>
            <a:off x="8539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Rechte verbindingslijn 15"/>
          <p:cNvSpPr/>
          <p:nvPr/>
        </p:nvSpPr>
        <p:spPr>
          <a:xfrm>
            <a:off x="1727280" y="0"/>
            <a:ext cx="0" cy="6858000"/>
          </a:xfrm>
          <a:prstGeom prst="line">
            <a:avLst/>
          </a:prstGeom>
          <a:ln w="28440">
            <a:solidFill>
              <a:srgbClr val="b3b3c4">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Rechte verbindingslijn 14"/>
          <p:cNvSpPr/>
          <p:nvPr/>
        </p:nvSpPr>
        <p:spPr>
          <a:xfrm>
            <a:off x="1066680" y="0"/>
            <a:ext cx="0" cy="6858000"/>
          </a:xfrm>
          <a:prstGeom prst="line">
            <a:avLst/>
          </a:prstGeom>
          <a:ln w="93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hte verbindingslijn 21"/>
          <p:cNvSpPr/>
          <p:nvPr/>
        </p:nvSpPr>
        <p:spPr>
          <a:xfrm>
            <a:off x="911376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hthoek 26"/>
          <p:cNvSpPr/>
          <p:nvPr/>
        </p:nvSpPr>
        <p:spPr>
          <a:xfrm>
            <a:off x="1219320" y="0"/>
            <a:ext cx="75960" cy="6858000"/>
          </a:xfrm>
          <a:prstGeom prst="rect">
            <a:avLst/>
          </a:prstGeom>
          <a:solidFill>
            <a:srgbClr val="b3b3c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al 20"/>
          <p:cNvSpPr/>
          <p:nvPr/>
        </p:nvSpPr>
        <p:spPr>
          <a:xfrm>
            <a:off x="609480" y="3429000"/>
            <a:ext cx="1295640" cy="12952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al 22"/>
          <p:cNvSpPr/>
          <p:nvPr/>
        </p:nvSpPr>
        <p:spPr>
          <a:xfrm>
            <a:off x="1309680" y="4867200"/>
            <a:ext cx="641520" cy="64152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al 23"/>
          <p:cNvSpPr/>
          <p:nvPr/>
        </p:nvSpPr>
        <p:spPr>
          <a:xfrm>
            <a:off x="1090440" y="5500800"/>
            <a:ext cx="138240" cy="13644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al 25"/>
          <p:cNvSpPr/>
          <p:nvPr/>
        </p:nvSpPr>
        <p:spPr>
          <a:xfrm>
            <a:off x="1663560" y="5788080"/>
            <a:ext cx="274680" cy="2746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24"/>
          <p:cNvSpPr/>
          <p:nvPr/>
        </p:nvSpPr>
        <p:spPr>
          <a:xfrm>
            <a:off x="1905120" y="4495680"/>
            <a:ext cx="365040" cy="36540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24456"/>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CA83-B6C0-470D-8789-902BFFA01B59}" type="slidenum">
              <a:rPr b="1" lang="nl-N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hte verbindingslijn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hte verbindingslijn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Rechte verbindingslijn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hthoek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hte verbindingslijn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24456"/>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A022-A9B0-4EB9-8B16-975C1F751F34}" type="slidenum">
              <a:rPr b="1" lang="nl-N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google.nl/imgres?q=endometriumcarcinoom&amp;um=1&amp;hl=nl&amp;biw=1280&amp;bih=801&amp;tbm=isch&amp;tbnid=SXQywXa-CMIEyM:&amp;imgrefurl=http://www.zorgaanbieders.nl/aandoening/Baarmoederkanker/&amp;docid=hv0kvqke6WjjNM&amp;imgurl=http://www.zorgaanbieders.nl/zorgfoto/3/64/405x1877669778.jpg&amp;w=700&amp;h=520&amp;ei=Vw8uUY_aJaa10QX0xoGwDQ&amp;zoom=1&amp;iact=hc&amp;vpx=453&amp;vpy=504&amp;dur=7593&amp;hovh=193&amp;hovw=261&amp;tx=130&amp;ty=110&amp;sig=110308519874302738132&amp;page=1&amp;tbnh=146&amp;tbnw=192&amp;start=0&amp;ndsp=30&amp;ved=1t:429,r:25,s:0,i:159" TargetMode="External"/><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5640" y="3124080"/>
            <a:ext cx="6172200" cy="2895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1" lang="nl-NL" sz="2700" spc="-1" strike="noStrike">
                <a:solidFill>
                  <a:srgbClr val="424456"/>
                </a:solidFill>
                <a:latin typeface="Century Schoolbook"/>
              </a:rPr>
              <a:t>Gynaecologie </a:t>
            </a:r>
            <a:br>
              <a:rPr sz="2700"/>
            </a:br>
            <a:br>
              <a:rPr sz="2700"/>
            </a:br>
            <a:r>
              <a:rPr b="1" lang="nl-NL" sz="2700" spc="-1" strike="noStrike">
                <a:solidFill>
                  <a:srgbClr val="424456"/>
                </a:solidFill>
                <a:latin typeface="Century Schoolbook"/>
              </a:rPr>
              <a:t>AFWIJKINGEN IN DE  VROUWELIJKE GESLACHTSORGANEN </a:t>
            </a:r>
            <a:endParaRPr b="0" lang="en-US" sz="2700" spc="-1" strike="noStrike">
              <a:solidFill>
                <a:srgbClr val="424456"/>
              </a:solidFill>
              <a:latin typeface="Century Schoolbook"/>
            </a:endParaRPr>
          </a:p>
        </p:txBody>
      </p:sp>
      <p:pic>
        <p:nvPicPr>
          <p:cNvPr id="159" name="Picture 2" descr=""/>
          <p:cNvPicPr/>
          <p:nvPr/>
        </p:nvPicPr>
        <p:blipFill>
          <a:blip r:embed="rId1"/>
          <a:stretch/>
        </p:blipFill>
        <p:spPr>
          <a:xfrm>
            <a:off x="6732720" y="692280"/>
            <a:ext cx="1542960" cy="255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OSE</a:t>
            </a:r>
            <a:endParaRPr b="0" lang="en-US" sz="3000" spc="-1" strike="noStrike">
              <a:solidFill>
                <a:srgbClr val="424456"/>
              </a:solidFill>
              <a:latin typeface="Century Schoolbook"/>
            </a:endParaRPr>
          </a:p>
        </p:txBody>
      </p:sp>
      <p:sp>
        <p:nvSpPr>
          <p:cNvPr id="178"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Endometriose is een chronische ziekte waarbij het weefsel dat normaal de binnenkant van de baarmoeder bekleedt (endometrium), groeit op plaatsen buiten de baarmoeder.</a:t>
            </a: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Komt veel voor in vruchtbare periode van de vrouw</a:t>
            </a: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Vóór  de menarche en na menopauze ( geen oestrogeen aanmaak meer) komt het niet meer voor</a:t>
            </a: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OSE</a:t>
            </a:r>
            <a:endParaRPr b="0" lang="en-US" sz="3000" spc="-1" strike="noStrike">
              <a:solidFill>
                <a:srgbClr val="424456"/>
              </a:solidFill>
              <a:latin typeface="Century Schoolbook"/>
            </a:endParaRPr>
          </a:p>
        </p:txBody>
      </p:sp>
      <p:pic>
        <p:nvPicPr>
          <p:cNvPr id="180" name="Picture 2" descr=""/>
          <p:cNvPicPr/>
          <p:nvPr/>
        </p:nvPicPr>
        <p:blipFill>
          <a:blip r:embed="rId1"/>
          <a:stretch/>
        </p:blipFill>
        <p:spPr>
          <a:xfrm>
            <a:off x="611280" y="1800360"/>
            <a:ext cx="7216560" cy="479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OSE</a:t>
            </a:r>
            <a:endParaRPr b="0" lang="en-US" sz="3000" spc="-1" strike="noStrike">
              <a:solidFill>
                <a:srgbClr val="424456"/>
              </a:solidFill>
              <a:latin typeface="Century Schoolbook"/>
            </a:endParaRPr>
          </a:p>
        </p:txBody>
      </p:sp>
      <p:sp>
        <p:nvSpPr>
          <p:cNvPr id="182"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oac ( welke meer progesteron bevat en minder oestrogeen) door deze  door te slikken blijft baarmoederslijmvlies dun&gt;  menstruatie uitblijft</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 verwijderen baarmoeder en of eierstokken: door ontbreken van geslachtshormonen verschrompeling van endometriosehaarde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POLYCYSTEUS OVARIUMSYNDROOM (PCO)</a:t>
            </a:r>
            <a:endParaRPr b="0" lang="en-US" sz="3000" spc="-1" strike="noStrike">
              <a:solidFill>
                <a:srgbClr val="424456"/>
              </a:solidFill>
              <a:latin typeface="Century Schoolbook"/>
            </a:endParaRPr>
          </a:p>
        </p:txBody>
      </p:sp>
      <p:sp>
        <p:nvSpPr>
          <p:cNvPr id="184" name=""/>
          <p:cNvSpPr txBox="1"/>
          <p:nvPr/>
        </p:nvSpPr>
        <p:spPr>
          <a:xfrm>
            <a:off x="456840" y="1600200"/>
            <a:ext cx="7467480" cy="48736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 eierstokken ontstaan vele kleine cystes </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Oorzaak: </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De eierstokken (ovaria) van elke vrouw maken niet alleen veel vrouwelijk hormoon aan, maar ook een klein beetje mannelijk hormoon. </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ij meisjes en vrouwen met PCO syndroom produceren de eierstokken te veel mannelijk hormoon.</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entury Schoolbook"/>
            </a:endParaRPr>
          </a:p>
        </p:txBody>
      </p:sp>
      <p:pic>
        <p:nvPicPr>
          <p:cNvPr id="185" name="Picture 2" descr=""/>
          <p:cNvPicPr/>
          <p:nvPr/>
        </p:nvPicPr>
        <p:blipFill>
          <a:blip r:embed="rId1"/>
          <a:stretch/>
        </p:blipFill>
        <p:spPr>
          <a:xfrm>
            <a:off x="5508720" y="2492280"/>
            <a:ext cx="2438280" cy="105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POLYCYSTEUS OVARIUMSYNDROOM</a:t>
            </a:r>
            <a:r>
              <a:rPr b="0" lang="nl-NL" sz="3000" spc="-1" strike="noStrike">
                <a:solidFill>
                  <a:srgbClr val="424456"/>
                </a:solidFill>
                <a:latin typeface="Century Schoolbook"/>
              </a:rPr>
              <a:t>	</a:t>
            </a:r>
            <a:br>
              <a:rPr sz="3000"/>
            </a:br>
            <a:r>
              <a:rPr b="0" lang="nl-NL" sz="3000" spc="-1" strike="noStrike">
                <a:solidFill>
                  <a:srgbClr val="424456"/>
                </a:solidFill>
                <a:latin typeface="Century Schoolbook"/>
              </a:rPr>
              <a:t> ( PCO)</a:t>
            </a:r>
            <a:endParaRPr b="0" lang="en-US" sz="3000" spc="-1" strike="noStrike">
              <a:solidFill>
                <a:srgbClr val="424456"/>
              </a:solidFill>
              <a:latin typeface="Century Schoolbook"/>
            </a:endParaRPr>
          </a:p>
        </p:txBody>
      </p:sp>
      <p:sp>
        <p:nvSpPr>
          <p:cNvPr id="187" name=""/>
          <p:cNvSpPr txBox="1"/>
          <p:nvPr/>
        </p:nvSpPr>
        <p:spPr>
          <a:xfrm>
            <a:off x="456840" y="1600200"/>
            <a:ext cx="7467480" cy="48736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Century Schoolbook"/>
              </a:rPr>
              <a:t>Symptomen:</a:t>
            </a: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eisprong en menstruatie niet op gang komen of onregelmatig zijn of blijft maanden weg.  Het is niet te voorspellen of en wanneer er (weer) een eicel vrijkomt. Daardoor is het niet duidelijk of en wanneer  men vruchtbaar  is</a:t>
            </a: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door het teveel aan mannelijk hormoon vaak veel puistjes en meer haar op  de  huid (soms ook haren op de kin, de borsten of de onderbuik)</a:t>
            </a: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Gaat vaak samen met overgewicht en/of DM II</a:t>
            </a:r>
            <a:endParaRPr b="0" lang="en-US" sz="22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Onvruchtbaarheid </a:t>
            </a: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POLYCYSTEUS OVARIUMSYNDROOM</a:t>
            </a:r>
            <a:endParaRPr b="0" lang="en-US" sz="3000" spc="-1" strike="noStrike">
              <a:solidFill>
                <a:srgbClr val="424456"/>
              </a:solidFill>
              <a:latin typeface="Century Schoolbook"/>
            </a:endParaRPr>
          </a:p>
        </p:txBody>
      </p:sp>
      <p:sp>
        <p:nvSpPr>
          <p:cNvPr id="189"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Diagnose/behandeling:</a:t>
            </a:r>
            <a:endParaRPr b="0" lang="en-US" sz="2400" spc="-1" strike="noStrike">
              <a:solidFill>
                <a:srgbClr val="000000"/>
              </a:solidFill>
              <a:latin typeface="Century Schoolbook"/>
            </a:endParaRPr>
          </a:p>
          <a:p>
            <a:pPr>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echo onderbuik</a:t>
            </a:r>
            <a:endParaRPr b="0" lang="en-US" sz="2400" spc="-1" strike="noStrike">
              <a:solidFill>
                <a:srgbClr val="000000"/>
              </a:solidFill>
              <a:latin typeface="Century Schoolbook"/>
            </a:endParaRPr>
          </a:p>
          <a:p>
            <a:pPr>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loedonderzoek ( afwijkende hormoonspiegel)</a:t>
            </a:r>
            <a:endParaRPr b="0" lang="en-US" sz="2400" spc="-1" strike="noStrike">
              <a:solidFill>
                <a:srgbClr val="000000"/>
              </a:solidFill>
              <a:latin typeface="Century Schoolbook"/>
            </a:endParaRPr>
          </a:p>
          <a:p>
            <a:pPr>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hormonale medicatie ( eisprong opwekken)</a:t>
            </a:r>
            <a:endParaRPr b="0" lang="en-US" sz="2400" spc="-1" strike="noStrike">
              <a:solidFill>
                <a:srgbClr val="000000"/>
              </a:solidFill>
              <a:latin typeface="Century Schoolbook"/>
            </a:endParaRPr>
          </a:p>
          <a:p>
            <a:pPr>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afvalle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KWAADAARDIGE (MALIGNE) AFWIJKINGEN </a:t>
            </a:r>
            <a:endParaRPr b="0" lang="en-US" sz="3000" spc="-1" strike="noStrike">
              <a:solidFill>
                <a:srgbClr val="424456"/>
              </a:solidFill>
              <a:latin typeface="Century Schoolbook"/>
            </a:endParaRPr>
          </a:p>
        </p:txBody>
      </p:sp>
      <p:sp>
        <p:nvSpPr>
          <p:cNvPr id="19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Endometriumcarcinoom</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Cervixcarcinoom</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Ovariumcarcinoom</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CARCINOOM</a:t>
            </a:r>
            <a:endParaRPr b="0" lang="en-US" sz="3000" spc="-1" strike="noStrike">
              <a:solidFill>
                <a:srgbClr val="424456"/>
              </a:solidFill>
              <a:latin typeface="Century Schoolbook"/>
            </a:endParaRPr>
          </a:p>
        </p:txBody>
      </p:sp>
      <p:sp>
        <p:nvSpPr>
          <p:cNvPr id="193"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Kanker in het slijmvlies aan de</a:t>
            </a:r>
            <a:r>
              <a:rPr b="1" lang="nl-NL" sz="2400" spc="-1" strike="noStrike">
                <a:solidFill>
                  <a:srgbClr val="000000"/>
                </a:solidFill>
                <a:latin typeface="Century Schoolbook"/>
              </a:rPr>
              <a:t> binnenkant </a:t>
            </a:r>
            <a:r>
              <a:rPr b="0" lang="nl-NL" sz="2400" spc="-1" strike="noStrike">
                <a:solidFill>
                  <a:srgbClr val="000000"/>
                </a:solidFill>
                <a:latin typeface="Century Schoolbook"/>
              </a:rPr>
              <a:t>van de baarmoeder</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ooral op de leeftijd van  55-80 jaar</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Symptomen:</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abnormaal bloedverlies of bloederige afscheiding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 na overgang)</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 later stadium ook buikpijn</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CARCINOOM</a:t>
            </a:r>
            <a:endParaRPr b="0" lang="en-US" sz="3000" spc="-1" strike="noStrike">
              <a:solidFill>
                <a:srgbClr val="424456"/>
              </a:solidFill>
              <a:latin typeface="Century Schoolbook"/>
            </a:endParaRPr>
          </a:p>
        </p:txBody>
      </p:sp>
      <p:sp>
        <p:nvSpPr>
          <p:cNvPr id="195"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Diagnose/behandeling:</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wendig onderzoek</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Transvaginale echografie ( geluidsgolven zichtbaar op monitor) </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Hysterscopie en evt curretage ( onder narcose) </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dien wenselijk verder onderzoek ( bloed, Rontgen, CT scan, MRI etc.)</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Meestal: abdominale uterusextirpatie ( eileiders en stokken verwijderd) </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196" name="Picture 6" descr="http://t2.gstatic.com/images?q=tbn:ANd9GcSEmY065IgWcCma9WQ4PYTvN9f2vle7CN4v3umT3ekJY3yZO3oI">
            <a:hlinkClick r:id="rId1"/>
          </p:cNvPr>
          <p:cNvPicPr/>
          <p:nvPr/>
        </p:nvPicPr>
        <p:blipFill>
          <a:blip r:embed="rId2"/>
          <a:stretch/>
        </p:blipFill>
        <p:spPr>
          <a:xfrm>
            <a:off x="5621400" y="981000"/>
            <a:ext cx="2335320" cy="172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CERVIXCARCINOOM</a:t>
            </a:r>
            <a:endParaRPr b="0" lang="en-US" sz="3000" spc="-1" strike="noStrike">
              <a:solidFill>
                <a:srgbClr val="424456"/>
              </a:solidFill>
              <a:latin typeface="Century Schoolbook"/>
            </a:endParaRPr>
          </a:p>
        </p:txBody>
      </p:sp>
      <p:sp>
        <p:nvSpPr>
          <p:cNvPr id="198"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aarmoederhalskanker in de meeste gevallen veroorzaakt door HPV.</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Komt met name veel voor op middelbare leeftijd</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Preventie: </a:t>
            </a:r>
            <a:r>
              <a:rPr b="0" lang="nl-NL" sz="2400" spc="-1" strike="noStrike">
                <a:solidFill>
                  <a:srgbClr val="000000"/>
                </a:solidFill>
                <a:latin typeface="Century Schoolbook"/>
              </a:rPr>
              <a:t>BVO 30-60 jaar om de 5 jaar</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en vaccinatie op 12 jarige leeftijd</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Symptomen:</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abnormaal bloedverlies</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contactbloeding</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heftige pijn door aantasting van zenuwen</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0" descr="https://gynaecologie.slingeland.nl/wms/fm/userfiles/content/gynaecologie/baarmoederkanker.bmp"/>
          <p:cNvPicPr/>
          <p:nvPr/>
        </p:nvPicPr>
        <p:blipFill>
          <a:blip r:embed="rId1"/>
          <a:stretch/>
        </p:blipFill>
        <p:spPr>
          <a:xfrm>
            <a:off x="2514600" y="1447920"/>
            <a:ext cx="5851440" cy="3940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CERVIXCARCINOOM</a:t>
            </a:r>
            <a:endParaRPr b="0" lang="en-US" sz="3000" spc="-1" strike="noStrike">
              <a:solidFill>
                <a:srgbClr val="424456"/>
              </a:solidFill>
              <a:latin typeface="Century Schoolbook"/>
            </a:endParaRPr>
          </a:p>
        </p:txBody>
      </p:sp>
      <p:sp>
        <p:nvSpPr>
          <p:cNvPr id="200" name=""/>
          <p:cNvSpPr txBox="1"/>
          <p:nvPr/>
        </p:nvSpPr>
        <p:spPr>
          <a:xfrm>
            <a:off x="456840" y="1600200"/>
            <a:ext cx="7467480" cy="48736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Diagnose/behandeling:</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wendig onderzoek ( blote oog waarneembaar):</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aarmoedermond ziet er afwijkend uit</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uitstrijkje</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iopt ( colposcopie en curretage) </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 vroegstadia plaatselijk behandeld: verwijderen deel van baarmoeder of kankerweefsel bevriezen/laseren </a:t>
            </a:r>
            <a:endParaRPr b="0" lang="en-US" sz="2400" spc="-1" strike="noStrike">
              <a:solidFill>
                <a:srgbClr val="000000"/>
              </a:solidFill>
              <a:latin typeface="Century Schoolbook"/>
            </a:endParaRPr>
          </a:p>
        </p:txBody>
      </p:sp>
      <p:pic>
        <p:nvPicPr>
          <p:cNvPr id="201" name="Picture 2" descr=""/>
          <p:cNvPicPr/>
          <p:nvPr/>
        </p:nvPicPr>
        <p:blipFill>
          <a:blip r:embed="rId1"/>
          <a:stretch/>
        </p:blipFill>
        <p:spPr>
          <a:xfrm>
            <a:off x="5292720" y="260280"/>
            <a:ext cx="2390760" cy="191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OVARIUMCARCINOOM</a:t>
            </a:r>
            <a:endParaRPr b="0" lang="en-US" sz="3000" spc="-1" strike="noStrike">
              <a:solidFill>
                <a:srgbClr val="424456"/>
              </a:solidFill>
              <a:latin typeface="Century Schoolbook"/>
            </a:endParaRPr>
          </a:p>
        </p:txBody>
      </p:sp>
      <p:sp>
        <p:nvSpPr>
          <p:cNvPr id="203"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Tumor van de eierstokken:</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Goedaardig: </a:t>
            </a:r>
            <a:r>
              <a:rPr b="0" lang="nl-NL" sz="2400" spc="-1" strike="noStrike">
                <a:solidFill>
                  <a:srgbClr val="000000"/>
                </a:solidFill>
                <a:latin typeface="Century Schoolbook"/>
              </a:rPr>
              <a:t>vaak geen klachten, vage buikpijn en menstruatiestoornissen.</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Ovarium kan door gezwel draaien &gt; vaat en zenuwvoorziening in de knel waardoor hevige buikpijn. SPOED! Om afsterving van eierstok  voorkomen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www.menselijk-lichaam.com/wp-content/uploads/eierstokkanker.png"/>
          <p:cNvPicPr/>
          <p:nvPr/>
        </p:nvPicPr>
        <p:blipFill>
          <a:blip r:embed="rId1"/>
          <a:stretch/>
        </p:blipFill>
        <p:spPr>
          <a:xfrm>
            <a:off x="3809880" y="3124080"/>
            <a:ext cx="4911840" cy="3171960"/>
          </a:xfrm>
          <a:prstGeom prst="rect">
            <a:avLst/>
          </a:prstGeom>
          <a:ln w="0">
            <a:noFill/>
          </a:ln>
        </p:spPr>
      </p:pic>
      <p:pic>
        <p:nvPicPr>
          <p:cNvPr id="205" name="Picture 3" descr="https://gynaecologie.slingeland.nl/wms/fm/userfiles/content/gynaecologie/eierstokkanker.bmp"/>
          <p:cNvPicPr/>
          <p:nvPr/>
        </p:nvPicPr>
        <p:blipFill>
          <a:blip r:embed="rId2"/>
          <a:stretch/>
        </p:blipFill>
        <p:spPr>
          <a:xfrm>
            <a:off x="380880" y="217440"/>
            <a:ext cx="4648320" cy="2908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OVARIUMCARCINOOM</a:t>
            </a:r>
            <a:endParaRPr b="0" lang="en-US" sz="3000" spc="-1" strike="noStrike">
              <a:solidFill>
                <a:srgbClr val="424456"/>
              </a:solidFill>
              <a:latin typeface="Century Schoolbook"/>
            </a:endParaRPr>
          </a:p>
        </p:txBody>
      </p:sp>
      <p:sp>
        <p:nvSpPr>
          <p:cNvPr id="207" name=""/>
          <p:cNvSpPr txBox="1"/>
          <p:nvPr/>
        </p:nvSpPr>
        <p:spPr>
          <a:xfrm>
            <a:off x="456840" y="1600200"/>
            <a:ext cx="7467480" cy="48736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Kwaadaardig</a:t>
            </a:r>
            <a:r>
              <a:rPr b="0" lang="nl-NL" sz="2400" spc="-1" strike="noStrike">
                <a:solidFill>
                  <a:srgbClr val="000000"/>
                </a:solidFill>
                <a:latin typeface="Century Schoolbook"/>
              </a:rPr>
              <a:t>:</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a:t>
            </a:r>
            <a:r>
              <a:rPr b="0" lang="nl-NL" sz="2400" spc="-1" strike="noStrike">
                <a:solidFill>
                  <a:srgbClr val="000000"/>
                </a:solidFill>
                <a:latin typeface="Century Schoolbook"/>
              </a:rPr>
              <a:t>Silent Killer”: pas in later stadium ontdekt.</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ak al metastasen!</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Symptomen:</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gewichtsverlies</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dikkere buik</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ginaal bloedverlies</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uikpijn</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mictieklachten</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OVARIUMCARCINOOM</a:t>
            </a:r>
            <a:endParaRPr b="0" lang="en-US" sz="3000" spc="-1" strike="noStrike">
              <a:solidFill>
                <a:srgbClr val="424456"/>
              </a:solidFill>
              <a:latin typeface="Century Schoolbook"/>
            </a:endParaRPr>
          </a:p>
        </p:txBody>
      </p:sp>
      <p:sp>
        <p:nvSpPr>
          <p:cNvPr id="209"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Diagnostiek/ Behandeling:</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ginaal /rectaal toucher</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Echografie</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loedonderzoek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Histologisch onderzoek</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Behandeling: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erwijderen van tumor en ovarium en nabehandeling ( radio en chemotherapie)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1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Century Schoolbook"/>
              </a:rPr>
              <a:t>Zijn er nog vragen?</a:t>
            </a:r>
            <a:endParaRPr b="0" lang="en-US" sz="60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GOEDAARDIGE ( BENIGNE) AFWIJKINGEN  </a:t>
            </a:r>
            <a:endParaRPr b="0" lang="en-US" sz="3000" spc="-1" strike="noStrike">
              <a:solidFill>
                <a:srgbClr val="424456"/>
              </a:solidFill>
              <a:latin typeface="Century Schoolbook"/>
            </a:endParaRPr>
          </a:p>
        </p:txBody>
      </p:sp>
      <p:sp>
        <p:nvSpPr>
          <p:cNvPr id="1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entury Schoolbook"/>
              </a:rPr>
              <a:t>Endometriumpoliep</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entury Schoolbook"/>
              </a:rPr>
              <a:t>Myoom ( vleesboom)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entury Schoolbook"/>
              </a:rPr>
              <a:t>Endometrios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entury Schoolbook"/>
              </a:rPr>
              <a:t>Polycysteus ovariumsyndroom (PCO) </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POLIEP</a:t>
            </a:r>
            <a:endParaRPr b="0" lang="en-US" sz="3000" spc="-1" strike="noStrike">
              <a:solidFill>
                <a:srgbClr val="424456"/>
              </a:solidFill>
              <a:latin typeface="Century Schoolbook"/>
            </a:endParaRPr>
          </a:p>
        </p:txBody>
      </p:sp>
      <p:sp>
        <p:nvSpPr>
          <p:cNvPr id="164"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Gesteelde zwelling in het slijmvlies aan binnenkant</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van de baarmoeder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Century Schoolbook"/>
              </a:rPr>
              <a:t>Oorzaak: </a:t>
            </a:r>
            <a:r>
              <a:rPr b="0" lang="nl-NL" sz="2200" spc="-1" strike="noStrike">
                <a:solidFill>
                  <a:srgbClr val="000000"/>
                </a:solidFill>
                <a:latin typeface="Century Schoolbook"/>
              </a:rPr>
              <a:t>door overmatige stimulatie van de</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bekledende laag van de baarmoeder door oestrogeen</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 geslachtshormoon afgescheiden door eierstokken)</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Century Schoolbook"/>
              </a:rPr>
              <a:t>Symptomen:  </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abnormaal vaginaal bloedverlies</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tijdens menstruatie en pijnklachten in onderbuik,</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tussentijds bloedverlies of “spotting” na</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geslachtgemeenschap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POLIEP </a:t>
            </a:r>
            <a:endParaRPr b="0" lang="en-US" sz="3000" spc="-1" strike="noStrike">
              <a:solidFill>
                <a:srgbClr val="424456"/>
              </a:solidFill>
              <a:latin typeface="Century Schoolbook"/>
            </a:endParaRPr>
          </a:p>
        </p:txBody>
      </p:sp>
      <p:sp>
        <p:nvSpPr>
          <p:cNvPr id="166"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Klachten en lichamelijk onderzoek door huisarts van</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belang voor vaststelling</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Century Schoolbook"/>
              </a:rPr>
              <a:t>Onderzoek/behandeling:</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Hysterosalpingografie ( HSG):</a:t>
            </a:r>
            <a:r>
              <a:rPr b="0" i="1" lang="nl-NL" sz="2200" spc="-1" strike="noStrike">
                <a:solidFill>
                  <a:srgbClr val="000000"/>
                </a:solidFill>
                <a:latin typeface="Century Schoolbook"/>
              </a:rPr>
              <a:t>baarmoeder en</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entury Schoolbook"/>
              </a:rPr>
              <a:t>	</a:t>
            </a:r>
            <a:r>
              <a:rPr b="0" i="1" lang="nl-NL" sz="2200" spc="-1" strike="noStrike">
                <a:solidFill>
                  <a:srgbClr val="000000"/>
                </a:solidFill>
                <a:latin typeface="Century Schoolbook"/>
              </a:rPr>
              <a:t>eileiders zichtbaar gemaakt door röntgenopname na injectie van contrastmiddel.</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Hysteroscopie: </a:t>
            </a:r>
            <a:r>
              <a:rPr b="0" i="1" lang="nl-NL" sz="2200" spc="-1" strike="noStrike">
                <a:solidFill>
                  <a:srgbClr val="000000"/>
                </a:solidFill>
                <a:latin typeface="Century Schoolbook"/>
              </a:rPr>
              <a:t>gebruikt voor diagnose stellen en ingreepjes:</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onder narcose</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buisachtig instrument aangesloten op </a:t>
            </a: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camera en monitor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bevat vloeistof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POLIEP </a:t>
            </a:r>
            <a:endParaRPr b="0" lang="en-US" sz="3000" spc="-1" strike="noStrike">
              <a:solidFill>
                <a:srgbClr val="424456"/>
              </a:solidFill>
              <a:latin typeface="Century Schoolbook"/>
            </a:endParaRPr>
          </a:p>
        </p:txBody>
      </p:sp>
      <p:sp>
        <p:nvSpPr>
          <p:cNvPr id="168" name=""/>
          <p:cNvSpPr txBox="1"/>
          <p:nvPr/>
        </p:nvSpPr>
        <p:spPr>
          <a:xfrm>
            <a:off x="457200" y="1600200"/>
            <a:ext cx="4402080" cy="4572000"/>
          </a:xfrm>
          <a:prstGeom prst="rect">
            <a:avLst/>
          </a:prstGeom>
          <a:noFill/>
          <a:ln w="0">
            <a:noFill/>
          </a:ln>
        </p:spPr>
        <p:txBody>
          <a:bodyPr anchor="t">
            <a:normAutofit fontScale="99000"/>
          </a:bodyPr>
          <a:p>
            <a:pPr marL="270000" indent="-27000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Curettage: verwijderen van</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baarmoederslijmvlies/ poliep </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diagnostisch</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therapeutisch </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Poliep kan kwaadaardig worden =</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verwijderen </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Evt. baarmoeder verwijderd i.v.m.</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het risico op endometrium</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Carcinoom</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Controle gynaecoloog noodzakelijk </a:t>
            </a:r>
            <a:endParaRPr b="0" lang="en-US" sz="2000" spc="-1" strike="noStrike">
              <a:solidFill>
                <a:srgbClr val="000000"/>
              </a:solidFill>
              <a:latin typeface="Century Schoolbook"/>
            </a:endParaRPr>
          </a:p>
        </p:txBody>
      </p:sp>
      <p:pic>
        <p:nvPicPr>
          <p:cNvPr id="169" name="Picture 2" descr=""/>
          <p:cNvPicPr/>
          <p:nvPr/>
        </p:nvPicPr>
        <p:blipFill>
          <a:blip r:embed="rId1"/>
          <a:stretch/>
        </p:blipFill>
        <p:spPr>
          <a:xfrm>
            <a:off x="4859280" y="2349360"/>
            <a:ext cx="3522600" cy="287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MYOOM </a:t>
            </a:r>
            <a:endParaRPr b="0" lang="en-US" sz="3000" spc="-1" strike="noStrike">
              <a:solidFill>
                <a:srgbClr val="424456"/>
              </a:solidFill>
              <a:latin typeface="Century Schoolbook"/>
            </a:endParaRPr>
          </a:p>
        </p:txBody>
      </p:sp>
      <p:sp>
        <p:nvSpPr>
          <p:cNvPr id="171" name=""/>
          <p:cNvSpPr txBox="1"/>
          <p:nvPr/>
        </p:nvSpPr>
        <p:spPr>
          <a:xfrm>
            <a:off x="457200" y="1600200"/>
            <a:ext cx="3657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Goedaardige tumor va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spiercellen in de wand</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n de baarmoeder, di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groeien onder invloed</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n oestrogee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vrouwen boven de 30 jaar</a:t>
            </a:r>
            <a:endParaRPr b="0" lang="en-US" sz="20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na overgang inkrimping</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	</a:t>
            </a:r>
            <a:r>
              <a:rPr b="0" lang="nl-NL" sz="2000" spc="-1" strike="noStrike">
                <a:solidFill>
                  <a:srgbClr val="000000"/>
                </a:solidFill>
                <a:latin typeface="Century Schoolbook"/>
              </a:rPr>
              <a:t>van myoom </a:t>
            </a:r>
            <a:endParaRPr b="0" lang="en-US" sz="20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ontaarding maligniteit vrijwel afwezig </a:t>
            </a:r>
            <a:endParaRPr b="0" lang="en-US" sz="20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172" name="Picture 2" descr=""/>
          <p:cNvPicPr/>
          <p:nvPr/>
        </p:nvPicPr>
        <p:blipFill>
          <a:blip r:embed="rId1"/>
          <a:stretch/>
        </p:blipFill>
        <p:spPr>
          <a:xfrm>
            <a:off x="4932360" y="2276640"/>
            <a:ext cx="3292560" cy="208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MYOOM</a:t>
            </a:r>
            <a:endParaRPr b="0" lang="en-US" sz="3000" spc="-1" strike="noStrike">
              <a:solidFill>
                <a:srgbClr val="424456"/>
              </a:solidFill>
              <a:latin typeface="Century Schoolbook"/>
            </a:endParaRPr>
          </a:p>
        </p:txBody>
      </p:sp>
      <p:sp>
        <p:nvSpPr>
          <p:cNvPr id="174" name=""/>
          <p:cNvSpPr txBox="1"/>
          <p:nvPr/>
        </p:nvSpPr>
        <p:spPr>
          <a:xfrm>
            <a:off x="610920" y="162864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entury Schoolbook"/>
              </a:rPr>
              <a:t>Symptomen:</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niet altijd klachten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overmatig bloedverlies bij menstruatie ( stolsels)</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tussentijds en onregelmatig bloedverlies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pijn in onderbuik en rug tijdens menstruatie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rukgevoel bijv. op blaas&gt; mictieklachten</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yspareunie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anemie</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Het wel of niet overgaan tot een behandeling hangt van een aantal factoren af: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e ernst van de klachten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e leeftijd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eventuele kinderwens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e grootte en het aantal myomen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het soort myoom, geheel in de baarmoederholte of juist met een steel vast aan de baarmoeder </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MYOOM</a:t>
            </a:r>
            <a:endParaRPr b="0" lang="en-US" sz="3000" spc="-1" strike="noStrike">
              <a:solidFill>
                <a:srgbClr val="424456"/>
              </a:solidFill>
              <a:latin typeface="Century Schoolbook"/>
            </a:endParaRPr>
          </a:p>
        </p:txBody>
      </p:sp>
      <p:sp>
        <p:nvSpPr>
          <p:cNvPr id="176" name=""/>
          <p:cNvSpPr txBox="1"/>
          <p:nvPr/>
        </p:nvSpPr>
        <p:spPr>
          <a:xfrm>
            <a:off x="539640" y="1484280"/>
            <a:ext cx="746784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entury Schoolbook"/>
              </a:rPr>
              <a:t>Onderzoek /behandeling:</a:t>
            </a:r>
            <a:endParaRPr b="0" lang="en-US" sz="16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vaginaal toucher ( VT) </a:t>
            </a:r>
            <a:endParaRPr b="0" lang="en-US" sz="16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uit- inwendige echo onderzoek </a:t>
            </a:r>
            <a:endParaRPr b="0" lang="en-US" sz="16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hormonale beïnvloeding: bijv.  anticonceptie ( remt opbouw baarmoederslijmvlies af ( tegen pijn en sluit bloedvaten af)</a:t>
            </a:r>
            <a:endParaRPr b="0" lang="en-US" sz="16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entury Schoolbook"/>
              </a:rPr>
              <a:t>operatie: </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u="sng">
                <a:solidFill>
                  <a:srgbClr val="000000"/>
                </a:solidFill>
                <a:uFillTx/>
                <a:latin typeface="Century Schoolbook"/>
              </a:rPr>
              <a:t>Waarbij baarmoeder wordt gespaard ( bij kinderwens): </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a:solidFill>
                  <a:srgbClr val="000000"/>
                </a:solidFill>
                <a:latin typeface="Century Schoolbook"/>
              </a:rPr>
              <a:t>-  Hysteroscopie: middels een kijkbuis in de baarmoeder de myoom  operatief verwijderen (als deze in de baarmoederholte zit of  in de baarmoederholte)</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a:solidFill>
                  <a:srgbClr val="000000"/>
                </a:solidFill>
                <a:latin typeface="Century Schoolbook"/>
              </a:rPr>
              <a:t>- Laparoscopie: via een kijkbuis in de buik de myoom operatief verwijderen     (  als deze met een steel aan de baarmoeder vastzit)</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u="sng">
                <a:solidFill>
                  <a:srgbClr val="000000"/>
                </a:solidFill>
                <a:uFillTx/>
                <a:latin typeface="Century Schoolbook"/>
              </a:rPr>
              <a:t>Verwijdering van de baarmoeder (uterusextirpatie) </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a:solidFill>
                  <a:srgbClr val="000000"/>
                </a:solidFill>
                <a:latin typeface="Century Schoolbook"/>
              </a:rPr>
              <a:t>via buikwand</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a:solidFill>
                  <a:srgbClr val="000000"/>
                </a:solidFill>
                <a:latin typeface="Century Schoolbook"/>
              </a:rPr>
              <a:t>of via schede</a:t>
            </a: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09:29:13Z</dcterms:created>
  <dc:creator>Rhea</dc:creator>
  <dc:description/>
  <dc:language>en-US</dc:language>
  <cp:lastModifiedBy>Marlies Bouland</cp:lastModifiedBy>
  <dcterms:modified xsi:type="dcterms:W3CDTF">2019-09-03T13:58:54Z</dcterms:modified>
  <cp:revision>32</cp:revision>
  <dc:subject/>
  <dc:title>Tumoren van de vrouwelijke geslachtsorganen</dc:title>
</cp:coreProperties>
</file>