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A93B-8EF8-40EA-B4EA-8D711C4CF6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geboren of erf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B181-CA47-4D2B-A791-489D30B08C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ijdens samensmelten gaat er iets mis het de chromos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04F8-3B16-4D18-89A7-C90BA72928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it syndroom 47 lichaamscellen, 1 crom 21 teveel. Wordt ook wel trisomie 21 genoemd. Uiterlijk: kleine schedel, kliene oren, korte lengte, grote tong, scheelzi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ans op complicaties groot: gehoor/zicht, obstipatie, hartaf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2943-90D9-411F-9FB9-8400241605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ijven klein, geen borsten, menstruatie blijft uit. Kunnen ook hart- en nierafw, gehoorproblemen. Geen 46 maar 45 ch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BA6-40A3-467E-8734-4570A7E317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 helft is er niet veel aan de hand. Mannen zien er relatief vrouwelijk uit. Kleine geslachtsorganen, borstvorming. Lichte spraak, motoriek proble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039-E4A4-405F-9F6C-D4DF59E473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laat langgerekt, oren een zaadballen relatief groot, gedragsproblemen, luisteren/concentreren. Vermijden oogcontact, veel bij jonge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7904-8CE2-4A47-A530-C342A9050D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minant: vader of moeder hebben 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6F4-C156-4FCE-8241-C63CA6E246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unt: verstandelijke achteruitgang, onwillekeurige bewegingen, d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eck: tumoren van zenuwtakjes h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ol: vetten niet goed kunnen verwer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15DE-9747-4DD3-9DF8-B7C2EA1ABB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6C4-732A-4677-A8FD-7A639F75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F6C-FE48-4654-B23F-69136A02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E9E-D4ED-478C-B7B3-D06B7212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1F4-22CB-4B5F-864E-DEA5ED59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7AA-D7F7-437C-8C44-85D502C7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A52-4378-4E6D-90C0-02D9BD5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D00-2401-4946-81C7-123E3960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E7C-4132-47F2-92E3-F477D021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0E0-5DAA-4319-9D47-4B04637F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F0F-3F58-40FD-BAE7-4BCFF271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960-8DF7-43FE-A1E6-17E4F30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B0B-6E5B-4BCB-8A73-57B4EAA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A068-41AE-44BC-9905-7D90D206DD13}" type="slidenum">
              <a:rPr b="0" lang="nl-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urnercontact.nl/syndroom-van-turner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nl/imgres?imgurl=https%3A%2F%2Fmijnkinderarts.nl%2Fwp-content%2Fuploads%2Fsites%2F166%2F2015%2F08%2Ffragile-X-syndrome-206x300.jpg&amp;imgrefurl=https%3A%2F%2Fmijnkinderarts.nl%2Fziekten%2Ferfelijke-en-aangeboren-afwijkingen%2Ffragile-x-syndroom%2F&amp;docid=mAM5Lde8Y9EUQM&amp;tbnid=M5Ni1WVSy4L-lM%3A&amp;vet=10ahUKEwjh_t-qsfTdAhUO3KQKHaEcASgQMwgxKAEwAQ..i&amp;w=206&amp;h=300&amp;bih=747&amp;biw=1536&amp;q=fragiele%20x%20syndroom&amp;ved=0ahUKEwjh_t-qsfTdAhUO3KQKHaEcASgQMwgxKAEwAQ&amp;iact=mrc&amp;uact=8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Aangeboren aandoeninge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genitaal en hereditai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Autosomaal recessieve overerv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owel van vader als van moeder een afwijkend gen krij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ystische fibro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aaislijmziek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enylketonurie, congenitale hypothyreoidie, adrenogenitaal syndroom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KU: bepaalde stof in voeding wordt niet verwerkt, : ophoping in herse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T: schildklier te tra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GS: Ernstige hormoonstoring in bijnierschors. Mannelijk uiterlijk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mochromatose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veel ijzer opname vanuit de darmen. Op volwassen leeftijd tot uiting. Soms bloedafname, ijzer wegn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slachtsgebonden overerving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mofilie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loederziekte: stollingsstoorn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ekte van Duchen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gressieve spierafbraa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eurenblind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et name voor ROOD en GROEN, 8% van de jong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eling genetisch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terosomaal als het defecte gen op een geslachtshormoon zit , bijv:hemofilie , kleurenblind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utosomaal als het gen op een van de andere chromosomen zit, bijv.: stofwisselingsziekten(PKU, Pompe, Tay- Sachs), cystic fibrose, Ziekte van Huntington,  adiposit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ultifactoriële aandoe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rzaak onbekend: zowel erfelijk als omgeving invl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k wel multifactorieel genoem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angeboren hartafwijk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chisis&gt; gespleten lip / gehemel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angeboren heupafwijk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echterbors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ompvo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pina Bifida &gt; open rugget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Embryonale stor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ijdens de embryonale ontwikkelingen gaat er iets mis, bijv. door ziekte van de moeder: Rode hond, DM, contact met straling, giftige stoffen(medicijnen, alcohol, drug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hesusantago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ak geen aanwijz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: hartafwijkingen, slokdarmatresie, heupluxatie, spina bif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el hiervan zijn erf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erinatale beschadi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schadigingen die zijn ontstaan vlak voor, tijdens of vlak na de geboorte, bijv.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rsenbloed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uurstofgebrek m.a.g. spasticiteit, ADH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elzucht door Rhesusantagonis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eventie en Opspo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felijkheidsvoorlichting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mboomonderzoek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mosomenonderzoe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iochemisch erfelijkheidsonderzoek door bloedonderzoe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renataal onderzoek; vlokkentest, vruchtwaterpunctie, bloedonderzoek, echoscop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el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mosomale afwijk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netische afwijk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mbryonale stoorniss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schadiging tijdens de geboorte ontsta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Chromosomal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aan a.g.v. delingsfouten, hetgeen resulteert in te veel of te weinig chromos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: syndroom van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droom van Turner (X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droom van Klinefelter (XX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yndroom van Dow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2" descr="downsyndrome1"/>
          <p:cNvPicPr/>
          <p:nvPr/>
        </p:nvPicPr>
        <p:blipFill>
          <a:blip r:embed="rId1"/>
          <a:stretch/>
        </p:blipFill>
        <p:spPr>
          <a:xfrm>
            <a:off x="628560" y="1235160"/>
            <a:ext cx="15242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ongetje met het Down-syndroom, een van de meest voorkomende aangeboren afwijkingen. Foto Paul van Trotsenburg."/>
          <p:cNvPicPr/>
          <p:nvPr/>
        </p:nvPicPr>
        <p:blipFill>
          <a:blip r:embed="rId2"/>
          <a:stretch/>
        </p:blipFill>
        <p:spPr>
          <a:xfrm>
            <a:off x="3564000" y="1413000"/>
            <a:ext cx="2314440" cy="244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59914094222-thumb1"/>
          <p:cNvPicPr/>
          <p:nvPr/>
        </p:nvPicPr>
        <p:blipFill>
          <a:blip r:embed="rId3"/>
          <a:stretch/>
        </p:blipFill>
        <p:spPr>
          <a:xfrm>
            <a:off x="236520" y="3141720"/>
            <a:ext cx="2967120" cy="37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ownsyndrome2"/>
          <p:cNvPicPr/>
          <p:nvPr/>
        </p:nvPicPr>
        <p:blipFill>
          <a:blip r:embed="rId4"/>
          <a:stretch/>
        </p:blipFill>
        <p:spPr>
          <a:xfrm>
            <a:off x="7305840" y="965160"/>
            <a:ext cx="1831680" cy="234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eisje met Turner syndroom is te klein, en vertoont de brede nekplooien, en opgezwollen voetjes"/>
          <p:cNvPicPr/>
          <p:nvPr/>
        </p:nvPicPr>
        <p:blipFill>
          <a:blip r:embed="rId5"/>
          <a:stretch/>
        </p:blipFill>
        <p:spPr>
          <a:xfrm>
            <a:off x="6948360" y="3429000"/>
            <a:ext cx="156852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2857"/>
          <p:cNvPicPr/>
          <p:nvPr/>
        </p:nvPicPr>
        <p:blipFill>
          <a:blip r:embed="rId6"/>
          <a:stretch/>
        </p:blipFill>
        <p:spPr>
          <a:xfrm>
            <a:off x="3995640" y="4473720"/>
            <a:ext cx="247356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yndroom van Turn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uwen met slechts 1 X- chromosoom  in de lichaamscell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turnercontact.nl/syndroom-van-turne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3113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 van Klinefelter</a:t>
            </a:r>
            <a:br>
              <a:rPr sz="3300"/>
            </a:br>
            <a:br>
              <a:rPr sz="3300"/>
            </a:b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annen met minimaal 1</a:t>
            </a:r>
            <a:br>
              <a:rPr sz="3300"/>
            </a:b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X-chromosoom teveel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681520" y="1728720"/>
            <a:ext cx="1606680" cy="472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7524720" y="1728720"/>
            <a:ext cx="1409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Fragiele X-syndroo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61680" y="1717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wakke plek op X-chromosoo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Afbeeldingsresultaat voor fragiele x syndro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9520" y="2030400"/>
            <a:ext cx="1771560" cy="258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Afbeeldingsresultaat voor fragiele x syndroom"/>
          <p:cNvPicPr/>
          <p:nvPr/>
        </p:nvPicPr>
        <p:blipFill>
          <a:blip r:embed="rId3"/>
          <a:stretch/>
        </p:blipFill>
        <p:spPr>
          <a:xfrm>
            <a:off x="662040" y="3429000"/>
            <a:ext cx="2628720" cy="173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fbeeldingsresultaat voor fragiele x syndroom"/>
          <p:cNvPicPr/>
          <p:nvPr/>
        </p:nvPicPr>
        <p:blipFill>
          <a:blip r:embed="rId4"/>
          <a:stretch/>
        </p:blipFill>
        <p:spPr>
          <a:xfrm>
            <a:off x="6156360" y="3321000"/>
            <a:ext cx="19526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netisch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Autosomaal dominante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Een van de ouders heeft de ziekte oo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Autosomaal recessieve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Van vader en moeder het afwijkende gen krij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X-recessief (geslachtsgebonden)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Als moeder afwijking heeft op X-chrom is er kans op 50% overdracht naar ki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Autosomaal dominante overerv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Een van de ouders heeft de ziekte ook, herhalingsrisico is 50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Hunting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Tast bepaalde delen aan van hersenen, latere leeftijd klach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Von Recklinghau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Ontstaan neurofibromen: cafe-au-lait vlekken op hu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Familiaire hypercholesterole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Stein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Spierafbraak &gt; spierzwakt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Erfelijke vormen van kan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Borstkanker, Dikke darm kank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16:00Z</dcterms:created>
  <dc:creator>Onderwijs</dc:creator>
  <dc:description/>
  <dc:language>en-US</dc:language>
  <cp:lastModifiedBy>marlies bouland</cp:lastModifiedBy>
  <dcterms:modified xsi:type="dcterms:W3CDTF">2018-10-08T08:05:18Z</dcterms:modified>
  <cp:revision>14</cp:revision>
  <dc:subject/>
  <dc:title>Aangeboren aandoeningen</dc:title>
</cp:coreProperties>
</file>