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8781C-7DD1-485F-A925-15397792A8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54386-1717-4E37-8EC3-338901D550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2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C9B3D-714E-40BD-A4D5-8A9D5712A0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3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B3735-3AB9-4A15-ACB8-9290A3801A9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3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CF528-482A-49E5-ACD5-5BA9FA4BB82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3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09187-9A97-4FE4-9BB0-E436F42703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F137D-01FE-450E-9767-9EA5C86B95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ACB3B-4DB5-426B-90CC-25C8197B43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902D3-B940-4079-8539-FEAF0E3EC2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1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0FB0D-4634-4CE8-8EA5-D47AE8940D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92F29-52B4-41BD-8B12-6D658F7CA2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1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10283-E5F2-4954-8911-B8D604547B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2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6CE81-1257-4519-A119-677CA9F5A2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2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5A5ED-E549-49FF-A207-0CED91E4EF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147DDB-291D-4850-9526-8C3B5B454F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FFA76-AEA0-4C2D-9434-3E8350E9D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A31D99-613B-4014-AB30-9FCBAB23C2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AF392A-1954-423F-929F-86E009BAAC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A6BE1-69DA-4BF0-8576-86C027CFD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C7F56-0262-4A94-B5EF-8D6A34521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F88DA-5BD7-4AD8-842E-E0A1537B3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9B694-D2B2-441A-9679-064C16176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A0573-9305-4CD8-A04A-712A93F72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AC098-6963-4782-8EC6-171D06149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CE250-32CC-4966-B7E7-02083A058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4CE8D-9F5C-4634-8B37-0165A6BC4A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C0E36-0666-4177-AC4E-E1152940BB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Hoofdstuk 5</a:t>
            </a:r>
            <a:br>
              <a:rPr sz="4000"/>
            </a:br>
            <a:r>
              <a:rPr b="0" lang="nl-NL" sz="4000" spc="-1" strike="noStrike">
                <a:solidFill>
                  <a:srgbClr val="000000"/>
                </a:solidFill>
                <a:latin typeface="Calibri"/>
              </a:rPr>
              <a:t>Schrijven</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05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Een sollicitatiebrief schrijven</a:t>
            </a:r>
            <a:endParaRPr b="0" lang="en-US" sz="3200" spc="-1" strike="noStrike">
              <a:solidFill>
                <a:srgbClr val="000000"/>
              </a:solidFill>
              <a:latin typeface="Calibri"/>
            </a:endParaRPr>
          </a:p>
        </p:txBody>
      </p:sp>
      <p:sp>
        <p:nvSpPr>
          <p:cNvPr id="50" name="Tekstvak 5"/>
          <p:cNvSpPr/>
          <p:nvPr/>
        </p:nvSpPr>
        <p:spPr>
          <a:xfrm>
            <a:off x="755640" y="6550200"/>
            <a:ext cx="8064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Arial"/>
              </a:rPr>
              <a:t>© Noordhoff Uitgevers bv 2015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5</a:t>
            </a:r>
            <a:endParaRPr b="0" lang="en-US" sz="3600" spc="-1" strike="noStrike">
              <a:solidFill>
                <a:srgbClr val="000000"/>
              </a:solidFill>
              <a:latin typeface="Calibri"/>
            </a:endParaRPr>
          </a:p>
        </p:txBody>
      </p:sp>
      <p:sp>
        <p:nvSpPr>
          <p:cNvPr id="87" name="PlaceHolder 2"/>
          <p:cNvSpPr>
            <a:spLocks noGrp="1"/>
          </p:cNvSpPr>
          <p:nvPr>
            <p:ph type="subTitle"/>
          </p:nvPr>
        </p:nvSpPr>
        <p:spPr>
          <a:xfrm>
            <a:off x="684360" y="3357720"/>
            <a:ext cx="7991280" cy="10555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Wat doe je in de vierde alinea?</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Spreek een wens of een verwachting uit.</a:t>
            </a:r>
            <a:endParaRPr b="0" lang="en-US" sz="2400" spc="-1" strike="noStrike">
              <a:solidFill>
                <a:srgbClr val="000000"/>
              </a:solidFill>
              <a:latin typeface="Calibri"/>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Calibri"/>
              </a:rPr>
              <a:t>De juiste briefconventies</a:t>
            </a:r>
            <a:endParaRPr b="0" lang="en-US" sz="2600" spc="-1" strike="noStrike">
              <a:solidFill>
                <a:srgbClr val="000000"/>
              </a:solidFill>
              <a:latin typeface="Calibri"/>
            </a:endParaRPr>
          </a:p>
        </p:txBody>
      </p:sp>
      <p:sp>
        <p:nvSpPr>
          <p:cNvPr id="90" name=""/>
          <p:cNvSpPr txBox="1"/>
          <p:nvPr/>
        </p:nvSpPr>
        <p:spPr>
          <a:xfrm>
            <a:off x="457200" y="1600200"/>
            <a:ext cx="31780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Spreek je wens of verwachting uit.</a:t>
            </a:r>
            <a:endParaRPr b="0" lang="en-US" sz="2000" spc="-1" strike="noStrike">
              <a:solidFill>
                <a:srgbClr val="000000"/>
              </a:solidFill>
              <a:latin typeface="Calibri"/>
            </a:endParaRPr>
          </a:p>
        </p:txBody>
      </p:sp>
      <p:sp>
        <p:nvSpPr>
          <p:cNvPr id="91" name=""/>
          <p:cNvSpPr txBox="1"/>
          <p:nvPr/>
        </p:nvSpPr>
        <p:spPr>
          <a:xfrm>
            <a:off x="3924000" y="1351080"/>
            <a:ext cx="5111640" cy="4525920"/>
          </a:xfrm>
          <a:prstGeom prst="rect">
            <a:avLst/>
          </a:prstGeom>
          <a:noFill/>
          <a:ln w="0">
            <a:noFill/>
          </a:ln>
        </p:spPr>
        <p:txBody>
          <a:bodyPr anchor="t">
            <a:norm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Sophiastraat 31</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67 FJ Bennebroek</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vereniging De lamme ar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laan 13</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93 TG Haarle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nnebroek, 6 juli 2014</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treft: sollicitatie tenniscoach</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Geachte heer/mevrouw,</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deze brief wil ik solliciteren naar de functie van tenniscoach. Ik kwam de vacature tegen op uw website.</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Uw tennisschool spreekt erg aan, omdat ik er veel goede verhalen over heb gehoord. Verder krijg ik een heel goede indruk van uw website. Zelf tennis ik al sinds mijn vijfde. Ook ben ik toe aan nieuwe verantwoordelijkheid na jaren ervaring als assisten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De afgelopen jaren heb ik als assistent van mijn tennisleraar veel ervaring opgedaan met tennisles geven. Daardoor is mijn interesse voor coachen ook gegroeid. Ik vind tennisles geven erg leuk en ik blijk er ook goed in te zijn. Mijn ervaring en plezier in het lesgeven aan jonge tennissers zal een aanwinst zijn voor uw vereniging.</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a:rPr>
              <a:t>Ik zou graag mijn motivatie verder toelichten in een gesprek. </a:t>
            </a:r>
            <a:endParaRPr b="0" lang="en-US" sz="20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vriendelijke groe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br>
              <a:rPr sz="600"/>
            </a:b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endCondLst>
                                    <p:cond evt="begin"/>
                                  </p:endCondLst>
                                  <p:childTnLst>
                                    <p:set>
                                      <p:cBhvr>
                                        <p:cTn id="56"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6</a:t>
            </a:r>
            <a:endParaRPr b="0" lang="en-US" sz="3600" spc="-1" strike="noStrike">
              <a:solidFill>
                <a:srgbClr val="000000"/>
              </a:solidFill>
              <a:latin typeface="Calibri"/>
            </a:endParaRPr>
          </a:p>
        </p:txBody>
      </p:sp>
      <p:sp>
        <p:nvSpPr>
          <p:cNvPr id="93" name="PlaceHolder 2"/>
          <p:cNvSpPr>
            <a:spLocks noGrp="1"/>
          </p:cNvSpPr>
          <p:nvPr>
            <p:ph type="subTitle"/>
          </p:nvPr>
        </p:nvSpPr>
        <p:spPr>
          <a:xfrm>
            <a:off x="684360" y="3357720"/>
            <a:ext cx="7991280" cy="1055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Controleer je brief op taal- en spelfout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Calibri"/>
              </a:rPr>
              <a:t>Controleer!</a:t>
            </a:r>
            <a:endParaRPr b="0" lang="en-US" sz="2600" spc="-1" strike="noStrike">
              <a:solidFill>
                <a:srgbClr val="000000"/>
              </a:solidFill>
              <a:latin typeface="Calibri"/>
            </a:endParaRPr>
          </a:p>
        </p:txBody>
      </p:sp>
      <p:sp>
        <p:nvSpPr>
          <p:cNvPr id="96" name=""/>
          <p:cNvSpPr txBox="1"/>
          <p:nvPr/>
        </p:nvSpPr>
        <p:spPr>
          <a:xfrm>
            <a:off x="179280" y="764640"/>
            <a:ext cx="8964720" cy="4526280"/>
          </a:xfrm>
          <a:prstGeom prst="rect">
            <a:avLst/>
          </a:prstGeom>
          <a:noFill/>
          <a:ln w="0">
            <a:noFill/>
          </a:ln>
        </p:spPr>
        <p:txBody>
          <a:bodyPr anchor="t">
            <a:normAutofit fontScale="73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evi Kempers</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ophiastraat 31</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5667 FJ Bennebroek</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ennisvereniging De lamme arm</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ennislaan 13</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5693 TG Haarlem</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ennebroek, 6 juli 2014</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etreft: sollicitatie tenniscoach</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eachte heer/mevrouw,</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t deze brief wil ik solliciteren naar de functie van tenniscoach. Ik kwam de vacature tegen op uw website.</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w tennisschool spreekt mij erg aan, omdat ik er goede verhalen over heb gehoord. Verder krijg ik een heel goede indruk van uw website. Zelf tennis ik al sinds mijn vijfde. Ik kan niet wachten om nieuwe ervaring als coach op te doen.</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afgelopen jaren heb ik als assistent van mijn tennisleraar veel ervaring opgedaan met het geven van tennislessen. Daardoor heb ik meer interesse gekregen in het coachen. Ik vind tennisles geven erg leuk en ik blijk er ook goed in te zijn. Mijn ervaring en plezier in het lesgeven aan jonge tennissers past top bij uw vereniging.</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k zou graag mijn motivatie verder toelichten in een gesprek.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t vriendelijke groet,</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evi Kempers</a:t>
            </a:r>
            <a:br>
              <a:rPr sz="1200"/>
            </a:b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L-vorm 7"/>
          <p:cNvSpPr/>
          <p:nvPr/>
        </p:nvSpPr>
        <p:spPr>
          <a:xfrm rot="19034400">
            <a:off x="7756200" y="1022400"/>
            <a:ext cx="720720" cy="900000"/>
          </a:xfrm>
          <a:custGeom>
            <a:avLst/>
            <a:gdLst/>
            <a:ahLst/>
            <a:rect l="l" t="t" r="r" b="b"/>
            <a:pathLst>
              <a:path w="720725" h="900113">
                <a:moveTo>
                  <a:pt x="0" y="0"/>
                </a:moveTo>
                <a:lnTo>
                  <a:pt x="360363" y="0"/>
                </a:lnTo>
                <a:lnTo>
                  <a:pt x="360363" y="539751"/>
                </a:lnTo>
                <a:lnTo>
                  <a:pt x="720725" y="539751"/>
                </a:lnTo>
                <a:lnTo>
                  <a:pt x="720725" y="900113"/>
                </a:lnTo>
                <a:lnTo>
                  <a:pt x="0" y="900113"/>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1</a:t>
            </a:r>
            <a:endParaRPr b="0" lang="en-US" sz="3600" spc="-1" strike="noStrike">
              <a:solidFill>
                <a:srgbClr val="000000"/>
              </a:solidFill>
              <a:latin typeface="Calibri"/>
            </a:endParaRPr>
          </a:p>
        </p:txBody>
      </p:sp>
      <p:sp>
        <p:nvSpPr>
          <p:cNvPr id="52" name="PlaceHolder 2"/>
          <p:cNvSpPr>
            <a:spLocks noGrp="1"/>
          </p:cNvSpPr>
          <p:nvPr>
            <p:ph type="subTitle"/>
          </p:nvPr>
        </p:nvSpPr>
        <p:spPr>
          <a:xfrm>
            <a:off x="1115640" y="3573000"/>
            <a:ext cx="6985080" cy="26384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Houd je aan de conventies die gelden voor een zakelijke brief:</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adresgegevens op de juiste plaats</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datum en plaats genoteerd</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a:t>
            </a:r>
            <a:r>
              <a:rPr b="0" lang="nl-NL" sz="2400" spc="-1" strike="noStrike">
                <a:solidFill>
                  <a:srgbClr val="898989"/>
                </a:solidFill>
                <a:latin typeface="Calibri"/>
              </a:rPr>
              <a:t>betreft’ aangegeven</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juiste aanhef</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correcte afscheidsgroe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Calibri"/>
              </a:rPr>
              <a:t>De juiste briefconventies</a:t>
            </a:r>
            <a:endParaRPr b="0" lang="en-US" sz="2600" spc="-1" strike="noStrike">
              <a:solidFill>
                <a:srgbClr val="000000"/>
              </a:solidFill>
              <a:latin typeface="Calibri"/>
            </a:endParaRPr>
          </a:p>
        </p:txBody>
      </p:sp>
      <p:sp>
        <p:nvSpPr>
          <p:cNvPr id="55" name=""/>
          <p:cNvSpPr txBox="1"/>
          <p:nvPr/>
        </p:nvSpPr>
        <p:spPr>
          <a:xfrm>
            <a:off x="457200" y="1599840"/>
            <a:ext cx="3178080" cy="51418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naam + adresgegevens op de juiste plaats</a:t>
            </a:r>
            <a:br>
              <a:rPr sz="2000"/>
            </a:br>
            <a:r>
              <a:rPr b="0" lang="nl-NL"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datum en plaats genoteerd</a:t>
            </a:r>
            <a:br>
              <a:rPr sz="2000"/>
            </a:br>
            <a:r>
              <a:rPr b="0" lang="nl-NL"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a:t>
            </a:r>
            <a:r>
              <a:rPr b="0" lang="nl-NL" sz="2000" spc="-1" strike="noStrike">
                <a:solidFill>
                  <a:srgbClr val="000000"/>
                </a:solidFill>
                <a:latin typeface="Calibri"/>
              </a:rPr>
              <a:t>betreft’ aangegeven</a:t>
            </a:r>
            <a:br>
              <a:rPr sz="2000"/>
            </a:br>
            <a:r>
              <a:rPr b="0" lang="nl-NL"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juiste aanhef</a:t>
            </a:r>
            <a:br>
              <a:rPr sz="2000"/>
            </a:br>
            <a:r>
              <a:rPr b="0" lang="nl-NL"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correcte afscheidsgroe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 name=""/>
          <p:cNvSpPr txBox="1"/>
          <p:nvPr/>
        </p:nvSpPr>
        <p:spPr>
          <a:xfrm>
            <a:off x="3924000" y="1600200"/>
            <a:ext cx="4762440" cy="4525920"/>
          </a:xfrm>
          <a:prstGeom prst="rect">
            <a:avLst/>
          </a:prstGeom>
          <a:noFill/>
          <a:ln w="0">
            <a:noFill/>
          </a:ln>
        </p:spPr>
        <p:txBody>
          <a:bodyPr anchor="t">
            <a:normAutofit fontScale="91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Levi Kempers</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Sophiastraat 31</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5667 FJ Bennebroek</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Tennisvereniging De lamme arm</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Tennislaan 13</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5693 TG Haarlem</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Bennebroek, 6 juli 2014</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Betreft: sollicitatie tenniscoach</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Geachte heer/mevrouw,</a:t>
            </a:r>
            <a:endParaRPr b="0" lang="en-US" sz="12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deze brief wil ik solliciteren naar de functie van tenniscoach. Ik kwam de vacature tegen op uw website.</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Uw tennisschool spreekt erg aan, omdat ik er veel goede verhalen over heb gehoord. Verder krijg ik een heel goede indruk van uw website. Zelf tennis ik al sinds mijn vijfde. Ook ben ik toe aan nieuwe verantwoordelijkheid na jaren ervaring als assisten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De afgelopen jaren heb ik als assistent van mijn tennisleraar veel ervaring opgedaan met tennisles geven. Daardoor is mijn interesse voor coachen ook gegroeid. Ik vind tennisles geven erg leuk en ik blijk er ook goed in te zijn. Mijn ervaring en plezier in het lesgeven aan jonge tennissers zal een aanwinst zijn voor uw vereniging.</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Ik zou graag mijn motivatie verder komen toelichten in een gesprek. </a:t>
            </a:r>
            <a:endParaRPr b="0" lang="en-US" sz="6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Met vriendelijke groet,</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Levi Kempers</a:t>
            </a:r>
            <a:br>
              <a:rPr sz="800"/>
            </a:br>
            <a:endParaRPr b="0" lang="en-US" sz="12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57" name="PIJL-RECHTS 2"/>
          <p:cNvSpPr/>
          <p:nvPr/>
        </p:nvSpPr>
        <p:spPr>
          <a:xfrm>
            <a:off x="69840" y="1665360"/>
            <a:ext cx="720720" cy="539640"/>
          </a:xfrm>
          <a:prstGeom prst="rightArrow">
            <a:avLst>
              <a:gd name="adj1" fmla="val 50000"/>
              <a:gd name="adj2" fmla="val 50009"/>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IJL-RECHTS 7"/>
          <p:cNvSpPr/>
          <p:nvPr/>
        </p:nvSpPr>
        <p:spPr>
          <a:xfrm rot="10800000">
            <a:off x="6156360" y="1722240"/>
            <a:ext cx="720720" cy="541080"/>
          </a:xfrm>
          <a:prstGeom prst="rightArrow">
            <a:avLst>
              <a:gd name="adj1" fmla="val 50000"/>
              <a:gd name="adj2" fmla="val 50024"/>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IJL-RECHTS 8"/>
          <p:cNvSpPr/>
          <p:nvPr/>
        </p:nvSpPr>
        <p:spPr>
          <a:xfrm rot="10800000">
            <a:off x="6143400" y="2363400"/>
            <a:ext cx="718920" cy="539640"/>
          </a:xfrm>
          <a:prstGeom prst="rightArrow">
            <a:avLst>
              <a:gd name="adj1" fmla="val 50000"/>
              <a:gd name="adj2" fmla="val 49995"/>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IJL-RECHTS 9"/>
          <p:cNvSpPr/>
          <p:nvPr/>
        </p:nvSpPr>
        <p:spPr>
          <a:xfrm>
            <a:off x="69840" y="2565360"/>
            <a:ext cx="720720" cy="539640"/>
          </a:xfrm>
          <a:prstGeom prst="rightArrow">
            <a:avLst>
              <a:gd name="adj1" fmla="val 50000"/>
              <a:gd name="adj2" fmla="val 50009"/>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IJL-RECHTS 10"/>
          <p:cNvSpPr/>
          <p:nvPr/>
        </p:nvSpPr>
        <p:spPr>
          <a:xfrm rot="10800000">
            <a:off x="5607000" y="3249360"/>
            <a:ext cx="719280" cy="539640"/>
          </a:xfrm>
          <a:prstGeom prst="rightArrow">
            <a:avLst>
              <a:gd name="adj1" fmla="val 50000"/>
              <a:gd name="adj2" fmla="val 50020"/>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IJL-RECHTS 11"/>
          <p:cNvSpPr/>
          <p:nvPr/>
        </p:nvSpPr>
        <p:spPr>
          <a:xfrm>
            <a:off x="96840" y="3457440"/>
            <a:ext cx="720720" cy="540000"/>
          </a:xfrm>
          <a:prstGeom prst="rightArrow">
            <a:avLst>
              <a:gd name="adj1" fmla="val 50000"/>
              <a:gd name="adj2" fmla="val 49976"/>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IJL-RECHTS 12"/>
          <p:cNvSpPr/>
          <p:nvPr/>
        </p:nvSpPr>
        <p:spPr>
          <a:xfrm rot="10800000">
            <a:off x="6259680" y="3678120"/>
            <a:ext cx="720720" cy="540000"/>
          </a:xfrm>
          <a:prstGeom prst="rightArrow">
            <a:avLst>
              <a:gd name="adj1" fmla="val 50000"/>
              <a:gd name="adj2" fmla="val 49976"/>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IJL-RECHTS 13"/>
          <p:cNvSpPr/>
          <p:nvPr/>
        </p:nvSpPr>
        <p:spPr>
          <a:xfrm>
            <a:off x="96840" y="4183200"/>
            <a:ext cx="720720" cy="539640"/>
          </a:xfrm>
          <a:prstGeom prst="rightArrow">
            <a:avLst>
              <a:gd name="adj1" fmla="val 50000"/>
              <a:gd name="adj2" fmla="val 50009"/>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IJL-RECHTS 14"/>
          <p:cNvSpPr/>
          <p:nvPr/>
        </p:nvSpPr>
        <p:spPr>
          <a:xfrm rot="10800000">
            <a:off x="5655960" y="4133520"/>
            <a:ext cx="718920" cy="539640"/>
          </a:xfrm>
          <a:prstGeom prst="rightArrow">
            <a:avLst>
              <a:gd name="adj1" fmla="val 50000"/>
              <a:gd name="adj2" fmla="val 49995"/>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IJL-RECHTS 15"/>
          <p:cNvSpPr/>
          <p:nvPr/>
        </p:nvSpPr>
        <p:spPr>
          <a:xfrm>
            <a:off x="96840" y="4867200"/>
            <a:ext cx="720720" cy="540000"/>
          </a:xfrm>
          <a:prstGeom prst="rightArrow">
            <a:avLst>
              <a:gd name="adj1" fmla="val 50000"/>
              <a:gd name="adj2" fmla="val 49976"/>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IJL-RECHTS 16"/>
          <p:cNvSpPr/>
          <p:nvPr/>
        </p:nvSpPr>
        <p:spPr>
          <a:xfrm rot="10800000">
            <a:off x="5719680" y="5636880"/>
            <a:ext cx="719280" cy="539640"/>
          </a:xfrm>
          <a:prstGeom prst="rightArrow">
            <a:avLst>
              <a:gd name="adj1" fmla="val 50000"/>
              <a:gd name="adj2" fmla="val 50020"/>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7"/>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8"/>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1"/>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2"/>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3"/>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64"/>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65"/>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6"/>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2</a:t>
            </a:r>
            <a:endParaRPr b="0" lang="en-US" sz="3600" spc="-1" strike="noStrike">
              <a:solidFill>
                <a:srgbClr val="000000"/>
              </a:solidFill>
              <a:latin typeface="Calibri"/>
            </a:endParaRPr>
          </a:p>
        </p:txBody>
      </p:sp>
      <p:sp>
        <p:nvSpPr>
          <p:cNvPr id="69" name="PlaceHolder 2"/>
          <p:cNvSpPr>
            <a:spLocks noGrp="1"/>
          </p:cNvSpPr>
          <p:nvPr>
            <p:ph type="subTitle"/>
          </p:nvPr>
        </p:nvSpPr>
        <p:spPr>
          <a:xfrm>
            <a:off x="684360" y="3886200"/>
            <a:ext cx="7991280" cy="10555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Wat zet je in de eerste alinea?</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Op welke functie je solliciteert. </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Hoe je weet dat het bedrijf iemand zoekt voor deze functi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Calibri"/>
              </a:rPr>
              <a:t>De juiste briefconventies</a:t>
            </a:r>
            <a:endParaRPr b="0" lang="en-US" sz="2600" spc="-1" strike="noStrike">
              <a:solidFill>
                <a:srgbClr val="000000"/>
              </a:solidFill>
              <a:latin typeface="Calibri"/>
            </a:endParaRPr>
          </a:p>
        </p:txBody>
      </p:sp>
      <p:sp>
        <p:nvSpPr>
          <p:cNvPr id="72" name=""/>
          <p:cNvSpPr txBox="1"/>
          <p:nvPr/>
        </p:nvSpPr>
        <p:spPr>
          <a:xfrm>
            <a:off x="457200" y="1600200"/>
            <a:ext cx="31780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Beschrijf op welke functie je solliciteer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Geef aan waar je de vacature hebt gezien.</a:t>
            </a:r>
            <a:endParaRPr b="0" lang="en-US" sz="2000" spc="-1" strike="noStrike">
              <a:solidFill>
                <a:srgbClr val="000000"/>
              </a:solidFill>
              <a:latin typeface="Calibri"/>
            </a:endParaRPr>
          </a:p>
        </p:txBody>
      </p:sp>
      <p:sp>
        <p:nvSpPr>
          <p:cNvPr id="73" name=""/>
          <p:cNvSpPr txBox="1"/>
          <p:nvPr/>
        </p:nvSpPr>
        <p:spPr>
          <a:xfrm>
            <a:off x="3924000" y="1600200"/>
            <a:ext cx="4762440" cy="4525920"/>
          </a:xfrm>
          <a:prstGeom prst="rect">
            <a:avLst/>
          </a:prstGeom>
          <a:noFill/>
          <a:ln w="0">
            <a:noFill/>
          </a:ln>
        </p:spPr>
        <p:txBody>
          <a:bodyPr anchor="t">
            <a:norm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Sophiastraat 31</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67 FJ Bennebroek</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vereniging De lamme ar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laan 13</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93 TG Haarle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nnebroek, 6 juli 2014</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treft: sollicitatie tenniscoach</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Geachte heer/mevrouw,</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a:rPr>
              <a:t>Met deze brief wil ik solliciteren naar de functie van tenniscoach. Ik kwam de vacature tegen op uw website.</a:t>
            </a:r>
            <a:endParaRPr b="0" lang="en-US" sz="20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Uw tennisschool spreekt erg aan, omdat ik er veel goede verhalen over heb gehoord. Verder krijg ik een heel goede indruk van uw website. Zelf tennis ik al sinds mijn vijfde. Ook ben ik toe aan nieuwe verantwoordelijkheid na jaren ervaring als assisten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De afgelopen jaren heb ik als assistent van mijn tennisleraar veel ervaring opgedaan met tennisles geven. Daardoor is mijn interesse voor coachen ook gegroeid. Ik vind tennisles geven erg leuk en ik blijk er ook goed in te zijn. Mijn ervaring en plezier in het lesgeven aan jonge tennissers zal een aanwinst zijn voor uw vereniging.</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Ik zou graag mijn motivatie verder komen toelichten in een gesprek.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vriendelijke groe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br>
              <a:rPr sz="600"/>
            </a:b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endCondLst>
                                    <p:cond evt="begin"/>
                                  </p:endCondLst>
                                  <p:childTnLst>
                                    <p:set>
                                      <p:cBhvr>
                                        <p:cTn id="44"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3</a:t>
            </a:r>
            <a:endParaRPr b="0" lang="en-US" sz="3600" spc="-1" strike="noStrike">
              <a:solidFill>
                <a:srgbClr val="000000"/>
              </a:solidFill>
              <a:latin typeface="Calibri"/>
            </a:endParaRPr>
          </a:p>
        </p:txBody>
      </p:sp>
      <p:sp>
        <p:nvSpPr>
          <p:cNvPr id="75" name="PlaceHolder 2"/>
          <p:cNvSpPr>
            <a:spLocks noGrp="1"/>
          </p:cNvSpPr>
          <p:nvPr>
            <p:ph type="subTitle"/>
          </p:nvPr>
        </p:nvSpPr>
        <p:spPr>
          <a:xfrm>
            <a:off x="684360" y="3357720"/>
            <a:ext cx="7991280" cy="1055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Wat doe je in de tweede alinea?</a:t>
            </a:r>
            <a:endParaRPr b="0" lang="en-US" sz="2400" spc="-1" strike="noStrike">
              <a:solidFill>
                <a:srgbClr val="000000"/>
              </a:solidFill>
              <a:latin typeface="Calibri"/>
            </a:endParaRPr>
          </a:p>
          <a:p>
            <a:pPr>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Vertel iets over jezelf.</a:t>
            </a:r>
            <a:endParaRPr b="0" lang="en-US" sz="2400" spc="-1" strike="noStrike">
              <a:solidFill>
                <a:srgbClr val="000000"/>
              </a:solidFill>
              <a:latin typeface="Calibri"/>
            </a:endParaRPr>
          </a:p>
          <a:p>
            <a:pPr>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Leg uit waarom de functie je leuk lijkt.</a:t>
            </a:r>
            <a:endParaRPr b="0" lang="en-US" sz="2400" spc="-1" strike="noStrike">
              <a:solidFill>
                <a:srgbClr val="000000"/>
              </a:solidFill>
              <a:latin typeface="Calibri"/>
            </a:endParaRPr>
          </a:p>
          <a:p>
            <a:pPr>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Zorg ervoor dat je enthousiast overkom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Calibri"/>
              </a:rPr>
              <a:t>De juiste briefconventies</a:t>
            </a:r>
            <a:endParaRPr b="0" lang="en-US" sz="2600" spc="-1" strike="noStrike">
              <a:solidFill>
                <a:srgbClr val="000000"/>
              </a:solidFill>
              <a:latin typeface="Calibri"/>
            </a:endParaRPr>
          </a:p>
        </p:txBody>
      </p:sp>
      <p:sp>
        <p:nvSpPr>
          <p:cNvPr id="78" name=""/>
          <p:cNvSpPr txBox="1"/>
          <p:nvPr/>
        </p:nvSpPr>
        <p:spPr>
          <a:xfrm>
            <a:off x="457200" y="1600200"/>
            <a:ext cx="31780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Je vertelt iets over jezelf</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Je legt uit waarom de functie je leuk lijk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Wees enthousiast.</a:t>
            </a:r>
            <a:endParaRPr b="0" lang="en-US" sz="2000" spc="-1" strike="noStrike">
              <a:solidFill>
                <a:srgbClr val="000000"/>
              </a:solidFill>
              <a:latin typeface="Calibri"/>
            </a:endParaRPr>
          </a:p>
        </p:txBody>
      </p:sp>
      <p:sp>
        <p:nvSpPr>
          <p:cNvPr id="79" name=""/>
          <p:cNvSpPr txBox="1"/>
          <p:nvPr/>
        </p:nvSpPr>
        <p:spPr>
          <a:xfrm>
            <a:off x="3924000" y="1600200"/>
            <a:ext cx="5111640" cy="4525920"/>
          </a:xfrm>
          <a:prstGeom prst="rect">
            <a:avLst/>
          </a:prstGeom>
          <a:noFill/>
          <a:ln w="0">
            <a:noFill/>
          </a:ln>
        </p:spPr>
        <p:txBody>
          <a:bodyPr anchor="t">
            <a:normAutofit fontScale="95000"/>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Sophiastraat 31</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67 FJ Bennebroek</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vereniging De lamme ar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laan 13</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93 TG Haarle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nnebroek, 6 juli 2014</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treft: sollicitatie tenniscoach</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Geachte heer/mevrouw,</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deze brief wil ik solliciteren naar de functie van tenniscoach. Ik kwam de vacature tegen op uw website.</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a:rPr>
              <a:t>Uw tennisschool spreekt mij erg aan, omdat ik er goede verhalen over heb gehoord. Verder krijg ik een heel goede indruk van uw website. Zelf tennis ik al sinds mijn vijfde. Ik kan niet wachten om nieuwe ervaring als coach op te doen.</a:t>
            </a:r>
            <a:endParaRPr b="0" lang="en-US" sz="20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De afgelopen jaren heb ik als assistent van mijn tennisleraar veel ervaring opgedaan met tennisles geven. Daardoor is mijn interesse voor coachen ook gegroeid. Ik vind tennisles geven erg leuk en ik blijk er ook goed in te zijn. Mijn ervaring en plezier in het lesgeven aan jonge tennissers zal een aanwinst zijn voor uw vereniging.</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Ik zou graag mijn motivatie verder komen toelichten in een gesprek.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vriendelijke groe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br>
              <a:rPr sz="600"/>
            </a:b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endCondLst>
                                    <p:cond evt="begin"/>
                                  </p:endCondLst>
                                  <p:childTnLst>
                                    <p:set>
                                      <p:cBhvr>
                                        <p:cTn id="50"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4</a:t>
            </a:r>
            <a:endParaRPr b="0" lang="en-US" sz="3600" spc="-1" strike="noStrike">
              <a:solidFill>
                <a:srgbClr val="000000"/>
              </a:solidFill>
              <a:latin typeface="Calibri"/>
            </a:endParaRPr>
          </a:p>
        </p:txBody>
      </p:sp>
      <p:sp>
        <p:nvSpPr>
          <p:cNvPr id="81" name="PlaceHolder 2"/>
          <p:cNvSpPr>
            <a:spLocks noGrp="1"/>
          </p:cNvSpPr>
          <p:nvPr>
            <p:ph type="subTitle"/>
          </p:nvPr>
        </p:nvSpPr>
        <p:spPr>
          <a:xfrm>
            <a:off x="684360" y="3357720"/>
            <a:ext cx="7991280" cy="10555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Wat doe je in de derde alinea?</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Vertel waarom de werkgever juist jou zou moeten aannemen.</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Geef de eigenschappen die jou geschikt maken voor de functie.</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Beschrijf de eventuele werkervaring die je heb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Calibri"/>
              </a:rPr>
              <a:t>De juiste briefconventies</a:t>
            </a:r>
            <a:endParaRPr b="0" lang="en-US" sz="2600" spc="-1" strike="noStrike">
              <a:solidFill>
                <a:srgbClr val="000000"/>
              </a:solidFill>
              <a:latin typeface="Calibri"/>
            </a:endParaRPr>
          </a:p>
        </p:txBody>
      </p:sp>
      <p:sp>
        <p:nvSpPr>
          <p:cNvPr id="84" name=""/>
          <p:cNvSpPr txBox="1"/>
          <p:nvPr/>
        </p:nvSpPr>
        <p:spPr>
          <a:xfrm>
            <a:off x="457200" y="1600200"/>
            <a:ext cx="31780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Beschrijf waarom de werkgever juist jou zou moeten aanneme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Geef aan welke eigenschappen jou geschikt maken voor de functi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Beschrijf jouw eventuele werkervaring.</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5" name=""/>
          <p:cNvSpPr txBox="1"/>
          <p:nvPr/>
        </p:nvSpPr>
        <p:spPr>
          <a:xfrm>
            <a:off x="3924000" y="1351080"/>
            <a:ext cx="5111640" cy="4525920"/>
          </a:xfrm>
          <a:prstGeom prst="rect">
            <a:avLst/>
          </a:prstGeom>
          <a:noFill/>
          <a:ln w="0">
            <a:noFill/>
          </a:ln>
        </p:spPr>
        <p:txBody>
          <a:bodyPr anchor="t">
            <a:normAutofit fontScale="88000"/>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Sophiastraat 31</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67 FJ Bennebroek</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vereniging De lamme ar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laan 13</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93 TG Haarle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nnebroek, 6 juli 2014</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treft: sollicitatie tenniscoach</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Geachte heer/mevrouw,</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deze brief wil ik solliciteren naar de functie van tenniscoach. Ik kwam de vacature tegen op uw website.</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Uw tennisschool spreekt erg aan, omdat ik er veel goede verhalen over heb gehoord. Verder krijg ik een heel goede indruk van uw website. Zelf tennis ik al sinds mijn vijfde. Ook ben ik toe aan nieuwe verantwoordelijkheid na jaren ervaring als assisten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a:rPr>
              <a:t>De afgelopen jaren heb ik als assistent van mijn tennisleraar veel ervaring opgedaan met het geven van tennislessen. Daardoor heb ik meer interesse gekregen in het coachen. Ik vind tennisles geven erg leuk en ik blijk er ook goed in te zijn. Mijn ervaring en plezier in het lesgeven aan jonge tennissers past top bij uw vereniging.</a:t>
            </a:r>
            <a:endParaRPr b="0" lang="en-US" sz="20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Ik zou graag mijn motivatie verder komen toelichten in een gesprek.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vriendelijke groe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br>
              <a:rPr sz="600"/>
            </a:b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08:41:45Z</dcterms:created>
  <dc:creator>Raoul</dc:creator>
  <dc:description/>
  <dc:language>en-US</dc:language>
  <cp:lastModifiedBy> </cp:lastModifiedBy>
  <dcterms:modified xsi:type="dcterms:W3CDTF">2018-06-11T13:47:18Z</dcterms:modified>
  <cp:revision>203</cp:revision>
  <dc:subject/>
  <dc:title>goed of fout?</dc:title>
</cp:coreProperties>
</file>