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DC65-D848-406C-AFB2-F9A4F9F3A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3F42-CD6B-4FA9-875D-822D86C490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16CE-2E6B-4AD1-B50A-FFD0FC141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7301-1545-41B6-91D3-227CA3515F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AC90-0D94-42D5-8701-535AD907CA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FC53-FD84-4255-A031-0D20D07325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104B-4D07-4AD8-AEE5-C3D280AF4B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C23C-2E57-4DB9-A668-829DCD6B10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1431-040C-46E7-B500-3F494E352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7BCF-DA9B-4C74-A0B7-C9C239533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68B15-DD95-4E9F-8A0B-20E9D85CC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7DAFB-5BEC-4240-966C-7CCABB40A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0CE7-0097-41DA-8A16-1EA9A02C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E676E-9941-458E-A663-808C546F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F271A-7566-4528-97CB-3D10A26B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9B37-05C5-4EB2-85DE-05CB126E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055EA-BAE3-4E19-A62D-A169C2D0B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6E4B-09B2-458C-85DC-C8BE47C12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91FEA-AFE0-45A1-AF6F-3C929453E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7F263-53A6-4711-BED9-36F277470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BB96-CF9A-461A-B756-C53F0E6AA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643280" y="1267920"/>
            <a:ext cx="439272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je voldoende informatie heb gegeven en dat je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
        <p:nvSpPr>
          <p:cNvPr id="52"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179280" y="1267920"/>
            <a:ext cx="4316400" cy="5473800"/>
          </a:xfrm>
          <a:prstGeom prst="rect">
            <a:avLst/>
          </a:prstGeom>
          <a:noFill/>
          <a:ln w="0">
            <a:noFill/>
          </a:ln>
        </p:spPr>
        <p:txBody>
          <a:bodyPr anchor="t">
            <a:normAutofit fontScale="98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Heliconlaan 11</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90 P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vrouw M.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Lindelaan 3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7654 KN Moergestel</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oergestel, 7 april 2015</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r>
              <a:rPr b="0" lang="nl-NL" sz="900" spc="-1" strike="noStrike">
                <a:solidFill>
                  <a:srgbClr val="000000"/>
                </a:solidFill>
                <a:latin typeface="Calibri"/>
              </a:rPr>
              <a:t>Betreft: advertentie dierenverzorger</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Geachte mevrouw Blom,</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Ik hoop dat ik u voldoende informatie heb gegeven en dat u binnenkort contact met mij opneem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Met vriendelijke groet,</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  </a:t>
            </a: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rPr>
              <a:t>Else Ruigrok</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4560" y="907920"/>
            <a:ext cx="9001080" cy="58341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je voldoende informatie heb gegeven en dat je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ijdelijke aanduiding voor inhoud 2"/>
          <p:cNvSpPr/>
          <p:nvPr/>
        </p:nvSpPr>
        <p:spPr>
          <a:xfrm>
            <a:off x="576360" y="907920"/>
            <a:ext cx="3851280" cy="5689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39480" indent="-33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56" name=""/>
          <p:cNvSpPr txBox="1"/>
          <p:nvPr/>
        </p:nvSpPr>
        <p:spPr>
          <a:xfrm>
            <a:off x="4427280" y="957240"/>
            <a:ext cx="4327560" cy="56404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57" name="L-vorm 17"/>
          <p:cNvSpPr/>
          <p:nvPr/>
        </p:nvSpPr>
        <p:spPr>
          <a:xfrm rot="19034400">
            <a:off x="558720" y="90288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L-vorm 23"/>
          <p:cNvSpPr/>
          <p:nvPr/>
        </p:nvSpPr>
        <p:spPr>
          <a:xfrm rot="19034400">
            <a:off x="538200" y="131580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L-vorm 11"/>
          <p:cNvSpPr/>
          <p:nvPr/>
        </p:nvSpPr>
        <p:spPr>
          <a:xfrm rot="19034400">
            <a:off x="530280" y="196344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Verbodssymbool 12"/>
          <p:cNvSpPr/>
          <p:nvPr/>
        </p:nvSpPr>
        <p:spPr>
          <a:xfrm>
            <a:off x="468360" y="4797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Verbodssymbool 13"/>
          <p:cNvSpPr/>
          <p:nvPr/>
        </p:nvSpPr>
        <p:spPr>
          <a:xfrm>
            <a:off x="468360" y="566100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vorm 15"/>
          <p:cNvSpPr/>
          <p:nvPr/>
        </p:nvSpPr>
        <p:spPr>
          <a:xfrm rot="19034400">
            <a:off x="525600" y="239724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L-vorm 16"/>
          <p:cNvSpPr/>
          <p:nvPr/>
        </p:nvSpPr>
        <p:spPr>
          <a:xfrm rot="19034400">
            <a:off x="506520" y="31100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L-vorm 21"/>
          <p:cNvSpPr/>
          <p:nvPr/>
        </p:nvSpPr>
        <p:spPr>
          <a:xfrm rot="19034400">
            <a:off x="506520" y="369360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vorm 25"/>
          <p:cNvSpPr/>
          <p:nvPr/>
        </p:nvSpPr>
        <p:spPr>
          <a:xfrm rot="19034400">
            <a:off x="506520" y="421812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L-vorm 18"/>
          <p:cNvSpPr/>
          <p:nvPr/>
        </p:nvSpPr>
        <p:spPr>
          <a:xfrm rot="19034400">
            <a:off x="533520" y="6159600"/>
            <a:ext cx="32040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Verbodssymbool 19"/>
          <p:cNvSpPr/>
          <p:nvPr/>
        </p:nvSpPr>
        <p:spPr>
          <a:xfrm>
            <a:off x="468360" y="5229360"/>
            <a:ext cx="358560" cy="360360"/>
          </a:xfrm>
          <a:custGeom>
            <a:avLst/>
            <a:gdLst/>
            <a:ahLst/>
            <a:rect l="l" t="t" r="r" b="b"/>
            <a:pathLst>
              <a:path w="358775" h="360363">
                <a:moveTo>
                  <a:pt x="0" y="180182"/>
                </a:moveTo>
                <a:cubicBezTo>
                  <a:pt x="0" y="80670"/>
                  <a:pt x="80315" y="0"/>
                  <a:pt x="179388" y="0"/>
                </a:cubicBezTo>
                <a:cubicBezTo>
                  <a:pt x="278461" y="0"/>
                  <a:pt x="358776" y="80670"/>
                  <a:pt x="358776" y="180182"/>
                </a:cubicBezTo>
                <a:cubicBezTo>
                  <a:pt x="358776" y="279694"/>
                  <a:pt x="278461" y="360364"/>
                  <a:pt x="179388" y="360364"/>
                </a:cubicBezTo>
                <a:cubicBezTo>
                  <a:pt x="80315" y="360364"/>
                  <a:pt x="0" y="279694"/>
                  <a:pt x="0" y="180182"/>
                </a:cubicBezTo>
                <a:close/>
                <a:moveTo>
                  <a:pt x="278091" y="233735"/>
                </a:moveTo>
                <a:cubicBezTo>
                  <a:pt x="301466" y="190040"/>
                  <a:pt x="293768" y="136097"/>
                  <a:pt x="259119" y="100801"/>
                </a:cubicBezTo>
                <a:cubicBezTo>
                  <a:pt x="224093" y="65120"/>
                  <a:pt x="169889" y="56996"/>
                  <a:pt x="126064" y="80859"/>
                </a:cubicBezTo>
                <a:lnTo>
                  <a:pt x="278091" y="233735"/>
                </a:lnTo>
                <a:close/>
                <a:moveTo>
                  <a:pt x="80684" y="126628"/>
                </a:moveTo>
                <a:cubicBezTo>
                  <a:pt x="57309" y="170323"/>
                  <a:pt x="65007" y="224266"/>
                  <a:pt x="99656" y="259562"/>
                </a:cubicBezTo>
                <a:cubicBezTo>
                  <a:pt x="134682" y="295243"/>
                  <a:pt x="188886" y="303367"/>
                  <a:pt x="232711" y="279504"/>
                </a:cubicBezTo>
                <a:lnTo>
                  <a:pt x="80684" y="126628"/>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3"/>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4"/>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920" y="836640"/>
            <a:ext cx="8858160" cy="6021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liconlaan 11</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90 P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vrouw M.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indelaan 3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7654 KN Moergestel</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r>
              <a:rPr b="0" lang="nl-NL" sz="1100" spc="-1" strike="noStrike">
                <a:solidFill>
                  <a:srgbClr val="000000"/>
                </a:solidFill>
                <a:latin typeface="Calibri"/>
              </a:rPr>
              <a:t>Moergestel, 7 april 2015</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etreft: advertentie dierenverzorger</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Geachte mevrouw Blom,</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k hoop dat ik u voldoende informatie heb gegeven en dat u binnenkort contact met mij opneem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Met vriendelijke groet,</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 </a:t>
            </a:r>
            <a:endParaRPr b="0" lang="en-US" sz="11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lse Ruigrok</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jdelijke aanduiding voor inhoud 2"/>
          <p:cNvSpPr/>
          <p:nvPr/>
        </p:nvSpPr>
        <p:spPr>
          <a:xfrm>
            <a:off x="179280" y="1268280"/>
            <a:ext cx="4248360" cy="561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verteld op welke functie gesolliciteerd word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beschreven uit welke bron de vacature kom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er enthousiast beschreven waarom de schrijver de functie leuk lij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argumenten gegeven waarom de werkgever haar moet aannem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en er eigenschappen beschreven die voor de functie geschikt zij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er in het slot een wens of verwachting uit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witregels tussen de onderdelen gebrui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Wordt de ander met u aangespr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de briefconventies van een zakelijke brief op de goede manier uitgevoerd?</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Zijn er geen taal- en spelfouten gemaakt?</a:t>
            </a: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alibri"/>
              </a:rPr>
              <a:t>Is de taal beleefd?</a:t>
            </a:r>
            <a:endParaRPr b="0" lang="en-US" sz="1600" spc="-1" strike="noStrike">
              <a:solidFill>
                <a:srgbClr val="000000"/>
              </a:solidFill>
              <a:latin typeface="Arial"/>
            </a:endParaRPr>
          </a:p>
        </p:txBody>
      </p:sp>
      <p:sp>
        <p:nvSpPr>
          <p:cNvPr id="70" name="Tijdelijke aanduiding voor inhoud 2"/>
          <p:cNvSpPr/>
          <p:nvPr/>
        </p:nvSpPr>
        <p:spPr>
          <a:xfrm>
            <a:off x="4788000" y="981000"/>
            <a:ext cx="3852720" cy="540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alibri"/>
              </a:rPr>
              <a:t> </a:t>
            </a:r>
            <a:endParaRPr b="0" lang="en-US" sz="1400" spc="-1" strike="noStrike">
              <a:solidFill>
                <a:srgbClr val="000000"/>
              </a:solidFill>
              <a:latin typeface="Arial"/>
            </a:endParaRPr>
          </a:p>
        </p:txBody>
      </p:sp>
      <p:sp>
        <p:nvSpPr>
          <p:cNvPr id="71" name=""/>
          <p:cNvSpPr txBox="1"/>
          <p:nvPr/>
        </p:nvSpPr>
        <p:spPr>
          <a:xfrm>
            <a:off x="4643280" y="1267920"/>
            <a:ext cx="4392720" cy="59058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72" name="L-vorm 21"/>
          <p:cNvSpPr/>
          <p:nvPr/>
        </p:nvSpPr>
        <p:spPr>
          <a:xfrm rot="19034400">
            <a:off x="149400" y="2274840"/>
            <a:ext cx="32040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vorm 22"/>
          <p:cNvSpPr/>
          <p:nvPr/>
        </p:nvSpPr>
        <p:spPr>
          <a:xfrm rot="19034400">
            <a:off x="149400" y="33523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vorm 12"/>
          <p:cNvSpPr/>
          <p:nvPr/>
        </p:nvSpPr>
        <p:spPr>
          <a:xfrm rot="19034400">
            <a:off x="158760" y="171720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vorm 19"/>
          <p:cNvSpPr/>
          <p:nvPr/>
        </p:nvSpPr>
        <p:spPr>
          <a:xfrm rot="19034400">
            <a:off x="149400" y="286020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L-vorm 16"/>
          <p:cNvSpPr/>
          <p:nvPr/>
        </p:nvSpPr>
        <p:spPr>
          <a:xfrm rot="19034400">
            <a:off x="173160" y="1182240"/>
            <a:ext cx="32040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L-vorm 13"/>
          <p:cNvSpPr/>
          <p:nvPr/>
        </p:nvSpPr>
        <p:spPr>
          <a:xfrm rot="19034400">
            <a:off x="158760" y="3877920"/>
            <a:ext cx="320760" cy="31896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L-vorm 14"/>
          <p:cNvSpPr/>
          <p:nvPr/>
        </p:nvSpPr>
        <p:spPr>
          <a:xfrm rot="19034400">
            <a:off x="139680" y="4447800"/>
            <a:ext cx="320760" cy="31896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vorm 15"/>
          <p:cNvSpPr/>
          <p:nvPr/>
        </p:nvSpPr>
        <p:spPr>
          <a:xfrm rot="19034400">
            <a:off x="158760" y="49017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vorm 17"/>
          <p:cNvSpPr/>
          <p:nvPr/>
        </p:nvSpPr>
        <p:spPr>
          <a:xfrm rot="19034400">
            <a:off x="149400" y="5301720"/>
            <a:ext cx="32040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vorm 18"/>
          <p:cNvSpPr/>
          <p:nvPr/>
        </p:nvSpPr>
        <p:spPr>
          <a:xfrm rot="19034400">
            <a:off x="139680" y="5762160"/>
            <a:ext cx="320760" cy="319320"/>
          </a:xfrm>
          <a:custGeom>
            <a:avLst/>
            <a:gdLst/>
            <a:ahLst/>
            <a:rect l="l" t="t" r="r" b="b"/>
            <a:pathLst>
              <a:path w="320675" h="319088">
                <a:moveTo>
                  <a:pt x="0" y="0"/>
                </a:moveTo>
                <a:lnTo>
                  <a:pt x="159544" y="0"/>
                </a:lnTo>
                <a:lnTo>
                  <a:pt x="159544" y="159544"/>
                </a:lnTo>
                <a:lnTo>
                  <a:pt x="320675" y="159544"/>
                </a:lnTo>
                <a:lnTo>
                  <a:pt x="320675" y="319088"/>
                </a:lnTo>
                <a:lnTo>
                  <a:pt x="0" y="319088"/>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L-vorm 20"/>
          <p:cNvSpPr/>
          <p:nvPr/>
        </p:nvSpPr>
        <p:spPr>
          <a:xfrm rot="19034400">
            <a:off x="133200" y="6103440"/>
            <a:ext cx="320760" cy="319320"/>
          </a:xfrm>
          <a:custGeom>
            <a:avLst/>
            <a:gdLst/>
            <a:ahLst/>
            <a:rect l="l" t="t" r="r" b="b"/>
            <a:pathLst>
              <a:path w="320675" h="319087">
                <a:moveTo>
                  <a:pt x="0" y="0"/>
                </a:moveTo>
                <a:lnTo>
                  <a:pt x="159544" y="0"/>
                </a:lnTo>
                <a:lnTo>
                  <a:pt x="159544" y="159544"/>
                </a:lnTo>
                <a:lnTo>
                  <a:pt x="320675" y="159544"/>
                </a:lnTo>
                <a:lnTo>
                  <a:pt x="320675" y="319087"/>
                </a:lnTo>
                <a:lnTo>
                  <a:pt x="0" y="319087"/>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7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5"/>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3"/>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7"/>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8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643280" y="1412640"/>
            <a:ext cx="439272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kliniek zag ik dat je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je voldoende informatie heb gegeven en dat je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4" name="Ondertitel 2"/>
          <p:cNvSpPr/>
          <p:nvPr/>
        </p:nvSpPr>
        <p:spPr>
          <a:xfrm>
            <a:off x="684360" y="836640"/>
            <a:ext cx="7848360" cy="504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a6a6a6"/>
                </a:solidFill>
                <a:latin typeface="Calibri"/>
              </a:rPr>
              <a:t>Welk voorbeeld is goed?</a:t>
            </a:r>
            <a:endParaRPr b="0" lang="en-US" sz="26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
          <p:cNvSpPr txBox="1"/>
          <p:nvPr/>
        </p:nvSpPr>
        <p:spPr>
          <a:xfrm>
            <a:off x="179280" y="1412640"/>
            <a:ext cx="4316400" cy="532908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Heliconlaan 11</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90 P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vrouw M.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Lindelaan 3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7654 KN Moergestel</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oergestel, 7 april 2015</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Betreft: advertentie dierenverzorger</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Geachte mevrouw Blom,</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Op het prikbord in de dierenkliniek zag ik dat u op zoek bent naar een dierenverzorger die een paar keer per week voor Saar wil zorgen. Dat zou ik graag willen doen. In deze brief zal ik iets meer over mezelf vertell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ijn naam is Else Ruigrok en ik zit in 4 vmbo-gt van De Rooi Pannen in Tilburg. Ik ben al een tijdje op zoek naar een bijbaantje, het liefst iets met dieren. Ik ben gek op dieren en helemaal op honden, omdat die zo'n eigen karakter hebben. Op Saar passen lijkt me echt heel leuk.</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denk dat ik een goede oppas voor Saar zou zijn. We hebben thuis vier Husky's. Dat zijn honden die een slee kunnen trekken en ze zijn dus heel sterk. Ik kan twee van onze eigen honden tegelijk uitlaten, dus ik denk dat ik sterk genoeg ben om Saar aan te kunnen.  Verder ben ik lief voor dieren, maar ook streng. Een hond heeft het nodig om te weten wie zijn baas is. Anders gebeuren er ongelukken.</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Ik hoop dat ik u voldoende informatie heb gegeven en dat u binnenkort contact met mij opneem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Met vriendelijke groe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Else Ruigrok</a:t>
            </a:r>
            <a:endParaRPr b="0" lang="en-US" sz="800" spc="-1" strike="noStrike">
              <a:solidFill>
                <a:srgbClr val="000000"/>
              </a:solidFill>
              <a:latin typeface="Calibri"/>
            </a:endParaRPr>
          </a:p>
        </p:txBody>
      </p:sp>
      <p:sp>
        <p:nvSpPr>
          <p:cNvPr id="86" name="L-vorm 5"/>
          <p:cNvSpPr/>
          <p:nvPr/>
        </p:nvSpPr>
        <p:spPr>
          <a:xfrm rot="18672000">
            <a:off x="2618280" y="1553040"/>
            <a:ext cx="1186200" cy="647640"/>
          </a:xfrm>
          <a:custGeom>
            <a:avLst/>
            <a:gdLst/>
            <a:ahLst/>
            <a:rect l="l" t="t" r="r" b="b"/>
            <a:pathLst>
              <a:path w="1185862" h="647700">
                <a:moveTo>
                  <a:pt x="0" y="0"/>
                </a:moveTo>
                <a:lnTo>
                  <a:pt x="323850" y="0"/>
                </a:lnTo>
                <a:lnTo>
                  <a:pt x="323850" y="323850"/>
                </a:lnTo>
                <a:lnTo>
                  <a:pt x="1185862" y="323850"/>
                </a:lnTo>
                <a:lnTo>
                  <a:pt x="1185862" y="647700"/>
                </a:lnTo>
                <a:lnTo>
                  <a:pt x="0" y="647700"/>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Verbodssymbool 6"/>
          <p:cNvSpPr/>
          <p:nvPr/>
        </p:nvSpPr>
        <p:spPr>
          <a:xfrm>
            <a:off x="7524720" y="1368360"/>
            <a:ext cx="1008000" cy="1019160"/>
          </a:xfrm>
          <a:custGeom>
            <a:avLst/>
            <a:gdLst/>
            <a:ahLst/>
            <a:rect l="l" t="t" r="r" b="b"/>
            <a:pathLst>
              <a:path w="1008063" h="1019175">
                <a:moveTo>
                  <a:pt x="0" y="509588"/>
                </a:moveTo>
                <a:cubicBezTo>
                  <a:pt x="0" y="228150"/>
                  <a:pt x="225663" y="0"/>
                  <a:pt x="504032" y="0"/>
                </a:cubicBezTo>
                <a:cubicBezTo>
                  <a:pt x="782401" y="0"/>
                  <a:pt x="1008064" y="228150"/>
                  <a:pt x="1008064" y="509588"/>
                </a:cubicBezTo>
                <a:cubicBezTo>
                  <a:pt x="1008064" y="791026"/>
                  <a:pt x="782401" y="1019176"/>
                  <a:pt x="504032" y="1019176"/>
                </a:cubicBezTo>
                <a:cubicBezTo>
                  <a:pt x="225663" y="1019176"/>
                  <a:pt x="0" y="791026"/>
                  <a:pt x="0" y="509588"/>
                </a:cubicBezTo>
                <a:close/>
                <a:moveTo>
                  <a:pt x="781316" y="661726"/>
                </a:moveTo>
                <a:cubicBezTo>
                  <a:pt x="846582" y="538541"/>
                  <a:pt x="825781" y="386508"/>
                  <a:pt x="729929" y="286152"/>
                </a:cubicBezTo>
                <a:cubicBezTo>
                  <a:pt x="631468" y="183063"/>
                  <a:pt x="477608" y="159283"/>
                  <a:pt x="353510" y="227974"/>
                </a:cubicBezTo>
                <a:lnTo>
                  <a:pt x="781316" y="661726"/>
                </a:lnTo>
                <a:close/>
                <a:moveTo>
                  <a:pt x="226747" y="357449"/>
                </a:moveTo>
                <a:cubicBezTo>
                  <a:pt x="161481" y="480634"/>
                  <a:pt x="182282" y="632667"/>
                  <a:pt x="278134" y="733023"/>
                </a:cubicBezTo>
                <a:cubicBezTo>
                  <a:pt x="376595" y="836112"/>
                  <a:pt x="530455" y="859892"/>
                  <a:pt x="654553" y="791201"/>
                </a:cubicBezTo>
                <a:lnTo>
                  <a:pt x="226747" y="357449"/>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6:22Z</dcterms:modified>
  <cp:revision>181</cp:revision>
  <dc:subject/>
  <dc:title>goed of fout?</dc:title>
</cp:coreProperties>
</file>