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875C2-984D-42BA-BC0C-2DE0D022D4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8F6F4-3887-4ABA-831F-B0F33B4B85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ECACF-81CD-48A1-9EDB-3A89C701CD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FCDEB-BC5D-41B8-9679-4ABE86FE99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25864-7C93-4D5C-92E3-CB244CEFD3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1855-0BE2-4285-9604-0BAEB87FCB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20507-83C9-47EF-869F-FBCA9AE97E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F4B4-3904-4B3F-8F9B-5F4D13D642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300B6-4A0A-40D6-9AF1-9EA249855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ACF04-B7AD-48F9-AA7F-C9FB05B18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9C8C5-72E9-4666-B960-2305153B5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93F1F-288F-45A8-A53B-B4665A3B4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88028-4C50-4BCA-89B0-2FF4160AE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CF945-2DA6-4FEC-9B8C-73D0DD299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DAC5D-C65C-4C11-AD6B-0B76B3C16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097E7-F96D-474C-B5B9-F133A7719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5D1D4-B4C8-4873-B749-0C5053010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A9F25-CF08-49A8-94D6-E5FE6EAEA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79358-C324-4631-BDBC-CA1BCE27E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3D431-C71A-4902-A77C-BA3A31991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66199-A79B-4C9C-8237-AF08B5F40E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5</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sollicitatiebrief schrijven</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643280" y="1267920"/>
            <a:ext cx="4392720" cy="5473800"/>
          </a:xfrm>
          <a:prstGeom prst="rect">
            <a:avLst/>
          </a:prstGeom>
          <a:noFill/>
          <a:ln w="0">
            <a:noFill/>
          </a:ln>
        </p:spPr>
        <p:txBody>
          <a:bodyPr anchor="t">
            <a:normAutofit fontScale="98000"/>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eliconlaan 11</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90 P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oergestel, 7 april 201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vrouw M.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Lindelaan 3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54 K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Betreft: advertentie dierenverzorger</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Geachte mevrouw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hoop dat ik je voldoende informatie heb gegeven en dat je binnenkort contact met mij opneem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t vriendelijke groe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p:txBody>
      </p:sp>
      <p:sp>
        <p:nvSpPr>
          <p:cNvPr id="52"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txBox="1"/>
          <p:nvPr/>
        </p:nvSpPr>
        <p:spPr>
          <a:xfrm>
            <a:off x="179280" y="1267920"/>
            <a:ext cx="4316400" cy="5473800"/>
          </a:xfrm>
          <a:prstGeom prst="rect">
            <a:avLst/>
          </a:prstGeom>
          <a:noFill/>
          <a:ln w="0">
            <a:noFill/>
          </a:ln>
        </p:spPr>
        <p:txBody>
          <a:bodyPr anchor="t">
            <a:normAutofit fontScale="98000"/>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eliconlaan 11</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90 P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vrouw M.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Lindelaan 3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54 K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oergestel, 7 april 201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r>
              <a:rPr b="0" lang="nl-NL" sz="900" spc="-1" strike="noStrike">
                <a:solidFill>
                  <a:srgbClr val="000000"/>
                </a:solidFill>
                <a:latin typeface="Calibri"/>
              </a:rPr>
              <a:t>Betreft: advertentie dierenverzorger</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Geachte mevrouw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hoop dat ik u voldoende informatie heb gegeven en dat u binnenkort contact met mij opneem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t vriendelijke groe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4560" y="907920"/>
            <a:ext cx="9001080" cy="5834160"/>
          </a:xfrm>
          <a:prstGeom prst="rect">
            <a:avLst/>
          </a:prstGeom>
          <a:noFill/>
          <a:ln w="0">
            <a:noFill/>
          </a:ln>
        </p:spPr>
        <p:txBody>
          <a:bodyPr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liconlaan 11</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90 P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oergestel, 7 april 201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vrouw M.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indelaan 3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54 K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Betreft: advertentie dierenverzorger</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Geachte mevrouw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hoop dat ik je voldoende informatie heb gegeven en dat je binnenkort contact met mij opneem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t vriendelijke groe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ijdelijke aanduiding voor inhoud 2"/>
          <p:cNvSpPr/>
          <p:nvPr/>
        </p:nvSpPr>
        <p:spPr>
          <a:xfrm>
            <a:off x="576360" y="907920"/>
            <a:ext cx="3851280" cy="5689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verteld op welke functie gesolliciteerd word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beschreven uit welke bron de vacature kom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enthousiast beschreven waarom de schrijver de functie leuk lijk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argumenten gegeven waarom de werkgever haar moet aanneme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eigenschappen beschreven die voor de functie geschikt zij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in het slot een wens of verwachting uitgesproke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witregels tussen de onderdelen gebruik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de ander met u aangesproke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de briefconventies van een zakelijke brief op de goede manier uitgevoerd?</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geen  taal- en spelfouten gemaak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de taal beleefd?</a:t>
            </a:r>
            <a:endParaRPr b="0" lang="en-US" sz="1600" spc="-1" strike="noStrike">
              <a:solidFill>
                <a:srgbClr val="000000"/>
              </a:solidFill>
              <a:latin typeface="Arial"/>
            </a:endParaRPr>
          </a:p>
        </p:txBody>
      </p:sp>
      <p:sp>
        <p:nvSpPr>
          <p:cNvPr id="56" name=""/>
          <p:cNvSpPr txBox="1"/>
          <p:nvPr/>
        </p:nvSpPr>
        <p:spPr>
          <a:xfrm>
            <a:off x="4427280" y="957240"/>
            <a:ext cx="4327560" cy="564048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je voldoende informatie heb gegeven en dat je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57" name="L-vorm 17"/>
          <p:cNvSpPr/>
          <p:nvPr/>
        </p:nvSpPr>
        <p:spPr>
          <a:xfrm rot="19034400">
            <a:off x="558720" y="90288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L-vorm 23"/>
          <p:cNvSpPr/>
          <p:nvPr/>
        </p:nvSpPr>
        <p:spPr>
          <a:xfrm rot="19034400">
            <a:off x="538200" y="131580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L-vorm 11"/>
          <p:cNvSpPr/>
          <p:nvPr/>
        </p:nvSpPr>
        <p:spPr>
          <a:xfrm rot="19034400">
            <a:off x="530280" y="196344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Verbodssymbool 12"/>
          <p:cNvSpPr/>
          <p:nvPr/>
        </p:nvSpPr>
        <p:spPr>
          <a:xfrm>
            <a:off x="468360" y="4797360"/>
            <a:ext cx="358560" cy="360360"/>
          </a:xfrm>
          <a:custGeom>
            <a:avLst/>
            <a:gdLst/>
            <a:ahLst/>
            <a:rect l="l" t="t" r="r" b="b"/>
            <a:pathLst>
              <a:path w="358775" h="360363">
                <a:moveTo>
                  <a:pt x="0" y="180182"/>
                </a:moveTo>
                <a:cubicBezTo>
                  <a:pt x="0" y="80670"/>
                  <a:pt x="80315" y="0"/>
                  <a:pt x="179388" y="0"/>
                </a:cubicBezTo>
                <a:cubicBezTo>
                  <a:pt x="278461" y="0"/>
                  <a:pt x="358776" y="80670"/>
                  <a:pt x="358776" y="180182"/>
                </a:cubicBezTo>
                <a:cubicBezTo>
                  <a:pt x="358776" y="279694"/>
                  <a:pt x="278461" y="360364"/>
                  <a:pt x="179388" y="360364"/>
                </a:cubicBezTo>
                <a:cubicBezTo>
                  <a:pt x="80315" y="360364"/>
                  <a:pt x="0" y="279694"/>
                  <a:pt x="0" y="180182"/>
                </a:cubicBezTo>
                <a:close/>
                <a:moveTo>
                  <a:pt x="278091" y="233735"/>
                </a:moveTo>
                <a:cubicBezTo>
                  <a:pt x="301466" y="190040"/>
                  <a:pt x="293768" y="136097"/>
                  <a:pt x="259119" y="100801"/>
                </a:cubicBezTo>
                <a:cubicBezTo>
                  <a:pt x="224093" y="65120"/>
                  <a:pt x="169889" y="56996"/>
                  <a:pt x="126064" y="80859"/>
                </a:cubicBezTo>
                <a:lnTo>
                  <a:pt x="278091" y="233735"/>
                </a:lnTo>
                <a:close/>
                <a:moveTo>
                  <a:pt x="80684" y="126628"/>
                </a:moveTo>
                <a:cubicBezTo>
                  <a:pt x="57309" y="170323"/>
                  <a:pt x="65007" y="224266"/>
                  <a:pt x="99656" y="259562"/>
                </a:cubicBezTo>
                <a:cubicBezTo>
                  <a:pt x="134682" y="295243"/>
                  <a:pt x="188886" y="303367"/>
                  <a:pt x="232711" y="279504"/>
                </a:cubicBezTo>
                <a:lnTo>
                  <a:pt x="80684" y="126628"/>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Verbodssymbool 13"/>
          <p:cNvSpPr/>
          <p:nvPr/>
        </p:nvSpPr>
        <p:spPr>
          <a:xfrm>
            <a:off x="468360" y="5661000"/>
            <a:ext cx="358560" cy="360360"/>
          </a:xfrm>
          <a:custGeom>
            <a:avLst/>
            <a:gdLst/>
            <a:ahLst/>
            <a:rect l="l" t="t" r="r" b="b"/>
            <a:pathLst>
              <a:path w="358775" h="360363">
                <a:moveTo>
                  <a:pt x="0" y="180182"/>
                </a:moveTo>
                <a:cubicBezTo>
                  <a:pt x="0" y="80670"/>
                  <a:pt x="80315" y="0"/>
                  <a:pt x="179388" y="0"/>
                </a:cubicBezTo>
                <a:cubicBezTo>
                  <a:pt x="278461" y="0"/>
                  <a:pt x="358776" y="80670"/>
                  <a:pt x="358776" y="180182"/>
                </a:cubicBezTo>
                <a:cubicBezTo>
                  <a:pt x="358776" y="279694"/>
                  <a:pt x="278461" y="360364"/>
                  <a:pt x="179388" y="360364"/>
                </a:cubicBezTo>
                <a:cubicBezTo>
                  <a:pt x="80315" y="360364"/>
                  <a:pt x="0" y="279694"/>
                  <a:pt x="0" y="180182"/>
                </a:cubicBezTo>
                <a:close/>
                <a:moveTo>
                  <a:pt x="278091" y="233735"/>
                </a:moveTo>
                <a:cubicBezTo>
                  <a:pt x="301466" y="190040"/>
                  <a:pt x="293768" y="136097"/>
                  <a:pt x="259119" y="100801"/>
                </a:cubicBezTo>
                <a:cubicBezTo>
                  <a:pt x="224093" y="65120"/>
                  <a:pt x="169889" y="56996"/>
                  <a:pt x="126064" y="80859"/>
                </a:cubicBezTo>
                <a:lnTo>
                  <a:pt x="278091" y="233735"/>
                </a:lnTo>
                <a:close/>
                <a:moveTo>
                  <a:pt x="80684" y="126628"/>
                </a:moveTo>
                <a:cubicBezTo>
                  <a:pt x="57309" y="170323"/>
                  <a:pt x="65007" y="224266"/>
                  <a:pt x="99656" y="259562"/>
                </a:cubicBezTo>
                <a:cubicBezTo>
                  <a:pt x="134682" y="295243"/>
                  <a:pt x="188886" y="303367"/>
                  <a:pt x="232711" y="279504"/>
                </a:cubicBezTo>
                <a:lnTo>
                  <a:pt x="80684" y="126628"/>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L-vorm 15"/>
          <p:cNvSpPr/>
          <p:nvPr/>
        </p:nvSpPr>
        <p:spPr>
          <a:xfrm rot="19034400">
            <a:off x="525600" y="2397240"/>
            <a:ext cx="320400" cy="31896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L-vorm 16"/>
          <p:cNvSpPr/>
          <p:nvPr/>
        </p:nvSpPr>
        <p:spPr>
          <a:xfrm rot="19034400">
            <a:off x="506520" y="3110040"/>
            <a:ext cx="32040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L-vorm 21"/>
          <p:cNvSpPr/>
          <p:nvPr/>
        </p:nvSpPr>
        <p:spPr>
          <a:xfrm rot="19034400">
            <a:off x="506520" y="3693600"/>
            <a:ext cx="320400" cy="31932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L-vorm 25"/>
          <p:cNvSpPr/>
          <p:nvPr/>
        </p:nvSpPr>
        <p:spPr>
          <a:xfrm rot="19034400">
            <a:off x="506520" y="4218120"/>
            <a:ext cx="32040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L-vorm 18"/>
          <p:cNvSpPr/>
          <p:nvPr/>
        </p:nvSpPr>
        <p:spPr>
          <a:xfrm rot="19034400">
            <a:off x="533520" y="6159600"/>
            <a:ext cx="320400" cy="31896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Verbodssymbool 19"/>
          <p:cNvSpPr/>
          <p:nvPr/>
        </p:nvSpPr>
        <p:spPr>
          <a:xfrm>
            <a:off x="468360" y="5229360"/>
            <a:ext cx="358560" cy="360360"/>
          </a:xfrm>
          <a:custGeom>
            <a:avLst/>
            <a:gdLst/>
            <a:ahLst/>
            <a:rect l="l" t="t" r="r" b="b"/>
            <a:pathLst>
              <a:path w="358775" h="360363">
                <a:moveTo>
                  <a:pt x="0" y="180182"/>
                </a:moveTo>
                <a:cubicBezTo>
                  <a:pt x="0" y="80670"/>
                  <a:pt x="80315" y="0"/>
                  <a:pt x="179388" y="0"/>
                </a:cubicBezTo>
                <a:cubicBezTo>
                  <a:pt x="278461" y="0"/>
                  <a:pt x="358776" y="80670"/>
                  <a:pt x="358776" y="180182"/>
                </a:cubicBezTo>
                <a:cubicBezTo>
                  <a:pt x="358776" y="279694"/>
                  <a:pt x="278461" y="360364"/>
                  <a:pt x="179388" y="360364"/>
                </a:cubicBezTo>
                <a:cubicBezTo>
                  <a:pt x="80315" y="360364"/>
                  <a:pt x="0" y="279694"/>
                  <a:pt x="0" y="180182"/>
                </a:cubicBezTo>
                <a:close/>
                <a:moveTo>
                  <a:pt x="278091" y="233735"/>
                </a:moveTo>
                <a:cubicBezTo>
                  <a:pt x="301466" y="190040"/>
                  <a:pt x="293768" y="136097"/>
                  <a:pt x="259119" y="100801"/>
                </a:cubicBezTo>
                <a:cubicBezTo>
                  <a:pt x="224093" y="65120"/>
                  <a:pt x="169889" y="56996"/>
                  <a:pt x="126064" y="80859"/>
                </a:cubicBezTo>
                <a:lnTo>
                  <a:pt x="278091" y="233735"/>
                </a:lnTo>
                <a:close/>
                <a:moveTo>
                  <a:pt x="80684" y="126628"/>
                </a:moveTo>
                <a:cubicBezTo>
                  <a:pt x="57309" y="170323"/>
                  <a:pt x="65007" y="224266"/>
                  <a:pt x="99656" y="259562"/>
                </a:cubicBezTo>
                <a:cubicBezTo>
                  <a:pt x="134682" y="295243"/>
                  <a:pt x="188886" y="303367"/>
                  <a:pt x="232711" y="279504"/>
                </a:cubicBezTo>
                <a:lnTo>
                  <a:pt x="80684" y="126628"/>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2"/>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3"/>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4"/>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1"/>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42920" y="836640"/>
            <a:ext cx="8858160" cy="6021360"/>
          </a:xfrm>
          <a:prstGeom prst="rect">
            <a:avLst/>
          </a:prstGeom>
          <a:noFill/>
          <a:ln w="0">
            <a:noFill/>
          </a:ln>
        </p:spPr>
        <p:txBody>
          <a:bodyPr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liconlaan 11</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90 P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vrouw M.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indelaan 3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54 K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r>
              <a:rPr b="0" lang="nl-NL" sz="1100" spc="-1" strike="noStrike">
                <a:solidFill>
                  <a:srgbClr val="000000"/>
                </a:solidFill>
                <a:latin typeface="Calibri"/>
              </a:rPr>
              <a:t>Moergestel, 7 april 201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Betreft: advertentie dierenverzorger</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Geachte mevrouw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hoop dat ik u voldoende informatie heb gegeven en dat u binnenkort contact met mij opneem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t vriendelijke groe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ijdelijke aanduiding voor inhoud 2"/>
          <p:cNvSpPr/>
          <p:nvPr/>
        </p:nvSpPr>
        <p:spPr>
          <a:xfrm>
            <a:off x="179280" y="1268280"/>
            <a:ext cx="4248360" cy="561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verteld op welke functie gesolliciteerd word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beschreven uit welke bron de vacature kom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enthousiast beschreven waarom de schrijver de functie leuk lijk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argumenten gegeven waarom de werkgever haar moet aannem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eigenschappen beschreven die voor de functie geschikt zij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in het slot een wens of verwachting uitgesprok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witregels tussen de onderdelen gebruik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de ander met u aangesprok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de briefconventies van een zakelijke brief op de goede manier uitgevoer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geen taal- en spelfouten gemaak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de taal beleefd?</a:t>
            </a:r>
            <a:endParaRPr b="0" lang="en-US" sz="1600" spc="-1" strike="noStrike">
              <a:solidFill>
                <a:srgbClr val="000000"/>
              </a:solidFill>
              <a:latin typeface="Arial"/>
            </a:endParaRPr>
          </a:p>
        </p:txBody>
      </p:sp>
      <p:sp>
        <p:nvSpPr>
          <p:cNvPr id="70" name="Tijdelijke aanduiding voor inhoud 2"/>
          <p:cNvSpPr/>
          <p:nvPr/>
        </p:nvSpPr>
        <p:spPr>
          <a:xfrm>
            <a:off x="4788000" y="981000"/>
            <a:ext cx="3852720" cy="540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 </a:t>
            </a:r>
            <a:endParaRPr b="0" lang="en-US" sz="1400" spc="-1" strike="noStrike">
              <a:solidFill>
                <a:srgbClr val="000000"/>
              </a:solidFill>
              <a:latin typeface="Arial"/>
            </a:endParaRPr>
          </a:p>
        </p:txBody>
      </p:sp>
      <p:sp>
        <p:nvSpPr>
          <p:cNvPr id="71" name=""/>
          <p:cNvSpPr txBox="1"/>
          <p:nvPr/>
        </p:nvSpPr>
        <p:spPr>
          <a:xfrm>
            <a:off x="4643280" y="1267920"/>
            <a:ext cx="4392720" cy="590580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u voldoende informatie heb gegeven en dat u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72" name="L-vorm 21"/>
          <p:cNvSpPr/>
          <p:nvPr/>
        </p:nvSpPr>
        <p:spPr>
          <a:xfrm rot="19034400">
            <a:off x="149400" y="2274840"/>
            <a:ext cx="32040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vorm 22"/>
          <p:cNvSpPr/>
          <p:nvPr/>
        </p:nvSpPr>
        <p:spPr>
          <a:xfrm rot="19034400">
            <a:off x="149400" y="3352320"/>
            <a:ext cx="32040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L-vorm 12"/>
          <p:cNvSpPr/>
          <p:nvPr/>
        </p:nvSpPr>
        <p:spPr>
          <a:xfrm rot="19034400">
            <a:off x="158760" y="1717200"/>
            <a:ext cx="32076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vorm 19"/>
          <p:cNvSpPr/>
          <p:nvPr/>
        </p:nvSpPr>
        <p:spPr>
          <a:xfrm rot="19034400">
            <a:off x="149400" y="2860200"/>
            <a:ext cx="32040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L-vorm 16"/>
          <p:cNvSpPr/>
          <p:nvPr/>
        </p:nvSpPr>
        <p:spPr>
          <a:xfrm rot="19034400">
            <a:off x="173160" y="1182240"/>
            <a:ext cx="320400" cy="31932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vorm 13"/>
          <p:cNvSpPr/>
          <p:nvPr/>
        </p:nvSpPr>
        <p:spPr>
          <a:xfrm rot="19034400">
            <a:off x="158760" y="387792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vorm 14"/>
          <p:cNvSpPr/>
          <p:nvPr/>
        </p:nvSpPr>
        <p:spPr>
          <a:xfrm rot="19034400">
            <a:off x="139680" y="4447800"/>
            <a:ext cx="320760" cy="31896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L-vorm 15"/>
          <p:cNvSpPr/>
          <p:nvPr/>
        </p:nvSpPr>
        <p:spPr>
          <a:xfrm rot="19034400">
            <a:off x="158760" y="4901760"/>
            <a:ext cx="32076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L-vorm 17"/>
          <p:cNvSpPr/>
          <p:nvPr/>
        </p:nvSpPr>
        <p:spPr>
          <a:xfrm rot="19034400">
            <a:off x="149400" y="5301720"/>
            <a:ext cx="32040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vorm 18"/>
          <p:cNvSpPr/>
          <p:nvPr/>
        </p:nvSpPr>
        <p:spPr>
          <a:xfrm rot="19034400">
            <a:off x="139680" y="5762160"/>
            <a:ext cx="32076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L-vorm 20"/>
          <p:cNvSpPr/>
          <p:nvPr/>
        </p:nvSpPr>
        <p:spPr>
          <a:xfrm rot="19034400">
            <a:off x="133200" y="6103440"/>
            <a:ext cx="320760" cy="31932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6"/>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75"/>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73"/>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77"/>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7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79"/>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80"/>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8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643280" y="1412640"/>
            <a:ext cx="4392720" cy="532908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je voldoende informatie heb gegeven en dat je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84"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
          <p:cNvSpPr txBox="1"/>
          <p:nvPr/>
        </p:nvSpPr>
        <p:spPr>
          <a:xfrm>
            <a:off x="179280" y="1412640"/>
            <a:ext cx="4316400" cy="532908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u voldoende informatie heb gegeven en dat u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86" name="L-vorm 5"/>
          <p:cNvSpPr/>
          <p:nvPr/>
        </p:nvSpPr>
        <p:spPr>
          <a:xfrm rot="18672000">
            <a:off x="2618280" y="1553040"/>
            <a:ext cx="1186200" cy="647640"/>
          </a:xfrm>
          <a:custGeom>
            <a:avLst/>
            <a:gdLst/>
            <a:ahLst/>
            <a:rect l="l" t="t" r="r" b="b"/>
            <a:pathLst>
              <a:path w="1185862" h="647700">
                <a:moveTo>
                  <a:pt x="0" y="0"/>
                </a:moveTo>
                <a:lnTo>
                  <a:pt x="323850" y="0"/>
                </a:lnTo>
                <a:lnTo>
                  <a:pt x="323850" y="323850"/>
                </a:lnTo>
                <a:lnTo>
                  <a:pt x="1185862" y="323850"/>
                </a:lnTo>
                <a:lnTo>
                  <a:pt x="1185862" y="647700"/>
                </a:lnTo>
                <a:lnTo>
                  <a:pt x="0" y="647700"/>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Verbodssymbool 6"/>
          <p:cNvSpPr/>
          <p:nvPr/>
        </p:nvSpPr>
        <p:spPr>
          <a:xfrm>
            <a:off x="7524720" y="1368360"/>
            <a:ext cx="1008000" cy="1019160"/>
          </a:xfrm>
          <a:custGeom>
            <a:avLst/>
            <a:gdLst/>
            <a:ahLst/>
            <a:rect l="l" t="t" r="r" b="b"/>
            <a:pathLst>
              <a:path w="1008063" h="1019175">
                <a:moveTo>
                  <a:pt x="0" y="509588"/>
                </a:moveTo>
                <a:cubicBezTo>
                  <a:pt x="0" y="228150"/>
                  <a:pt x="225663" y="0"/>
                  <a:pt x="504032" y="0"/>
                </a:cubicBezTo>
                <a:cubicBezTo>
                  <a:pt x="782401" y="0"/>
                  <a:pt x="1008064" y="228150"/>
                  <a:pt x="1008064" y="509588"/>
                </a:cubicBezTo>
                <a:cubicBezTo>
                  <a:pt x="1008064" y="791026"/>
                  <a:pt x="782401" y="1019176"/>
                  <a:pt x="504032" y="1019176"/>
                </a:cubicBezTo>
                <a:cubicBezTo>
                  <a:pt x="225663" y="1019176"/>
                  <a:pt x="0" y="791026"/>
                  <a:pt x="0" y="509588"/>
                </a:cubicBezTo>
                <a:close/>
                <a:moveTo>
                  <a:pt x="781316" y="661726"/>
                </a:moveTo>
                <a:cubicBezTo>
                  <a:pt x="846582" y="538541"/>
                  <a:pt x="825781" y="386508"/>
                  <a:pt x="729929" y="286152"/>
                </a:cubicBezTo>
                <a:cubicBezTo>
                  <a:pt x="631468" y="183063"/>
                  <a:pt x="477608" y="159283"/>
                  <a:pt x="353510" y="227974"/>
                </a:cubicBezTo>
                <a:lnTo>
                  <a:pt x="781316" y="661726"/>
                </a:lnTo>
                <a:close/>
                <a:moveTo>
                  <a:pt x="226747" y="357449"/>
                </a:moveTo>
                <a:cubicBezTo>
                  <a:pt x="161481" y="480634"/>
                  <a:pt x="182282" y="632667"/>
                  <a:pt x="278134" y="733023"/>
                </a:cubicBezTo>
                <a:cubicBezTo>
                  <a:pt x="376595" y="836112"/>
                  <a:pt x="530455" y="859892"/>
                  <a:pt x="654553" y="791201"/>
                </a:cubicBezTo>
                <a:lnTo>
                  <a:pt x="226747" y="357449"/>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86"/>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 </cp:lastModifiedBy>
  <dcterms:modified xsi:type="dcterms:W3CDTF">2018-06-11T13:46:22Z</dcterms:modified>
  <cp:revision>181</cp:revision>
  <dc:subject/>
  <dc:title>goed of fout?</dc:title>
</cp:coreProperties>
</file>