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3DDA6-0FDC-4563-B11A-4D4A0656A8D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46636-2B50-417C-9AB7-E6D16742C7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36CDA-9517-4F7A-B40B-71B9EEC41F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324B6-AC53-4CD6-B513-DEB01D259C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55705-A213-4EC5-8668-03738C238A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621C2-D6CA-4BBD-A782-6D1C8C10C6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814C7-AFE6-4678-B74B-835A25EB84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E85C5-735B-46C8-8277-7D35F06331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DBCEC-2C63-4FC3-9660-E3BA69BBAA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D9539-A059-4CB5-A325-6AA13BFF1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27349C-D169-48FF-AF76-94BAE3A25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2E4D2-0B08-4973-AE97-CECEA63FF6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D5522-483E-45FA-B9AF-EFEB5FF96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DBF7C-A870-4594-860B-528D1847E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83E34-A1F0-4D49-9DC2-671BA6904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7F0B6-BEC4-49EE-955B-70E076E3A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A4075-985F-4AD4-901D-3CCCEF3D5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5B7CA-4DE4-4F01-8A44-327C373D8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7C0E0-AD2E-4F7C-A93A-90EF1C8CB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11962-47EA-4E73-BA9E-4AA40A8B29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0AE43-3AEB-4D75-A37B-1F905FE373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Hoofdstuk 5</a:t>
            </a:r>
            <a:br>
              <a:rPr sz="4000"/>
            </a:br>
            <a:r>
              <a:rPr b="0" lang="nl-NL" sz="4000" spc="-1" strike="noStrike">
                <a:solidFill>
                  <a:srgbClr val="000000"/>
                </a:solidFill>
                <a:latin typeface="Calibri"/>
              </a:rPr>
              <a:t>Schrijven</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Een sollicitatiebrief schrijven</a:t>
            </a:r>
            <a:endParaRPr b="0" lang="en-US" sz="3200" spc="-1" strike="noStrike">
              <a:solidFill>
                <a:srgbClr val="000000"/>
              </a:solidFill>
              <a:latin typeface="Calibri"/>
            </a:endParaRPr>
          </a:p>
        </p:txBody>
      </p:sp>
      <p:sp>
        <p:nvSpPr>
          <p:cNvPr id="50" name="Tekstvak 5"/>
          <p:cNvSpPr/>
          <p:nvPr/>
        </p:nvSpPr>
        <p:spPr>
          <a:xfrm>
            <a:off x="755640" y="6550200"/>
            <a:ext cx="806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Arial"/>
              </a:rPr>
              <a:t>© Noordhoff Uitgevers bv 2015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643280" y="1267920"/>
            <a:ext cx="4392720" cy="5473800"/>
          </a:xfrm>
          <a:prstGeom prst="rect">
            <a:avLst/>
          </a:prstGeom>
          <a:noFill/>
          <a:ln w="0">
            <a:noFill/>
          </a:ln>
        </p:spPr>
        <p:txBody>
          <a:bodyPr anchor="t">
            <a:normAutofit fontScale="98000"/>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Else Ruigrok</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Heliconlaan 11</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7690 PN Moergestel</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oergestel, 7 april 2015</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evrouw M. Blom</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Lindelaan 35</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7654 KN Moergestel</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Betreft: advertentie dierenverzorger</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Geachte mevrouw Blom,</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Op het prikbord in de dierekliniek zag ik dat je op zoek bent naar een dierenverzorger die een paar keer per week voor Saar wil zorgen. Dat zou ik graag willen doen. In deze brief zal ik iets meer over mezelf vertellen.</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Ik denk dat ik een goede o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Ik hoop dat ik je voldoende informatie heb gegeven en dat je binnenkort contact met mij opneemt.</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et vriendelijke groet,</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Else Ruigrok</a:t>
            </a:r>
            <a:endParaRPr b="0" lang="en-US" sz="900" spc="-1" strike="noStrike">
              <a:solidFill>
                <a:srgbClr val="000000"/>
              </a:solidFill>
              <a:latin typeface="Calibri"/>
            </a:endParaRPr>
          </a:p>
        </p:txBody>
      </p:sp>
      <p:sp>
        <p:nvSpPr>
          <p:cNvPr id="52" name="Ondertitel 2"/>
          <p:cNvSpPr/>
          <p:nvPr/>
        </p:nvSpPr>
        <p:spPr>
          <a:xfrm>
            <a:off x="684360" y="836640"/>
            <a:ext cx="7848360" cy="504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a6a6a6"/>
                </a:solidFill>
                <a:latin typeface="Calibri"/>
              </a:rPr>
              <a:t>Welk voorbeeld is goed?</a:t>
            </a:r>
            <a:endParaRPr b="0" lang="en-US" sz="26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txBox="1"/>
          <p:nvPr/>
        </p:nvSpPr>
        <p:spPr>
          <a:xfrm>
            <a:off x="179280" y="1267920"/>
            <a:ext cx="4316400" cy="5473800"/>
          </a:xfrm>
          <a:prstGeom prst="rect">
            <a:avLst/>
          </a:prstGeom>
          <a:noFill/>
          <a:ln w="0">
            <a:noFill/>
          </a:ln>
        </p:spPr>
        <p:txBody>
          <a:bodyPr anchor="t">
            <a:normAutofit fontScale="98000"/>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Else Ruigrok</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Heliconlaan 11</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7690 PN Moergestel</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evrouw M. Blom</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Lindelaan 35</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7654 KN Moergestel</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oergestel, 7 april 2015</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r>
              <a:rPr b="0" lang="nl-NL" sz="900" spc="-1" strike="noStrike">
                <a:solidFill>
                  <a:srgbClr val="000000"/>
                </a:solidFill>
                <a:latin typeface="Calibri"/>
              </a:rPr>
              <a:t>Betreft: advertentie dierenverzorger</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Geachte mevrouw Blom,</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Op het prikbord in de dierenkliniek zag ik dat u op zoek bent naar een dierenverzorger die een paar keer per week voor Saar wil zorgen. Dat zou ik graag willen doen. In deze brief zal ik iets meer over mezelf vertellen.</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Ik denk dat ik een goede op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Ik hoop dat ik u voldoende informatie heb gegeven en dat u binnenkort contact met mij opneemt.</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et vriendelijke groet,</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Else Ruigrok</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4560" y="907920"/>
            <a:ext cx="9001080" cy="5834160"/>
          </a:xfrm>
          <a:prstGeom prst="rect">
            <a:avLst/>
          </a:prstGeom>
          <a:noFill/>
          <a:ln w="0">
            <a:noFill/>
          </a:ln>
        </p:spPr>
        <p:txBody>
          <a:bodyPr anchor="t">
            <a:norm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Else Ruigrok</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Heliconlaan 11</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7690 PN Moergestel</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oergestel, 7 april 2015</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evrouw M. Blom</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Lindelaan 35</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7654 KN Moergestel</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Betreft: advertentie dierenverzorger</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Geachte mevrouw Blom,</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Op het prikbord in de dierekliniek zag ik dat je op zoek bent naar een dierenverzorger die een paar keer per week voor Saar wil zorgen. Dat zou ik graag willen doen. In deze brief zal ik iets meer over mezelf vertellen.</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k denk dat ik een goede o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k hoop dat ik je voldoende informatie heb gegeven en dat je binnenkort contact met mij opneemt.</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et vriendelijke groet,</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Else Ruigrok</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ijdelijke aanduiding voor inhoud 2"/>
          <p:cNvSpPr/>
          <p:nvPr/>
        </p:nvSpPr>
        <p:spPr>
          <a:xfrm>
            <a:off x="576360" y="907920"/>
            <a:ext cx="3851280" cy="5689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er verteld op welke functie gesolliciteerd wordt?</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er beschreven uit welke bron de vacature komt?</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er enthousiast beschreven waarom de schrijver de functie leuk lijkt?</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er argumenten gegeven waarom de werkgever haar moet aannemen?</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er eigenschappen beschreven die voor de functie geschikt zijn?</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er in het slot een wens of verwachting uitgesproken?</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er witregels tussen de onderdelen gebruikt?</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de ander met u aangesproken?</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de briefconventies van een zakelijke brief op de goede manier uitgevoerd?</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er geen  taal- en spelfouten gemaakt?</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de taal beleefd?</a:t>
            </a:r>
            <a:endParaRPr b="0" lang="en-US" sz="1600" spc="-1" strike="noStrike">
              <a:solidFill>
                <a:srgbClr val="000000"/>
              </a:solidFill>
              <a:latin typeface="Arial"/>
            </a:endParaRPr>
          </a:p>
        </p:txBody>
      </p:sp>
      <p:sp>
        <p:nvSpPr>
          <p:cNvPr id="56" name=""/>
          <p:cNvSpPr txBox="1"/>
          <p:nvPr/>
        </p:nvSpPr>
        <p:spPr>
          <a:xfrm>
            <a:off x="4427280" y="957240"/>
            <a:ext cx="4327560" cy="5640480"/>
          </a:xfrm>
          <a:prstGeom prst="rect">
            <a:avLst/>
          </a:prstGeom>
          <a:noFill/>
          <a:ln w="0">
            <a:noFill/>
          </a:ln>
        </p:spPr>
        <p:txBody>
          <a:bodyPr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Heliconlaan 11</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90 P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oergestel, 7 april 201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vrouw M.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Lindelaan 3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54 K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Betreft: advertentie dierenverzorger</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Geachte mevrouw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Op het prikbord in de dierekliniek zag ik dat je op zoek bent naar een dierenverzorger die een paar keer per week voor Saar wil zorgen. Dat zou ik graag willen doen. In deze brief zal ik iets meer over mezelf vertell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denk dat ik een goede o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hoop dat ik je voldoende informatie heb gegeven en dat je binnenkort contact met mij opneem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t vriendelijke groe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p:txBody>
      </p:sp>
      <p:sp>
        <p:nvSpPr>
          <p:cNvPr id="57" name="L-vorm 17"/>
          <p:cNvSpPr/>
          <p:nvPr/>
        </p:nvSpPr>
        <p:spPr>
          <a:xfrm rot="19034400">
            <a:off x="558720" y="902880"/>
            <a:ext cx="32076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L-vorm 23"/>
          <p:cNvSpPr/>
          <p:nvPr/>
        </p:nvSpPr>
        <p:spPr>
          <a:xfrm rot="19034400">
            <a:off x="538200" y="1315800"/>
            <a:ext cx="32076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L-vorm 11"/>
          <p:cNvSpPr/>
          <p:nvPr/>
        </p:nvSpPr>
        <p:spPr>
          <a:xfrm rot="19034400">
            <a:off x="530280" y="1963440"/>
            <a:ext cx="32076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Verbodssymbool 12"/>
          <p:cNvSpPr/>
          <p:nvPr/>
        </p:nvSpPr>
        <p:spPr>
          <a:xfrm>
            <a:off x="468360" y="4797360"/>
            <a:ext cx="358560" cy="360360"/>
          </a:xfrm>
          <a:custGeom>
            <a:avLst/>
            <a:gdLst/>
            <a:ahLst/>
            <a:rect l="l" t="t" r="r" b="b"/>
            <a:pathLst>
              <a:path w="358775" h="360363">
                <a:moveTo>
                  <a:pt x="0" y="180182"/>
                </a:moveTo>
                <a:cubicBezTo>
                  <a:pt x="0" y="80670"/>
                  <a:pt x="80315" y="0"/>
                  <a:pt x="179388" y="0"/>
                </a:cubicBezTo>
                <a:cubicBezTo>
                  <a:pt x="278461" y="0"/>
                  <a:pt x="358776" y="80670"/>
                  <a:pt x="358776" y="180182"/>
                </a:cubicBezTo>
                <a:cubicBezTo>
                  <a:pt x="358776" y="279694"/>
                  <a:pt x="278461" y="360364"/>
                  <a:pt x="179388" y="360364"/>
                </a:cubicBezTo>
                <a:cubicBezTo>
                  <a:pt x="80315" y="360364"/>
                  <a:pt x="0" y="279694"/>
                  <a:pt x="0" y="180182"/>
                </a:cubicBezTo>
                <a:close/>
                <a:moveTo>
                  <a:pt x="278091" y="233735"/>
                </a:moveTo>
                <a:cubicBezTo>
                  <a:pt x="301466" y="190040"/>
                  <a:pt x="293768" y="136097"/>
                  <a:pt x="259119" y="100801"/>
                </a:cubicBezTo>
                <a:cubicBezTo>
                  <a:pt x="224093" y="65120"/>
                  <a:pt x="169889" y="56996"/>
                  <a:pt x="126064" y="80859"/>
                </a:cubicBezTo>
                <a:lnTo>
                  <a:pt x="278091" y="233735"/>
                </a:lnTo>
                <a:close/>
                <a:moveTo>
                  <a:pt x="80684" y="126628"/>
                </a:moveTo>
                <a:cubicBezTo>
                  <a:pt x="57309" y="170323"/>
                  <a:pt x="65007" y="224266"/>
                  <a:pt x="99656" y="259562"/>
                </a:cubicBezTo>
                <a:cubicBezTo>
                  <a:pt x="134682" y="295243"/>
                  <a:pt x="188886" y="303367"/>
                  <a:pt x="232711" y="279504"/>
                </a:cubicBezTo>
                <a:lnTo>
                  <a:pt x="80684" y="126628"/>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Verbodssymbool 13"/>
          <p:cNvSpPr/>
          <p:nvPr/>
        </p:nvSpPr>
        <p:spPr>
          <a:xfrm>
            <a:off x="468360" y="5661000"/>
            <a:ext cx="358560" cy="360360"/>
          </a:xfrm>
          <a:custGeom>
            <a:avLst/>
            <a:gdLst/>
            <a:ahLst/>
            <a:rect l="l" t="t" r="r" b="b"/>
            <a:pathLst>
              <a:path w="358775" h="360363">
                <a:moveTo>
                  <a:pt x="0" y="180182"/>
                </a:moveTo>
                <a:cubicBezTo>
                  <a:pt x="0" y="80670"/>
                  <a:pt x="80315" y="0"/>
                  <a:pt x="179388" y="0"/>
                </a:cubicBezTo>
                <a:cubicBezTo>
                  <a:pt x="278461" y="0"/>
                  <a:pt x="358776" y="80670"/>
                  <a:pt x="358776" y="180182"/>
                </a:cubicBezTo>
                <a:cubicBezTo>
                  <a:pt x="358776" y="279694"/>
                  <a:pt x="278461" y="360364"/>
                  <a:pt x="179388" y="360364"/>
                </a:cubicBezTo>
                <a:cubicBezTo>
                  <a:pt x="80315" y="360364"/>
                  <a:pt x="0" y="279694"/>
                  <a:pt x="0" y="180182"/>
                </a:cubicBezTo>
                <a:close/>
                <a:moveTo>
                  <a:pt x="278091" y="233735"/>
                </a:moveTo>
                <a:cubicBezTo>
                  <a:pt x="301466" y="190040"/>
                  <a:pt x="293768" y="136097"/>
                  <a:pt x="259119" y="100801"/>
                </a:cubicBezTo>
                <a:cubicBezTo>
                  <a:pt x="224093" y="65120"/>
                  <a:pt x="169889" y="56996"/>
                  <a:pt x="126064" y="80859"/>
                </a:cubicBezTo>
                <a:lnTo>
                  <a:pt x="278091" y="233735"/>
                </a:lnTo>
                <a:close/>
                <a:moveTo>
                  <a:pt x="80684" y="126628"/>
                </a:moveTo>
                <a:cubicBezTo>
                  <a:pt x="57309" y="170323"/>
                  <a:pt x="65007" y="224266"/>
                  <a:pt x="99656" y="259562"/>
                </a:cubicBezTo>
                <a:cubicBezTo>
                  <a:pt x="134682" y="295243"/>
                  <a:pt x="188886" y="303367"/>
                  <a:pt x="232711" y="279504"/>
                </a:cubicBezTo>
                <a:lnTo>
                  <a:pt x="80684" y="126628"/>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L-vorm 15"/>
          <p:cNvSpPr/>
          <p:nvPr/>
        </p:nvSpPr>
        <p:spPr>
          <a:xfrm rot="19034400">
            <a:off x="525600" y="2397240"/>
            <a:ext cx="320400" cy="31896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L-vorm 16"/>
          <p:cNvSpPr/>
          <p:nvPr/>
        </p:nvSpPr>
        <p:spPr>
          <a:xfrm rot="19034400">
            <a:off x="506520" y="3110040"/>
            <a:ext cx="32040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L-vorm 21"/>
          <p:cNvSpPr/>
          <p:nvPr/>
        </p:nvSpPr>
        <p:spPr>
          <a:xfrm rot="19034400">
            <a:off x="506520" y="3693600"/>
            <a:ext cx="320400" cy="31932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L-vorm 25"/>
          <p:cNvSpPr/>
          <p:nvPr/>
        </p:nvSpPr>
        <p:spPr>
          <a:xfrm rot="19034400">
            <a:off x="506520" y="4218120"/>
            <a:ext cx="32040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L-vorm 18"/>
          <p:cNvSpPr/>
          <p:nvPr/>
        </p:nvSpPr>
        <p:spPr>
          <a:xfrm rot="19034400">
            <a:off x="533520" y="6159600"/>
            <a:ext cx="320400" cy="31896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Verbodssymbool 19"/>
          <p:cNvSpPr/>
          <p:nvPr/>
        </p:nvSpPr>
        <p:spPr>
          <a:xfrm>
            <a:off x="468360" y="5229360"/>
            <a:ext cx="358560" cy="360360"/>
          </a:xfrm>
          <a:custGeom>
            <a:avLst/>
            <a:gdLst/>
            <a:ahLst/>
            <a:rect l="l" t="t" r="r" b="b"/>
            <a:pathLst>
              <a:path w="358775" h="360363">
                <a:moveTo>
                  <a:pt x="0" y="180182"/>
                </a:moveTo>
                <a:cubicBezTo>
                  <a:pt x="0" y="80670"/>
                  <a:pt x="80315" y="0"/>
                  <a:pt x="179388" y="0"/>
                </a:cubicBezTo>
                <a:cubicBezTo>
                  <a:pt x="278461" y="0"/>
                  <a:pt x="358776" y="80670"/>
                  <a:pt x="358776" y="180182"/>
                </a:cubicBezTo>
                <a:cubicBezTo>
                  <a:pt x="358776" y="279694"/>
                  <a:pt x="278461" y="360364"/>
                  <a:pt x="179388" y="360364"/>
                </a:cubicBezTo>
                <a:cubicBezTo>
                  <a:pt x="80315" y="360364"/>
                  <a:pt x="0" y="279694"/>
                  <a:pt x="0" y="180182"/>
                </a:cubicBezTo>
                <a:close/>
                <a:moveTo>
                  <a:pt x="278091" y="233735"/>
                </a:moveTo>
                <a:cubicBezTo>
                  <a:pt x="301466" y="190040"/>
                  <a:pt x="293768" y="136097"/>
                  <a:pt x="259119" y="100801"/>
                </a:cubicBezTo>
                <a:cubicBezTo>
                  <a:pt x="224093" y="65120"/>
                  <a:pt x="169889" y="56996"/>
                  <a:pt x="126064" y="80859"/>
                </a:cubicBezTo>
                <a:lnTo>
                  <a:pt x="278091" y="233735"/>
                </a:lnTo>
                <a:close/>
                <a:moveTo>
                  <a:pt x="80684" y="126628"/>
                </a:moveTo>
                <a:cubicBezTo>
                  <a:pt x="57309" y="170323"/>
                  <a:pt x="65007" y="224266"/>
                  <a:pt x="99656" y="259562"/>
                </a:cubicBezTo>
                <a:cubicBezTo>
                  <a:pt x="134682" y="295243"/>
                  <a:pt x="188886" y="303367"/>
                  <a:pt x="232711" y="279504"/>
                </a:cubicBezTo>
                <a:lnTo>
                  <a:pt x="80684" y="126628"/>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2"/>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3"/>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4"/>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67"/>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61"/>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142920" y="836640"/>
            <a:ext cx="8858160" cy="6021360"/>
          </a:xfrm>
          <a:prstGeom prst="rect">
            <a:avLst/>
          </a:prstGeom>
          <a:noFill/>
          <a:ln w="0">
            <a:noFill/>
          </a:ln>
        </p:spPr>
        <p:txBody>
          <a:bodyPr anchor="t">
            <a:norm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Else Ruigrok</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Heliconlaan 11</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7690 PN Moergestel</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evrouw M. Blom</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Lindelaan 35</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7654 KN Moergestel</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r>
              <a:rPr b="0" lang="nl-NL" sz="1100" spc="-1" strike="noStrike">
                <a:solidFill>
                  <a:srgbClr val="000000"/>
                </a:solidFill>
                <a:latin typeface="Calibri"/>
              </a:rPr>
              <a:t>Moergestel, 7 april 2015</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Betreft: advertentie dierenverzorger</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Geachte mevrouw Blom,</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Op het prikbord in de dierenkliniek zag ik dat u op zoek bent naar een dierenverzorger die een paar keer per week voor Saar wil zorgen. Dat zou ik graag willen doen. In deze brief zal ik iets meer over mezelf vertellen.</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k denk dat ik een goede op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k hoop dat ik u voldoende informatie heb gegeven en dat u binnenkort contact met mij opneemt.</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et vriendelijke groet,</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Else Ruigrok</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ijdelijke aanduiding voor inhoud 2"/>
          <p:cNvSpPr/>
          <p:nvPr/>
        </p:nvSpPr>
        <p:spPr>
          <a:xfrm>
            <a:off x="179280" y="1268280"/>
            <a:ext cx="4248360" cy="561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er verteld op welke functie gesolliciteerd word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er beschreven uit welke bron de vacature kom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er enthousiast beschreven waarom de schrijver de functie leuk lijk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er argumenten gegeven waarom de werkgever haar moet aannem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er eigenschappen beschreven die voor de functie geschikt zij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er in het slot een wens of verwachting uitgesprok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er witregels tussen de onderdelen gebruik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de ander met u aangesprok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de briefconventies van een zakelijke brief op de goede manier uitgevoer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er geen taal- en spelfouten gemaak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de taal beleefd?</a:t>
            </a:r>
            <a:endParaRPr b="0" lang="en-US" sz="1600" spc="-1" strike="noStrike">
              <a:solidFill>
                <a:srgbClr val="000000"/>
              </a:solidFill>
              <a:latin typeface="Arial"/>
            </a:endParaRPr>
          </a:p>
        </p:txBody>
      </p:sp>
      <p:sp>
        <p:nvSpPr>
          <p:cNvPr id="70" name="Tijdelijke aanduiding voor inhoud 2"/>
          <p:cNvSpPr/>
          <p:nvPr/>
        </p:nvSpPr>
        <p:spPr>
          <a:xfrm>
            <a:off x="4788000" y="981000"/>
            <a:ext cx="3852720" cy="540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 </a:t>
            </a:r>
            <a:endParaRPr b="0" lang="en-US" sz="1400" spc="-1" strike="noStrike">
              <a:solidFill>
                <a:srgbClr val="000000"/>
              </a:solidFill>
              <a:latin typeface="Arial"/>
            </a:endParaRPr>
          </a:p>
        </p:txBody>
      </p:sp>
      <p:sp>
        <p:nvSpPr>
          <p:cNvPr id="71" name=""/>
          <p:cNvSpPr txBox="1"/>
          <p:nvPr/>
        </p:nvSpPr>
        <p:spPr>
          <a:xfrm>
            <a:off x="4643280" y="1267920"/>
            <a:ext cx="4392720" cy="5905800"/>
          </a:xfrm>
          <a:prstGeom prst="rect">
            <a:avLst/>
          </a:prstGeom>
          <a:noFill/>
          <a:ln w="0">
            <a:noFill/>
          </a:ln>
        </p:spPr>
        <p:txBody>
          <a:bodyPr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Heliconlaan 11</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90 P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oergestel, 7 april 201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vrouw M.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Lindelaan 3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54 K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Betreft: advertentie dierenverzorger</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Geachte mevrouw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Op het prikbord in de dierenkliniek zag ik dat u op zoek bent naar een dierenverzorger die een paar keer per week voor Saar wil zorgen. Dat zou ik graag willen doen. In deze brief zal ik iets meer over mezelf vertell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denk dat ik een goede op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hoop dat ik u voldoende informatie heb gegeven en dat u binnenkort contact met mij opneem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t vriendelijke groe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p:txBody>
      </p:sp>
      <p:sp>
        <p:nvSpPr>
          <p:cNvPr id="72" name="L-vorm 21"/>
          <p:cNvSpPr/>
          <p:nvPr/>
        </p:nvSpPr>
        <p:spPr>
          <a:xfrm rot="19034400">
            <a:off x="149400" y="2274840"/>
            <a:ext cx="32040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L-vorm 22"/>
          <p:cNvSpPr/>
          <p:nvPr/>
        </p:nvSpPr>
        <p:spPr>
          <a:xfrm rot="19034400">
            <a:off x="149400" y="3352320"/>
            <a:ext cx="32040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L-vorm 12"/>
          <p:cNvSpPr/>
          <p:nvPr/>
        </p:nvSpPr>
        <p:spPr>
          <a:xfrm rot="19034400">
            <a:off x="158760" y="1717200"/>
            <a:ext cx="32076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vorm 19"/>
          <p:cNvSpPr/>
          <p:nvPr/>
        </p:nvSpPr>
        <p:spPr>
          <a:xfrm rot="19034400">
            <a:off x="149400" y="2860200"/>
            <a:ext cx="32040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L-vorm 16"/>
          <p:cNvSpPr/>
          <p:nvPr/>
        </p:nvSpPr>
        <p:spPr>
          <a:xfrm rot="19034400">
            <a:off x="173160" y="1182240"/>
            <a:ext cx="320400" cy="31932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L-vorm 13"/>
          <p:cNvSpPr/>
          <p:nvPr/>
        </p:nvSpPr>
        <p:spPr>
          <a:xfrm rot="19034400">
            <a:off x="158760" y="3877920"/>
            <a:ext cx="32076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L-vorm 14"/>
          <p:cNvSpPr/>
          <p:nvPr/>
        </p:nvSpPr>
        <p:spPr>
          <a:xfrm rot="19034400">
            <a:off x="139680" y="4447800"/>
            <a:ext cx="320760" cy="31896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L-vorm 15"/>
          <p:cNvSpPr/>
          <p:nvPr/>
        </p:nvSpPr>
        <p:spPr>
          <a:xfrm rot="19034400">
            <a:off x="158760" y="4901760"/>
            <a:ext cx="32076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L-vorm 17"/>
          <p:cNvSpPr/>
          <p:nvPr/>
        </p:nvSpPr>
        <p:spPr>
          <a:xfrm rot="19034400">
            <a:off x="149400" y="5301720"/>
            <a:ext cx="32040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vorm 18"/>
          <p:cNvSpPr/>
          <p:nvPr/>
        </p:nvSpPr>
        <p:spPr>
          <a:xfrm rot="19034400">
            <a:off x="139680" y="5762160"/>
            <a:ext cx="32076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L-vorm 20"/>
          <p:cNvSpPr/>
          <p:nvPr/>
        </p:nvSpPr>
        <p:spPr>
          <a:xfrm rot="19034400">
            <a:off x="133200" y="6103440"/>
            <a:ext cx="320760" cy="31932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76"/>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72"/>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75"/>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73"/>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77"/>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78"/>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79"/>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80"/>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81"/>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643280" y="1412640"/>
            <a:ext cx="4392720" cy="5329080"/>
          </a:xfrm>
          <a:prstGeom prst="rect">
            <a:avLst/>
          </a:prstGeom>
          <a:noFill/>
          <a:ln w="0">
            <a:noFill/>
          </a:ln>
        </p:spPr>
        <p:txBody>
          <a:bodyPr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Heliconlaan 11</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90 P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oergestel, 7 april 201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vrouw M.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Lindelaan 3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54 K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Betreft: advertentie dierenverzorger</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Geachte mevrouw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Op het prikbord in de dierekliniek zag ik dat je op zoek bent naar een dierenverzorger die een paar keer per week voor Saar wil zorgen. Dat zou ik graag willen doen. In deze brief zal ik iets meer over mezelf vertell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denk dat ik een goede o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hoop dat ik je voldoende informatie heb gegeven en dat je binnenkort contact met mij opneem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t vriendelijke groe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p:txBody>
      </p:sp>
      <p:sp>
        <p:nvSpPr>
          <p:cNvPr id="84" name="Ondertitel 2"/>
          <p:cNvSpPr/>
          <p:nvPr/>
        </p:nvSpPr>
        <p:spPr>
          <a:xfrm>
            <a:off x="684360" y="836640"/>
            <a:ext cx="7848360" cy="504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a6a6a6"/>
                </a:solidFill>
                <a:latin typeface="Calibri"/>
              </a:rPr>
              <a:t>Welk voorbeeld is goed?</a:t>
            </a:r>
            <a:endParaRPr b="0" lang="en-US" sz="26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
          <p:cNvSpPr txBox="1"/>
          <p:nvPr/>
        </p:nvSpPr>
        <p:spPr>
          <a:xfrm>
            <a:off x="179280" y="1412640"/>
            <a:ext cx="4316400" cy="5329080"/>
          </a:xfrm>
          <a:prstGeom prst="rect">
            <a:avLst/>
          </a:prstGeom>
          <a:noFill/>
          <a:ln w="0">
            <a:noFill/>
          </a:ln>
        </p:spPr>
        <p:txBody>
          <a:bodyPr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Heliconlaan 11</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90 P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vrouw M.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Lindelaan 3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54 K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oergestel, 7 april 201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Betreft: advertentie dierenverzorger</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Geachte mevrouw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Op het prikbord in de dierenkliniek zag ik dat u op zoek bent naar een dierenverzorger die een paar keer per week voor Saar wil zorgen. Dat zou ik graag willen doen. In deze brief zal ik iets meer over mezelf vertell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denk dat ik een goede op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hoop dat ik u voldoende informatie heb gegeven en dat u binnenkort contact met mij opneem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t vriendelijke groe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p:txBody>
      </p:sp>
      <p:sp>
        <p:nvSpPr>
          <p:cNvPr id="86" name="L-vorm 5"/>
          <p:cNvSpPr/>
          <p:nvPr/>
        </p:nvSpPr>
        <p:spPr>
          <a:xfrm rot="18672000">
            <a:off x="2618280" y="1553040"/>
            <a:ext cx="1186200" cy="647640"/>
          </a:xfrm>
          <a:custGeom>
            <a:avLst/>
            <a:gdLst/>
            <a:ahLst/>
            <a:rect l="l" t="t" r="r" b="b"/>
            <a:pathLst>
              <a:path w="1185862" h="647700">
                <a:moveTo>
                  <a:pt x="0" y="0"/>
                </a:moveTo>
                <a:lnTo>
                  <a:pt x="323850" y="0"/>
                </a:lnTo>
                <a:lnTo>
                  <a:pt x="323850" y="323850"/>
                </a:lnTo>
                <a:lnTo>
                  <a:pt x="1185862" y="323850"/>
                </a:lnTo>
                <a:lnTo>
                  <a:pt x="1185862" y="647700"/>
                </a:lnTo>
                <a:lnTo>
                  <a:pt x="0" y="647700"/>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Verbodssymbool 6"/>
          <p:cNvSpPr/>
          <p:nvPr/>
        </p:nvSpPr>
        <p:spPr>
          <a:xfrm>
            <a:off x="7524720" y="1368360"/>
            <a:ext cx="1008000" cy="1019160"/>
          </a:xfrm>
          <a:custGeom>
            <a:avLst/>
            <a:gdLst/>
            <a:ahLst/>
            <a:rect l="l" t="t" r="r" b="b"/>
            <a:pathLst>
              <a:path w="1008063" h="1019175">
                <a:moveTo>
                  <a:pt x="0" y="509588"/>
                </a:moveTo>
                <a:cubicBezTo>
                  <a:pt x="0" y="228150"/>
                  <a:pt x="225663" y="0"/>
                  <a:pt x="504032" y="0"/>
                </a:cubicBezTo>
                <a:cubicBezTo>
                  <a:pt x="782401" y="0"/>
                  <a:pt x="1008064" y="228150"/>
                  <a:pt x="1008064" y="509588"/>
                </a:cubicBezTo>
                <a:cubicBezTo>
                  <a:pt x="1008064" y="791026"/>
                  <a:pt x="782401" y="1019176"/>
                  <a:pt x="504032" y="1019176"/>
                </a:cubicBezTo>
                <a:cubicBezTo>
                  <a:pt x="225663" y="1019176"/>
                  <a:pt x="0" y="791026"/>
                  <a:pt x="0" y="509588"/>
                </a:cubicBezTo>
                <a:close/>
                <a:moveTo>
                  <a:pt x="781316" y="661726"/>
                </a:moveTo>
                <a:cubicBezTo>
                  <a:pt x="846582" y="538541"/>
                  <a:pt x="825781" y="386508"/>
                  <a:pt x="729929" y="286152"/>
                </a:cubicBezTo>
                <a:cubicBezTo>
                  <a:pt x="631468" y="183063"/>
                  <a:pt x="477608" y="159283"/>
                  <a:pt x="353510" y="227974"/>
                </a:cubicBezTo>
                <a:lnTo>
                  <a:pt x="781316" y="661726"/>
                </a:lnTo>
                <a:close/>
                <a:moveTo>
                  <a:pt x="226747" y="357449"/>
                </a:moveTo>
                <a:cubicBezTo>
                  <a:pt x="161481" y="480634"/>
                  <a:pt x="182282" y="632667"/>
                  <a:pt x="278134" y="733023"/>
                </a:cubicBezTo>
                <a:cubicBezTo>
                  <a:pt x="376595" y="836112"/>
                  <a:pt x="530455" y="859892"/>
                  <a:pt x="654553" y="791201"/>
                </a:cubicBezTo>
                <a:lnTo>
                  <a:pt x="226747" y="357449"/>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86"/>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8:41:45Z</dcterms:created>
  <dc:creator>Raoul</dc:creator>
  <dc:description/>
  <dc:language>en-US</dc:language>
  <cp:lastModifiedBy> </cp:lastModifiedBy>
  <dcterms:modified xsi:type="dcterms:W3CDTF">2018-06-11T13:46:22Z</dcterms:modified>
  <cp:revision>181</cp:revision>
  <dc:subject/>
  <dc:title>goed of fout?</dc:title>
</cp:coreProperties>
</file>