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5F10-A593-428A-9E33-41C9266042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D893-BCEF-4449-9E3B-FAE527FD96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7A94-CBB1-4DA1-98D9-AA30190198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1184-8FEE-44E0-AF7D-680C254301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7752-8C42-4D38-96DF-72426279EB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3792-5A1D-4A54-BE48-27D1BE98FC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D0DB-712F-4C54-9394-CFDCECB34A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2B83-591D-41F4-8725-3CCE279E29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85B7-E319-42C0-A5FC-91228DADF4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2BF0-2043-409E-B867-ADFD77D64C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56D4-0987-40EE-A15E-F6D65CC5E6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0560-2375-4553-9802-321BCDE55F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8360-15B3-42BA-AE10-02C540ACED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7C77-63ED-4AD8-8E80-53652E6BE4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FDE65-070E-499E-963E-7EA6E82D0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FB9BC-05C4-43B1-9DD3-5D56B99B8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BB5B6-6391-41A6-BD06-D372F7EE5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7E13B-EFB7-4DAB-B4C1-032CC3684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3D304-C53A-4209-A8D2-2CA75584F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803F6-852D-4F4A-A87A-E31575E81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1C2A-5518-4BAF-B13F-34820ABA9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6739C-D392-4DEC-A275-D16CF127E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9BC60-49C1-48CB-9C8E-035D5CCD2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CD415-5FAF-4C3B-9E13-6D630F0D2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CC43C-9BF5-44D0-86C0-BCEA547AE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ED4F0-43B8-4967-BA16-ACE204DF8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BB53-E724-4744-8F56-94B0E43DA9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vi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Spreek een wens of een verwachting uit.</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90"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reek je wens of verwachting uit.</a:t>
            </a:r>
            <a:endParaRPr b="0" lang="en-US" sz="2000" spc="-1" strike="noStrike">
              <a:solidFill>
                <a:srgbClr val="000000"/>
              </a:solidFill>
              <a:latin typeface="Calibri"/>
            </a:endParaRPr>
          </a:p>
        </p:txBody>
      </p:sp>
      <p:sp>
        <p:nvSpPr>
          <p:cNvPr id="91" name=""/>
          <p:cNvSpPr txBox="1"/>
          <p:nvPr/>
        </p:nvSpPr>
        <p:spPr>
          <a:xfrm>
            <a:off x="3924000" y="1351080"/>
            <a:ext cx="51116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Ik zou graag mijn motivatie verder toelichten in een gesprek. </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93"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ontroleer je brief op taal- en spelfou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Controleer!</a:t>
            </a:r>
            <a:endParaRPr b="0" lang="en-US" sz="2600" spc="-1" strike="noStrike">
              <a:solidFill>
                <a:srgbClr val="000000"/>
              </a:solidFill>
              <a:latin typeface="Calibri"/>
            </a:endParaRPr>
          </a:p>
        </p:txBody>
      </p:sp>
      <p:sp>
        <p:nvSpPr>
          <p:cNvPr id="96" name=""/>
          <p:cNvSpPr txBox="1"/>
          <p:nvPr/>
        </p:nvSpPr>
        <p:spPr>
          <a:xfrm>
            <a:off x="179280" y="764640"/>
            <a:ext cx="8964720" cy="4526280"/>
          </a:xfrm>
          <a:prstGeom prst="rect">
            <a:avLst/>
          </a:prstGeom>
          <a:noFill/>
          <a:ln w="0">
            <a:noFill/>
          </a:ln>
        </p:spPr>
        <p:txBody>
          <a:bodyPr anchor="t">
            <a:normAutofit fontScale="7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ze brief wil ik solliciteren naar de functie van tenniscoach. Ik kwam de vacature tegen op uw website.</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k zou graag mijn motivatie verder toelichten in een gesprek.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br>
              <a:rPr sz="1200"/>
            </a:b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2" name="PlaceHolder 2"/>
          <p:cNvSpPr>
            <a:spLocks noGrp="1"/>
          </p:cNvSpPr>
          <p:nvPr>
            <p:ph type="subTitle"/>
          </p:nvPr>
        </p:nvSpPr>
        <p:spPr>
          <a:xfrm>
            <a:off x="1115640" y="3573000"/>
            <a:ext cx="6985080" cy="2638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Houd je aan de conventies die gelden voor een zakelijke bri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dresgegevens op de juiste plaats</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atum en plaats genoteerd</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t>
            </a:r>
            <a:r>
              <a:rPr b="0" lang="nl-NL" sz="2400" spc="-1" strike="noStrike">
                <a:solidFill>
                  <a:srgbClr val="898989"/>
                </a:solidFill>
                <a:latin typeface="Calibri"/>
              </a:rPr>
              <a:t>betreft’ aangegev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juiste aanh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correcte afscheidsgro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55" name=""/>
          <p:cNvSpPr txBox="1"/>
          <p:nvPr/>
        </p:nvSpPr>
        <p:spPr>
          <a:xfrm>
            <a:off x="457200" y="1599840"/>
            <a:ext cx="3178080" cy="514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aam + adresgegevens op de juiste plaats</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tum en plaats genoteerd</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lang="nl-NL" sz="2000" spc="-1" strike="noStrike">
                <a:solidFill>
                  <a:srgbClr val="000000"/>
                </a:solidFill>
                <a:latin typeface="Calibri"/>
              </a:rPr>
              <a:t>betreft’ aangegeven</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uiste aanhef</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correcte afscheidsgr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
          <p:cNvSpPr txBox="1"/>
          <p:nvPr/>
        </p:nvSpPr>
        <p:spPr>
          <a:xfrm>
            <a:off x="3924000" y="1600200"/>
            <a:ext cx="4762440" cy="4525920"/>
          </a:xfrm>
          <a:prstGeom prst="rect">
            <a:avLst/>
          </a:prstGeom>
          <a:noFill/>
          <a:ln w="0">
            <a:noFill/>
          </a:ln>
        </p:spPr>
        <p:txBody>
          <a:bodyPr anchor="t">
            <a:normAutofit fontScale="9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br>
              <a:rPr sz="800"/>
            </a:b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7" name="PIJL-RECHTS 2"/>
          <p:cNvSpPr/>
          <p:nvPr/>
        </p:nvSpPr>
        <p:spPr>
          <a:xfrm>
            <a:off x="69840" y="16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IJL-RECHTS 7"/>
          <p:cNvSpPr/>
          <p:nvPr/>
        </p:nvSpPr>
        <p:spPr>
          <a:xfrm rot="10800000">
            <a:off x="6156360" y="1722240"/>
            <a:ext cx="720720" cy="541080"/>
          </a:xfrm>
          <a:prstGeom prst="rightArrow">
            <a:avLst>
              <a:gd name="adj1" fmla="val 50000"/>
              <a:gd name="adj2" fmla="val 50024"/>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IJL-RECHTS 8"/>
          <p:cNvSpPr/>
          <p:nvPr/>
        </p:nvSpPr>
        <p:spPr>
          <a:xfrm rot="10800000">
            <a:off x="6143400" y="236340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IJL-RECHTS 9"/>
          <p:cNvSpPr/>
          <p:nvPr/>
        </p:nvSpPr>
        <p:spPr>
          <a:xfrm>
            <a:off x="69840" y="25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IJL-RECHTS 10"/>
          <p:cNvSpPr/>
          <p:nvPr/>
        </p:nvSpPr>
        <p:spPr>
          <a:xfrm rot="10800000">
            <a:off x="5607000" y="324936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IJL-RECHTS 11"/>
          <p:cNvSpPr/>
          <p:nvPr/>
        </p:nvSpPr>
        <p:spPr>
          <a:xfrm>
            <a:off x="96840" y="345744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IJL-RECHTS 12"/>
          <p:cNvSpPr/>
          <p:nvPr/>
        </p:nvSpPr>
        <p:spPr>
          <a:xfrm rot="10800000">
            <a:off x="6259680" y="367812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IJL-RECHTS 13"/>
          <p:cNvSpPr/>
          <p:nvPr/>
        </p:nvSpPr>
        <p:spPr>
          <a:xfrm>
            <a:off x="96840" y="418320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IJL-RECHTS 14"/>
          <p:cNvSpPr/>
          <p:nvPr/>
        </p:nvSpPr>
        <p:spPr>
          <a:xfrm rot="10800000">
            <a:off x="5655960" y="413352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IJL-RECHTS 15"/>
          <p:cNvSpPr/>
          <p:nvPr/>
        </p:nvSpPr>
        <p:spPr>
          <a:xfrm>
            <a:off x="96840" y="486720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RECHTS 16"/>
          <p:cNvSpPr/>
          <p:nvPr/>
        </p:nvSpPr>
        <p:spPr>
          <a:xfrm rot="10800000">
            <a:off x="5719680" y="563688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9"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zet je in de eerst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Op welke functie je solliciteert. </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Hoe je weet dat het bedrijf iemand zoekt voor deze funct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2"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op welke functie je sollicitee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aar je de vacature hebt gezien.</a:t>
            </a:r>
            <a:endParaRPr b="0" lang="en-US" sz="2000" spc="-1" strike="noStrike">
              <a:solidFill>
                <a:srgbClr val="000000"/>
              </a:solidFill>
              <a:latin typeface="Calibri"/>
            </a:endParaRPr>
          </a:p>
        </p:txBody>
      </p:sp>
      <p:sp>
        <p:nvSpPr>
          <p:cNvPr id="73" name=""/>
          <p:cNvSpPr txBox="1"/>
          <p:nvPr/>
        </p:nvSpPr>
        <p:spPr>
          <a:xfrm>
            <a:off x="3924000" y="1600200"/>
            <a:ext cx="47624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Met deze brief wil ik solliciteren naar de functie van tenniscoach. Ik kwam de vacature tegen op uw website.</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endCondLst>
                                    <p:cond evt="begin"/>
                                  </p:end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5"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tweede alinea?</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iets over jezelf.</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Leg uit waarom de functie je leuk lijkt.</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Zorg ervoor dat je enthousiast overkom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8"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vertelt iets over jez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legt uit waarom de functie je leuk lijk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ees enthousiast.</a:t>
            </a:r>
            <a:endParaRPr b="0" lang="en-US" sz="2000" spc="-1" strike="noStrike">
              <a:solidFill>
                <a:srgbClr val="000000"/>
              </a:solidFill>
              <a:latin typeface="Calibri"/>
            </a:endParaRPr>
          </a:p>
        </p:txBody>
      </p:sp>
      <p:sp>
        <p:nvSpPr>
          <p:cNvPr id="79" name=""/>
          <p:cNvSpPr txBox="1"/>
          <p:nvPr/>
        </p:nvSpPr>
        <p:spPr>
          <a:xfrm>
            <a:off x="3924000" y="1600200"/>
            <a:ext cx="5111640" cy="4525920"/>
          </a:xfrm>
          <a:prstGeom prst="rect">
            <a:avLst/>
          </a:prstGeom>
          <a:noFill/>
          <a:ln w="0">
            <a:noFill/>
          </a:ln>
        </p:spPr>
        <p:txBody>
          <a:bodyPr anchor="t">
            <a:normAutofit fontScale="95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1"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d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waarom de werkgever juist jou zou moeten aannem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Geef de eigenschappen die jou geschikt maken voor de functie.</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schrijf de eventuele werkervaring die je heb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84"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waarom de werkgever juist jou zou moeten aannem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elke eigenschappen jou geschikt maken voor de funct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jouw eventuele werkerva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
          <p:cNvSpPr txBox="1"/>
          <p:nvPr/>
        </p:nvSpPr>
        <p:spPr>
          <a:xfrm>
            <a:off x="3924000" y="1351080"/>
            <a:ext cx="5111640" cy="4525920"/>
          </a:xfrm>
          <a:prstGeom prst="rect">
            <a:avLst/>
          </a:prstGeom>
          <a:noFill/>
          <a:ln w="0">
            <a:noFill/>
          </a:ln>
        </p:spPr>
        <p:txBody>
          <a:bodyPr anchor="t">
            <a:normAutofit fontScale="88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7:18Z</dcterms:modified>
  <cp:revision>203</cp:revision>
  <dc:subject/>
  <dc:title>goed of fout?</dc:title>
</cp:coreProperties>
</file>