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70EF-CD5C-4D47-8033-ED14B922B8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102A-3D64-47AB-8C0A-B3BEF84682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6561-F929-4E36-B735-63F81ADB7D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106C-B5CB-49A0-A342-E9C0CF56DB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6960-4B30-46F4-88C6-08F09D0BC2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EE7C-FA6F-4E67-B2C8-F66ADDAF6F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9B967-C187-466B-A775-BB3F29B12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C3A11-94E5-420B-9B0D-B11F22B96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0F1CF-80D5-41C5-8C81-3381CC502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0C184-1FE3-4EF7-80BB-80BB00273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A8882-AAAC-4C96-8829-2E11CA215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C8351-5515-497A-992B-E504D52FB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896A-1AA9-42C0-BE15-7BCA76764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C77AA-DC46-4760-8D65-67EC4CA78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75072-23C5-4D3E-875F-FBA19612C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2F6C4-3938-4565-9EC9-25090990A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5CE00-AC7C-4D67-BAA9-43F0C022B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9873-9975-423B-812A-2F6AE910B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2F5E-55BA-40FC-8F44-618843D2A5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53"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54" name="Picture 14" descr="Topbanner-methodeportal-NN"/>
          <p:cNvPicPr/>
          <p:nvPr/>
        </p:nvPicPr>
        <p:blipFill>
          <a:blip r:embed="rId1"/>
          <a:stretch/>
        </p:blipFill>
        <p:spPr>
          <a:xfrm>
            <a:off x="0" y="0"/>
            <a:ext cx="9144000" cy="765000"/>
          </a:xfrm>
          <a:prstGeom prst="rect">
            <a:avLst/>
          </a:prstGeom>
          <a:ln w="0">
            <a:noFill/>
          </a:ln>
        </p:spPr>
      </p:pic>
      <p:sp>
        <p:nvSpPr>
          <p:cNvPr id="55"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jdelijke aanduiding voor inhoud 2"/>
          <p:cNvSpPr/>
          <p:nvPr/>
        </p:nvSpPr>
        <p:spPr>
          <a:xfrm>
            <a:off x="576360" y="1484280"/>
            <a:ext cx="3851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
          <p:cNvSpPr txBox="1"/>
          <p:nvPr/>
        </p:nvSpPr>
        <p:spPr>
          <a:xfrm>
            <a:off x="4648320" y="1125000"/>
            <a:ext cx="4038480" cy="5626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60" name="L-vorm 21"/>
          <p:cNvSpPr/>
          <p:nvPr/>
        </p:nvSpPr>
        <p:spPr>
          <a:xfrm rot="19034400">
            <a:off x="533520" y="399888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vorm 22"/>
          <p:cNvSpPr/>
          <p:nvPr/>
        </p:nvSpPr>
        <p:spPr>
          <a:xfrm rot="19034400">
            <a:off x="511200" y="498744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Verbodssymbool 25"/>
          <p:cNvSpPr/>
          <p:nvPr/>
        </p:nvSpPr>
        <p:spPr>
          <a:xfrm>
            <a:off x="442800" y="14335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2"/>
          <p:cNvSpPr/>
          <p:nvPr/>
        </p:nvSpPr>
        <p:spPr>
          <a:xfrm rot="19034400">
            <a:off x="557280" y="35874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19"/>
          <p:cNvSpPr/>
          <p:nvPr/>
        </p:nvSpPr>
        <p:spPr>
          <a:xfrm rot="19034400">
            <a:off x="511200" y="44319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Verbodssymbool 20"/>
          <p:cNvSpPr/>
          <p:nvPr/>
        </p:nvSpPr>
        <p:spPr>
          <a:xfrm>
            <a:off x="442800" y="196380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Verbodssymbool 15"/>
          <p:cNvSpPr/>
          <p:nvPr/>
        </p:nvSpPr>
        <p:spPr>
          <a:xfrm>
            <a:off x="452520" y="246708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vorm 16"/>
          <p:cNvSpPr/>
          <p:nvPr/>
        </p:nvSpPr>
        <p:spPr>
          <a:xfrm rot="19034400">
            <a:off x="539640" y="30952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inhoud 2"/>
          <p:cNvSpPr/>
          <p:nvPr/>
        </p:nvSpPr>
        <p:spPr>
          <a:xfrm>
            <a:off x="576360" y="1557360"/>
            <a:ext cx="3419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7" descr="Topbanner-methodeportal-NN"/>
          <p:cNvPicPr/>
          <p:nvPr/>
        </p:nvPicPr>
        <p:blipFill>
          <a:blip r:embed="rId1"/>
          <a:stretch/>
        </p:blipFill>
        <p:spPr>
          <a:xfrm>
            <a:off x="0" y="0"/>
            <a:ext cx="9144000" cy="765000"/>
          </a:xfrm>
          <a:prstGeom prst="rect">
            <a:avLst/>
          </a:prstGeom>
          <a:ln w="0">
            <a:noFill/>
          </a:ln>
        </p:spPr>
      </p:pic>
      <p:sp>
        <p:nvSpPr>
          <p:cNvPr id="70" name=""/>
          <p:cNvSpPr txBox="1"/>
          <p:nvPr/>
        </p:nvSpPr>
        <p:spPr>
          <a:xfrm>
            <a:off x="4067280" y="836280"/>
            <a:ext cx="4897440" cy="58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71" name="L-vorm 11"/>
          <p:cNvSpPr/>
          <p:nvPr/>
        </p:nvSpPr>
        <p:spPr>
          <a:xfrm rot="19034400">
            <a:off x="552600" y="363960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vorm 12"/>
          <p:cNvSpPr/>
          <p:nvPr/>
        </p:nvSpPr>
        <p:spPr>
          <a:xfrm rot="19034400">
            <a:off x="558720" y="15062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13"/>
          <p:cNvSpPr/>
          <p:nvPr/>
        </p:nvSpPr>
        <p:spPr>
          <a:xfrm rot="19034400">
            <a:off x="558720" y="313488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0"/>
          <p:cNvSpPr/>
          <p:nvPr/>
        </p:nvSpPr>
        <p:spPr>
          <a:xfrm rot="19034400">
            <a:off x="537840" y="2558520"/>
            <a:ext cx="320760" cy="317520"/>
          </a:xfrm>
          <a:custGeom>
            <a:avLst/>
            <a:gdLst>
              <a:gd name="textAreaLeft" fmla="*/ 0 w 320760"/>
              <a:gd name="textAreaRight" fmla="*/ 321120 w 320760"/>
              <a:gd name="textAreaTop" fmla="*/ 158760 h 317520"/>
              <a:gd name="textAreaBottom" fmla="*/ 317880 h 317520"/>
            </a:gdLst>
            <a:ahLst/>
            <a:rect l="textAreaLeft" t="textAreaTop" r="textAreaRight" b="textAreaBottom"/>
            <a:pathLst>
              <a:path w="320675" h="317500">
                <a:moveTo>
                  <a:pt x="0" y="0"/>
                </a:moveTo>
                <a:lnTo>
                  <a:pt x="158750" y="0"/>
                </a:lnTo>
                <a:lnTo>
                  <a:pt x="158750" y="158750"/>
                </a:lnTo>
                <a:lnTo>
                  <a:pt x="320675" y="158750"/>
                </a:lnTo>
                <a:lnTo>
                  <a:pt x="320675" y="317500"/>
                </a:lnTo>
                <a:lnTo>
                  <a:pt x="0" y="3175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4"/>
          <p:cNvSpPr/>
          <p:nvPr/>
        </p:nvSpPr>
        <p:spPr>
          <a:xfrm rot="19034400">
            <a:off x="533520" y="205596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533520" y="414288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5"/>
          <p:cNvSpPr/>
          <p:nvPr/>
        </p:nvSpPr>
        <p:spPr>
          <a:xfrm rot="19034400">
            <a:off x="552600" y="453816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7"/>
          <p:cNvSpPr/>
          <p:nvPr/>
        </p:nvSpPr>
        <p:spPr>
          <a:xfrm rot="19034400">
            <a:off x="552600" y="498960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80"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81" name="Picture 14" descr="Topbanner-methodeportal-NN"/>
          <p:cNvPicPr/>
          <p:nvPr/>
        </p:nvPicPr>
        <p:blipFill>
          <a:blip r:embed="rId1"/>
          <a:stretch/>
        </p:blipFill>
        <p:spPr>
          <a:xfrm>
            <a:off x="0" y="0"/>
            <a:ext cx="9144000" cy="765000"/>
          </a:xfrm>
          <a:prstGeom prst="rect">
            <a:avLst/>
          </a:prstGeom>
          <a:ln w="0">
            <a:noFill/>
          </a:ln>
        </p:spPr>
      </p:pic>
      <p:sp>
        <p:nvSpPr>
          <p:cNvPr id="8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
        <p:nvSpPr>
          <p:cNvPr id="83" name="L-vorm 5"/>
          <p:cNvSpPr/>
          <p:nvPr/>
        </p:nvSpPr>
        <p:spPr>
          <a:xfrm rot="18672000">
            <a:off x="7593840" y="1532160"/>
            <a:ext cx="1185840" cy="648000"/>
          </a:xfrm>
          <a:custGeom>
            <a:avLst/>
            <a:gdLst>
              <a:gd name="textAreaLeft" fmla="*/ 0 w 1185840"/>
              <a:gd name="textAreaRight" fmla="*/ 1186200 w 1185840"/>
              <a:gd name="textAreaTop" fmla="*/ 324000 h 648000"/>
              <a:gd name="textAreaBottom" fmla="*/ 648360 h 648000"/>
            </a:gdLst>
            <a:ahLst/>
            <a:rect l="textAreaLeft" t="textAreaTop" r="textAreaRight" b="textAreaBottom"/>
            <a:pathLst>
              <a:path w="1185863" h="647700">
                <a:moveTo>
                  <a:pt x="0" y="0"/>
                </a:moveTo>
                <a:lnTo>
                  <a:pt x="323850" y="0"/>
                </a:lnTo>
                <a:lnTo>
                  <a:pt x="323850" y="323850"/>
                </a:lnTo>
                <a:lnTo>
                  <a:pt x="1185863" y="323850"/>
                </a:lnTo>
                <a:lnTo>
                  <a:pt x="1185863" y="647700"/>
                </a:lnTo>
                <a:lnTo>
                  <a:pt x="0" y="6477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Verbodssymbool 6"/>
          <p:cNvSpPr/>
          <p:nvPr/>
        </p:nvSpPr>
        <p:spPr>
          <a:xfrm>
            <a:off x="2987640" y="1413000"/>
            <a:ext cx="1008000" cy="1019160"/>
          </a:xfrm>
          <a:custGeom>
            <a:avLst/>
            <a:gdLst>
              <a:gd name="textAreaLeft" fmla="*/ 147600 w 1008000"/>
              <a:gd name="textAreaRight" fmla="*/ 860400 w 1008000"/>
              <a:gd name="textAreaTop" fmla="*/ 149040 h 1019160"/>
              <a:gd name="textAreaBottom" fmla="*/ 870120 h 1019160"/>
            </a:gdLst>
            <a:ahLst/>
            <a:rect l="textAreaLeft" t="textAreaTop" r="textAreaRight" b="textAreaBottom"/>
            <a:pathLst>
              <a:path w="1008063" h="1019175">
                <a:moveTo>
                  <a:pt x="0" y="509588"/>
                </a:moveTo>
                <a:lnTo>
                  <a:pt x="0" y="509588"/>
                </a:lnTo>
                <a:arcTo wR="504032" hR="509588" stAng="-10799993" swAng="5400000"/>
                <a:lnTo>
                  <a:pt x="504033" y="1"/>
                </a:lnTo>
                <a:arcTo wR="504032" hR="509588" stAng="-5399993" swAng="5400000"/>
                <a:lnTo>
                  <a:pt x="1008064" y="509590"/>
                </a:lnTo>
                <a:arcTo wR="504032" hR="509588" stAng="0" swAng="5400000"/>
                <a:lnTo>
                  <a:pt x="504032" y="1019178"/>
                </a:lnTo>
                <a:arcTo wR="504032" hR="509588" stAng="5400000" swAng="5400007"/>
                <a:close/>
                <a:moveTo>
                  <a:pt x="781316" y="661726"/>
                </a:moveTo>
                <a:lnTo>
                  <a:pt x="781316" y="661726"/>
                </a:lnTo>
                <a:arcTo wR="315020" hR="320576" stAng="1725150" swAng="-8812619"/>
                <a:close/>
                <a:moveTo>
                  <a:pt x="226747" y="357449"/>
                </a:moveTo>
                <a:lnTo>
                  <a:pt x="226747" y="357449"/>
                </a:lnTo>
                <a:arcTo wR="315020" hR="320576" stAng="-9074855" swAng="-8812614"/>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04T09:31:36Z</dcterms:modified>
  <cp:revision>165</cp:revision>
  <dc:subject/>
  <dc:title>goed of fout?</dc:title>
</cp:coreProperties>
</file>