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3CF1-A12A-4EB1-9B7E-5FA563A544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1E1A-FE48-4714-9C7A-87ACD2FAE4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D1E0-A8A2-4435-A786-925D7A2F70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F5FF-4210-4F24-B598-82383544A9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75B4-A65F-46D9-9A33-99AEC94A8D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31AF-301D-4C19-8896-5B30CA85DE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4DAD-5472-4272-9C2F-53839DE521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8C1D-B830-43CE-8A17-FD975576DB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FAF25-1FF1-4D14-8B5A-9016DDC07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E05F5-7AAD-44EB-8EB5-FF195A136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89DC6-0EA2-41E2-A68A-BE43CFE02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9A432-B040-4C83-BD32-BC0ABDA1F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78AA8-61DB-4081-B979-EC06238B8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780E3-E14E-493D-953E-110155741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88102-A909-4DCD-8A6D-8BE7E3FFE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C11E3-B753-4A5A-9B54-3F26357AC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E3C94-9DF7-4031-A521-5A21EA2F7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7CE86-D7E6-4267-B636-E38F0ADBE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FCA92-7661-4CB8-BE29-A3338AB1C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68B30-92C8-4C8E-B4E0-C485EEB01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D64A-0BD6-4C50-8B60-4C426C4677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643280" y="1267920"/>
            <a:ext cx="439272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je voldoende informatie heb gegeven en dat je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
        <p:nvSpPr>
          <p:cNvPr id="5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179280" y="1267920"/>
            <a:ext cx="431640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u voldoende informatie heb gegeven en dat u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4560" y="907920"/>
            <a:ext cx="9001080" cy="58341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je voldoende informatie heb gegeven en dat je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jdelijke aanduiding voor inhoud 2"/>
          <p:cNvSpPr/>
          <p:nvPr/>
        </p:nvSpPr>
        <p:spPr>
          <a:xfrm>
            <a:off x="576360" y="907920"/>
            <a:ext cx="3851280" cy="5689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56" name=""/>
          <p:cNvSpPr txBox="1"/>
          <p:nvPr/>
        </p:nvSpPr>
        <p:spPr>
          <a:xfrm>
            <a:off x="4427280" y="957240"/>
            <a:ext cx="4327560" cy="56404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57" name="L-vorm 17"/>
          <p:cNvSpPr/>
          <p:nvPr/>
        </p:nvSpPr>
        <p:spPr>
          <a:xfrm rot="19034400">
            <a:off x="558720" y="90288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L-vorm 23"/>
          <p:cNvSpPr/>
          <p:nvPr/>
        </p:nvSpPr>
        <p:spPr>
          <a:xfrm rot="19034400">
            <a:off x="538200" y="131580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vorm 11"/>
          <p:cNvSpPr/>
          <p:nvPr/>
        </p:nvSpPr>
        <p:spPr>
          <a:xfrm rot="19034400">
            <a:off x="530280" y="196344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Verbodssymbool 12"/>
          <p:cNvSpPr/>
          <p:nvPr/>
        </p:nvSpPr>
        <p:spPr>
          <a:xfrm>
            <a:off x="468360" y="4797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Verbodssymbool 13"/>
          <p:cNvSpPr/>
          <p:nvPr/>
        </p:nvSpPr>
        <p:spPr>
          <a:xfrm>
            <a:off x="468360" y="566100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vorm 15"/>
          <p:cNvSpPr/>
          <p:nvPr/>
        </p:nvSpPr>
        <p:spPr>
          <a:xfrm rot="19034400">
            <a:off x="525600" y="239724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6"/>
          <p:cNvSpPr/>
          <p:nvPr/>
        </p:nvSpPr>
        <p:spPr>
          <a:xfrm rot="19034400">
            <a:off x="506520" y="31100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21"/>
          <p:cNvSpPr/>
          <p:nvPr/>
        </p:nvSpPr>
        <p:spPr>
          <a:xfrm rot="19034400">
            <a:off x="506520" y="369360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vorm 25"/>
          <p:cNvSpPr/>
          <p:nvPr/>
        </p:nvSpPr>
        <p:spPr>
          <a:xfrm rot="19034400">
            <a:off x="506520" y="421812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vorm 18"/>
          <p:cNvSpPr/>
          <p:nvPr/>
        </p:nvSpPr>
        <p:spPr>
          <a:xfrm rot="19034400">
            <a:off x="533520" y="615960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Verbodssymbool 19"/>
          <p:cNvSpPr/>
          <p:nvPr/>
        </p:nvSpPr>
        <p:spPr>
          <a:xfrm>
            <a:off x="468360" y="5229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42920" y="836640"/>
            <a:ext cx="8858160" cy="60213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u voldoende informatie heb gegeven en dat u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jdelijke aanduiding voor inhoud 2"/>
          <p:cNvSpPr/>
          <p:nvPr/>
        </p:nvSpPr>
        <p:spPr>
          <a:xfrm>
            <a:off x="179280" y="1268280"/>
            <a:ext cx="424836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70"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sp>
        <p:nvSpPr>
          <p:cNvPr id="71" name=""/>
          <p:cNvSpPr txBox="1"/>
          <p:nvPr/>
        </p:nvSpPr>
        <p:spPr>
          <a:xfrm>
            <a:off x="4643280" y="1267920"/>
            <a:ext cx="4392720" cy="59058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72" name="L-vorm 21"/>
          <p:cNvSpPr/>
          <p:nvPr/>
        </p:nvSpPr>
        <p:spPr>
          <a:xfrm rot="19034400">
            <a:off x="149400" y="22748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22"/>
          <p:cNvSpPr/>
          <p:nvPr/>
        </p:nvSpPr>
        <p:spPr>
          <a:xfrm rot="19034400">
            <a:off x="149400" y="33523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2"/>
          <p:cNvSpPr/>
          <p:nvPr/>
        </p:nvSpPr>
        <p:spPr>
          <a:xfrm rot="19034400">
            <a:off x="158760" y="171720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9"/>
          <p:cNvSpPr/>
          <p:nvPr/>
        </p:nvSpPr>
        <p:spPr>
          <a:xfrm rot="19034400">
            <a:off x="149400" y="286020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173160" y="118224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3"/>
          <p:cNvSpPr/>
          <p:nvPr/>
        </p:nvSpPr>
        <p:spPr>
          <a:xfrm rot="19034400">
            <a:off x="158760" y="387792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4"/>
          <p:cNvSpPr/>
          <p:nvPr/>
        </p:nvSpPr>
        <p:spPr>
          <a:xfrm rot="19034400">
            <a:off x="139680" y="4447800"/>
            <a:ext cx="32076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vorm 15"/>
          <p:cNvSpPr/>
          <p:nvPr/>
        </p:nvSpPr>
        <p:spPr>
          <a:xfrm rot="19034400">
            <a:off x="158760" y="49017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vorm 17"/>
          <p:cNvSpPr/>
          <p:nvPr/>
        </p:nvSpPr>
        <p:spPr>
          <a:xfrm rot="19034400">
            <a:off x="149400" y="53017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vorm 18"/>
          <p:cNvSpPr/>
          <p:nvPr/>
        </p:nvSpPr>
        <p:spPr>
          <a:xfrm rot="19034400">
            <a:off x="139680" y="57621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vorm 20"/>
          <p:cNvSpPr/>
          <p:nvPr/>
        </p:nvSpPr>
        <p:spPr>
          <a:xfrm rot="19034400">
            <a:off x="133200" y="6103440"/>
            <a:ext cx="32076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5"/>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643280" y="1412640"/>
            <a:ext cx="439272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4"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txBox="1"/>
          <p:nvPr/>
        </p:nvSpPr>
        <p:spPr>
          <a:xfrm>
            <a:off x="179280" y="1412640"/>
            <a:ext cx="431640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6" name="L-vorm 5"/>
          <p:cNvSpPr/>
          <p:nvPr/>
        </p:nvSpPr>
        <p:spPr>
          <a:xfrm rot="18672000">
            <a:off x="2618280" y="1553040"/>
            <a:ext cx="1186200" cy="647640"/>
          </a:xfrm>
          <a:custGeom>
            <a:avLst/>
            <a:gdLst/>
            <a:ahLst/>
            <a:rect l="l" t="t" r="r" b="b"/>
            <a:pathLst>
              <a:path w="1185862" h="647700">
                <a:moveTo>
                  <a:pt x="0" y="0"/>
                </a:moveTo>
                <a:lnTo>
                  <a:pt x="323850" y="0"/>
                </a:lnTo>
                <a:lnTo>
                  <a:pt x="323850" y="323850"/>
                </a:lnTo>
                <a:lnTo>
                  <a:pt x="1185862" y="323850"/>
                </a:lnTo>
                <a:lnTo>
                  <a:pt x="1185862" y="647700"/>
                </a:lnTo>
                <a:lnTo>
                  <a:pt x="0" y="647700"/>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Verbodssymbool 6"/>
          <p:cNvSpPr/>
          <p:nvPr/>
        </p:nvSpPr>
        <p:spPr>
          <a:xfrm>
            <a:off x="7524720" y="1368360"/>
            <a:ext cx="1008000" cy="1019160"/>
          </a:xfrm>
          <a:custGeom>
            <a:avLst/>
            <a:gdLst/>
            <a:ahLst/>
            <a:rect l="l" t="t" r="r" b="b"/>
            <a:pathLst>
              <a:path w="1008063" h="1019175">
                <a:moveTo>
                  <a:pt x="0" y="509588"/>
                </a:moveTo>
                <a:cubicBezTo>
                  <a:pt x="0" y="228150"/>
                  <a:pt x="225663" y="0"/>
                  <a:pt x="504032" y="0"/>
                </a:cubicBezTo>
                <a:cubicBezTo>
                  <a:pt x="782401" y="0"/>
                  <a:pt x="1008064" y="228150"/>
                  <a:pt x="1008064" y="509588"/>
                </a:cubicBezTo>
                <a:cubicBezTo>
                  <a:pt x="1008064" y="791026"/>
                  <a:pt x="782401" y="1019176"/>
                  <a:pt x="504032" y="1019176"/>
                </a:cubicBezTo>
                <a:cubicBezTo>
                  <a:pt x="225663" y="1019176"/>
                  <a:pt x="0" y="791026"/>
                  <a:pt x="0" y="509588"/>
                </a:cubicBezTo>
                <a:close/>
                <a:moveTo>
                  <a:pt x="781316" y="661726"/>
                </a:moveTo>
                <a:cubicBezTo>
                  <a:pt x="846582" y="538541"/>
                  <a:pt x="825781" y="386508"/>
                  <a:pt x="729929" y="286152"/>
                </a:cubicBezTo>
                <a:cubicBezTo>
                  <a:pt x="631468" y="183063"/>
                  <a:pt x="477608" y="159283"/>
                  <a:pt x="353510" y="227974"/>
                </a:cubicBezTo>
                <a:lnTo>
                  <a:pt x="781316" y="661726"/>
                </a:lnTo>
                <a:close/>
                <a:moveTo>
                  <a:pt x="226747" y="357449"/>
                </a:moveTo>
                <a:cubicBezTo>
                  <a:pt x="161481" y="480634"/>
                  <a:pt x="182282" y="632667"/>
                  <a:pt x="278134" y="733023"/>
                </a:cubicBezTo>
                <a:cubicBezTo>
                  <a:pt x="376595" y="836112"/>
                  <a:pt x="530455" y="859892"/>
                  <a:pt x="654553" y="791201"/>
                </a:cubicBezTo>
                <a:lnTo>
                  <a:pt x="226747" y="357449"/>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6:22Z</dcterms:modified>
  <cp:revision>181</cp:revision>
  <dc:subject/>
  <dc:title>goed of fout?</dc:title>
</cp:coreProperties>
</file>