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EB8-B4B6-4216-A962-08343D3B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4D4-40DE-41EA-B404-B89CA4DB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683-588C-45BE-AAB3-DC1ED254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2DC-0F69-457B-AEA7-6FFCFF22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4B23-963E-40FA-A73A-A2D69A72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3F33-9243-4EA4-935B-CB805310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7609-3C9C-49C7-9F07-351B7B3B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212-C291-4059-97FF-4051EFA6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D52E-3D89-47F2-94B3-7E5C7FBF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79D4-C9A8-483C-BF08-DB64225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A0B1-5627-4BA6-9184-F30A88B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076-DF8A-4191-8DC3-99E86067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7087-5876-4785-B885-EB7D6A58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3281-1011-46C6-8243-84AC2585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7889-54DE-49BC-B5F7-C9B8F42B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EC2-0C13-4C2B-9AFE-2F0E86C1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ADB8-ED7D-4AB4-AD00-486015FB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5B140-432F-4B05-ACBD-67AEA7CD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8C80-01A2-4DF9-915E-EA580FBF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0B8C-234A-4E47-BA02-942C81EE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65F5-AA84-49DB-93FD-B5DF3273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0D46-C032-4A85-AF25-2E92E727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05A-E923-43FA-A4AB-2BD2F1D1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5ECE-8BEC-43CF-8016-62A35E07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DE76-BF46-47D4-987A-C9F1648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A9C8-061B-4B8B-A295-75EFCD05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CA06-4859-453B-BD5E-325FEE2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FB0FB-B9F7-4B4C-8A32-1369315D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EC1F-3E18-4676-90A3-239233E5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F3E6-9552-4301-8E9C-AD760266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720F-6A8D-4B3E-8346-73B079EB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7899-F31C-4D4E-91E5-C32F39D1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9E27-D802-4B6E-AABD-05865A4D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118-397B-40C5-9487-93B9AA10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2280-9247-4C34-9E0B-B9A3E94B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E12F-749F-41E8-9E3E-A0350D26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305AB-8400-4168-A2B7-1641F3C2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BD2C-34B1-45F2-8CC5-7E00EA57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141E-6CE2-4BEE-ADF8-81D399C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AD048-0457-4786-BBDB-CAC1732A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8553-338C-48DE-ABC2-78B0C975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9953-A27A-4C92-96F7-EC3DC3D8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DBF4-5710-4407-B187-CD7DEB78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2A46E-6588-45FE-8A56-92AAFE87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7DA-0ED7-40D7-BF35-315EA934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33A1-9CBB-433F-A2B7-62E702EC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61D9-7495-419B-8B2C-695F5F97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13460-2E4D-434D-A109-861B7AFA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A2650-8D3C-4581-A5A3-00740D05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0C1B6-CA4B-44B9-B7ED-13648401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BB28-0570-4032-9B90-1A500C3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291A6-F5F6-458D-B1B6-93DCD9D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A46A3-4863-45F1-9CB3-3FB0C833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1890-CB37-41FB-B9DE-00C8F4F2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EA0A8-CD3E-4A4F-8279-57984A1E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CF2-6215-499D-BD33-F3FB6B53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33F7B-A8D7-43B4-9D51-97B89985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34160-D944-4D49-BCA6-C7C87A0C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E5955-1789-4E1D-A6FB-D860120C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7813-0059-4F12-A73E-8B1A222E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D3AE3-F589-4ED2-B915-3FF046F0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D6D58-908A-4EFA-A6BD-7589DB03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8FF1-8867-4B1E-A907-CBE2422A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E3003-C686-417E-93B5-2918D909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C2FC-098B-43EC-B862-AB124FF3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47100-C2D4-4837-B7BC-2FC6CF68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263-2746-4AD4-AA6B-389552A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28708-9E2D-4E7C-8927-75A61A47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03ED4-75EE-4C4A-8E46-30C12EA8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E1360-5DDB-4C5C-8103-62903FA0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54CDA-4EAA-4342-B0E3-F915B832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EA328-C051-4BD2-881A-E335909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ED37-0409-49AD-BCE2-8D9E30B2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F2D35-8A98-4FDE-8001-BEC1ECAD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61F31-EFA1-4C0C-B948-EDABEAE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2B25-22BE-4176-9347-C0498CD5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BF94B-A7AB-428F-AB4F-26DEB63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7BB-039F-49A4-A53A-78CD63D7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8C494-7224-4BFC-A32D-C01273D7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CEC0D-26DC-4DF7-910C-B0B002E9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21F5-E067-4F59-9052-50E0D728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E82A0-05E2-48D7-967B-95F66767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1A35B-B468-41F8-9C95-6BD42A42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B1EA1-8413-4775-8D6F-0B616A9C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FBCEF-C3DE-4391-B518-AD4B3768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D51C4-209C-473B-B7AC-91C73D75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9A977-14FB-4CEC-8AA6-1A301CB2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E5B1B-E102-42B9-808F-73736577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354-EFCB-4FF5-B13A-C404521F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521B-A37A-40AE-9DDC-397407EF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3E821-6CF7-4F60-B39F-E040DC2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55EE8-B295-41B8-8DD4-46FF09BF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EEE41-8292-4B1D-A390-CAD08EB2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0F12-0D5D-4626-90F7-2453D689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2188E-B671-45A3-AE2B-66B0957B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3E4AC-8ADC-4C91-A150-47090112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9C35-6B21-4166-ADCA-8689B784B4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8824-2FF3-4DB7-848D-6D731ECC918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2E31-9931-43AD-93B2-E7307BAF053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91C6-AAE2-447F-A082-F17020F34A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1B4E-FBCE-4B44-8146-D6248505945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57EE-20C8-4A01-BA5A-0272CA26510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61D3-DB34-4E44-8839-EB512233C83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8096-6426-47E5-A63E-50CA11BBFC8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Lenen en beta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geldlenenmetspoed.nl/images/letop.jpg"/>
          <p:cNvPicPr/>
          <p:nvPr/>
        </p:nvPicPr>
        <p:blipFill>
          <a:blip r:embed="rId2"/>
          <a:stretch/>
        </p:blipFill>
        <p:spPr>
          <a:xfrm>
            <a:off x="0" y="0"/>
            <a:ext cx="3913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lenen mensen eigenlijk? Met andere woorden, wat zijn de leenmotiev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je k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product kopen en meteen gebruik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deel: je zit vast aan de maandelijkse kosten van de lening (aflossing en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enbedrag wordt bepaald door: hoogte inkomen, vaste lasten, arbeidscon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3360" y="-136440"/>
            <a:ext cx="6991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Gerelateerde afbeelding"/>
          <p:cNvPicPr/>
          <p:nvPr/>
        </p:nvPicPr>
        <p:blipFill>
          <a:blip r:embed="rId1"/>
          <a:stretch/>
        </p:blipFill>
        <p:spPr>
          <a:xfrm>
            <a:off x="6659640" y="2327400"/>
            <a:ext cx="2306520" cy="12128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8"/>
          <p:cNvSpPr/>
          <p:nvPr/>
        </p:nvSpPr>
        <p:spPr>
          <a:xfrm>
            <a:off x="63360" y="-136440"/>
            <a:ext cx="43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Gerelateerde afbeelding"/>
          <p:cNvPicPr/>
          <p:nvPr/>
        </p:nvPicPr>
        <p:blipFill>
          <a:blip r:embed="rId2"/>
          <a:stretch/>
        </p:blipFill>
        <p:spPr>
          <a:xfrm>
            <a:off x="4403880" y="2327400"/>
            <a:ext cx="1954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n wordt aantrekkelijker d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een hoger 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- een hoger inflatie (hoe eerder je iets koopt, hoe lager de prijs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stellen hun geld beschikbaar aan de bank waar ze spaarrente over krijgen en de bank leent dit geld aan de leners waar deze groep rente over moet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zijn aanbieders va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rs zijn vragers naar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lening die in een aantal vaste termijnen wordt afbetaald, bijv. in 36 maan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gesproken bedrag leen je in 1 ke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taalt regelmatig een bedrag voor de lening = termij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ijn bestaat uit aflossing en r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erekening rente = (aantal termijnen x termijnbedrag) – bedrag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http://financieel.infonu.nl/artikel-foto/lenen/64-lenen-tegen-lage-rente.jpg"/>
          <p:cNvPicPr/>
          <p:nvPr/>
        </p:nvPicPr>
        <p:blipFill>
          <a:blip r:embed="rId2"/>
          <a:stretch/>
        </p:blipFill>
        <p:spPr>
          <a:xfrm>
            <a:off x="7521480" y="3645000"/>
            <a:ext cx="14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Lucida Sans Unicode"/>
              </a:rPr>
              <a:t>Niet alleen banken, maar ook andere financiële instellingen lenen geld uit. En deze instellingen vermelden soms de bijkomende kosten of de aflossing er niet bij! </a:t>
            </a:r>
            <a:r>
              <a:rPr b="0" i="1" lang="nl-NL" sz="3600" spc="-1" strike="noStrike">
                <a:solidFill>
                  <a:srgbClr val="000000"/>
                </a:solidFill>
                <a:latin typeface="Lucida Sans Unicode"/>
              </a:rPr>
              <a:t>(zie een voorbeeld op afbeelding 38 blz. 63 in je lesboek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18Z</dcterms:modified>
  <cp:revision>75</cp:revision>
  <dc:subject/>
  <dc:title> </dc:title>
</cp:coreProperties>
</file>