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1E4-DA29-4C6C-A003-2BE6D1FC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E40-8A24-4200-90FE-59C895BF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D35-4E75-489B-99E9-6F9442F6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242F-80B0-4A4F-9C3B-81A99480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29EF-486B-40D7-8283-21BF88D9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BF33-175F-4373-BE80-BAD8D4B5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5ECE-84B8-4139-87BD-C3616CAB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BAA6-AF9B-4003-9EEF-BD33ECF0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4ED9-FC40-489B-BC70-92D5268A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3C57-27E6-4095-B894-F303A0DB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0B85-B5F6-4C59-9C11-08FBE7BA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821-7009-48FF-9258-8C716933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BA8A-8F41-4235-9D4D-0D80A76F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CDB0-E44A-42D9-B4AE-AA678F94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5EC3-F472-401E-9F32-E983788A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28E8-3C8F-42E8-99D0-E100AF84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1C92-96F2-4146-931D-DF06174C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CD149-FC70-4EBA-A82D-04D68D5B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0CDCF-620E-4143-A602-D4952078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ED413-6776-4404-B26D-9AE933C3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D79C0-7A28-4150-94C3-AD8B04E9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1C773-B97F-4C35-810C-B74C3118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3898-7B4E-4A90-8EB3-645043C0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ED04E-DFA3-4059-BC44-2822BD99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E9D64-CD30-4389-B0CD-715CFF15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A854A-1455-4C61-B766-3BE6ECF5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B3B15-F925-4ECB-BBC4-BA56FAD1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DB429-AE68-4BB8-99AB-7FF3D0E4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F24D7-9C30-4DAE-BE4D-F1A551D1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6E3DB-FD78-4E47-B038-18476FCB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0774F-7A51-4703-98D5-4822FAC2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EDED2-2693-4C35-8379-86E202CE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B20F3-B1C3-40EA-A4FB-F9E692A3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503-0A1C-45D6-B965-22B71221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8CCF4-7495-43BE-A427-9E90CCE3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7D939-D3C5-4265-8813-CA4FAF62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074F5-996B-4DE6-A7C5-3BD49B03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DD348-5E87-4936-81A3-ECBE0E7A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B4C69-E883-4EC0-8864-E355489C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74ACE-9571-4F83-AF25-82963571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90812-A977-49BB-834D-C316C800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EA648-33F4-402A-9522-1BDCC9EF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1C8D4-BBAF-4DA6-97CB-6335104E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22B70-7A79-42EE-999F-2E44881B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2C9A-EB3A-4299-A58E-CC60F7FF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8D0E6-13E9-42E9-8B40-A300AE85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6E4A6-9DC8-45CB-BCB9-DCB1C778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B922C-5DFC-4B39-A562-75E15435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C16BC-2B47-41A1-8C5E-412BF025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ADDC5-A950-4926-9F2E-66947FF8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5FB7B-C2F3-4001-A265-3593BFFE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9D840-F832-4F56-BC0D-5A53EC70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CFC98-0BB2-4852-82D6-8356F016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4AD2F-F98C-449C-8967-7D3712E4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22B2B-A9FD-4D72-BBC2-4F549BFA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167D-0715-4C87-A6D5-08991651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11F8D-0F54-4212-9EE7-D2563A97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444E8-C2C2-41EA-A504-1250B90D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1831E-3B87-4165-86E7-7EE9CBD9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6370B-D7D2-47F6-BCDF-C8484DDE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C31F7-2726-4F50-A483-55823381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AFD57-A4F4-4E15-84D5-31415600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4C416-B462-44E0-8155-FA5DB9FE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B99A6-5283-4BE4-B093-36824287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FDC66-3A08-4462-8304-1542ECA4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52414-395E-4201-A683-DAC01008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BBB9-10B8-478F-8866-D27A3F1C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6528D-D943-4BFC-A478-A4714F0E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51DE4-14BB-4931-8F7F-C915E6F5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1FB41-BD9E-4557-8E48-7ADAD23E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AAA66-A637-4282-AE72-EE906192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F538F-B49A-41D4-9237-84DC26E4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4031C-15A1-4CB3-B1AA-9A48A9C0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5F198-1638-47BA-A758-C9B92E9E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F72D3-B31C-450F-A962-9515DB25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88511-AB2F-4330-8E0A-3051D578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BF00B-17B3-474F-A3E7-046A9AA0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647D-0F4B-4C12-857F-ADD324AE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CFF86-72B2-477E-BA5A-105BEB78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3A375-5F72-4424-A1D7-C4F2FEFF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9BED5-AFE1-423E-AE9C-15371740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A3F43-F018-44E9-9E3F-7D92E4E0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ED40F-CFFE-4215-839D-F78572E5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AA267-0FBA-4739-913E-725C4175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E54E5-45C0-4AC8-B95A-E752EC00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1C0B8-2471-4552-A033-954454D2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ECDC6-FC19-4D40-877C-7FAEAB4B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9324D-51EF-444E-B69B-869D0009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D98A-3797-4693-AAA9-E3CD51C8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B430E-93C6-4606-A00D-8C3E59D0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2075D-7357-4CC0-B969-02FD25EA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1AE67-446C-4636-A001-29F6779E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F3E18-F13B-4BD6-B8AB-00AB754E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DC86A-2B3E-4F7F-91FD-9FF7BD7E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CF79A-2D78-4AF5-98CB-215F3FAE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31FF1-26FE-4120-B833-F39521ED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ABA9-48DA-4B7F-B1AB-2DE489062D1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8275-C965-4086-A6BC-4170A4A7872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6331-4E02-4AC4-881F-E7845B6F26E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2C77-C220-4148-AA43-54D946DEFAB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267D-9AA0-4E2D-9461-B2D5F86BA8E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167F-35D2-47AB-A6E7-C92D05C410A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CB80-D3F8-4E7A-A2BE-FB083401649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5AC0-9F42-4C6A-936F-2B93734A7B3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2PvB_Qn24j4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Risico’s van belegg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beursfoon.nl/lp/images/nieuwe-beleggen/nieuwe-beleggen_beursfoon5.jpg"/>
          <p:cNvPicPr/>
          <p:nvPr/>
        </p:nvPicPr>
        <p:blipFill>
          <a:blip r:embed="rId2"/>
          <a:stretch/>
        </p:blipFill>
        <p:spPr>
          <a:xfrm>
            <a:off x="0" y="0"/>
            <a:ext cx="42512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kunnen naast geld sparen hun geld in aandelen of obligaties beleg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= geld uitzetten (investeren) tegen een bepaalde vergoeding (bijv. dividend of rent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deel = waardepapier waaruit blijkt dat iemand mede-eigenaar is van een onderneming. Bijv. 100 aandelen Phili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195120" y="244440"/>
            <a:ext cx="849816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depapier = een stuk papier met een bepaalde geld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delen kun je kopen en ver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verkoopkoers hoger is dan het aankoopbedrag, dan heb je koerswin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verkoopkoers lager is dan het aankoopbedrag, dan heb je koersver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 beleggen brengt dus risico’s met zich mee! (soort van go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het goed gaat met een bedrijf, kun j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vide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rijgen. Dit i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 winstuitkering aan de aandeelhoud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ligatie: waardepapier waaruit blijkt dat een onderneming of overheid geld schuldig is aan de eigenaar van het waardepapie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ijv. 4,5% obligatie Nederland (=staatsobligatie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in obligaties is minder risicovol dan beleggen in aandelen, want je krijg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jaarlijks een vaste rente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an het einde van de looptijd het uitgeleende geld teru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Beleggers in aandelen krijgen DIVIDEND als vergoeding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Beleggers in obligaties krijgen RENTE als vergoeding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instelling die geld van beleggers in aandelen, obligaties of andere waardepapieren beleg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ze wordt beheerd door mensen die verstand hebben van beleg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gebeurt in veel bedrijven, waardoor het risico van waardedaling kleiner word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 op: kost wel gel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2PvB_Qn24j4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38Z</dcterms:modified>
  <cp:revision>65</cp:revision>
  <dc:subject/>
  <dc:title> </dc:title>
</cp:coreProperties>
</file>