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EAB4-12C2-4776-88E5-4B543E545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8F1C-99EC-4442-84B6-ECDF56F9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B25A-EB7E-4D6D-82D3-C4346F73B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4CDC-A488-422C-AFE5-AB23F5A71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8AF6-0FDE-4E35-96C7-81B9E804A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8A95-F118-436B-BDD1-9D90D273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C91C-E4E1-45C1-B153-1CA1689E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1054-C380-4FA5-AF6E-1167131D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0842-2297-4B9D-8BD5-42713F4B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F6F6-66CF-4BF6-9FC9-93CC3F3B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7906-5477-4402-8FC0-5A3615A7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7AD8-46AA-4AC3-945A-9D0DD1C1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BD0F-150F-4444-B5A3-54940F0C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EB4E-8F46-4080-A50E-D3D0DFC7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2A62-A5F9-4082-9D95-23DBC82C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33E7-EBFF-4E6B-91EF-FF29A2B6F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B602-6E4F-45E1-A078-D4B6A68A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E8460-C4AB-40F4-BDD4-A9548872A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1F4D6-8418-471E-B6A9-173BB31E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DE24B-168A-403E-B2EA-3D7837FC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116A6-CF84-479A-9797-33ACBCC0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3CFDF-9271-4A79-A556-82098EFD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748A-E5F2-42BF-8DEB-94414D10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6DF26-3F10-4ECD-9F46-52AFCB8F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3491F-E837-41DC-8F85-ABE4EB8C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F83D0-9AB7-4A01-83A6-A1567DBA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8463C-0283-4738-AF90-34D787BF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A79B6-9067-40BF-8CC6-63AAD869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31DB2-58D5-4BD6-982F-208D4E5C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D7960-3037-4AFF-B5DB-E74EBF237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18A8F-BCB0-4CD0-AA23-7DF0D05ED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D3B39-82C1-4AD8-9202-C2E8DD1C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10000-FE33-40BA-8995-63AAFEBF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0C4D-81D3-4F90-80AC-757A1CA4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00440-EDD7-41FF-B3A5-CE1F571E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9FA55-B598-44F4-99DC-8C82A413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4100A-3382-4ECD-A49F-74D2EB5B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7316D-29FB-4ECE-9741-E5723846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39A79-4AE3-4527-A3E0-A67E7C88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D7E04-0355-4653-B0BE-F925AA6A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C7A57-41A1-469A-8454-CA48AEF4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DC779-0543-406F-97C2-129788BFC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A4102-27F8-4AEA-A9DD-2FFA3135C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D277F-27E2-455E-93F8-6B46D85F2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D083-768F-45B3-8E78-34E64413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CCDFD-A901-4FD9-92A0-58AB6BD7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16C10-C26E-49A9-B45E-06D985DD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E07F6-03E6-48E9-8173-BEA34E2F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82A39-5A29-4DCF-B61A-7218E3D8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74A79-8036-43B6-A79A-898D5D02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A3F1B-283B-4A2E-AA81-92003DAA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256D8-916E-46C8-8C7E-D1F125BA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663A1-CC71-46A9-8C8C-FF0B57B5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2F2F0-5EA2-40DD-A30F-117B2556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86166-DD18-4DEC-B447-CF16BD05F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26AA-06D4-4976-8134-754B09BC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1A11C-6FCC-4FF8-A783-62A0958F5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8C831-DEA6-4CD0-9B1F-2E041A1F0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1CB12-74DC-4CF1-8590-3C11A139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898AE-AF03-4E91-96EB-0A44F903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6CEE3-34EE-449F-B1BC-4980A3C6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5BF9E-6FD4-4123-8D75-0C4DF033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60484-D355-48CA-A3BA-7D0D4C80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7673C-CD69-4D4F-93AB-12F41403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5C18A-41F1-4C67-AA35-3EE4AA4E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CFBCD-F46B-42AB-A1D3-047C0339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A97E-1764-4186-9353-6348BE7D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714E2-4723-4440-B5C7-29B1649C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5A59A-6615-40F5-842E-1862893B2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F0E35-AFBB-4D88-A181-69E3DBFE3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02A59-B391-4C8A-B7F9-8EE7ED681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A1385-54FB-4E37-93D9-030363BD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CB454-8758-4B2D-A5B0-CC81C0ED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F3536-9816-4B71-96AF-83C64C32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C66FC-FFD2-4415-8E86-40E72A61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17653-84E5-46D5-989E-5D88003A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23A34-9620-4865-9290-F560695C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BFEC-4319-46F2-8C37-1B41D76F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456C3-1258-4B76-AACF-A946DC75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6DD42-B13D-4B2A-B89C-A5EE9B14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6DD72-DF51-42AF-B59C-22AA630D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25DAD-88F6-4004-85C0-558BC47AB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D25A4-5D34-4E8C-ADF4-C355C50F0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24BDD-C216-4EF1-897A-A09BFC1CC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7A8EB-82A1-44F0-A97F-29BC9F95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492EC-ACB4-47F8-AE15-D0755708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97A01-D3F6-4983-9ECB-7B6EC95E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EFE6A-A8A3-4D2C-BA14-7337C49F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7CB4-6F89-4B60-B022-CC376EDE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72AD6-B44E-4B24-87A6-15C108E0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6EBC9-3ED6-426A-8F6E-B3319AF2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427A4-2053-4389-B6F7-E0EE9C0D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4B41B-E5AB-4190-BB55-A11BEF3A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4CE68-B3C1-4631-9FF7-16A7103F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90942-3987-401A-9500-63FBA9D3D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5B5BD-D361-4CC7-AD2D-30805761F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7D48-A4B1-492D-B10C-7A140D161A8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156E-9D0D-421A-92C9-EBB5D3283E5A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7E0A-11A8-437B-BFB8-88FBB463278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46AD-8675-43B8-BE21-7D4F50D735F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A86E-4156-4DED-B3FF-7BEFB232508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FA85-FE8B-4A0E-9150-B194E8DB524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7339-6070-47A9-B6E2-1CDDFD7D88F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CB7E-B851-487F-BFC6-8AE5CD9A2692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1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Geld tel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pijler.nl/sites/pijler.nl/files/styles/abeelding_610x360/public/kids/1361706_70048200.jpg?itok=NZsuqR7B"/>
          <p:cNvPicPr/>
          <p:nvPr/>
        </p:nvPicPr>
        <p:blipFill>
          <a:blip r:embed="rId2"/>
          <a:stretch/>
        </p:blipFill>
        <p:spPr>
          <a:xfrm>
            <a:off x="0" y="0"/>
            <a:ext cx="32767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irecte ruil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= goederen/diensten ruilen tegen andere goederen en diensten; dit heet ook wel ruil in natur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orbeeld: Hans schildert de kamer van zijn vriend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n zijn vriend maakt de scooter van Han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Indirecte rui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= goederen/diensten ruilen tegen g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orbeeld: Jantje neemt een zak brood uit AH 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eeft geld aan de caissier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Door opkomst van geld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meer arbeidsverdeling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4884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Ruilmiddel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; geld ruilen tegen goederen/dienste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oorbeeld: broodje gezond ruilen voor geld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2 euro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Rekenmiddel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; geeft de waarde aan van producten, maakt vergelijken ook gemakkelijke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oorbeeld: broodje gezond kost 2 eur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Spaarmiddel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; geld opzij zetten voor late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oorbeeld: 20 euro per maand in een spaarpot leggen voor de aankoop van een telefoo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el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61372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Chartaal gel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alle munten en bankbiljetten in omloop. Oftewel contant g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Giraal gel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geld dat bij een bank op een betaalrekening staa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Chartaal geld"/>
          <p:cNvPicPr/>
          <p:nvPr/>
        </p:nvPicPr>
        <p:blipFill>
          <a:blip r:embed="rId2"/>
          <a:stretch/>
        </p:blipFill>
        <p:spPr>
          <a:xfrm>
            <a:off x="6443640" y="1916280"/>
            <a:ext cx="1657440" cy="13986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Giraal geld"/>
          <p:cNvPicPr/>
          <p:nvPr/>
        </p:nvPicPr>
        <p:blipFill>
          <a:blip r:embed="rId3"/>
          <a:stretch/>
        </p:blipFill>
        <p:spPr>
          <a:xfrm>
            <a:off x="6732720" y="3789360"/>
            <a:ext cx="136836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5-09-17T07:54:05Z</dcterms:modified>
  <cp:revision>39</cp:revision>
  <dc:subject/>
  <dc:title> </dc:title>
</cp:coreProperties>
</file>