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56B6-4133-4163-8548-86FD957C8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D3B5-6A2F-4518-AF11-F66FD8CCD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B65F-485E-4FCB-B2EA-D94D2E412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6106-69EE-4C09-B714-A7D40301E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95E5E-06C0-4F5E-971A-3BBBB57EB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4C084-DEB2-49C7-A503-346CC9223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39215-FE9A-46CF-BC94-8599EF59A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3DCFA-A902-4A5D-936C-3D871AD76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C36D2-DE68-4085-ABCF-94B9D2EF7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1D92E-EA63-4C29-BF6B-C771646F7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FBC5F-C561-4FA3-B81E-A20B9D60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332F-09BD-4293-98EE-EFA10D69E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78E33-677B-4275-986B-64740244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11CA7-DACB-4531-8D2C-BFADDE1B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4E268-1C5D-4B26-B7E5-517B4C268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320C8-F6A1-48FA-9AA0-366096FEC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D504E-2291-4377-AC57-3CCC8FF18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A0EEF-CFB1-46E4-BBBD-264D031DC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4CEF7-1C78-4D5A-983E-41641BC03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D9A37-EF9B-4BE5-A914-6D11439AC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2085D-4A83-4EB9-958F-80DFB905F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701FD-C2FE-473A-9D2A-5FA7D8813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3448-4180-41DB-99F4-F2ED9FA73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C7A5D-4879-4DC4-B4E6-8CE3F4D77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B4274-1A97-4B6A-B273-17D33D13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06E4F-62CD-4B7F-B6F1-091A2695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3C84B-3F42-42A3-AD16-3D8BFBE1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0B052-681E-4DC3-8D8F-02F9D7B78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51C34-5494-4FC2-9828-8EA7CA7DA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53844-5F0D-41EF-BF3D-18B027ECE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F7D44-145E-41B1-874D-0B19146DB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74250-BECC-4305-ABD8-7398D9A18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E0C13-C742-4BE6-AE67-6BB977C39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52FC-DF56-4054-982E-8D9874028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1FF99-E701-478C-8472-160793876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FC06A-E517-4465-8210-986A4477C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2B212-BB47-41F8-989B-C9A5FDC80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9CDE2-ED5F-4813-9DCC-579A0FF6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B549A-B4DB-4FC4-BF78-93EA1969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3665F-FB72-425C-8111-468CD6C3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DB743-5946-41D3-AF9A-AD20A84BF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2E140-1AEB-4F56-A40D-6A84ABA60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41FE4-12EA-4438-B65E-8E36AF6D2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FEB1A-4CCD-467B-AFFA-FD641C82C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A5C3-C823-4DD3-9643-F68152C52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118CD-1F4A-4EA7-9430-F1728BF8D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C3A9A-D7D1-4584-BDDD-5A9E51CB4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1C447-6349-4E29-86D5-8096880DC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B3E1F-920D-4700-B286-6B4A57C7E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E9957-3816-4354-A5C4-988F5B3C7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E95B8-C4DE-4E53-845A-6D6AF8C2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3DF3D-98BB-4EB3-B8D5-FA9029E9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5833A-13C8-49C8-B4A6-B74972FD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26CFA-73DE-4AC7-B33D-3BF98AEB7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21AD9-B68B-4336-96DF-0E107630B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B2C1-70C7-488B-BFDD-406A2B64E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75E5A-885C-4141-9734-4226C3323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328AF9-38E9-4124-B8E8-E8B84F4B5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08F92-70D6-444A-864D-17CA08B38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B6974-BDE5-4B8B-A6F2-C73A8E27F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AAAF4D-A6B6-4579-83E1-0A8096E39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1B25C-8AB5-4B51-9581-6C26EDC40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17B26C-FDDE-4EC8-B12F-CD851F5A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7621B-A527-4567-B676-1AEBAEFF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DCE11-02A6-4271-82EB-37B3AE50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612F7-7F27-4CA9-AE85-7928B6EC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773B-C82C-48A8-912D-C9B2F125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089AB-464F-4A67-BA71-48A2BD4E4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493D1-7001-4001-9CF6-9642CDFD2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C9B6E-1EA1-4EBD-832C-1C8C969D7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670C3-DF2A-4DD4-BAD8-C9BA6A524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7E50C8-EDD7-477E-A0D6-CE5B54BB4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43E8B4-82C4-4596-A3DB-FF0E0E07C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EFEC9-F6E3-402E-8F78-A26DC2C02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3FD7A-B314-4FF1-87B0-3719ACB59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E9C394-F29E-42FA-B6F6-F37C2E94A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18594-BB99-423C-AE16-30C045C2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C5C8-35DD-4A94-930C-31DA68BA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031D9B-FA3F-45D6-9067-5C319918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B7DA85-8583-489E-953C-C6C1BD23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8057E-7119-4A20-9E03-58ED9C5AD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C1171A-DE5D-47D1-B1BA-B01111272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ED998-95D8-41A7-82E1-BE4DB8FA4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2E77D0-BA57-4467-8265-3F918ABB5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17F2F4-40EA-4338-BEDE-B5E738AC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F5F512-33E9-489F-98C8-F39C111B6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D3BE35-6AD5-487D-8451-413CC6725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740D72-D99D-48B4-9213-9ACE9D3A2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88DF-0717-4E2F-9197-1C8524F1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29DED4-23F8-40EF-80B8-9E1B1A402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A25345-1B3E-445D-B094-3062B7FB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C98B52-3ED4-4925-B513-6025C6C5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3645FB-CCE8-43F6-8AFD-BD387CAD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B87C0F-4346-4FF7-9CCB-8F5E48F4F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391B5E-24E4-4B23-A2C2-D50A4E483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BCCEC6-C928-4BB6-AE76-54793F658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D32BA-27BA-4CD6-907D-ABC7AD66581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EC09D-7925-4E08-80ED-666FA8DD7702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D4653-4DF6-423A-B977-2777F91EC79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F91DD-88C2-45E9-AC9B-6086B6CAB81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3767A-6B6F-4E7F-A5BE-94C278B997A8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DC772-7FB0-4D21-BCA6-7DE4D4DB8A56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6A53E-8CEF-4D50-833A-5AF9308CE5D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16F05-77E6-4878-A415-0BC44CD28C51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778500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2.3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Sparen met profijt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8" descr="http://www.telegraaf.nl/migration_catalog/article20002649.ece/ALTERNATES/sectionImage1500x1500/spaargeld-kind-kwod470"/>
          <p:cNvPicPr/>
          <p:nvPr/>
        </p:nvPicPr>
        <p:blipFill>
          <a:blip r:embed="rId2"/>
          <a:stretch/>
        </p:blipFill>
        <p:spPr>
          <a:xfrm>
            <a:off x="0" y="0"/>
            <a:ext cx="313200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475920"/>
            <a:ext cx="8229600" cy="55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aarom sparen mensen eigenlijk? Met andere woorden, wat zijn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spaarmotieve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voor hen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voor een doel/grote uitgave (bijv. een auto kopen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voor een tegenvaller (bijv. de koelkast die kapot kan gaan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voor de rente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oordeel: sparen geeft extra koopkracht in de toekomst = door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nu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maar een deel van je koopkracht te gebruiken en de rest opzij te zetten, heb je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later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extra koopkrach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68360" y="260280"/>
            <a:ext cx="8229600" cy="553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84400" indent="-199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langrijk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t rentebedrag is hoger bij e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 hoger rentepercentag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 hoger spaarbedra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 langere looptijd (= spaarperiod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Inflati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zorgt ervoor dat geld minder waard wordt. Dat komt doordat de prijzen over het algemeen stijgen, waardoor je voor dezelfde euro minder kunt kopen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(= nadeel van sparen)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est gunstig voor sparen: als rente veel hoger is dan inflati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549360"/>
            <a:ext cx="8229600" cy="54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paarvormen verschillen van elkaar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oor de hoogte van het rentepercentag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oor de hoogte van het minimale spaarbedrag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oor de periode waarin het spaargeld vast moet blijven staan op de spaarrekening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rekening rent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Spaarbedrag : 100) x rente % per jaa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mrekenen naar andere periode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pas d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gemene omrekeningsregels toe!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ijv. (Rente per jaar : 4) x 3 = rente per 3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wartal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</cp:lastModifiedBy>
  <dcterms:modified xsi:type="dcterms:W3CDTF">2016-10-27T20:08:51Z</dcterms:modified>
  <cp:revision>57</cp:revision>
  <dc:subject/>
  <dc:title> </dc:title>
</cp:coreProperties>
</file>