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7.png" ContentType="image/png"/>
  <Override PartName="/ppt/media/image11.png" ContentType="image/png"/>
  <Override PartName="/ppt/media/image12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B695-F01E-4E4E-A781-00E3972E2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0F9F-66BA-4DAF-AB5E-E74C2E714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796A-EF04-4327-8FA7-71EBA3410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59C3-E5D9-4409-8A64-B7F09445F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AC0A8-6265-48A0-93A1-07602B7D8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F2BB7-4983-4423-A866-0259186A6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11A47-8A08-49EB-9881-86F32CAAD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8CE59-BC5E-4AD0-A2B3-27C35D65A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39812-2393-496C-9D83-CC6C9D4DD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CB1E5-C25B-4649-89C8-6AB316055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3E545-D697-4A6D-B969-300FEC7F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0117-7E42-4145-911A-EE7208D82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C9FDF-C350-405E-9F6D-1FF50303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E0755-5996-4D58-B396-D45E59E6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E2206-7F36-4949-9FF2-8762F8537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FC0B3-CE33-416D-B868-DBE46D425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FEDC8-7FFD-4531-BA5D-BC9525312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06057-B676-469B-864F-33D57457C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5E08C-4213-41FC-B337-48E79972A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96B18-E13A-43F6-B818-4A14FF75D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FEC41-9FF9-4A04-B792-8FA159546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AE8BE-03F0-4231-ACCC-47C1D10B0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70DF-D92B-4B15-9279-E53C5B5D5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5F6CF-FFF8-4600-8BFB-F82C3A363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4C9A9-26EA-49C1-98B2-B3708139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B77AD-7616-45AF-B55A-0F5AF91D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8BBAA-A3AC-46D7-B5FA-17EC65BD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F8F74-72A6-4D72-BD8F-3F9435BC5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FC58F-A087-465E-8416-11A2096D6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7B262-506A-442A-9F10-F43C5F2BB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89859-73D5-4185-A644-A00151A5D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4DD23-987D-4866-9EDB-7FB365251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7F267-CE93-47C5-81BE-07F62FD52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AB4F-A066-46BA-9978-23BCC9940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2951D-98DC-4EF4-BB8D-AAE4D0EA6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FE75B-16B6-4791-8743-946AD7FF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F10D1-4A54-47E2-BEA6-A14C9E876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F1B8D-3E01-41F0-8B41-39AE8BE4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BECD2-75FA-4B95-93D6-95D50AB5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5B7C5-000D-46E7-8F56-6595326C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09F15-3B79-4628-AF93-4EB1E9953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67DAF-E6FD-4DDB-BD33-D051D8DD2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8ED6C-99A4-4E9F-97D9-E61F4423B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9410A-2488-4956-B807-240FEE37C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46F8-EDAF-417F-89E1-EB08A4AA5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151C0-5B00-46B7-86A4-CD99FCFCD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7DD7A-D353-4F1C-8EE2-9E857AA1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29336-EA62-4408-BC8B-7E5C7F6E8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EA68B-4DE6-4CC5-B6BD-8CF3E6D4E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0B4F4-69D5-4E75-84AE-0CAA63DE9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308CD-CD45-4DDD-B1D6-0DCC6B286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6961E-77EE-4198-A3AA-3C7E235D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48A4D-0A57-4250-83AA-697DDCB5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1B2C2-4BC5-49D7-8A02-FF245B5C0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79B11-C8F9-42F9-8CF5-055B9AA8C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C8D2-A19A-4033-83E2-4CDDAFE51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58BC5-6D2F-49D2-BEA8-B6125FCDA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FE78D2-0D5A-419A-A4CF-3E491E836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DE4584-2401-4DDC-B0F5-AA1EF438F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3B8285-C79D-4595-AFA7-FD688BA11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2B950F-8E77-42C5-9244-AD3E1126F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681E1-6703-40C4-8ECA-CEEED65AC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1EF67-8D27-47FF-A1B5-2B37D9BF1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A56D2-A375-4EE1-8742-490F9345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2268C-4F29-4661-A988-7CBC274C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C0611-C514-4F01-9F7F-3CA8B751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5703-630B-4C34-BB38-CFC25A34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F6998-9342-44D2-97A5-CB4D5350B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65E262-F54D-43A6-A1C1-335E3B532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62623-3041-4FAF-B2C7-53A4AEB9A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7A4F1-3D7E-4C57-A016-61995693F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6A13E-357C-4DD1-8771-65C79B441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50FA0-55B6-4B9D-AF9D-FE6F9D0A9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C9FD7A-2A35-4113-BBB9-3A0B4E45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05F9AA-A7E2-4FBA-97B0-4CCD3FADF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CB03DD-082B-4904-AC97-7CE378923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E56F7-4BE5-4CB7-A830-C5B53026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B47F-B145-41FF-A09B-08025F94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8FA4AF-A5A8-4CCE-A801-E6C34CF2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536C5-B59C-4BC8-A2AD-9E110EF2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2A059-A80D-48C6-93DD-1518112BA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CCACE4-5399-410A-950F-F1078450A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C4B6CE-FEC4-42FE-A46B-D36029731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29827C-5584-4642-A56B-6EA044EF4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75FD4-3E38-4414-AAF5-DA3C68C58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541EF2-B3C3-4478-82CC-8047FBF31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64FF8C-7D59-46E2-A2EF-76E866ED5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521DE3-A0CC-45A2-827F-2219BA27E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798E-6E02-4EB6-8CD9-08F62C70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B699FD-445C-4B4B-BC46-AFA35C936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152681-BBB1-4878-B3F3-AC669E25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FC8791-058F-4ED2-B6C8-1109F9DC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30551C-2715-4505-BABC-FA3D4B5E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9B40DD-ABFA-4804-B0D8-F662CD5DE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4887A-402D-49D8-BBEA-96AEE5D06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364D45-9915-4EF4-830E-D7AFCC04E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B80D6-E9CF-4924-BB9F-5F5E056E5C97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89D36-F750-4FCB-AB4F-E40062A4A2DE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981D6-F97E-414E-8E39-16E63A136FB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1CF09-40E1-4556-939A-5AB915E8430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EEF9D-3872-4380-A4E9-2831B111D457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0CBA3-763A-4976-A2F3-3A0F9E7FB2E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9B0DB-5403-4B5F-B947-2C8C5BD4037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77D04-C9B3-4FD1-A214-08F98F76252D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778500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2.5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Lenen en betale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6" descr="http://www.geldlenenmetspoed.nl/images/letop.jpg"/>
          <p:cNvPicPr/>
          <p:nvPr/>
        </p:nvPicPr>
        <p:blipFill>
          <a:blip r:embed="rId2"/>
          <a:stretch/>
        </p:blipFill>
        <p:spPr>
          <a:xfrm>
            <a:off x="0" y="0"/>
            <a:ext cx="391320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88640"/>
            <a:ext cx="8229600" cy="58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aarom lenen mensen eigenlijk? Met andere woorden, wat zijn de leenmotieven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voor een doel/grote uitgave (bijv. een auto kopen)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voor een tegenvaller (bijv. de koelkast die kapot kan gaan)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oordeel: je kan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nu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en product kopen en meteen gebruike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adeel: je zit vast aan de maandelijkse kosten van de lening (aflossing en rente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enbedrag wordt bepaald door: hoogte inkomen, vaste lasten, arbeidscontrac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AutoShape 4"/>
          <p:cNvSpPr/>
          <p:nvPr/>
        </p:nvSpPr>
        <p:spPr>
          <a:xfrm>
            <a:off x="63360" y="-136440"/>
            <a:ext cx="6991560" cy="36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6" descr="Gerelateerde afbeelding"/>
          <p:cNvPicPr/>
          <p:nvPr/>
        </p:nvPicPr>
        <p:blipFill>
          <a:blip r:embed="rId1"/>
          <a:stretch/>
        </p:blipFill>
        <p:spPr>
          <a:xfrm>
            <a:off x="6659640" y="2327400"/>
            <a:ext cx="2306520" cy="1212840"/>
          </a:xfrm>
          <a:prstGeom prst="rect">
            <a:avLst/>
          </a:prstGeom>
          <a:ln w="0">
            <a:noFill/>
          </a:ln>
        </p:spPr>
      </p:pic>
      <p:sp>
        <p:nvSpPr>
          <p:cNvPr id="376" name="AutoShape 8"/>
          <p:cNvSpPr/>
          <p:nvPr/>
        </p:nvSpPr>
        <p:spPr>
          <a:xfrm>
            <a:off x="63360" y="-136440"/>
            <a:ext cx="4314960" cy="30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10" descr="Gerelateerde afbeelding"/>
          <p:cNvPicPr/>
          <p:nvPr/>
        </p:nvPicPr>
        <p:blipFill>
          <a:blip r:embed="rId2"/>
          <a:stretch/>
        </p:blipFill>
        <p:spPr>
          <a:xfrm>
            <a:off x="4403880" y="2327400"/>
            <a:ext cx="195408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620640"/>
            <a:ext cx="8229600" cy="53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nen wordt aantrekkelijker door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1- een hoger inkom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2- een hoger inflatie (hoe eerder je iets koopt, hoe lager de prijs)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paarders stellen hun geld beschikbaar aan de bank waar ze spaarrente over krijgen en de bank leent dit geld aan de leners waar deze groep rente over moet betal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paarders zijn aanbieders van gel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ners zijn vragers naar gel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90792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en lening die in een aantal vaste termijnen wordt afbetaald, bijv. in 36 maand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t afgesproken bedrag leen je in 1 kee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Je betaalt regelmatig een bedrag voor de lening = termij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ermijn bestaat uit aflossing en rent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Berekening rente = (aantal termijnen x termijnbedrag) – bedrag len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el 2" descr=""/>
          <p:cNvPicPr/>
          <p:nvPr/>
        </p:nvPicPr>
        <p:blipFill>
          <a:blip r:embed="rId1"/>
          <a:stretch/>
        </p:blipFill>
        <p:spPr>
          <a:xfrm>
            <a:off x="225360" y="115920"/>
            <a:ext cx="8467920" cy="7794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5" descr="http://financieel.infonu.nl/artikel-foto/lenen/64-lenen-tegen-lage-rente.jpg"/>
          <p:cNvPicPr/>
          <p:nvPr/>
        </p:nvPicPr>
        <p:blipFill>
          <a:blip r:embed="rId2"/>
          <a:stretch/>
        </p:blipFill>
        <p:spPr>
          <a:xfrm>
            <a:off x="7521480" y="3645000"/>
            <a:ext cx="147636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Lucida Sans Unicode"/>
              </a:rPr>
              <a:t>Niet alleen banken, maar ook andere financiële instellingen lenen geld uit. En deze instellingen vermelden soms de bijkomende kosten of de aflossing er niet bij! </a:t>
            </a:r>
            <a:r>
              <a:rPr b="0" i="1" lang="nl-NL" sz="3600" spc="-1" strike="noStrike">
                <a:solidFill>
                  <a:srgbClr val="000000"/>
                </a:solidFill>
                <a:latin typeface="Lucida Sans Unicode"/>
              </a:rPr>
              <a:t>(zie een voorbeeld op afbeelding 38 blz. 63 in je lesboek)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el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</cp:lastModifiedBy>
  <dcterms:modified xsi:type="dcterms:W3CDTF">2016-10-27T20:08:18Z</dcterms:modified>
  <cp:revision>75</cp:revision>
  <dc:subject/>
  <dc:title> </dc:title>
</cp:coreProperties>
</file>