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A04-3D10-47F1-9225-43D74DAC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33E-4C79-4055-8D6F-E394B731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CD7-B086-48A0-82E8-693193BF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DF0-682A-46C9-8F05-85591085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8D75-CAE4-47B7-BC4D-CE4124FA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245C-EE50-46C2-B2F4-AB1E42A7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AF39-5E46-4636-BC65-1D92FC01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8928-BB03-445E-884A-3F8C2EAA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CE70-214E-4CFF-9122-C31E7F13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2086-31DA-484F-AB09-DDDA9095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43F3-AFB1-457F-9962-D0F24058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9B9-6176-43FC-BF63-6DB97D12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1A28-F664-4210-91F0-D5AF0148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6507-3A23-481E-8386-69F1306C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8101-066F-4049-8A4F-C5688550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2416-EE87-46A5-A410-6C8B288A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3304-2286-4DCA-8239-5B84D545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5D9E-B350-4E2D-8963-7924327D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EF6A2-1FE4-4AD2-AA50-E20C9E87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C54F-9742-4212-AF25-429357C3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B9D41-5ADC-4DE2-A0D3-04F0C814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33088-0E24-46C6-A2D3-82E6B27D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E27-3EBC-4065-859E-DE1B2DD3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09686-5130-4158-9584-E2253BE2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B1D84-C937-4FF2-B2E0-549A5A68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F670D-7974-43EE-835C-9F8185C3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32687-E2D9-48E3-A352-0F43CB18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9B4F-8D78-463B-860F-C9C9DB21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F9763-034E-4687-BBDB-7DBA4A5E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BD8BB-52DC-4CE0-80B2-6AD43224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1E08F-FC95-408E-9345-8A5DFF69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60BB8-A99D-40C4-AE63-7A1D5EFE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81B2B-10A2-4AB5-B8CF-FAD3C659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E3B-A86F-4A0B-BAD1-3CD4DB58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7096-EAAF-4670-841E-0707FF0F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FB6D-C6C7-4E82-A976-F2CC44CE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90DBF-56E2-4E23-97C4-9FCA942E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35597-58C6-41B4-B547-DEC5DF7F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01DE2-C1BF-49CC-B321-44778296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1D002-4973-4A5D-AB6E-667AD44C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243F1-4153-4AE8-BB2D-F8EB3517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30B92-EA79-4C5B-B718-FAD6A87A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EAFFD-3060-42F9-ACE0-040D8354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48EBC-ADAC-43D9-985F-543C0A59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F9B-D41C-4164-B88F-142D8223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B5E8F-4E10-456D-AE28-B5B82FF5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CD27B-8D94-48CF-B3B2-88325C0C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7D59F-70B9-44C8-8301-D6CCAB82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DF6C0-745D-46BC-B161-EB8D0919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28C65-B019-4243-A7C1-395D8BC1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89328-F08C-467D-A2F1-97D0FC92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332A2-BB1A-4A05-A06D-762E9B93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E3F85-8508-4DA3-B063-D31DD564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CB289-9219-470E-AAC8-56B0EA4E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2C9D1-4DD2-4538-9C0C-56441975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37A-F4CF-47B1-9F1B-649B3E04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5DC11-30AC-4BF6-A17C-03BACF40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A8A89-F815-4B12-9E9E-CEAEA5BF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8E533-0D60-41B0-9459-6E1D29A6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7FB81-A148-4409-9F00-EE17E26F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F12CA-622C-4B7D-BA00-78486320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B3963-2273-43B1-918D-62786E54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5AE1D-9B23-49EA-B9E1-D2E6FBBC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59043-5BFA-4726-80AB-5E6DF38D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ECF87-D156-449E-B3DA-428921C1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C103E-4818-4A63-9376-262BF904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4DF-7EAE-40D7-937B-72579C4B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E6CDA-38F8-483E-AE1F-0F396894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553AF-E427-4BFB-8AB6-8182C6EB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C68FC-4939-42CD-8DB8-3CDC9CCB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AB541-AB82-477F-B275-54705A0B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D5D3E-8EC1-4088-B0F9-ECB1943B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E1787-8221-44E3-B16A-AE5132E8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6AE7C-8982-4F1D-90C2-50A569C3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9A459-ED3E-45A3-A0DF-689DE7E2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E0A2C-B6EB-48D6-BF30-C04D8ABA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E5E12-C6BE-451E-BB85-0D47D8D0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A6E-3F5B-474D-8C85-898F446E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4ED81-5A9C-41B3-8619-DA240A0A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5AD1B-F4BD-408E-818E-AB8F0494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E6EC8-FF6F-4E3D-B448-01BA7AB2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E0CEE-4212-43E4-9041-89424393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9E40F-90C5-448A-A686-E7D031DE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97A85-9E1C-4193-B0EA-6A9A2644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E84BA-9383-40BC-8C24-8AB35125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A4827-0494-4BA6-816A-FE461AB9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10EBC-1364-4F0C-8F3D-1BD494CB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942FD-CE3F-4621-A97E-5E6AD50F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C39-C8E9-4F9B-81DE-845691BA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60893-7B44-498C-A334-97E59165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BF40B-4E10-4E30-899E-5AA2CDB0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34D58-4B8A-439B-BE31-3D25D5F5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767C6-10FA-4A62-A231-8EF6DE72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4BA4E-2AB6-4123-ACC4-2B083BEE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52B3E-2666-45B6-BA39-41365DD2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44828-4FD9-4D39-A7FA-302F0D4F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72C4-F662-44C2-AAAB-62137CDF2F0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2C1C-05FC-41DA-8F2D-2482F4ED55C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3FA5-D95B-472F-911C-A12BC594A6F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BF20-75ED-4A70-B5E8-E936FBF353C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554D-6BFF-4F26-95BA-3C16B587719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CC82-9E2A-4A56-9DB6-2B90ABB20D9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A385-5B69-4DBF-88F2-307BF7CCFF4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2292-F034-4019-88DF-A157EE0162A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l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ijler.nl/sites/pijler.nl/files/styles/abeelding_610x360/public/kids/1361706_70048200.jpg?itok=NZsuqR7B"/>
          <p:cNvPicPr/>
          <p:nvPr/>
        </p:nvPicPr>
        <p:blipFill>
          <a:blip r:embed="rId2"/>
          <a:stretch/>
        </p:blipFill>
        <p:spPr>
          <a:xfrm>
            <a:off x="0" y="0"/>
            <a:ext cx="3276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e rui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goederen/diensten ruilen tegen andere goederen en diensten; dit heet ook wel ruil in natur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Hans schildert de kamer van zijn vrie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 zijn vriend maakt de scooter van H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directe rui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goederen/diensten ruilen tege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Jantje neemt een zak brood uit AH 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eft geld aan de caissier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oor opkomst van geld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meer arbeidsverdelin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uil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ruilen tegen goederen/dienst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ruilen voor gel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2 euro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eken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eft de waarde aan van producten, maakt vergelijken ook gemakkelijk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kost 2 eu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opzij zetten voor la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20 euro per maand in een spaarpot leggen voor de aankoop van een telefo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613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hart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alle munten en bankbiljetten in omloop. Oftewel contant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ir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geld dat bij een bank op een betaalreken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hartaal geld"/>
          <p:cNvPicPr/>
          <p:nvPr/>
        </p:nvPicPr>
        <p:blipFill>
          <a:blip r:embed="rId2"/>
          <a:stretch/>
        </p:blipFill>
        <p:spPr>
          <a:xfrm>
            <a:off x="6443640" y="1916280"/>
            <a:ext cx="1657440" cy="139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Giraal geld"/>
          <p:cNvPicPr/>
          <p:nvPr/>
        </p:nvPicPr>
        <p:blipFill>
          <a:blip r:embed="rId3"/>
          <a:stretch/>
        </p:blipFill>
        <p:spPr>
          <a:xfrm>
            <a:off x="6732720" y="3789360"/>
            <a:ext cx="13683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17T07:54:05Z</dcterms:modified>
  <cp:revision>39</cp:revision>
  <dc:subject/>
  <dc:title> </dc:title>
</cp:coreProperties>
</file>