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A83D-1B5A-4BF0-B7D0-868D1F561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C7CA-0B69-4925-8A94-0B1BF1AA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AA3F-5725-4A67-A163-F3ED5BC44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F0D2-2B95-48F6-8A8A-2DA0747D0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25EB-F413-4529-861F-CA771AF50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0A8E-76F1-43A4-959D-717EAF1E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A3C1-7C9C-4E42-9208-5B0389F1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9D42-80A4-44BF-9696-E0A7A42A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810D-3F53-4A02-A9C5-D8C27F8E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C363-1B10-4FBE-9094-8936A3EC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51A2-47E2-4BAA-B034-2F26ED08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97CA-B952-43E3-A419-B9E90ED8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4642-B120-4BFB-8B86-AB24CB14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97B6-B95F-490C-A04E-C411ED1C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A9C7-3D53-444D-BA77-A926EAA4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0C76-CE78-4A53-80B3-C4CE7D1B0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6979-C262-44F8-B297-1DB74C0BD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3C8B5-3AA2-4D2A-BCCC-207264493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A76DD-A5D3-4961-8F40-139E365E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5286B-BFD3-483E-AFAB-829CD400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72E19-FD80-4630-9755-7384BBBB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67264-D604-457D-AFA6-AFC93524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4639-536A-40CF-A5F3-C21F41C1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04730-366B-41EC-A7DF-30C1C1FF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CEA24-841C-49EE-B48B-845DDED1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02BC6-81DE-4622-90DC-80F96DEA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DF99F-16C8-464A-B17F-532E9DC2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8CFFF-B927-45AD-A280-61784AAF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24833-8D22-47B6-9E4F-821CEE743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5358C-18A9-41EB-A7BF-545EF8936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EF87B-B49E-433D-AFC2-F8C3866E5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C9E23-65AF-4E35-842E-C08F6EF8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B45A7-EDB1-40A6-9134-1C80B0D9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38F2-B1A1-42E2-970B-3321E49E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A9DD4-D46E-496D-B095-F51AAC12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AB9D6-1A8D-4F5E-B054-67F1462A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BD9BC-869C-4A17-9A55-40BB3E64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1F67D-C712-4FE0-BE79-67166691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8C952-437D-4332-A26D-04160365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1BF60-3785-42CC-A01A-9CF60854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B0946-D893-4524-8B4C-E9A255A6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50656-981F-4542-9C02-2FDE87D2B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612D8-221C-4809-A472-41D61C7E6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19937-D911-4503-957B-C541A4BA1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D4E7-CB0E-43B4-B1C8-D9E1A74D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2B3A1-D540-40F6-BC9E-D82C8471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8DCF4-3CB8-44D2-A0D6-FE07DB3E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33134-A7E6-4840-8E65-72E0B698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B177A-F37A-4071-A1DC-C37D30CA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48977-DFBB-48BD-9F6E-77F114C4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F3DBB-41C4-415D-8558-BDFF19C3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1BC70-AF26-46A4-ABF3-0D4A350D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E8C8B-DF6B-452E-9E93-5DD85BDA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5B2FA-B660-4586-9301-D2C195D9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260EB-9D4F-47DD-ABD2-324C8077A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DCE6-B83C-4B74-AAFD-242CBBA8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56D47-1C85-47C0-867E-C6E27F2B5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63C1C-D45B-4CDD-81A4-E517D280F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97F93-D85A-4103-9EE8-A9A332F9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BED0E-AAEF-46A6-A08C-16BD1D2C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874B0-DED6-49C2-A330-E2F94DAF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0A2B0-787C-40B3-8A7B-5553C301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E870A-6599-4795-B25A-CED35CC0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5A8A1-C5D1-46AB-A94C-13E572E6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03568-D6E5-4302-AAF7-EB17D81D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B2ECE-D302-4AAA-B29B-0323FECD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2CDC-1C5E-4919-8BC9-FF1905CB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D0F19-E826-4CDC-93F1-7A128F0D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B7BAB-FD63-4F3C-83E3-0ACAE13E9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749E3-FD4E-4397-8AFA-FBDA50A62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01800-6FFA-4F5C-B809-DC5AD5139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51015-B69E-4550-8EF0-6C4131F4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FCB8B-2523-4A5A-9BC6-B98B7EBB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D41E3-9698-4B9B-AC81-6AA792E2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BBC92-7535-49BE-A25B-934A3999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05DA7-845D-4F3A-9F72-36853037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BB55E-3345-4624-B6B3-226C7DD6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A876-7907-49AA-8C98-2CB92C5E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C2E4A-1525-4DAA-B729-23F54BF0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95A7B-AAD7-4146-8730-88DFFCF3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DCEC6-3330-4A94-A5A0-62E094C6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C5FD6-2605-400B-8BC3-4AB91F8E0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3E913-EFB4-4E33-A168-57DCE087F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A9DAB-E58A-43A7-B0CF-3766D2EC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EA8ED-1E70-4B63-9D86-D9F2ED96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849D5-AB73-42B0-A66D-5142E9B9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6CB89-808C-40DD-80DC-B97BA424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6DF18-6A93-4083-B261-523C0452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26BC-1A5F-434B-AF61-2EF0687B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C4580-9A47-46D2-8ABC-61A8A5C4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6CF73-C340-4C2C-A356-9236ACB6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F67C7-14C3-4E02-97F9-F6C9C5BB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4082D-9731-4135-B02F-8FD6CC3E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46D91-9295-421E-A467-0FE4C0FB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CF24E-8C0F-405E-8DCE-8200D940F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2A7E4-24F8-4B69-B2AA-3828891FC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B206-521B-4CA9-B282-68F8F6C3EB8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5096-FAA4-4F41-A1BA-F33A22A60315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1431-9ACE-4740-B506-3332B3A5219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57A0-1D83-4701-BEA4-82E04F424F4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CF44-3254-4ECD-A922-452AF622185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F28B-2ECD-4043-9BC9-D89642FC2FF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209D-F914-476E-9B22-A252C3042D6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5CDC-5189-4FE3-85B2-8DFB60B07983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3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Sparen met profij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8" descr="http://www.telegraaf.nl/migration_catalog/article20002649.ece/ALTERNATES/sectionImage1500x1500/spaargeld-kind-kwod470"/>
          <p:cNvPicPr/>
          <p:nvPr/>
        </p:nvPicPr>
        <p:blipFill>
          <a:blip r:embed="rId2"/>
          <a:stretch/>
        </p:blipFill>
        <p:spPr>
          <a:xfrm>
            <a:off x="0" y="0"/>
            <a:ext cx="313200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arom sparen mensen eigenlijk? Met andere woorden, wat zij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spaarmotieve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voor he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or een doel/grote uitgave (bijv. een auto kopen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or een tegenvaller (bijv. de koelkast die kapot kan gaan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or de rent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deel: sparen geeft extra koopkracht in de toekomst = door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nu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aar een deel van je koopkracht te gebruiken en de rest opzij te zetten, heb je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late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extra koopkrach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68360" y="260280"/>
            <a:ext cx="8229600" cy="553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langrijk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rentebedrag is hoger bij e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hoger rentepercenta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hoger spaarbedra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langere looptijd (= spaarperiod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Inflati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zorgt ervoor dat geld minder waard wordt. Dat komt doordat de prijzen over het algemeen stijgen, waardoor je voor dezelfde euro minder kunt kope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(= nadeel van sparen)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est gunstig voor sparen: als rente veel hoger is dan inflati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aarvormen verschillen van elkaa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oor de hoogte van het rentepercentag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oor de hoogte van het minimale spaarbedra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oor de periode waarin het spaargeld vast moet blijven staan op de spaarrekenin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rekening rent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Spaarbedrag : 100) x rente % per ja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mrekenen naar andere periode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pas d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gemene omrekeningsregels toe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v. (Rente per jaar : 4) x 3 = rente per 3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war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</cp:lastModifiedBy>
  <dcterms:modified xsi:type="dcterms:W3CDTF">2016-10-27T20:08:51Z</dcterms:modified>
  <cp:revision>57</cp:revision>
  <dc:subject/>
  <dc:title> </dc:title>
</cp:coreProperties>
</file>