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6303-536B-497E-971C-355B8C30BD2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AD61-DB49-40BF-98E6-EDBC4D61FAF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982-2894-4623-9130-A3A80834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7DDB-B5A2-4F13-A60B-FDCD0CB0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E98B-D265-4B6B-ACC0-1B08AFB0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DD4-A032-483E-BAE1-0B320FB7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77AA-747D-4BDF-ADA2-1B6F5D69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E534-B210-4190-9A4C-CB58B61C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5CAB-9D46-4B90-8D34-9C356D25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37CC-D0E2-4025-AA4A-9F36CB3F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7E36-36D0-45E0-B223-667556B9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7140-5399-4C60-8BCB-EA7024E9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2CC6-F08D-4354-9564-F915FD04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97AA-8CF6-4622-974B-5D41A7B2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874F-2299-46C4-A430-D28E8820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168B-CD2C-4334-A725-55E24C99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259B-E2F0-4774-8D15-2A4D4B51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08DB-4B81-465F-AA65-9F44CFA2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EFD7-DC64-4CD2-87F2-A1693DE0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659A8-6FC0-4503-BE77-58592A3A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3726B-4BD7-4B4A-8449-EC2524BE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6C99A-C2FB-4230-8630-FB3692D5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87570-C1CC-4D10-B0EE-7A7FA72A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4CA67-B186-41B9-A65B-E763045F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E3C7-806F-4329-BC87-EBC6A16F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EE550-A2A9-42E2-8EB6-94636D02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38D6F-9567-4074-BDBC-750C18F0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DE396-6C9B-4579-8F1A-355E539F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6A096-7325-4A18-A676-8EE630AE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15F42-C778-4B96-A935-0E0102FF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AE787-03D7-4433-8512-D86B6196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EE9AF-100A-4EE2-85EB-A5766286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C2512-83BE-468A-936C-9030FAC8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FB71B-D89A-4F30-8B4F-5A6DBF50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5F223-498B-494D-BEE0-8A64B20F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AD29-EE8A-40C4-8B4A-ED8869B3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83005-8229-4099-8776-5CDB8FB9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B143A-D1A4-49B1-858C-FF4CD484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B806B-605E-4FEC-BA25-0D66C00B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3226B-439F-4B17-AD3E-5FF35FD0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D435E-2207-4F6B-A44C-96E37923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49C7B-7DEC-4689-B810-6AB8CED8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000F2-64F8-4377-880B-A8F17055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965F5-E38D-482E-A457-71A97BB5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08044-4ED0-47A2-8D49-1C55C286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E4991-50E5-44DB-A71E-E9EAF82F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CF04-CAC4-4B02-AC3B-2F676714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98A98-B33A-4455-AE1A-DDBE268B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FAFAC-A954-4C08-83D1-D5AFE5C2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6E21F-1886-4274-B977-8BFC5369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D3CEB-A5DC-424D-A3DF-F4EA062C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C66B7-7A6B-48C1-BFF5-1B5BF921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CB692-89EB-49B0-9AB6-F1B0B908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A4DAC-C429-4B8A-A088-EED36825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F2123-B35E-4E17-A763-DD0B2015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AED20-CFB0-433E-9694-1B933545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C3C94-FC57-449C-8280-4B1068D9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126D-844A-4596-8EF2-83B3FC4D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68C48-953A-48CB-ACBB-9572602D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D49F6-5FF1-4973-BA88-34D1F56F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ADF96-3101-40D5-A2A3-625B84DE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1E334-3170-4990-A9B2-5799B144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AF96F-B23F-465F-9263-7C4C3EB5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3FC4F-461C-4B1C-8F06-E122097A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1CFA0-CFA9-461A-80FA-9070C9FD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2991E-CB90-4E58-81CA-428C3200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D8116-87C6-406C-8B1A-360430D2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338F6-4298-4F32-81E2-DF5A0C3E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FBC-34A0-4B5C-A1F4-E2EA257D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74725-32FF-4DDA-BECF-E5A158BB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68332-7F61-4483-9450-D4BC9D86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1EA88-572B-4B65-99B2-3CD954E9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B0A06-6A7A-498E-AC70-3AF818C7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D2D4E-C44E-4BCB-8A67-331EF456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2F5B5-0728-4CFE-BEF1-0630D09D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162A7-A635-4D19-BAEB-0FEDC545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438BE-A045-4D9A-87CA-D34641AA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6E4B1-BB02-4BFC-9620-AE1B60BA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09377-3515-42C4-AD64-B3335BEF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B1C-E3FA-4F97-B2EA-3D65F9B6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CA25F-B125-483F-A99F-E3073993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9979C-6A73-42F4-9303-75BDE82F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B7D08-845F-424A-8338-DF1CD068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9AF17-7947-48FD-8235-0B63F0AB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C611D-4509-4636-A838-0EB709D1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8DB58-1934-4188-8211-D45A7A7B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3BEDE-DD69-4E7A-9FB3-A6B84EC2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C582E-F598-45FE-9570-11853BB3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0F474-B224-4640-9AFF-58E11C64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AA814-FC17-4107-8EEE-2635C21E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502B-71C6-4C6D-A4FB-137CA456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0A7A3-459F-4AD4-9624-CDF5DA6E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9EB26-E74C-462F-AEF0-E994E49D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F0878-8C48-49DA-8C54-6D63CBBF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6E355-A576-414F-8C44-EFE7EDF4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480A7-B030-4BFB-B4AF-27E5C1DF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59F86-C315-4307-ADCB-6F5F27AB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2551D-923B-4FA6-8A1E-8BF610FA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457C-FD67-4079-B209-CBEA4FD739A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F82C-3BEF-46D0-AF4A-36D0A3F141B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193C-8431-44EF-8453-83229500ED7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333C-9A83-4C23-A0A7-4F0035BD988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09F6-FE24-42EA-BAB6-AAFE7C20F1D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8B10-DDDF-4AE6-9D2D-1E2EAC0E949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4368-19DC-4B0A-89B7-2E106DB9857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8E51-2E22-402F-9015-3636D36078C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op kredie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6" descr="http://super-aanbiedingen.nl/wp-content/uploads/2011/01/ipadopafbetaling.jpg"/>
          <p:cNvPicPr/>
          <p:nvPr/>
        </p:nvPicPr>
        <p:blipFill>
          <a:blip r:embed="rId2"/>
          <a:stretch/>
        </p:blipFill>
        <p:spPr>
          <a:xfrm>
            <a:off x="0" y="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soonlijke le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lopend kredi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op op afbeta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uurkoo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http://www.geldlenenabc.nl/wp-content/uploads/2015/03/woordwolk-kredietkrijgen.png"/>
          <p:cNvPicPr/>
          <p:nvPr/>
        </p:nvPicPr>
        <p:blipFill>
          <a:blip r:embed="rId2"/>
          <a:stretch/>
        </p:blipFill>
        <p:spPr>
          <a:xfrm rot="2034600">
            <a:off x="4654080" y="2292480"/>
            <a:ext cx="4172040" cy="24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Uitleg persoonlijke lening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zie paragraaf 2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oorlopend kredi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 een bank of bedrijf waar je iets koopt en niet gelijk hoeft te betal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r is een maximumbedrag tot waar je mag lenen (= kredietlimiet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mag datgene wat je afgelost hebt weer bijlen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betaalt een termijn die hoort bij de kredietlimie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looptijd staat niet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8864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Koop op afbetaling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koper wordt eigenaar bij de levering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ermijnen staan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koop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(bijzondere vorm van koop op afbetaling)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koper wordt eigenaar na de betaling van de laatste termij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ermijnen staan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</a:t>
            </a: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effectieve rente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is de rente inclusief all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komende kosten zoals administratiekosten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 banken is deze lager dan bij winkel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4" descr="http://www.bnr.nl/incoming/2011/04/12/wehkamp-in-de-verkoop.jpg/ALTERNATES/i/Wehkamp-in-de-verkoop.jpg"/>
          <p:cNvPicPr/>
          <p:nvPr/>
        </p:nvPicPr>
        <p:blipFill>
          <a:blip r:embed="rId1"/>
          <a:stretch/>
        </p:blipFill>
        <p:spPr>
          <a:xfrm>
            <a:off x="6659640" y="1087560"/>
            <a:ext cx="21603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071360"/>
            <a:ext cx="822960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uurzame goederen gedurende langere tijd. Er is hie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e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prake va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igendomsoverd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auto’s, caravans, machi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leasebedrag is bestemd voo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vestering in het produ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kosten, zoals reparat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waardevermindering van het produ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a afloop van het leasecontract kun je het produc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open (tegen een extra betaling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http://www.auto-aanbieding.nl/2012/webfiles/afbeelding%20website/koolen-lease.jpg"/>
          <p:cNvPicPr/>
          <p:nvPr/>
        </p:nvPicPr>
        <p:blipFill>
          <a:blip r:embed="rId2"/>
          <a:stretch/>
        </p:blipFill>
        <p:spPr>
          <a:xfrm>
            <a:off x="6659640" y="1954080"/>
            <a:ext cx="2209680" cy="1797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http://www.animaatjes.nl/wallpapers/wallpapers/paarden/animaatjes-paarden-44772.jpg"/>
          <p:cNvPicPr/>
          <p:nvPr/>
        </p:nvPicPr>
        <p:blipFill>
          <a:blip r:embed="rId3"/>
          <a:stretch/>
        </p:blipFill>
        <p:spPr>
          <a:xfrm>
            <a:off x="7080120" y="3770280"/>
            <a:ext cx="18003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0-28T07:41:26Z</dcterms:modified>
  <cp:revision>80</cp:revision>
  <dc:subject/>
  <dc:title> </dc:title>
</cp:coreProperties>
</file>