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D00-B977-45AB-BDC3-61D14293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11A5-026A-4BB0-A6F8-A9B31B2E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DFF-461E-425E-8539-9D5D92F4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2FF-43C8-45C9-B165-03A72D5C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3890-0EB6-4EE4-917E-5F835D66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7F29-CDAB-4909-A5EB-FF0FF65F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DA5E-49DA-49E0-9194-D805A5E3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762E-B296-4EDB-9669-CEB59352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5660-D24D-4C29-90A7-DB12FC43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708E-1D04-4437-B97F-D8413B6B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F2A2-CAFB-4060-AADB-7885F297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189-118A-47E9-AA6A-9F33955A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301C-4252-4906-B614-7E6CB16D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0E84-3B01-482F-9A4A-913C189A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36F5-2386-40C6-A123-B1F14970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A839-F486-4C99-992F-15330F64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57BB-8AB6-483C-8326-2EEF6E34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3B8B4-4A90-42BE-888D-B1F28232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513ED-1F19-4102-A915-F42C35F4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A9CD3-5CFA-4B67-9613-44B897D3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579F0-610A-4249-9AF9-C3298E79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CDC23-78B9-4016-B54E-17010F23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C6B-B687-450C-B27F-5FA1EC5A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7B53C-E3CF-4E78-8694-25133C47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F9EDF-3CA4-4AD5-A395-55BE7C6A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66614-AE09-4BC8-8811-7DE72FF5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4ACAA-C086-4FD9-8DA1-1945198F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002D6-2814-4179-B2EC-265A7BE7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3248A-1093-4EA6-9FAA-B917BCEF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15C96-AA3F-46C8-BE5A-7D6DA824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C1E92-4C55-42DA-B07B-3BEDB5D6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32502-AF8B-42D2-A5EE-F072F71D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B43FA-564E-48DA-834B-03CD4E25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1DD-DDD1-458F-8DF7-12C8CD22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B96C6-9EDF-4FFC-BF90-A2A3F56E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98BFA-3954-4A6B-B22E-01EEDB96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E2E09-12A9-4777-AE31-2139E569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04FAE-6FF3-4081-B5CD-2989CCBD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51AD6-0FEF-4027-9997-06C8FAB1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0E440-D79A-4CA0-AED8-643D0E08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57972-F341-4D48-92E2-DE999CA4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1F552-F2A4-4370-86EA-8BDBCB2B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6F709-D812-4407-9BDE-242E8EC8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5DF3C-49DB-40DB-BB04-220DBF34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BD9-B08E-426F-9711-576633E7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D912F-C603-4AF2-BDDF-57E9A407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6E854-2746-4799-ABF3-A1A7B43C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6A457-6F5C-447F-8BDD-EE331D7C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7A0BC-AEDE-4E38-B257-F9FAF870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28C32-D21A-4F6F-963B-C415E03D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2F9CB-44EB-462A-A2DB-529E48D9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7F888-19C8-4ED9-B75C-348F6324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F0755-ADC4-4411-A279-F5E0244C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E9544-2EF0-4F62-9B79-D7E2EBD4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169CF-E676-4378-8DDC-A45E6FF8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297F-C061-4B79-926C-389ACF1B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95515-E0F4-456A-B374-A4AE9DF8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B93A1-2E1C-475D-9309-45699E7E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27C77-FED7-43B8-A47B-721F6CD0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8B881-7E1E-4BC0-91E8-A4930278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174C6-5FDE-42C8-ABA7-D1A4F916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29586-453E-4F52-9E9C-2F08C2B0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7DE98-00A5-4D5C-87EF-BA4BA20F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2B3F2-2F56-451C-B1F3-B4F175F4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0F5F6-D8F7-4E78-A8D4-D950D699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459A0-4CB5-49E0-9A5B-B29EEEE6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1DF-B092-402A-95D5-E792813E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087C2-C90E-47FE-AF0D-F51F2755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13EC9-EB02-4818-8466-F3794250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0A6E6-6C25-40C0-BAC8-E6D0B2D7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6B0C5-D02B-4A78-8E8A-C9A7E0AA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263BC-3F17-44F2-988B-4F4BCE97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F1F8D-D77B-4246-8132-E1A8278A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4A246-F124-4D3D-8B69-A0BDDA80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8648D-A970-433E-A24E-E381E72E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A54E7-EFAA-4650-AADF-123000B8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436EB-5080-434C-A79F-EEF3B381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1947-61A1-4B5B-A96D-1EA0A9E3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FD1D7-A6A9-4A7F-AF68-775A1A7E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DAFFE-1BBF-401D-8377-15B046FD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61F45-FFFB-4445-BBD9-0C81B5B9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52319-50C1-4A04-B2BC-6D0B6BDF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0F9B4-CB97-47B2-8F68-DA938A87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8B852-9F81-4452-BF7B-19672F5D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45333-A37E-4B00-94E7-EE519694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0F806-BB7D-4726-AEFC-0090AEAC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A46DB-5D5C-4C39-9DB0-02DFFA6A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A51A2-594E-4D20-9B75-B13C2FD8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9B11-C209-4B6E-BC0A-F3D05B9E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78DEE-F4ED-492F-AE0D-6D59C889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EE69D-A19E-4E17-924A-E9F49E84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64B97-4E87-45A5-BC48-AC317541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B345E-6633-4BB7-B5E9-4DF6E311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44E06-4A13-4869-B403-6D771993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BCFA5-E0D9-4691-A413-C465C5DA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EF754-7EEA-4465-930E-2921BC57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85FB-CB02-4F9C-B5AA-A70C4747822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A23E-72E0-4705-8F52-C0FB3FC02D1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DAA5-B416-4279-BDFC-66E59A7AE55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FA6A-B892-47FB-BDD0-F6FE7E23512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290A-3D67-47DF-8BFC-DCA87850737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8C5D-F8A0-44F8-9624-4AB8BDB509D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53EC-14A2-4C4C-AD5A-37653338CF3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C444-46E7-47A0-BE48-170EE0E8F55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Lenen en betal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geldlenenmetspoed.nl/images/letop.jpg"/>
          <p:cNvPicPr/>
          <p:nvPr/>
        </p:nvPicPr>
        <p:blipFill>
          <a:blip r:embed="rId2"/>
          <a:stretch/>
        </p:blipFill>
        <p:spPr>
          <a:xfrm>
            <a:off x="0" y="0"/>
            <a:ext cx="39132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8864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om lenen mensen eigenlijk? Met andere woorden, wat zijn de leenmotieve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voor een doel/grote uitgave (bijv. een auto kope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voor een tegenvaller (bijv. de koelkast die kapot kan gaa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eel: je ka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product kopen en meteen gebruik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adeel: je zit vast aan de maandelijkse kosten van de lening (aflossing en rent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enbedrag wordt bepaald door: hoogte inkomen, vaste lasten, arbeidscontra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63360" y="-136440"/>
            <a:ext cx="699156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6" descr="Gerelateerde afbeelding"/>
          <p:cNvPicPr/>
          <p:nvPr/>
        </p:nvPicPr>
        <p:blipFill>
          <a:blip r:embed="rId1"/>
          <a:stretch/>
        </p:blipFill>
        <p:spPr>
          <a:xfrm>
            <a:off x="6659640" y="2327400"/>
            <a:ext cx="2306520" cy="1212840"/>
          </a:xfrm>
          <a:prstGeom prst="rect">
            <a:avLst/>
          </a:prstGeom>
          <a:ln w="0">
            <a:noFill/>
          </a:ln>
        </p:spPr>
      </p:pic>
      <p:sp>
        <p:nvSpPr>
          <p:cNvPr id="376" name="AutoShape 8"/>
          <p:cNvSpPr/>
          <p:nvPr/>
        </p:nvSpPr>
        <p:spPr>
          <a:xfrm>
            <a:off x="63360" y="-136440"/>
            <a:ext cx="431496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0" descr="Gerelateerde afbeelding"/>
          <p:cNvPicPr/>
          <p:nvPr/>
        </p:nvPicPr>
        <p:blipFill>
          <a:blip r:embed="rId2"/>
          <a:stretch/>
        </p:blipFill>
        <p:spPr>
          <a:xfrm>
            <a:off x="4403880" y="2327400"/>
            <a:ext cx="19540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en wordt aantrekkelijker doo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- een hoger inkom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- een hoger inflatie (hoe eerder je iets koopt, hoe lager de prijs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ders stellen hun geld beschikbaar aan de bank waar ze spaarrente over krijgen en de bank leent dit geld aan de leners waar deze groep rente over moet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ders zijn aanbieders van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ers zijn vragers naar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lening die in een aantal vaste termijnen wordt afbetaald, bijv. in 36 maan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afgesproken bedrag leen je in 1 ke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e betaalt regelmatig een bedrag voor de lening = termij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rmijn bestaat uit aflossing en ren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Berekening rente = (aantal termijnen x termijnbedrag) – bedrag le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779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http://financieel.infonu.nl/artikel-foto/lenen/64-lenen-tegen-lage-rente.jpg"/>
          <p:cNvPicPr/>
          <p:nvPr/>
        </p:nvPicPr>
        <p:blipFill>
          <a:blip r:embed="rId2"/>
          <a:stretch/>
        </p:blipFill>
        <p:spPr>
          <a:xfrm>
            <a:off x="7521480" y="3645000"/>
            <a:ext cx="147636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Lucida Sans Unicode"/>
              </a:rPr>
              <a:t>Niet alleen banken, maar ook andere financiële instellingen lenen geld uit. En deze instellingen vermelden soms de bijkomende kosten of de aflossing er niet bij! </a:t>
            </a:r>
            <a:r>
              <a:rPr b="0" i="1" lang="nl-NL" sz="3600" spc="-1" strike="noStrike">
                <a:solidFill>
                  <a:srgbClr val="000000"/>
                </a:solidFill>
                <a:latin typeface="Lucida Sans Unicode"/>
              </a:rPr>
              <a:t>(zie een voorbeeld op afbeelding 38 blz. 63 in je lesboek)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18Z</dcterms:modified>
  <cp:revision>75</cp:revision>
  <dc:subject/>
  <dc:title> </dc:title>
</cp:coreProperties>
</file>