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6AC-888F-4D24-A638-85B366BF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943-7AED-4D80-9122-23E7B253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E18-A6D0-4CB1-9C1D-11BD4050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808-FBC6-483E-9632-59E915BB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D2A2-7B9A-4648-8613-10C95376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4B10-08C2-4537-84A2-4AEFBC0C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BA35-354A-4CB4-9B65-5CFF398B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1690-B5DE-456E-A43B-72AFCD4F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0827-B2C6-4A49-BCC4-AEBDB9FB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3C44-958D-4308-9066-29214234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E88F-8F00-49FE-BD78-4EE40DDF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597-08DE-49DF-9D19-19F55FD4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A9B9-2DD5-4192-AB83-88734C9B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5F5C-C94A-4DDE-98DD-122D8780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0EFD-DA41-435C-AE3D-A7E22199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A389-1860-4032-8C1B-79B4D03E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65BD-7435-48A1-A13E-EF91F165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D020-DF37-4C16-A0CB-D7AC8017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0EAE-4140-4889-9ADC-9E7E786D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E4E44-C3C4-467A-8B2C-80A42D41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B04C7-C667-49CC-9422-16AA8991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25D27-654F-430F-9FDC-D704683A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236-E620-47B9-B8BD-056E822F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5B60-ACC0-4F70-A10A-7BAC4470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4C71-53D6-4D2D-8CDE-3F0421BA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960D-2DFA-4CFC-99FD-424EC443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6CF7-C5DB-4197-A693-145DDAC8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75BD-8CE0-44B7-89D3-1D56AB6B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7FE0-300A-4B49-83BD-DAF12D9D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356B-2A01-43A2-8ECF-6D97B031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B147-986B-4D8A-BB5A-93E7ED5A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48687-9DAB-43D7-907A-823122CE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BB7B-7D86-4F93-971E-2DF76675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EC8-59A9-4988-86E3-81415D9C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F7769-0487-4F22-BFC7-4B60433C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2A4A-468F-4B71-AB7E-B0A5DCC7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E43B0-608A-4129-B9DC-F8AFBA46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F0DB4-B39C-4CF2-83DE-99DB5AB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D52C-3A3D-4BB4-A49D-06038BCE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D05A-B489-42E9-BB76-F99023DF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D9F0-AD61-484D-8671-4200A38C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72DF5-87A8-4388-974D-240E445A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03C9-C4D2-4633-A2F2-5BD5DB63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5B994-2F4C-426E-BB4C-8753726F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5A6-F59D-4D84-AFE3-FCE704EC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1D439-FCDE-4077-931C-30F47B60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DF974-6779-4FC7-8B56-B2A49266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D809F-3C1F-48ED-BEE9-03D3C55E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4788B-884E-4851-8ABE-13F2BB72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7D61-B26A-4C6A-90A1-000F9608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A08B2-A41E-4C6A-965D-39D13653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D8F50-9E6D-427C-88B2-6951F59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EEFE9-2B14-4D55-B901-B8D50379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5ED29-3922-4CF7-8673-1A76045B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D5248-0DA8-46F0-B3C9-182FD133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E8A-775A-4B67-977E-B02C9117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BC14B-B3EB-441D-B122-0280501E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B87DE-B6AC-4D9D-85C7-D5503356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EE7C0-54E9-4F90-9919-44703C91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2D53B-D333-4F85-823C-A96CF715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B6782-618C-45F4-B3DA-6275EF8B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25A3D-558C-41B1-88D5-336CA613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9AF9-2FB0-47DE-8661-20765B58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3D763-6D88-4D49-AC38-0334B0F2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BBA35-FAB3-4EA8-8CB7-45D4189A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12917-8B5C-46E2-984C-95D4E53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298-30E4-466F-BEE1-79EBEED2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5DE42-BF45-464C-9232-49372AB5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CECE3-2075-439E-9D5F-13321AE1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FE6EF-5FB3-4DAD-BDBF-28EAE3C1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CE7CE-F2E0-4ADD-90FA-7735B36E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BFA0B-AE9C-4C8A-B4CB-1D4889C7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B9152-C2F1-4721-B7F4-1266EF44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118C5-0203-4DB5-9B75-FAB9026C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0D6BC-C11B-45E3-A9B2-C2C56050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06BCE-EA0A-4F70-ACC6-1F99C796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5F912-A3F2-4CD6-9116-67ECD5A2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A7F-37BD-4328-9DF1-F61F7660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48581-0E6B-4536-A0F3-5943F068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9FB7C-9C2A-44A9-A9D4-002FD8A2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745AE-698C-42D1-B2F9-6242F899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B34DA-6542-4017-A13D-F6CC7D3E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BC636-F5CE-48D0-8561-1CA67C19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0E973-17FE-4268-BB30-207A1DED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5AC81-44D8-47BD-8360-7F03CFB7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C09FB-A7AE-4518-B6A3-DCA20325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29163-152E-471A-AC0A-104CB3AD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3EC00-739B-4177-8684-53661883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3F2-6DDD-4DBF-B4E6-18547F4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EAAFD-0E1F-4B47-9D2E-D4247A41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0FEB6-6EAE-487D-82D8-E6EE117E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975C5-34F5-439E-836C-44DCBEAE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B75EA-C0CD-4984-91B0-C9B62049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58642-3537-4906-AD9E-2E9DDE45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03625-0D9A-4474-B82F-D1C06C89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CC517-29BE-4EB3-B55B-ACAF3C84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05E3-48BD-45F9-B62B-5FFC7976D7B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F01A-FDAC-4505-ABD1-7615BC73C85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ADB1-AC10-47A7-8000-44DD9DFD77F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88AB-3A4D-4702-A230-5CC50F0F52C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8ABA-4A7B-4113-8480-451980285B0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A43-739B-491D-9269-9637AE327ED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B3C3-1E91-4FCB-9E3C-32D1D6DC857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BD3F-7C19-4446-A6A1-ECED33A672C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etalen en banki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ing.nl/Images/mobiel-bankieren-voor-iphone-ipad_tcm7-95589.jpg"/>
          <p:cNvPicPr/>
          <p:nvPr/>
        </p:nvPicPr>
        <p:blipFill>
          <a:blip r:embed="rId2"/>
          <a:stretch/>
        </p:blipFill>
        <p:spPr>
          <a:xfrm>
            <a:off x="0" y="0"/>
            <a:ext cx="3122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automaa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taalauto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np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netbank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http://www.beekbergen-gastvrij.nl/afbeeldingen/geldautomaat.jpg"/>
          <p:cNvPicPr/>
          <p:nvPr/>
        </p:nvPicPr>
        <p:blipFill>
          <a:blip r:embed="rId1"/>
          <a:stretch/>
        </p:blipFill>
        <p:spPr>
          <a:xfrm>
            <a:off x="3492360" y="189000"/>
            <a:ext cx="1800360" cy="1601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www.noordhollandsdagblad.nl/stockfoto/article17992503.ece/ALTERNATES/w470/rabo_pinautomaat.jpg"/>
          <p:cNvPicPr/>
          <p:nvPr/>
        </p:nvPicPr>
        <p:blipFill>
          <a:blip r:embed="rId2"/>
          <a:stretch/>
        </p:blipFill>
        <p:spPr>
          <a:xfrm>
            <a:off x="5580000" y="189000"/>
            <a:ext cx="2471760" cy="1655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inoisterwijk.nl/wp-content/uploads/2013/03/betaalautomaat-winkel-ramon-stoop-388x220.jpg"/>
          <p:cNvPicPr/>
          <p:nvPr/>
        </p:nvPicPr>
        <p:blipFill>
          <a:blip r:embed="rId3"/>
          <a:stretch/>
        </p:blipFill>
        <p:spPr>
          <a:xfrm>
            <a:off x="3708360" y="1916280"/>
            <a:ext cx="2298600" cy="1304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http://www.hoorngids.nl/content/7951/news/clnt/3253279_1_org.jpg"/>
          <p:cNvPicPr/>
          <p:nvPr/>
        </p:nvPicPr>
        <p:blipFill>
          <a:blip r:embed="rId4"/>
          <a:stretch/>
        </p:blipFill>
        <p:spPr>
          <a:xfrm>
            <a:off x="6372360" y="1989000"/>
            <a:ext cx="1533240" cy="1765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http://www.ing.nl/Images/lr_ING_pinpas_betaal_tcm14-114668.jpg"/>
          <p:cNvPicPr/>
          <p:nvPr/>
        </p:nvPicPr>
        <p:blipFill>
          <a:blip r:embed="rId5"/>
          <a:stretch/>
        </p:blipFill>
        <p:spPr>
          <a:xfrm>
            <a:off x="3824280" y="3429000"/>
            <a:ext cx="2182680" cy="114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https://www.abnamro.nl/nl/images/Content/010_Prive/000_Afbeeldingen/030_Inzetbeeld/e-dentifier.jpg"/>
          <p:cNvPicPr/>
          <p:nvPr/>
        </p:nvPicPr>
        <p:blipFill>
          <a:blip r:embed="rId6"/>
          <a:stretch/>
        </p:blipFill>
        <p:spPr>
          <a:xfrm>
            <a:off x="6033960" y="3956040"/>
            <a:ext cx="2880000" cy="1292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http://www.geldmoetrollen.org/images/content/betaalrekening/acceptgiro.png"/>
          <p:cNvPicPr/>
          <p:nvPr/>
        </p:nvPicPr>
        <p:blipFill>
          <a:blip r:embed="rId7"/>
          <a:stretch/>
        </p:blipFill>
        <p:spPr>
          <a:xfrm>
            <a:off x="3833640" y="5259240"/>
            <a:ext cx="291816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open, rekening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cardmaatschappij (zoals Visa, Mastercard en American Express) betaalt de verkoper voor j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rag achteraf betalen aan creditcardmaatschappij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Jijzelf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 jaar bepaald bedrag betalen voor gebruik creditcar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Sans Unicode"/>
              </a:rPr>
              <a:t>Verkoper: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paald % van verkoopbedrag betal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NWB Creditcards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be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rood staan = schuld aan de bank = in de min staan = negatief saldo = tekor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€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500 (creditsaldo) - € 700 (betaling) =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 € 200 (debe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red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in de plus staan = positief saldo = overscho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- € 700 (debetsaldo) + € 800 (ontvangst)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+ € 100 (credi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07T08:51:41Z</dcterms:modified>
  <cp:revision>44</cp:revision>
  <dc:subject/>
  <dc:title> </dc:title>
</cp:coreProperties>
</file>