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CFF-DD63-4A2B-9233-E0742448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75D-7D03-4915-8C0A-1208136D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32D-C89A-4B46-A740-9A9E0FE2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C3C-DF4A-43D0-B73F-029FE047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D631-FD7B-433E-9804-11EFADE2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72E7-D735-47DD-8269-18FA1835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D5AF-0945-4A36-801E-E6FB3F53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6DF1-FD22-4490-919D-7523BF27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DEF6-DFB9-46EF-9FF3-889CC389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18F6-EE3A-4011-B213-9DCE63C9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CF7A-444E-49F4-99E1-4A11DBD2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A89-5B1C-4BB7-B81A-8AC840F8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FFD1-49D1-4CCA-9E01-24A3B254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DEEE-FF56-44C4-ADA3-45978669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7A54-FDD9-4A07-A883-B1EADB64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9135-1903-4EFA-A282-DB1407E5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CCB1-0AAA-4BFC-9CF2-CB4B7DE8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FFE4-188E-4AF0-9095-99A540A3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632B-8247-437D-905E-BC0F3E9D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6A1D-56D6-4A22-9A19-18BE7807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2866-9D7A-4FC9-9A02-99B1CAF0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5ABF-B477-47EA-94EB-2302E9F2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A7A-E88F-4893-A6EF-D126228C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EB6E2-AFAF-493F-B288-BC989644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D488-124C-4EF3-8DAA-AC56A6A4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7CD0-EDCE-436F-AA42-ABD2BB6E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E228-DF33-4821-8991-F10A3023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619F-1549-450D-B9F2-F50A5DBD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25504-95B5-46DE-98E0-4671A073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A617D-D24B-4030-81FE-7AB9748C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A293-521E-447B-A0B1-33FAEF05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452AA-7AE2-4E67-9588-35351E8A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67CE8-B5A3-4F14-A24A-57895973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FC2-E72C-42E8-8C5D-B42DA830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3333-9461-4E21-83F2-54AC31E0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B5D8F-10CD-40AC-91B6-F914A55D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9A9AC-4FC2-4B17-9827-AB8E3AF8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74770-A8ED-4695-9019-F8EF7BD9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339C-611E-4010-911C-30BB3B9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DDB8A-A1C2-4EEA-A170-9A43627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8DA2D-76DD-48B0-B70B-4A330313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CD5A-A959-4320-AC04-5A10B60E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D300C-D165-46C6-BABE-746B3D3B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94E0F-14E9-4D5B-81EA-8C08802F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0DB-5C88-4F7B-ABBF-E5C72EDA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58BC8-CB46-4C90-A9F3-E46BEFE2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7FE0B-F7BB-43B3-A588-3EBECBC4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C218E-D2B3-4512-9DD1-4E3E341E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6A571-1BA9-49E6-9761-816DFAF7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FF1C2-1F55-4A30-A8A1-CEEF2A81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1FC21-3695-407A-A367-ACB37DDB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D8726-D769-4681-84EB-ED798EB9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B6C02-0569-4DF3-9A8C-998C95CB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21A75-9BA1-4355-9DC4-A2C6ABD6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B6F98-E16A-4572-B6BC-402336F5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514-6531-4464-8643-128614D6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B2DE1-B168-43C0-BCED-233271CA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12B86-6F21-4FCB-890A-933C6979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189E2-6A9E-4B69-8619-292B4902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81F16-95F9-4890-8D3C-EAFE7227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982EE-A0CB-40AC-A129-01CB8844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EEB9B-48A4-4BC5-BA1B-C3AF1ADE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1F9EB-02DF-4288-8E49-5F860D93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0F573-41B0-4471-A792-E922E00A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35438-791A-4FA2-A5DE-9507E65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9CEB2-55FF-49D5-9AC5-487A286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3C6-1D1E-4C32-B69F-327148D4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ED981-7E01-4BBA-B341-23F7D37C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1CAD-8FD5-4903-BB34-B0CE3ECA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E21D3-5A98-4EE0-869C-96A898EF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276B8-37E9-4053-86C6-230778DB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ADC19-C043-4236-BF3E-383AA341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7A040-B90E-4B5A-BBAC-C4C1ECD2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C49C3-E55A-420A-82A4-85AB02B6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882C1-B7FE-4C5D-9FB7-D45687E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A3791-B6FB-4050-8E60-874670E0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4B228-84AB-4F21-BBB9-A6723176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A07-07DC-441D-990F-84B1EC9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E49A-B783-4894-B780-4113962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6FAC9-E168-4D15-AB1D-966FBF3B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F2AD6-9B25-4D7E-BE4F-57B2F1DF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97BD4-1EB7-40AD-AF4F-9F6823B9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F5ACE-AC4F-425B-937F-26C4BB7A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9DD3C-7024-4302-9924-E9246784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32B06-31D7-4911-8B02-F8ED5A0D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FB91D-FD4C-4626-BB77-29999F2A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B2917-981E-414F-9D28-19FF651A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9394A-5ACD-4A12-B047-F3FA433E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838-B4EC-4EF0-98D2-76CE2BD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C8135-3FFA-4113-BE2E-7B3308A7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25567-BDE3-408A-A065-7CA5E7BD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258D6-40F4-426F-A7AC-77AD7B82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A51D8-301F-41AC-88C0-489DD417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8C654-72EB-4E4D-BEB4-1E5432CA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489CE-F376-4D73-A731-CDFB8DC2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F1AE2-068A-4855-BB61-53FD9524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6F43-60DD-44DC-954D-9F18E8199CF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A119-CC9F-4EF1-9623-D22EE0B35BC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E45D-177F-4B13-9E13-857F488B5C8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0878-D200-4285-B872-39B7B6E6997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4DD0-7601-418B-B2EF-2F53A065FE2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6598-C4B6-46B7-898F-53A090AC4AF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54DC-67BB-40FE-B13D-DD999CE3771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6675-44FE-465D-B634-7BBCE2839F8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l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ijler.nl/sites/pijler.nl/files/styles/abeelding_610x360/public/kids/1361706_70048200.jpg?itok=NZsuqR7B"/>
          <p:cNvPicPr/>
          <p:nvPr/>
        </p:nvPicPr>
        <p:blipFill>
          <a:blip r:embed="rId2"/>
          <a:stretch/>
        </p:blipFill>
        <p:spPr>
          <a:xfrm>
            <a:off x="0" y="0"/>
            <a:ext cx="3276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e rui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goederen/diensten ruilen tegen andere goederen en diensten; dit heet ook wel ruil in natu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Hans schildert de kamer van zijn vrie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 zijn vriend maakt de scooter van H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directe rui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goederen/diensten ruilen tege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Jantje neemt een zak brood uit AH 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eft geld aan de caissie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oor opkomst van gel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meer arbeidsverdel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uil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ruilen tegen goederen/dienst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ruilen voor gel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2 eur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eken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eft de waarde aan van producten, maakt vergelijken ook gemakkelijk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kost 2 eu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opzij zetten voor la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20 euro per maand in een spaarpot leggen voor de aankoop van een telefo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613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hart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lle munten en bankbiljetten in omloop. Oftewel contant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ir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geld dat bij een bank op een betaalreken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hartaal geld"/>
          <p:cNvPicPr/>
          <p:nvPr/>
        </p:nvPicPr>
        <p:blipFill>
          <a:blip r:embed="rId2"/>
          <a:stretch/>
        </p:blipFill>
        <p:spPr>
          <a:xfrm>
            <a:off x="6443640" y="1916280"/>
            <a:ext cx="1657440" cy="139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Giraal geld"/>
          <p:cNvPicPr/>
          <p:nvPr/>
        </p:nvPicPr>
        <p:blipFill>
          <a:blip r:embed="rId3"/>
          <a:stretch/>
        </p:blipFill>
        <p:spPr>
          <a:xfrm>
            <a:off x="6732720" y="3789360"/>
            <a:ext cx="13683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17T07:54:05Z</dcterms:modified>
  <cp:revision>39</cp:revision>
  <dc:subject/>
  <dc:title> </dc:title>
</cp:coreProperties>
</file>