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222-E2C0-4465-9C82-540A6E08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DAA-CFB6-4FB1-BB21-24E37BA7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EDE-6502-4BC2-B9C1-47F0A1B6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7CF-632C-497E-B6A7-4490571E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E41A-AE6E-48DA-B35A-63256FD7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430C-B701-445D-8BA1-6EB99A7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D1E8-5B33-4EDB-AB29-9944DEEA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10C5-AB7A-431E-83D7-87F6E2EA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B31E-9083-4E39-A93D-1C6894D3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32F6-D056-4C7A-A27E-EE0EEE3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62C2-908F-41EA-BE2D-DD576960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D45-42F1-4F09-B0B6-6F266C1B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694F-8FB2-4D8D-B41D-773B8F9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37F9-03DA-4CF8-923E-6B8983FD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B6C4-D807-4B0C-8357-B2748CC2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9E72-8D90-49B8-BD82-CF2EDEAE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B23-D09A-42D0-A850-DF2EF998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6966-C40E-4AF5-8945-47F2A172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49A0-C232-430D-87AD-1A6F5496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6832-B361-4635-A5FE-725E914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7AFE8-AE40-4781-B0FC-3E34AB68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A8D6-9C55-4259-AD78-73DFF1B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1BA-0E3F-4A7C-9C56-D5EE779B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2998-0538-4DBC-AC73-A71DE309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D5CD-2E1E-4CB9-86FA-AB91FE9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E34A-0897-44BC-BE90-16101C0A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5DB33-95B2-4C02-9477-552ADA8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6E63-0574-4DD9-872C-57CBF52C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134D-0D77-415A-BF93-C2E39617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864B-5ADD-49DC-B053-1091CDAE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FD3D5-B26F-4821-9A27-CC0E544F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F096-D835-40EF-935D-DC1614C8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08E5-4F30-4D01-A11A-684DA734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CEE-140B-4323-BEDE-A6B89BFB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61F36-3087-4710-A308-9BAA805C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9874-839A-49A1-A29C-EC25D75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8E8BF-7F69-4955-A0EB-99D86F64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7109-C85F-421F-A701-ECA128E9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23410-445E-4A77-9A0C-9F257C5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C13BA-7855-46E6-A16E-F02EC68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7F97-3BF2-4835-8E17-CFA7518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A8D6-2EC6-4F73-BDAF-11F90F2A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6D991-5172-4E35-AD8D-03A2A1AA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65A5-7CDC-49FB-B7A3-06970B09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A4C-9D5E-49E6-8FD6-3B6AEA98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92C6E-77F1-4B6D-B1C7-074F4EA4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D15CE-B582-4F6E-A03A-15774B96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9640B-99CD-4F0A-9740-F4192C8B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E9351-13BF-46CA-B51C-8F3F8C4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BC2C-462E-4554-8D11-CC43FC16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BD52A-B62F-4E08-8FCA-F51C5CCE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C523E-0B7E-4268-8503-CC115EF2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1F757-533D-44D0-8EEA-BEA802D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7A218-E60A-4C63-BC8F-65818459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81DE-A930-484F-A763-4C3C6E4D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5FB-0B57-41B1-8E21-0DD8EBD0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A1BD0-37CC-4179-834A-F83D797B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49332-8137-40CD-92FB-34910AD4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60F6-7326-4B76-BE03-8E2E692E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420F-11E3-4B45-915F-CF0B805E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4783A-6668-48BD-A5DB-9380979A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4D720-272E-44C6-BE63-22FE73D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8FACF-688A-422B-8EDE-5BBF7D9D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33934-B232-44F6-BE74-C0A029A7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25912-1299-4BA2-9FFB-24374D2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29359-7B2B-40B8-99B0-84D5DF1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BF6-E780-428D-B82E-AD6A907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D9D2C-0D64-4AC6-B8EC-09627FB9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E2325-4A9F-4C9F-9B4C-8A864BB6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0A56C-9CAA-4FC7-BEFE-E8768965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1D081-CB78-4E59-BB66-F1B5C6DF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F23B-0E9F-48E5-B8AC-E9A043D8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91D46-E356-4775-B9E4-E03BC2A4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D744-1B8D-46E3-BAAB-6FB9BC23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D42A4-EAB6-41C3-8EE9-348FE2B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AACE6-B6F9-426B-8D26-851CF981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C9B54-7207-46DD-9696-5C155611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16F-37B4-41B4-9C39-D737F3B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0A9FD-E381-47A3-A476-E3296F6E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CE3CE-A37F-45E6-91CF-DFE8EDC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DA6AC-06D3-4589-8F99-48477EB8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9358E-3A61-49CA-82DA-4F006CE0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EA107-D870-47E6-AD6D-BDF1A659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17E0D-A470-40E1-99A4-C71078BA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233B2-EB5F-4416-9CE7-28455DBE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F7AE2-D984-400F-AFF2-C1BB91B7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F2D36-2675-4C70-B907-F61CCA62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DD3F0-ACA6-408B-9D3B-8CE5E5E0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AFF-5569-4274-B821-F677C342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6F825-5F5C-4D44-A939-E024BEC1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B32C7-A395-44ED-A6D9-23FA35B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35EF7-A7EB-45A0-BA44-9E7A1A7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F6A4B-09E8-4DDF-A52A-52AB7E4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57135-B607-4BFD-AF19-F91C504E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856F2-1484-4155-927D-28A8E022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D8329-2B57-4868-AB3F-B8123C57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65ED-B5E9-4340-AE95-396B4E10672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7CE3-33C3-4A0C-9A53-ADFE8B78610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D73A-99B4-45FB-9C0F-A78BAD210EB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822E-1181-4334-B68A-1BC35C62357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B14-E1B3-4BB9-A4ED-65100B2719B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B4C9-09C7-4795-AFE1-705B5B8694B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28F2-0ECD-48D0-90ED-223847A416E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F678-932C-41B8-9BCC-2BE72851728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aren met profij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telegraaf.nl/migration_catalog/article20002649.ece/ALTERNATES/sectionImage1500x1500/spaargeld-kind-kwod470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sparen mensen eigenlijk? Met andere woorden, wat zij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otiev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 h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de ren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sparen geeft extra koopkracht in de toekomst = door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ar een deel van je koopkracht te gebruiken en de rest opzij te zetten, heb j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xtra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6028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angrij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rentebedrag is hoger bij 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rentepercen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spaarbedr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langere looptijd (= spaarperio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lati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orgt ervoor dat geld minder waard wordt. Dat komt doordat de prijzen over het algemeen stijgen, waardoor je voor dezelfde euro minder kunt kop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= nadeel van sparen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st gunstig voor sparen: als rente veel hoger is dan infl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vormen verschillen van elka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rentepercen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minimale spaarbedra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periode waarin het spaargeld vast moet blijven staan op de spaarrek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rekening ren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Spaarbedrag : 100) x rente % per j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rekenen naar andere period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s 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gemene omrekeningsregels toe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(Rente per jaar : 4) x 3 = rente per 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war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51Z</dcterms:modified>
  <cp:revision>57</cp:revision>
  <dc:subject/>
  <dc:title> </dc:title>
</cp:coreProperties>
</file>