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9D8-4D84-4425-A999-F1A41D861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6557-40C8-4030-B948-5E5A33AC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BA0-DC12-4738-A6F4-6AC14B9A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AAB7-390C-4DD6-80C7-AF840BBF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3C5E-0ACE-4462-8DF6-D17AC825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C958E-2F50-44B3-963C-41596FDE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2127-3190-4072-BA53-4E2FF95A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EC0E-A80B-4294-B76D-FED04C62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A0C2-7073-4252-A51C-F8CC9AD1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351F-4485-4777-AC84-46749CAC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5936-46E9-43B9-B7C3-018920FE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22C-6B30-4190-9571-73F51E4B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1482-31D9-451E-954B-92D20062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90BA-A75C-46DA-B6A0-6C8EDB5E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5722-DDCB-4A48-BEF1-8687CD4B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19BA-49D4-44DD-AD66-AD1CD5BF2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09F0-CB00-4F34-B1C2-4E471656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A0CB2-6A9D-4AC9-89FB-1B0618FF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054D6-61E1-49D9-8C5B-15FFD9E3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CB0FC-452C-46EF-9267-1488D571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F9E07-5AF9-46D0-9637-6A849210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378D0-A906-4CC8-9543-C07105AF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1D1-72B3-447A-9C6E-ED0E31DC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0A849-A1A5-477A-BA03-023C2AF4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D2096-EAA0-4FAC-8027-2B5EEB07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2783E-85C2-454E-BC8C-E52FFF99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E50C2-ACF4-4356-B314-26AEC57D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9CA6-6611-436B-ADF8-5E6510F6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CD71D-1117-4431-9382-20D85A3D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D1A3-AF83-489F-B19A-FBF873610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CCFEA-DC95-4E1F-899E-8C636981E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716EC-BB9B-450B-94AC-EACE0AAF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D9C1B-405E-437A-B23D-B376BAD9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B41D-6ADB-481A-B49F-5F0ADD39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EA22A-2A34-48B9-8828-D06C5BFC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EF337-672F-44B4-AC91-5328FD09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4D731-7BFD-42FE-84A0-794CDA55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1E3A7-74E7-446C-BF88-D43F74DA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BF76E0-B7FD-484E-8328-FF9AC231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BF502-70B9-4231-825B-CF19F0FB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70074-2CBF-4B34-9E52-7095E98F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4ACC8-4F97-4468-999D-D37CB27B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7C591-3123-44B7-85DE-FFC705BD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7A9B2-06EA-47A0-8D12-31D22EAF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0F25-66EC-449C-9CD5-37AD695E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EA5D8-96F7-4567-8B71-22B657CC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B948A-3204-45E8-9BB1-5C2CF494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31610-8C47-46B0-AF36-4D2B02B0F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F1297-9D38-490A-A9F4-881D95AE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38948-1610-42C0-9468-9AC38C4B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EAE94-452E-4804-839E-3E92FA62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B34BF-94E3-40AD-87A5-15CCFACD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9CF4D-3601-4406-B0C6-0DE96198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4703C-3018-456D-B01B-C706BAE3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40E26-4ADC-4215-BF93-969E1E8B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A47-20F9-4B8D-9DC3-ED120FBE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28CE9-19AA-4E13-91AC-8C66B04C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1BD16-DAF1-4765-92BD-D93C3EA1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C993C-FF0F-4743-8D12-277D92FC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3AE8A-EE1F-4E33-A473-31C95734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3520F-12BA-4A1D-B45C-06734765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FD8FC-F8FE-45F1-A920-DBC54060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4472C-60F4-40DA-8F17-C962E87A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7D2DB-3986-45C5-82BE-9F9E285A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99AFA-D17D-409D-897E-F1CBFE19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7EDFE-58BB-4602-8BE9-889C2B12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5CF1-6F6F-4535-A72D-E6343E13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19B8B-A9E5-476B-A261-97BAB28A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DAD84-502C-481D-95E2-1968097BF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B0F9E-AD91-437B-84FD-775A992D7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2E992-1187-48CA-8341-843AB145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3CAEA-43F5-4C3B-AB6D-76D0E3B4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544EF-703E-4B35-9E84-2CB05121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FA76C-5355-4113-A8B1-7FDD83D9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564C8-C1CB-4227-B9C9-B6A7EEED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5C105-55A4-4C7F-9ACF-64D7AB55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3A17E-9384-4400-8B80-5DC3C482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D68-5ADB-4176-9B81-332B1E06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6981B-0236-4EB9-8AE6-0F63DCBB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BCDAB-C464-427F-8601-5EA782C9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EC78E-A1C5-4788-9D3F-997D180F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9E13B-BC94-4091-B0A8-099ADF0C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02C3C-1BE7-404D-8AF9-574820D1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EA533-E931-4D6D-8DB5-C8857B3F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8B0C7-3F7D-4467-9FDD-A9920E4A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F6EED-1F90-4911-92A5-6F92A2B3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52CE6-3DD7-4F7E-95C9-FB444BB3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B2C453-2B57-4FEE-80ED-843FFB4C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B69-E621-4416-BC3D-05D3AF33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99325-5B55-478B-AF48-2F13B475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F2B54-DBAD-4E99-9049-3B264D79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629EB-15FD-4103-AC38-BC3146B4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581D1-A0FE-4B8D-A9E8-7426A556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E3975-04C6-4D65-84C9-1C880827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A95A0-7191-4730-9661-24C1AEEE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C489D-E205-4CEB-B7B8-1B2B2BCB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CFD4-DA22-4E2C-A4C7-2FED16F9D16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AB0F-DE30-4691-BBAA-3B520F6823A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0141-8C84-40FD-8E1A-26D2E5D7116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AD4F-25B4-423B-A1DA-BE4A8B9F5FC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6AE8-5F1E-4114-9B6D-8C16823F1FD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177D-0DD5-48F9-B479-304CC727E9A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3503-4503-48EF-AFEB-3187524FD88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7F63-EDBF-4D20-ADB7-FED692E38711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2PvB_Qn24j4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isico’s van belegg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eursfoon.nl/lp/images/nieuwe-beleggen/nieuwe-beleggen_beursfoon5.jpg"/>
          <p:cNvPicPr/>
          <p:nvPr/>
        </p:nvPicPr>
        <p:blipFill>
          <a:blip r:embed="rId2"/>
          <a:stretch/>
        </p:blipFill>
        <p:spPr>
          <a:xfrm>
            <a:off x="0" y="0"/>
            <a:ext cx="42512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kunnen naast geld sparen hun geld in aandelen of obligaties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= geld uitzetten (investeren) tegen een bepaalde vergoeding (bijv. dividend of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el = waardepapier waaruit blijkt dat iemand mede-eigenaar is van een onderneming. Bijv. 100 aandelen Phili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95120" y="244440"/>
            <a:ext cx="84981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depapier = een stuk papier met een bepaalde geld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len kun je kopen en ver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hoger is dan het aankoopbedrag, dan heb je koerswin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lager is dan het aankoopbedrag, dan heb je koersver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beleggen brengt dus risico’s met zich mee! (soort van go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het goed gaat met een bedrijf, kun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vide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rijgen. Dit i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 winstuitkering aan de aandeelh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ligatie: waardepapier waaruit blijkt dat een onderneming of overheid geld schuldig is aan de eigenaar van het waardepapie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ijv. 4,5% obligatie Nederland (=staatsobligati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in obligaties is minder risicovol dan beleggen in aandelen, want je krijg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jaarlijks een vaste rente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 het einde van de looptijd het uitgeleende geld teru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aandelen krijgen DIVIDEND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obligaties krijgen RENTE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instelling die geld van beleggers in aandelen, obligaties of andere waardepapieren beleg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wordt beheerd door mensen die verstand hebben van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gebeurt in veel bedrijven, waardoor het risico van waardedaling kleiner word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op: kost wel gel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2PvB_Qn24j4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38Z</dcterms:modified>
  <cp:revision>65</cp:revision>
  <dc:subject/>
  <dc:title> </dc:title>
</cp:coreProperties>
</file>