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D3A-CD49-4CF4-8482-9CFBB58D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951F-FA91-49DB-9B25-662CFC9B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552-25D1-420B-913F-6104FD94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718-1A22-40D1-AABA-15A6C756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862C-E149-400C-B936-2C04F231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2657-5321-4BD2-A73E-CA7F9246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B62F-D011-46A3-B893-805C30F6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1CB2-495A-4FB8-B1F1-7C9DC419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B5EB-1B9C-4DF9-BB48-7E9D6AF7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A859-DD34-45E6-A399-B01F94F0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189A-5294-4F7B-9B9A-E13F5909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01C-11AB-437B-B0EC-204C2634E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14DB-0332-42A3-9793-F8CFA4F5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CCEB-3C81-405B-ADA0-D80461D4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0DCA-75E1-43C9-8536-AC2987B1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2F1D-F721-4856-B8EA-AD6694479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8A36-B061-434C-BB37-D7D5108E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CEFE5-121C-4F8E-88D0-9D2D36F73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6951B-9E1B-4D67-9C87-31BA3041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A58E9-1F89-4A30-8F0D-D3D47E25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33E2-7A1B-4492-B6A2-A7EA13151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5EC53-592C-4202-8118-0988FD62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8E3D-5498-4534-A1B6-06F1DCCF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2FE64-76AA-4387-88E9-5B978038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AFC4A-7100-467B-AFC4-FAAC3960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90F9B-006E-4393-8A17-A8134845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6C997-6477-4A56-9939-73F733D7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A994B-4EA6-4D18-92F0-A34549B8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E659E-20EB-4000-8636-C31C005C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63865-1F9C-4D8A-93CE-7919A6BD9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A0147-DAA9-4402-8F7B-232238E9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86560-1420-48A9-A9D2-BF054240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98DD-D8C2-43FE-A40D-DD43D471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D1E8-2BF2-4BCD-8919-DF902ADF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F425-CA36-4F25-B6A3-26F15EAD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A12C-37D4-4EF7-89C6-8EB434AE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C4B6-A8DA-4766-9001-2BDB5DB7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D4C6A-F88C-4A2B-9AAB-A69D2FFC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E69F-D838-4BF4-A3C2-D036A091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3B64-A429-45A0-BB3C-A1023D4E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4A48-DA32-4E6F-911C-2E4BAA7A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67B4-9BB9-4AE9-980B-B3BEFE77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D3131-D4A9-4E6A-94CC-7B073CAC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20B6E-DEBD-49B4-B563-351D1D29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463-7C10-4A8B-9190-30BD9E62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A142E-015B-42EA-91BB-6F92BE25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044A1-EE4D-4BC1-9097-044DADAB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B7FD8-8B90-4D38-B651-3877F520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95CE7-3D19-428B-90A2-FDF4F748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3E00A-E393-4010-9487-AFAC2803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19CCF-2BEE-4D5A-BFAC-4C1B21D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494B3-E4C3-4F52-8946-35391DDD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E615D-3DB8-43E3-9BE8-85E0B0B0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47048-552A-436F-965A-610175EA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BF6E2-A892-48F1-9D0C-216EAA63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5D6-3204-4E3A-A0C8-3FDE89C9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828CC-A06E-4799-8121-32DAAA42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E92BF-5BE1-4D92-B9F3-CB42BD0A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A2FBB-3A01-4EAF-BF26-0D274177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45CB6-15D9-43EA-BB65-BEB89AA3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E87E1-428F-4CDA-B321-91296166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C82DE-3123-4562-AB49-E06A518B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51CE6-E241-420A-BC8C-865098E2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70C5-42AF-4776-ACA6-311673BF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EC23-2308-48FB-A402-75724252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78C1-A38D-4B21-99C9-11043045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BC2-AECF-44C5-B344-E3A11C8C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7CD96-B2D2-4946-A899-7F460C5D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7F9D-0902-40CC-A0CE-3EFBC8A3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4D0F94-212C-4742-A068-1B2CF316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1977A-0172-4A3E-B565-EAA95187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96DE1-C2FA-48D2-8958-F50206AF5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49D99-E2BA-4D4B-AD8F-F111A0FE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F842BD-8CC4-4DB4-AAA9-F0C9D3F2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7906D-82DC-45E6-A7BB-B9E98FBB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3FA57-61F3-4D22-B764-60BC2CCA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CBD28-24EA-4105-8818-0C8A52B0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963-2CA5-4B50-8391-17E7594F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C8AAA-AD13-4783-B0B4-45AD83B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23B91-741F-4DA8-A928-2C4FC08B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06720-2730-4DAC-BDAA-B4340092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DE13A-4860-4F0B-859A-05C0892B3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95192-F41B-4365-8E4C-C2AFFF23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62A91-00AC-4F81-A4D0-751BE606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D2958-A0DB-4FEF-8C5D-34199F36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C0EA8-DBB0-470B-AF25-03ECCEC8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47A06-53AB-4729-91FC-072A69D2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8B4E1-FE06-4F92-AF77-9D99ED4C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C9F5-9B17-4177-BA66-206AF5EE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F6A66-73BC-4526-BA24-145E5F50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72CBD-27ED-4BC9-9AF7-5A0FDBBA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1691-B3A0-4077-86FC-B887C7F2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A0CD1-36E5-4DA5-B1C2-FAEFE16F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DC932-6553-4BB9-9B05-FA216AE7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8FA12-37ED-49A1-BCDD-F81EB110C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F8363-CEE9-42FA-85D6-0028BA049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A2F97-0AAF-44EA-9F26-61041379CB1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C62C-6908-42A1-ACC0-DA07E73F0D75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2E20-730D-4AC2-9073-45AEAB686D9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DCE6-C479-4362-8C12-F63481C7D1E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53CE4-D015-4C1C-8529-1E982497719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8609-1D60-40D0-AABA-50C009BCDEE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5CDB-6E48-46FE-9EE1-255C7BA4B26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6ED8-9762-4F8B-B67A-871328282C2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l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ijler.nl/sites/pijler.nl/files/styles/abeelding_610x360/public/kids/1361706_70048200.jpg?itok=NZsuqR7B"/>
          <p:cNvPicPr/>
          <p:nvPr/>
        </p:nvPicPr>
        <p:blipFill>
          <a:blip r:embed="rId2"/>
          <a:stretch/>
        </p:blipFill>
        <p:spPr>
          <a:xfrm>
            <a:off x="0" y="0"/>
            <a:ext cx="3276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e rui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goederen/diensten ruilen tegen andere goederen en diensten; dit heet ook wel ruil in natu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Hans schildert de kamer van zijn vrie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 zijn vriend maakt de scooter van H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directe ru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goederen/diensten ruilen tege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Jantje neemt een zak brood uit AH 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eft geld aan de caissie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oor opkomst van gel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meer arbeidsverdel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uil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ruilen tegen goederen/dienst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ruilen voor gel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2 eur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ken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eft de waarde aan van producten, maakt vergelijken ook gemakkelijk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kost 2 eu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opzij zetten voor la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20 euro per maand in een spaarpot leggen voor de aankoop van een telefo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13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art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lle munten en bankbiljetten in omloop. Oftewel contant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ir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geld dat bij een bank op een betaalreken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hartaal geld"/>
          <p:cNvPicPr/>
          <p:nvPr/>
        </p:nvPicPr>
        <p:blipFill>
          <a:blip r:embed="rId2"/>
          <a:stretch/>
        </p:blipFill>
        <p:spPr>
          <a:xfrm>
            <a:off x="6443640" y="1916280"/>
            <a:ext cx="1657440" cy="139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Giraal geld"/>
          <p:cNvPicPr/>
          <p:nvPr/>
        </p:nvPicPr>
        <p:blipFill>
          <a:blip r:embed="rId3"/>
          <a:stretch/>
        </p:blipFill>
        <p:spPr>
          <a:xfrm>
            <a:off x="6732720" y="3789360"/>
            <a:ext cx="13683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17T07:54:05Z</dcterms:modified>
  <cp:revision>39</cp:revision>
  <dc:subject/>
  <dc:title> </dc:title>
</cp:coreProperties>
</file>