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5007-8F4C-4ABD-85F6-8DAE639A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0F74-0F74-4F7D-98AC-95F7E8F55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E69-EFBA-4D6A-86A3-2AC6FFE2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7574-9EA0-4F6A-8A79-2F2CD933A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1B95-4CB6-4776-969A-62DA9DC1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2F5A-2C92-41FF-B947-D05F11BB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D4EE-8E4F-4B42-9F17-A7F32C27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D9BD-77FB-4B85-9EDB-033CD57B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B73E-1625-470A-ACA5-38B94751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82F0-DCE5-4BE5-8433-45037547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15FA-56D6-4FC0-9F15-00387214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B536-B8CD-4F0B-8396-E7329093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3F89-735C-43E6-B15C-0A8862C0F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D867-B1DA-4941-B52F-7B3FFB2B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3A70-95F3-42EF-86B5-747A1F5F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6759-62AE-4D85-A3CB-2A5AC5E6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6272-84DA-4497-AF7D-E6ED9AB6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3EA78-EB9E-40BB-A6D6-C917D492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6BDF2-5B3A-4410-9B10-53CEDAA5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5AC8A-D77E-4111-8C88-B8B80691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26F64-1DF1-4C85-946B-882E391C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C519B-1A08-47EC-B886-6B0206DD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3D14-0D4A-4A23-9D14-5A5F10BA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64D65-5743-4A14-8086-0F5F43C3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1AAB4-556E-4DFF-A5CC-CB1F57CB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3871C-EE6C-4F7C-8445-CCFED6A5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EB1E8-F3AD-4053-919A-501A81BE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84D10-BA72-4E1A-96FA-84F2EFB9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4A0B3-7F53-47FF-805B-774C269FB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8C3E7-1CFF-48BD-B7FD-4F62FE0B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E8BEF-BC32-41D5-9CD1-EE57D002E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A1A59-89A3-4B13-B3CF-32F71E32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16C40-2417-4E4C-ADB6-A3F0D8E1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E5E1-0553-4755-990E-E436A7B9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480CB-3F80-40B7-B513-78A9ECE5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009CD-BB25-4AB7-ACE3-51CE489F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2AAC2-8334-4423-BCD4-A0C5AACF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50059-579D-45E6-8BE0-C5C03BA0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BA646-2A7D-4E1B-805E-5B622C84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5EAF3-AA89-42EE-94B2-0CC10A33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AFFA0-737B-4A05-B43D-6A763430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B4190-A658-4D65-A381-D927E30D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D7506-124E-4178-ACF9-9A0D4329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1AB87-5071-489B-ACDD-3EA87D60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891-AC6E-4906-83CE-A4CF8115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671ED-95FB-410C-88BD-FA1015EA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4B7F9-8997-40C3-AD1F-3DC803B3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BA581-7E3C-4DA3-89BF-AB3EA108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66DDA-1716-4EE5-B458-86320903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7928C-0916-4CA9-8538-51B87ED9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70CF2-9076-4E29-8BC2-040D4344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AA60D-2B89-49DB-8012-3735CA60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1EF06-755E-4291-8F10-9EF12F6A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15DA8-CA0B-4C40-9D6D-9320D66F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303F2-BD2A-49CB-A1CD-48C27C48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681-B551-4FAB-9164-78B01450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4F92A-8B92-495C-B120-F39AF536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6BD2D-0C65-4CB3-890F-63079103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ED2AB-7E12-48F9-A331-99867D4E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4ED64-35F1-4045-8B04-FC70339F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28525-2F88-4B6B-B5FD-B2C66EF3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5A6A7C-8871-406D-A00B-5AD1B9CA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2FDEC-E1CC-43AA-96B3-8AB2E2769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A49B3-9D87-47FE-96B5-E6A914AC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EFCED-D089-41DB-914C-31659CDB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66D84-C61D-44C4-AE91-56D340EB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3585-806C-4D54-B872-9705A66D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1FFE6-8A0F-4BBE-A446-29790A9D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78D55-E38F-431B-AF36-966B76B62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CAC7A-2943-4A98-B18D-2071F937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E9E74-A633-4C02-8CBC-DA720515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D8A15-5FC6-457F-B7B1-2DC549B0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4AFF6-69B8-411D-BE3C-4BAEB870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9C532-9CED-47F9-B0DB-EA481E52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8527E-C20C-453D-8029-6BB50832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7DB63-160A-4A1D-A46B-DCF4622C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5E514-69BB-4D4F-A172-20D1B379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AE1-0417-4B27-8BFC-0439011B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F0757-23DB-41DD-88BF-79C57F9F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EEDBC-AD1B-48A3-996D-CB52CD64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575E8-E754-45AF-8BC6-60B7C435E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54AFD-4646-4CE1-B2A0-4D973393E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40732-74A6-4638-A143-93F84EF8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64921-1AF6-4A78-8BE7-E162D7C3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78A31-F8E9-4A75-AB3D-674DF81F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96906-2CD8-4D41-85A5-9F6282D43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5A394-6345-4F30-80B0-05BD868A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027B2-62C9-4FCA-8FD9-FC32C9EA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AAC-FEC8-4B78-8EE0-4459DF28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38230-01DC-4D62-A006-CDCC5ABB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A3AEF-F80A-431F-8D28-CB4A6374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08CBD-BA90-4A4D-8A50-70B6BABA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7C8FE-8431-4A8B-90E2-E42D3E3B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34E71-C1A4-4724-9F1A-870CEECF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A2A7E-214B-4425-B4C3-51B23794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83265-F20F-4A62-B54F-9D69FCF5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20527-7E5D-49C6-A0BE-F32D0DD9B94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CC34-A80C-4DFE-B225-6F22B5A535B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8C74-35B4-4CD0-8175-95FBCA42A95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58BB-C290-4F6A-A614-8C660348888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C294-99A8-46FC-BC83-625EE444CC4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FF08-440B-4518-8DEF-642ADF73810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9E1E-BE5A-4608-8027-57F8A856508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9426-8073-4100-A34B-3EFFA906C0D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Sparen met profij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telegraaf.nl/migration_catalog/article20002649.ece/ALTERNATES/sectionImage1500x1500/spaargeld-kind-kwod470"/>
          <p:cNvPicPr/>
          <p:nvPr/>
        </p:nvPicPr>
        <p:blipFill>
          <a:blip r:embed="rId2"/>
          <a:stretch/>
        </p:blipFill>
        <p:spPr>
          <a:xfrm>
            <a:off x="0" y="0"/>
            <a:ext cx="3132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om sparen mensen eigenlijk? Met andere woorden, wat zij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paarmotiev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oor he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een doel/grote uitgave (bijv. een auto kop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een tegenvaller (bijv. de koelkast die kapot kan gaa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de rent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eel: sparen geeft extra koopkracht in de toekomst = door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aar een deel van je koopkracht te gebruiken en de rest opzij te zetten, heb j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t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xtra koopk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68360" y="260280"/>
            <a:ext cx="822960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angrijk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rentebedrag is hoger bij e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hoger rentepercent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hoger spaarbedr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langere looptijd (= spaarperiod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flati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zorgt ervoor dat geld minder waard wordt. Dat komt doordat de prijzen over het algemeen stijgen, waardoor je voor dezelfde euro minder kunt kop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(= nadeel van sparen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est gunstig voor sparen: als rente veel hoger is dan inflati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vormen verschillen van elkaa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hoogte van het rentepercentag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hoogte van het minimale spaarbedra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periode waarin het spaargeld vast moet blijven staan op de spaarreken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rekening rent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Spaarbedrag : 100) x rente % per ja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mrekenen naar andere period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as d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gemene omrekeningsregels toe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(Rente per jaar : 4) x 3 = rente per 3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war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51Z</dcterms:modified>
  <cp:revision>57</cp:revision>
  <dc:subject/>
  <dc:title> </dc:title>
</cp:coreProperties>
</file>