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13B0-95AA-4CF5-9794-AF8486780E0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4493-17CA-4CFA-B614-48C285563CC3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CA38-A4F8-46F1-B761-36FFC94D4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779C-E22C-400B-9D4D-37C4215C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280E-0CFB-4667-93D4-01C373722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A462-0665-4588-AFA1-FF52FB039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E4E1-F81E-4A7F-8FDB-76C5685F5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71D7-5FC3-4C49-9919-FDECA5DC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AD22-1FCE-41FE-8200-D6FFEDD9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2A30-ABD6-4E21-AEEF-6E4880C3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17DD-239C-4CB2-A8FF-007ED8DA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EBCA5-131D-42A5-810F-C0EE603DF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E300D-1C65-4335-BA50-BA758CDE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145E-58C4-46E9-A6EA-3EE3C1D8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62ED-6118-4B69-9BDF-911C4B66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8933-EC55-48D1-A8B3-E12DB679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8C7E-55A9-46A0-8B24-4BD2B09D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E209-BD68-452D-ABE6-E7F80D31E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8C79-4B53-4D1F-9EB8-619536606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4BF03-7108-4958-B356-895447F38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F2C04-752E-4866-8879-7918F543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349A4-0DB4-46FE-9E0D-B1DA2130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909D4-6868-4263-86C3-8924448B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8C196-C168-4F46-AD5F-04A529A2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AD91-1A47-4DA6-AA14-325F736D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4305E-9F23-47E3-867A-F267F0DE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AE1D4-A510-47E4-91E4-F125BAD3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98B0B-654A-444F-B61A-D7C1EAD7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041AC-8442-4259-B525-CE48078E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E9A51-1854-4D59-BFF8-D840B9BB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26742-4AE7-4515-B609-497FC369B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0041C-B3F7-489E-BE71-3E99023AE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2A42F-92C9-4EFC-9B71-3586EA5CB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49BA7-D658-4290-BBC4-10626EB7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855F0-253B-4B05-A0B4-FD8C20F4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E764-F98F-4ED3-A626-547096E1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A84DA-6ACA-4646-B388-682A8F35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60D49-B257-49CD-91F3-831EB2D70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38D25-BF66-4BC3-A9BF-A2A8F3A6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40D6D-C0E1-4FBD-A4AE-20D8D6A8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5FD4E-DEFB-476C-916C-78191F53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FB437-DCC7-41FB-9563-333FBEEE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72DBC-6DDB-4CCF-AD07-39D110C8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6682B-3285-4270-B9FD-0EEFA34DA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FF56B-3FFA-49EC-8B24-6A296E6FC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F0E09-0899-4128-B2C3-9A037343B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3DA6-B686-41BD-B4FA-2D74F3DB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7822D-E3CA-4D81-A613-604B0D85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0646D-0A78-439F-BB81-246D7F18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9B4F2-1063-4933-B006-687AF87E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35094-6CC1-482C-84D4-98934BF1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68A75-FD6F-4BDF-B1C5-F859FDD4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BFB9A-04E2-4863-B52A-E39BDDA2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353A8-CA74-4F76-A338-E6B89D9F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D1B8E-63CC-485D-98C7-EDCA4074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C80FB-D2D5-41DF-819B-92DAE386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3C9D7-4DD9-4AF8-AD91-BC3F5CB5C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4B9B-2408-46F3-9403-985EE010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B86C3-9596-47C7-9BCC-0E4B622B7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C7C5E-A656-46A6-9B6D-1004CDA74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9C6F0-B4E7-4D05-9D71-31040F8D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65381-6247-4330-A9E3-030138B1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6F0E8-5DC9-4F59-A10E-F268DC6E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B369A-84E2-42DF-B7F7-75EA0E24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D47BE-2023-4B8B-A7AF-9E555B6F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E9C49-BCC0-44C9-A685-69FDB9DD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82C3E-2F57-49FF-A4F2-633B2DD2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96219-32E4-48A9-AF88-BEDE30B8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B243-1CAC-476E-84A5-0B8B2F9E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E9399-EB96-459D-A7AB-B184DA06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D7232-97CD-443B-9C8A-3C6087657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64338-F0B8-438F-B56B-2A9808CBA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E0D75-4399-4A31-A5C8-AE0FA8BBD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1AEE3-5EB6-4293-AEF6-6CE57A76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F4CCA-40AF-4E32-AEFC-D3EFAC13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1F90F-BF41-4FB8-9A16-6E8FC5B1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69CBC-5FCC-45B9-8537-E452E8D4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20FD2-5F6B-456A-9218-3660DB1E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90A9D-B06A-4C52-9164-D8077997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8F65-A395-464D-9979-1DEE6CA0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8A0F7-4B17-450B-8B13-09106D59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C1B1C-EFA1-4A85-AE08-0319F0F8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AB333-6F1D-495F-8391-8364069D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D35BA-ED29-4FC1-AEE4-E59B28017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9DD17-5C7D-4569-8AD9-47192C379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0954E-36C7-446C-A648-8188016AF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DC7AD-FDD5-43AF-97D5-5B5A5415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1B380-B2F0-4382-9F59-213DB642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5108A-3D4F-4C7D-8372-8D35BFB8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6AF9E8-D025-490C-A29C-D177ED15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21EF-E69D-45C4-9427-03A0B8D4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A9ADB-6476-4804-A258-33A9DD248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EC450-8140-4E61-B3B6-C9162C57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C23C5-F84D-4833-A1D0-C83D0B85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690AF-0CA1-47DA-B526-E392CC58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21B11-0CEE-446F-83E9-20391229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4D21B-6FBC-4DF5-8FA3-75F202460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02F0A-0598-4CB5-AC8F-E21019B9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924C-459A-4120-BED4-20064E9A9A2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0AB2-B012-4551-8B86-ACA6D0EF3933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8C24-D75B-479D-9FF2-C3011855E94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E073-DA3F-46A8-89A3-D4591687912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25CA-71B3-4331-8628-F0EE8D2043A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B1C0-B1D3-4C0F-81C8-BB5BE2F48A2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C438-FAA9-4522-917F-554C8602E1D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5501-1304-45AC-B85A-E86C1709210D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6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Kopen op kredie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Picture 6" descr="http://super-aanbiedingen.nl/wp-content/uploads/2011/01/ipadopafbetaling.jpg"/>
          <p:cNvPicPr/>
          <p:nvPr/>
        </p:nvPicPr>
        <p:blipFill>
          <a:blip r:embed="rId2"/>
          <a:stretch/>
        </p:blipFill>
        <p:spPr>
          <a:xfrm>
            <a:off x="0" y="0"/>
            <a:ext cx="298764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rsoonlijke le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orlopend kredi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op op afbetal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uurkoo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http://www.geldlenenabc.nl/wp-content/uploads/2015/03/woordwolk-kredietkrijgen.png"/>
          <p:cNvPicPr/>
          <p:nvPr/>
        </p:nvPicPr>
        <p:blipFill>
          <a:blip r:embed="rId2"/>
          <a:stretch/>
        </p:blipFill>
        <p:spPr>
          <a:xfrm rot="2034600">
            <a:off x="4654080" y="2292480"/>
            <a:ext cx="4172040" cy="24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62064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Uitleg persoonlijke lening: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zie paragraaf 2.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oorlopend kredie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Bij een bank of bedrijf waar je iets koopt en niet gelijk hoeft te betale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Er is een maximumbedrag tot waar je mag lenen (= kredietlimiet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Je mag datgene wat je afgelost hebt weer bijlene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Je betaalt een termijn die hoort bij de kredietlimie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looptijd staat niet vas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88640"/>
            <a:ext cx="8229600" cy="58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Koop op afbetaling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koper wordt eigenaar bij de levering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Termijnen staan vas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uurkoop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(bijzondere vorm van koop op afbetaling)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koper wordt eigenaar na de betaling van de laatste termij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Termijnen staan vas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</a:t>
            </a:r>
            <a:r>
              <a:rPr b="1" lang="en-US" sz="2600" spc="-1" strike="noStrike">
                <a:solidFill>
                  <a:srgbClr val="000000"/>
                </a:solidFill>
                <a:latin typeface="Lucida Sans Unicode"/>
              </a:rPr>
              <a:t>effectieve rente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is de rente inclusief alle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bijkomende kosten zoals administratiekosten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Bij banken is deze lager dan bij winkels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Picture 4" descr="http://www.bnr.nl/incoming/2011/04/12/wehkamp-in-de-verkoop.jpg/ALTERNATES/i/Wehkamp-in-de-verkoop.jpg"/>
          <p:cNvPicPr/>
          <p:nvPr/>
        </p:nvPicPr>
        <p:blipFill>
          <a:blip r:embed="rId1"/>
          <a:stretch/>
        </p:blipFill>
        <p:spPr>
          <a:xfrm>
            <a:off x="6659640" y="1087560"/>
            <a:ext cx="216036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071360"/>
            <a:ext cx="8229600" cy="49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uu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van duurzame goederen gedurende langere tijd. Er is hier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gee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sprake va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eigendomsoverdrach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v. auto’s, caravans, machin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leasebedrag is bestemd voo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nvestering in het produc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nkosten, zoals reparati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 waardevermindering van het produc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a afloop van het leasecontract kun je het product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kopen (tegen een extra betaling)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http://www.auto-aanbieding.nl/2012/webfiles/afbeelding%20website/koolen-lease.jpg"/>
          <p:cNvPicPr/>
          <p:nvPr/>
        </p:nvPicPr>
        <p:blipFill>
          <a:blip r:embed="rId2"/>
          <a:stretch/>
        </p:blipFill>
        <p:spPr>
          <a:xfrm>
            <a:off x="6659640" y="1954080"/>
            <a:ext cx="2209680" cy="17971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http://www.animaatjes.nl/wallpapers/wallpapers/paarden/animaatjes-paarden-44772.jpg"/>
          <p:cNvPicPr/>
          <p:nvPr/>
        </p:nvPicPr>
        <p:blipFill>
          <a:blip r:embed="rId3"/>
          <a:stretch/>
        </p:blipFill>
        <p:spPr>
          <a:xfrm>
            <a:off x="7080120" y="3770280"/>
            <a:ext cx="180036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0-28T07:41:26Z</dcterms:modified>
  <cp:revision>80</cp:revision>
  <dc:subject/>
  <dc:title> </dc:title>
</cp:coreProperties>
</file>