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3.png" ContentType="image/png"/>
  <Override PartName="/ppt/media/image7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D691-21AC-4FC5-AB06-50F6D8099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244F-7E43-4645-B2ED-1ED829E05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F162-271D-4903-B867-8406CF24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60D-987B-4F0F-A34F-58F61753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E9E3-94A7-469C-8608-2D225FA5E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59D3F-2328-42F8-A0AD-EFB31224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BBD37-E8A7-49B1-B4A0-02A14097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2EEEE-F9F6-480F-AA0B-70F5F8D7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09B9-AEEF-4CFD-87A0-A57BD90A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6B1B-1E52-47FB-82A8-791AAF843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6A25-C83C-4E02-9008-761B6096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90E3-C2F3-4BB5-8832-D21714DCD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0C941-064C-4E3C-BD56-B5AE6F66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59068-5CD3-4720-B08D-E34658EB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3C25-B02A-42B3-A3A6-BFA6B2C4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B64D-4FC6-43AC-9E20-D8F03B62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F482-7948-4AEF-86BB-D1F45680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0B423-5896-49AC-ACAB-8BCA30087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E4B07-D95D-44BE-8284-E656BBD7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D1556-5184-4371-9A48-8F79BBAA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6E30B-BDBA-429C-9968-AAF8A5AA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0712F-A42F-4FBC-B9C0-CC23C7F7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1D3A-AEC6-496D-8572-5F6FA541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2B77C-3CA0-46BB-871C-FC1DB144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4EA7C-1675-4493-B722-E63AD6AB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BDB19-2C72-4643-BE02-A210C604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BD760-2A38-42C6-98F0-70988248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04450-03B3-446B-B592-78714205C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10086-524B-45D9-BAD9-E2F9C355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BACD-84FF-472F-A73C-8ED1101E4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A524B-6E62-40A6-8E6A-4E098B92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6E3C4-0F4C-432D-A7A7-A5E7AFC8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AF4AD-DAD7-4D58-A69B-F039996A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0CFD-EA97-456D-841E-520DEFBA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18CAB-F501-4166-8C8A-45722D3E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0B660-9CAF-491C-8AEC-59B0078DD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42B9F-5C42-4086-8264-60104D4F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6A24E-8747-47C5-B37B-FD000B0E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B210E7-6A69-47BF-86CF-7EE0AB92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6EA01-129F-4C59-A810-D23479E1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B162C-D7EF-4FCF-BA9F-9D9EEF61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3FC38-228A-48CD-BE34-3F1737CBB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2A17B-8162-4173-91DD-17C3E0C6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78AC7-FB6C-4867-8787-3E239CC1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1C80-8EBF-4ADA-8A21-63F6303C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1623CA-661F-42B7-A01D-70B758105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CFCD6-792A-4A18-8F75-5686F4AFF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6057A-2881-4EDF-A9FA-94DAED05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32454-0EEB-4383-89D2-A034DAE76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9614A-C97B-4740-8E56-D90A779B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F29C1-70AF-4899-BE7F-D57E4AA6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50ACC-9ED2-4B1F-A5E1-87A9C8C4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8B2B8-BAA0-48D3-9F30-ED1DA1F3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4D7C6-8EA8-4BB1-A381-C4143CE86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17A85-808C-4A55-86EF-97A8AED97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99BC-8948-44C0-A344-895D4A04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368F0-4629-4346-B4F9-85F45A17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2931F-BDE5-4654-B10A-55AA02D79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FABAF-2A25-495C-AD06-038820592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0FBEC-3C65-44C9-B8A5-79CDCE25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3B2AA-3EAB-4D1B-ACF3-25837896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FA383-6FDD-4E6E-9A23-23C31E069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85124-7DA6-436D-8462-2736816D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17793-2950-4E78-8C43-0B02C3A1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31F64-3F9A-45E3-A987-16ED37E7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6CCB6-8636-42DF-91ED-77BB110B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145-6271-492C-9747-5502C25C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3478B-8B95-4BB2-8B97-B36427D1D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7069F-1664-4015-A034-89084DDF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049A3-8556-4B38-9B26-97437784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20C88-94EC-4C5A-84AE-52A56E5A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5A105-DEF3-4BCF-BF72-23ADA1BF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F6623-2300-47B9-A679-57F8B4DE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8C3D6-8010-4954-B629-FC8A8F00D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F6D2B-1472-4FF7-8A81-FF1DA85D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3C9D8-A3C9-452F-9A4E-5E874D8B4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561B4-7053-4E3C-961B-B4B342FF2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317A-11A0-467C-B9E0-DE376DA2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4BA38-45E0-4706-AF19-5BAD63F5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91E259-9E73-4C84-BB3C-E4B05CAA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4417A-E452-47F9-BAE6-701B8C359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2FEE0-2D11-4916-9CC5-F718B022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DEF23-32C3-4485-8CAB-F2D230E26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29D02-ED99-4629-B4E2-CFFBB468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7F119-3ADD-4F06-B654-8AA9452F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A4E84-3354-4E88-8AA3-39A251A3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5ECCB-4C59-4AAE-898B-D8C5DFB28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4FBB55-219A-4B33-AEAA-F2BC741F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797-E34C-481C-9C49-53BA3F4F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60237-3214-43A8-BE72-86891411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280A9-39EE-4362-9D5F-E046380E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8B3092-4C63-4E2B-8798-017B2FBC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3A784-2E9F-49C7-AD21-5C8D1C5C1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29FC25-C708-43B4-8DBC-720C1B97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A2F46-BF32-42CC-8418-9116F4FA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A1FA1-309F-460F-BDDF-16F4D9AE2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0B09-940E-4D7F-BA7C-D4585BAACFB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9D72-FCD3-44A6-879B-DA264B544822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79196-922C-4794-A81A-8175BB4A76F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8BD7-43C2-48DD-86E4-89F9C3F085A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0408-9D7E-4528-BBDC-6A6CA2E8B3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781B-65B9-4A89-B1F6-FD0A3A8641D9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DC51-143B-4834-9E01-11C5025C5CE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C0F0-820E-4DCB-8881-C4A6FE67264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5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Lenen en betal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geldlenenmetspoed.nl/images/letop.jpg"/>
          <p:cNvPicPr/>
          <p:nvPr/>
        </p:nvPicPr>
        <p:blipFill>
          <a:blip r:embed="rId2"/>
          <a:stretch/>
        </p:blipFill>
        <p:spPr>
          <a:xfrm>
            <a:off x="0" y="0"/>
            <a:ext cx="39132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88640"/>
            <a:ext cx="8229600" cy="58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lenen mensen eigenlijk? Met andere woorden, wat zijn de leenmotiev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je kan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product kopen en meteen gebruike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adeel: je zit vast aan de maandelijkse kosten van de lening (aflossing en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enbedrag wordt bepaald door: hoogte inkomen, vaste lasten, arbeidscontrac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AutoShape 4"/>
          <p:cNvSpPr/>
          <p:nvPr/>
        </p:nvSpPr>
        <p:spPr>
          <a:xfrm>
            <a:off x="63360" y="-136440"/>
            <a:ext cx="699156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6" descr="Gerelateerde afbeelding"/>
          <p:cNvPicPr/>
          <p:nvPr/>
        </p:nvPicPr>
        <p:blipFill>
          <a:blip r:embed="rId1"/>
          <a:stretch/>
        </p:blipFill>
        <p:spPr>
          <a:xfrm>
            <a:off x="6659640" y="2327400"/>
            <a:ext cx="2306520" cy="1212840"/>
          </a:xfrm>
          <a:prstGeom prst="rect">
            <a:avLst/>
          </a:prstGeom>
          <a:ln w="0">
            <a:noFill/>
          </a:ln>
        </p:spPr>
      </p:pic>
      <p:sp>
        <p:nvSpPr>
          <p:cNvPr id="376" name="AutoShape 8"/>
          <p:cNvSpPr/>
          <p:nvPr/>
        </p:nvSpPr>
        <p:spPr>
          <a:xfrm>
            <a:off x="63360" y="-136440"/>
            <a:ext cx="43149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10" descr="Gerelateerde afbeelding"/>
          <p:cNvPicPr/>
          <p:nvPr/>
        </p:nvPicPr>
        <p:blipFill>
          <a:blip r:embed="rId2"/>
          <a:stretch/>
        </p:blipFill>
        <p:spPr>
          <a:xfrm>
            <a:off x="4403880" y="2327400"/>
            <a:ext cx="19540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62064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n wordt aantrekkelijker doo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- een hoger inkom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- een hoger inflatie (hoe eerder je iets koopt, hoe lager de prijs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stellen hun geld beschikbaar aan de bank waar ze spaarrente over krijgen en de bank leent dit geld aan de leners waar deze groep rente over moet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ders zijn aanbieders va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ners zijn vragers naar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90792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lening die in een aantal vaste termijnen wordt afbetaald, bijv. in 36 maand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afgesproken bedrag leen je in 1 ke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e betaalt regelmatig een bedrag voor de lening = termij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ermijn bestaat uit aflossing en rent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Berekening rente = (aantal termijnen x termijnbedrag) – bedrag le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225360" y="115920"/>
            <a:ext cx="8467920" cy="7794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5" descr="http://financieel.infonu.nl/artikel-foto/lenen/64-lenen-tegen-lage-rente.jpg"/>
          <p:cNvPicPr/>
          <p:nvPr/>
        </p:nvPicPr>
        <p:blipFill>
          <a:blip r:embed="rId2"/>
          <a:stretch/>
        </p:blipFill>
        <p:spPr>
          <a:xfrm>
            <a:off x="7521480" y="3645000"/>
            <a:ext cx="1476360" cy="14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Lucida Sans Unicode"/>
              </a:rPr>
              <a:t>Niet alleen banken, maar ook andere financiële instellingen lenen geld uit. En deze instellingen vermelden soms de bijkomende kosten of de aflossing er niet bij! </a:t>
            </a:r>
            <a:r>
              <a:rPr b="0" i="1" lang="nl-NL" sz="3600" spc="-1" strike="noStrike">
                <a:solidFill>
                  <a:srgbClr val="000000"/>
                </a:solidFill>
                <a:latin typeface="Lucida Sans Unicode"/>
              </a:rPr>
              <a:t>(zie een voorbeeld op afbeelding 38 blz. 63 in je lesboek).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18Z</dcterms:modified>
  <cp:revision>75</cp:revision>
  <dc:subject/>
  <dc:title> </dc:title>
</cp:coreProperties>
</file>