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8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4EE8-BF88-41D9-A4E6-2A5B9455D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0F40-173D-41E0-B343-E711C8A9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A389-397A-40BC-BF18-973B53B85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9AF2-D5D3-4EFC-946B-E645823D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1D68-C62F-458D-A9FE-618694A2C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26BB7-D223-4C6F-BB7C-A8CF13D8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F66E-0194-4B51-B104-AF58E866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D8A54-9284-44E5-AD18-5DD95BC0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3E718-CFD9-4DE5-A8A5-A7300A76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D311-9BC3-4003-BC08-09B477EB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B447-ED0D-4B30-B0B5-25B290B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AED-F37A-4957-8923-C77108BF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804D-BBE1-4850-B559-9860970E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F9D9-333E-4C02-8FC1-2DD3BE73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9691-3AA0-4B99-8CC8-FDE771F2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198E-3B81-45AF-B4A8-7F3472C75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6BA5-DB33-4F32-9F97-787875D8D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83102-DE82-43CB-BC12-A9A9FC48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1781-F0D3-40E8-9B15-71147DDC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87D61-8314-4194-A1C7-53F0D345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9B0C1-79E0-493E-9570-D7EC46A01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F0448-8B07-4E68-8A63-D8C31CB0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FA94-4177-4503-9ACB-8DA563D9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CFE2FE-1C71-44B3-B8E5-038A9663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8825-599B-4355-BA61-A31D88C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44FC6-CB6F-46C7-820E-9C39D9FA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A841D-2982-4DBD-BA54-E93B5BB2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83C8-891D-4C72-B9DC-48E31F92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BD4DE-871C-4209-9634-333B06E9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54978-F225-4C63-B379-0316CED2F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9599C-38A6-40B9-B8F4-BD6895D5C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6CD17-C282-453D-A63B-17D50AF3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CC0E7-E5AC-47C3-ADB4-81F89ACEE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5E5C-6ADD-41F4-9DAA-7B6AB00C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C3F86A-6B49-4163-B149-784EE9641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EB6CB-D454-44F9-BE3F-2EE5215E5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C25A3-F4AB-483B-B9C7-53967BD6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03761-4088-4E77-8904-F218017D3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57E7A-E534-42F5-889F-ED9F7213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871AE-77CD-4924-955B-9E718EFC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7690D-451E-46EC-BECF-53EC43CB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A0B8-90A7-467F-93FD-00E7B30A1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645D-80D8-46C3-B13C-48DFEA35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CB285E-3F10-494A-93A3-C7E2EA30E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7BA-20B8-4BEC-81C8-195612A6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2EB0A-C1DA-4C94-BA13-30A12AED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CDC18-7786-4C2B-B725-94D4DB9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FE516-EBF4-4770-BE6C-588A0B0FF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60461-289B-4042-B008-16723747C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C7382-E794-4142-B419-D45D9BDC7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ADFB9-3B26-43D5-8D97-AEDFD80B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E551-13D8-488F-9DD6-7D3BB52D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BD790-42C0-43E5-85D8-D661811B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57A9A-7DD3-4889-A52E-884296DC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A1B14-5CC5-45F1-BC33-1644DC68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2F3-27A4-45BA-9602-0D439E86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FD966-6B6C-4D73-B445-DD4FBB80E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A3C79-EBA1-4566-BC9C-EF3D1B66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96083-CF26-4058-8D01-36639A65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DB05B-B7CE-4BC0-91FB-32AC8D15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E4B7B-9C8D-438B-90C7-8E2E1410A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B6B06-2574-48B4-BA8C-F11FF382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2B1A1-5DE4-4F12-8585-46CEC2A8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85E6D-652D-4BD3-8915-CC4CF086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09EE48-F7A8-491B-938B-7AE36E33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8C82BE-60B4-4DC2-94EF-ABFC4D54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F6ED-DDE9-47D9-ABF2-9369BD6E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3FD673-EF29-4331-9368-2221617B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4B602-A6A0-4CAD-8E77-7A7AF7FB6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D5A83-7FFB-4269-BEB5-AF2D998B7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82148-40F5-46F1-A3B0-2440BD66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F0B62-42BA-4C7D-B969-D0AB8651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903BA1-5DB3-45DC-9315-538CB144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376AB-C425-4AA7-BE52-F60B65CA7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7F3BE-A5A2-41B2-899B-B757B6CA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06276-CBF8-4015-AB8B-ADE6B5E98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2C22F-C8D5-469B-9166-05F5D679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3BF2-D7FC-4992-9285-A3A0472D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9777B-CFF1-4AE7-81F4-820AEB87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888CB-C91B-427C-ACF0-AE7F06FF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AFB48-0813-4E23-ACCB-E9C6E76A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F2B0C-D3B9-4751-BFA4-1D5FE42A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235CF-1EDF-4E3F-9C06-DA308B875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94C0B8-AF82-48FB-A5D6-5F89F967E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4D9D8-3C7B-406A-8940-E56D5B43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220B0F-E758-41F1-A4B3-034A8245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D605A-9764-40BF-B0F1-BE0A1256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0066E-EAB0-40A5-8578-49F22781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8193-218B-4E2F-94C9-7FAFEE2C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0AC92-E1C7-47B8-B890-F41AB931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C7FC5-EB78-4A1D-AA5E-C2749E83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45131-0149-4969-9EDC-4CDFA270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0C613-2150-4F9E-AF1E-E8CDEA98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9F117-08E8-4D09-8B9F-A93AE6BF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0D97F-84DC-484E-9DD9-0FE5AF80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0EA8C-DFE3-4B6B-80D9-839C77AEC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6525-8926-40EE-9689-250F0AC67027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BC4E-99A3-4E31-9F7B-A1596C9FBECC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1472-FF10-4AF4-88DC-CF0A2C6DF9E1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45097-A5E8-4198-B1D7-3A187433BA84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D44E-26E8-4FDB-90A1-3C974A25A62E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DAED-6BA4-4353-98D9-42341C2DB81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3EDA2-E350-4A59-A5E2-8BDD08EC5353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4753-D9B3-4608-9743-9A80502F9B6A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2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Betalen en bankieren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8" descr="http://www.ing.nl/Images/mobiel-bankieren-voor-iphone-ipad_tcm7-95589.jpg"/>
          <p:cNvPicPr/>
          <p:nvPr/>
        </p:nvPicPr>
        <p:blipFill>
          <a:blip r:embed="rId2"/>
          <a:stretch/>
        </p:blipFill>
        <p:spPr>
          <a:xfrm>
            <a:off x="0" y="0"/>
            <a:ext cx="312264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475920"/>
            <a:ext cx="8229600" cy="55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eldautomaat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taalautoma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npa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ernetbankiere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Picture 2" descr="http://www.beekbergen-gastvrij.nl/afbeeldingen/geldautomaat.jpg"/>
          <p:cNvPicPr/>
          <p:nvPr/>
        </p:nvPicPr>
        <p:blipFill>
          <a:blip r:embed="rId1"/>
          <a:stretch/>
        </p:blipFill>
        <p:spPr>
          <a:xfrm>
            <a:off x="3492360" y="189000"/>
            <a:ext cx="1800360" cy="16016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http://www.noordhollandsdagblad.nl/stockfoto/article17992503.ece/ALTERNATES/w470/rabo_pinautomaat.jpg"/>
          <p:cNvPicPr/>
          <p:nvPr/>
        </p:nvPicPr>
        <p:blipFill>
          <a:blip r:embed="rId2"/>
          <a:stretch/>
        </p:blipFill>
        <p:spPr>
          <a:xfrm>
            <a:off x="5580000" y="189000"/>
            <a:ext cx="2471760" cy="16556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6" descr="http://www.inoisterwijk.nl/wp-content/uploads/2013/03/betaalautomaat-winkel-ramon-stoop-388x220.jpg"/>
          <p:cNvPicPr/>
          <p:nvPr/>
        </p:nvPicPr>
        <p:blipFill>
          <a:blip r:embed="rId3"/>
          <a:stretch/>
        </p:blipFill>
        <p:spPr>
          <a:xfrm>
            <a:off x="3708360" y="1916280"/>
            <a:ext cx="2298600" cy="1304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http://www.hoorngids.nl/content/7951/news/clnt/3253279_1_org.jpg"/>
          <p:cNvPicPr/>
          <p:nvPr/>
        </p:nvPicPr>
        <p:blipFill>
          <a:blip r:embed="rId4"/>
          <a:stretch/>
        </p:blipFill>
        <p:spPr>
          <a:xfrm>
            <a:off x="6372360" y="1989000"/>
            <a:ext cx="1533240" cy="1765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http://www.ing.nl/Images/lr_ING_pinpas_betaal_tcm14-114668.jpg"/>
          <p:cNvPicPr/>
          <p:nvPr/>
        </p:nvPicPr>
        <p:blipFill>
          <a:blip r:embed="rId5"/>
          <a:stretch/>
        </p:blipFill>
        <p:spPr>
          <a:xfrm>
            <a:off x="3824280" y="3429000"/>
            <a:ext cx="2182680" cy="1141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4" descr="https://www.abnamro.nl/nl/images/Content/010_Prive/000_Afbeeldingen/030_Inzetbeeld/e-dentifier.jpg"/>
          <p:cNvPicPr/>
          <p:nvPr/>
        </p:nvPicPr>
        <p:blipFill>
          <a:blip r:embed="rId6"/>
          <a:stretch/>
        </p:blipFill>
        <p:spPr>
          <a:xfrm>
            <a:off x="6033960" y="3956040"/>
            <a:ext cx="2880000" cy="12924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6" descr="http://www.geldmoetrollen.org/images/content/betaalrekening/acceptgiro.png"/>
          <p:cNvPicPr/>
          <p:nvPr/>
        </p:nvPicPr>
        <p:blipFill>
          <a:blip r:embed="rId7"/>
          <a:stretch/>
        </p:blipFill>
        <p:spPr>
          <a:xfrm>
            <a:off x="3833640" y="5259240"/>
            <a:ext cx="2918160" cy="14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267920"/>
            <a:ext cx="8229600" cy="47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duct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n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kopen, rekening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later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betal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ditcardmaatschappij (zoals Visa, Mastercard en American Express) betaalt de verkoper voor j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drag achteraf betalen aan creditcardmaatschappij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Jijzelf: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er jaar bepaald bedrag betalen voor gebruik creditcard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Lucida Sans Unicode"/>
              </a:rPr>
              <a:t>Verkoper: 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bepaald % van verkoopbedrag betalen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2" descr="ANWB Creditcards"/>
          <p:cNvPicPr/>
          <p:nvPr/>
        </p:nvPicPr>
        <p:blipFill>
          <a:blip r:embed="rId2"/>
          <a:stretch/>
        </p:blipFill>
        <p:spPr>
          <a:xfrm>
            <a:off x="5724360" y="0"/>
            <a:ext cx="34196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196640"/>
            <a:ext cx="82296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ebe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rood staan = schuld aan de bank = in de min staan = negatief saldo = tekor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€ 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500 (creditsaldo) - € 700 (betaling) =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- € 200 (debe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red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in de plus staan = positief saldo = overschot op de bankreken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70c0"/>
                </a:solidFill>
                <a:latin typeface="Lucida Sans Unicode"/>
              </a:rPr>
              <a:t>- € 700 (debetsaldo) + € 800 (ontvangst) =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b050"/>
                </a:solidFill>
                <a:latin typeface="Lucida Sans Unicode"/>
              </a:rPr>
              <a:t>+ € 100 (creditsaldo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el 2" descr=""/>
          <p:cNvPicPr/>
          <p:nvPr/>
        </p:nvPicPr>
        <p:blipFill>
          <a:blip r:embed="rId1"/>
          <a:stretch/>
        </p:blipFill>
        <p:spPr>
          <a:xfrm>
            <a:off x="201600" y="176040"/>
            <a:ext cx="8485200" cy="11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6-10-07T08:51:41Z</dcterms:modified>
  <cp:revision>44</cp:revision>
  <dc:subject/>
  <dc:title> </dc:title>
</cp:coreProperties>
</file>