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B5F-7E93-41E0-9B78-B3F32DBD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8108-DE3B-4E3C-8F5C-240B782E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50C-B216-4868-B60B-81B2CFC3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D167-6321-48A4-93E9-2F8EF1CF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95E7-B066-4771-9E36-0AB68A93A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624C8-2ED5-413C-B288-C2BF8092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D429-8F84-4144-A86D-DC13FC14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8982-535B-462C-A20C-BEF97B5E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FB65A-502B-482A-A665-B47C80F8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38B2-A0D2-4686-B0EF-3EE4B913B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5027-2FE0-4376-B44D-00290A56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157D-0092-4DAF-8CC3-A3D1E422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87AA-FF6C-4C39-842A-E1F50C58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33D3-B788-40DC-92F3-96A679E2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D42B-E120-4E48-97B9-81C279D2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5CBA-CC04-4F83-9AF3-63F82C5F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A8B65-6BF2-40E3-B966-83A0A598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A7359-A5EB-43DE-B1EC-AB661FA4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98CAF-9DCF-4588-BB45-58960529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67721-7597-46E0-BDED-DA8D6C86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CA627-305C-47B8-811D-7046B1B90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356FE-731E-419A-9F0C-73DB38C0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3FCF-F514-481C-9A45-97E98797D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2BA12-0462-40B6-9430-28DFA6A9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7D6A0-E496-4727-8773-6F0348A9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87BEF-0253-4D27-8AC3-32B9BBD7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76CBC-5397-49AC-A064-0ED72B3E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22565-7D48-4590-B71C-28F5E0A87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F7864-E455-4A6A-81A4-614E5441D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05C52-1F40-433E-91C2-62CA290C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05E06-4832-4BEC-AE2B-1E92AD6EA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94697-2D50-4422-8CD7-22E9BD93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FC925-E0E4-4386-9B81-79A458EB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BF70-ED0D-4161-874E-F53DB190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226F3-27D0-4CB6-9551-0A19C7A3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2B476-7AC0-4C41-B39A-6DA2B093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72106-7526-4B50-9CB7-C8437555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711ED-6643-40EB-9DA0-16E36158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D6C72-BE53-480F-A2A8-359848BE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011B6-DD44-4E47-B97B-2323AC71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0B6AF-E4DE-441B-92A2-EAD8E8B31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DFB19-3C39-419C-A4E7-5BDFF4EDA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518C3-01C3-4F1A-BBD4-30A3C46C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78E4F-5B9D-45B8-BB16-13EEAED00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7900-004D-42A3-B24E-5C828BC2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EA1ED-B44A-4100-ABF6-B6CC294E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8C7C9-7BE4-431D-A3C8-9BC257EB6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DC1DB-E874-4986-B718-7852744B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A0DB8-AD1A-4908-8348-81B9873F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076C3-E4EE-455D-BBED-47F598C0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179791-833E-463B-9192-9D4CEE1F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816F0-C2E3-41A3-BF7D-9FDB5F69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2711B-DBAD-475C-95CF-45819EB8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DE59B-A953-469A-86AC-B75F1A9E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1480A-BF66-4EC9-9BCB-FB595B880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DA79-0481-4B5A-BE34-39AF37BA6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49D89-9714-484C-85E8-80A15FD6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53563-F300-4C1A-B4E7-879ACF67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2FA71-47D6-4934-9B9A-45A3F3F5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064B9-04BB-4A9F-B67B-C3FB3DDD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0742F-7C4E-4F73-BA42-955FDB00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67B9D0-9178-4A94-8A12-596D204B4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0AF67-31D0-4390-8368-18003FEC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EAF19-7318-4622-B228-CFA0E9D2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D76D0-FB11-4EB5-88D3-46AC9944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FAF6DB-AA99-4D89-A930-D95EA400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EFB7-A927-44A9-AEAC-8D20BC5E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C29C4-1919-456B-9CF4-063811811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9C485-C88F-4226-9D14-56095582E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13495-BD7C-4162-845F-E9E225F2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86D508-2C18-4773-A199-E9EC08418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EA58E-68A8-482B-AE74-586FDE2A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D60D6-5341-4146-9397-BA3106F1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60195-4EA7-4E66-AD3D-CD77F806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361BD-B3D0-4D8B-9CAF-DB52D7EB7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6BF8B-8F41-4C6E-9171-A934AFA1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4BE41-9A9B-4CAA-92FF-CC83D3A3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AF42-3A96-430E-8E1C-0430A0794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6C614-76C7-4A33-A3E5-89D57BF3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30E91-C56B-4CBD-B446-1933FA6E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54BBC-C8A8-48C3-803A-3DFA68C3B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617B4-C51B-4B2D-97A8-6CAD5656E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CC67C-1B68-4488-8F54-39EC48B08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C02DC-DEA3-48E0-9D05-C8CF67198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0696E-6B54-4206-B3E7-8334669D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2BBB1-5E41-4501-95B0-BA9580EE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56399-5078-4484-970F-F32C01CB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BE2B0-62E9-4373-B248-78FDD9E3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ADB6-36DB-43CB-A9B2-9E4CEE34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57E75-9DC2-4FBF-8A7D-788F7C5F4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C60C89-639F-4403-95EA-3733B70F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2CDB64-7000-4E48-A15C-C9173A5B8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6B2A7-4623-4DAE-B89F-8F6C994F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73667-3A90-49AC-8C24-86FE64F1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AECB2A-ED08-45CC-835A-5054261A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93FEA-C96E-43B5-ACC6-6E04C8335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B86F-3AD5-4DCE-A83C-2040A64BD16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D8C5-84DB-45EE-AD4B-9ADD7F1B830B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7847-6D81-4F86-B714-E7259222E1C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D78F-985C-4077-B0F9-E7EBF2260DD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FE17-879A-4C0D-BEFE-6CBFDC15B99D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6C02-D12B-4753-8855-7ADB8F9808B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78CD-2892-47D2-A6EF-95D879852F6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A9D4-4E06-48DD-AD95-3234637D89D3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2PvB_Qn24j4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4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Risico’s van belegg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www.beursfoon.nl/lp/images/nieuwe-beleggen/nieuwe-beleggen_beursfoon5.jpg"/>
          <p:cNvPicPr/>
          <p:nvPr/>
        </p:nvPicPr>
        <p:blipFill>
          <a:blip r:embed="rId2"/>
          <a:stretch/>
        </p:blipFill>
        <p:spPr>
          <a:xfrm>
            <a:off x="0" y="0"/>
            <a:ext cx="42512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nsen kunnen naast geld sparen hun geld in aandelen of obligaties beleg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= geld uitzetten (investeren) tegen een bepaalde vergoeding (bijv. dividend of rent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deel = waardepapier waaruit blijkt dat iemand mede-eigenaar is van een onderneming. Bijv. 100 aandelen Phili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195120" y="244440"/>
            <a:ext cx="8498160" cy="9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depapier = een stuk papier met een bepaalde geldwaard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andelen kun je kopen en verko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verkoopkoers hoger is dan het aankoopbedrag, dan heb je koerswin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de verkoopkoers lager is dan het aankoopbedrag, dan heb je koersver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 beleggen brengt dus risico’s met zich mee! (soort van gokke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259920"/>
            <a:ext cx="8229600" cy="57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s het goed gaat met een bedrijf, kun je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vide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rijgen. Dit is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de winstuitkering aan de aandeelhoude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ligatie: waardepapier waaruit blijkt dat een onderneming of overheid geld schuldig is aan de eigenaar van het waardepapie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ijv. 4,5% obligatie Nederland (=staatsobligatie)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in obligaties is minder risicovol dan beleggen in aandelen, want je krijg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jaarlijks een vaste rente;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an het einde van de looptijd het uitgeleende geld teru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eleggers in aandelen krijgen DIVIDEND als vergoeding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Beleggers in obligaties krijgen RENTE als vergoeding!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en instelling die geld van beleggers in aandelen, obligaties of andere waardepapieren beleg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ze wordt beheerd door mensen die verstand hebben van belegg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eggen gebeurt in veel bedrijven, waardoor het risico van waardedaling kleiner word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3880" indent="-2476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 op: kost wel gel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el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https://www.youtube.com/watch?v=2PvB_Qn24j4</a:t>
            </a:r>
            <a:r>
              <a:rPr b="0" lang="nl-NL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38Z</dcterms:modified>
  <cp:revision>65</cp:revision>
  <dc:subject/>
  <dc:title> </dc:title>
</cp:coreProperties>
</file>