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12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F539-6013-4576-AF62-3712A3D7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BBCB-0907-4524-AFDD-F1142BC55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C2C-DB9C-41AE-9B17-D7E386F79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9E5B-96C8-4EA9-ACD5-68E1820E4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4D0D-90DA-43FC-B0AE-9494BFA8B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4EBBB-91FB-448D-946F-C053D39A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AA34-F615-45ED-A077-8C21DA35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FF62-C831-4397-9662-4D410AD0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CAB1-497B-40CB-8E06-65736AC1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DB11-231F-4290-B64C-3EA0FE7F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94D88-0345-43C4-B747-DC48CC458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886-B53A-49D4-A52D-ECE1B975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D5986-41D6-42C4-AA1C-618340A97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A700-3A96-4087-BF74-28A1465F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BCAAD-CF10-443A-BA94-EDE96974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7181-FD1D-4978-832C-1F64292B5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E480-ECDB-44A8-8A35-B51B2AF4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1AA8D-8DC5-4551-AB4A-DE8218EB5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5CC27-121E-4159-ACD3-95E2642D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4C0185-47E8-44C8-9CB5-F9F74B8C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6B2DC-C20C-407C-8DC7-4812111E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01CD7-CD6A-488C-9C17-AE7327AA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C80A-483B-495A-B445-77CC0F7F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439AA-6479-46B8-8AD8-AE2BF4E1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CEE1A-79B5-4194-92B2-E433634C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F0B73-DA09-4E21-940B-D5FBEB47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347F-3658-4A36-8110-0E596F00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B0BB2-17AC-443F-B601-8574F903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746F9-2B1E-4D38-9496-BF1FB58C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14F71-BBAB-462C-9591-C8C439F2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0C69C-812E-4680-AC24-8712FD9A9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999369-C48D-485D-B4C5-E5FC0FB7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979F3-ACC6-4FAB-BB24-9944A5AB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4A63-8504-4CAE-90B6-BE7E32BF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412FD-DEB9-46A1-97B6-6A168F2D9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AB7D5-D2F6-4D81-BB4E-36914D03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03F20-B2BD-4488-8E39-D7C59ABF4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7475A-85BC-4DFA-8E26-457397E2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1A195-A400-4FD8-A87E-229BDBA1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ECB97-32BA-4D09-AB13-DB96BDC9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4C340-8FA3-4C06-969F-ED5407AF8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CAB38-F466-494F-B545-8A9FBE8A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6F747-366D-4293-B631-87B4B7DB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5FA68-9E99-4A40-826C-BD8AFD92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5FC-3B9B-4BD8-8D86-9C3E2AB02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C207E-308B-4B01-8353-F077E270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A0004-E00E-4BEF-8BDE-81CDE2FF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9DF4-20BB-4B51-898A-59A93175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C2B84-05FD-478B-84F8-E0D3FF145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9391A-4E36-4E2F-8932-FCB46A950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2719C-9742-4BE1-B9DF-FCB58914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E4906-FE93-48F3-8EDC-6EC50DDA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D59F34-0823-4172-B819-1F28DB05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F7181-88F9-4B9E-9120-3041A842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360FA-9CF9-4E9E-9EAF-8A2019F9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405B-FAA4-4F15-8B82-2CF1B4FFB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B935F-0CE8-4377-9591-B3C12BFE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F12B4-D06D-474F-A835-DE62B3E9B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0957E-8E60-48EF-9007-DA94C48F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291B2-C80D-4BD0-B6EB-F712B449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92E3C-CA75-42E8-BFEB-FB63A8F44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AEDF7-4257-4921-BC78-C52ACA30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15BE2-FA43-45D2-8068-7DB856EB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CFB19-3201-43AF-AB4E-F1E51D23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004B-2247-49D2-8201-9367761CE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0A2BC-8DD8-469E-81E7-603C040F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6635-8F33-446A-B2DE-72E46795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07391A-B334-4F64-BA8D-8BC5CA0A5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D5995-1A93-4DE9-9B21-0CE300BB9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2ED42-4925-4860-B1CB-0000490E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477A2-12AF-41CA-8236-099F2770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BE71B-F9CA-486D-BDCE-198CF6E1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C4EF6-04A5-419E-A346-6FBF52D4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540A7-E897-4965-B222-CED94EA3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301C9-3C2E-49A5-84C6-91930874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65DD3-CEA9-44FC-857B-A49E5F49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DAC92-88F9-4770-B42E-7F4A8B21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40B-A4ED-49D5-953B-6C119A1E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E59F8-C83B-4F54-B3B4-B589A58D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A1C39-9BEB-4FBE-9044-29981978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375D0-296D-40EF-9DBD-963D338D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748A1-9195-48DC-8554-59FB7FDBD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F552A7-DC81-4AEB-A97F-9EAEC2FD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A4A40B-F882-4E4A-A0BB-2C23A39A8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45CE76-B3F1-4DAA-A2A2-8E49C3C9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4F323-D491-46D2-9544-5DC07CA8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ABD25-1EEA-4B29-90CE-3BDC9C0FA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B87E2-6FC0-45EF-A8DB-E05596A6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62D-DD0A-43DB-AB12-ACF9F5A6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CFECD4-E907-47CB-91F9-14105BDFD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C214E-A795-40A7-A854-C4682444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8968E-4904-496F-B330-CFA2AD73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EA015-9951-421A-AA43-6AFC957C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6826B-4554-4E57-8276-78D651902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2168C-7AE2-4D3A-A6F6-874574BB7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85DFC3-D05B-4C1C-936D-0AC9971F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echthoekige driehoek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Rechte verbindingslijn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3F494-510E-46AE-A3B8-F679A98D3D7C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hthoekige driehoek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e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Vrije vorm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Vrije v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Vrije vorm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Vrije vorm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Rechte verbindingslijn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5AFFF-A4DF-49BB-8C77-D55404C0D0F4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Punthaak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unthaak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4136-4656-4DAD-A96F-73911715474B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8FDF-C595-427E-96EC-7FB72EFD281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E47C-67EC-43C6-BE19-DA98192503D0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Vrije v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Vrije v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echthoekige driehoek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echthoekige driehoek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Rechte verbindingslijn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7EF6-4F15-4ED4-B74F-C5739B9B1D02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EEBA4-4929-46EF-8BBF-B141855D1048}" type="slidenum">
              <a:rPr b="0" lang="nl-NL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Vrije v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Vrije v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echthoekige driehoek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echthoekige driehoek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Rechte verbindingslijn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Punthaak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unthaak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084F-897C-4166-87EB-2ED7D28BCC28}" type="slidenum">
              <a:rPr b="0" lang="nl-NL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el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755640" y="1125360"/>
            <a:ext cx="7772400" cy="3686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Lucida Sans Unicode"/>
              </a:rPr>
              <a:t>ECONOMI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Paragraaf 2.1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64646"/>
                </a:solidFill>
                <a:latin typeface="Lucida Sans Unicode"/>
              </a:rPr>
              <a:t>Geld telt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Picture 6" descr="http://pijler.nl/sites/pijler.nl/files/styles/abeelding_610x360/public/kids/1361706_70048200.jpg?itok=NZsuqR7B"/>
          <p:cNvPicPr/>
          <p:nvPr/>
        </p:nvPicPr>
        <p:blipFill>
          <a:blip r:embed="rId2"/>
          <a:stretch/>
        </p:blipFill>
        <p:spPr>
          <a:xfrm>
            <a:off x="0" y="0"/>
            <a:ext cx="3276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Directe rui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= goederen/diensten ruilen tegen andere goederen en diensten; dit heet ook wel ruil in natura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Hans schildert de kamer van zijn vrie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en zijn vriend maakt de scooter van Hans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Indirecte rui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= goederen/diensten ruilen tegen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Voorbeeld: Jantje neemt een zak brood uit AH e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geeft geld aan de caissiere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oor opkomst van geld </a:t>
            </a:r>
            <a:r>
              <a:rPr b="0" lang="en-US" sz="2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meer arbeidsverdeling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el 2" descr=""/>
          <p:cNvPicPr/>
          <p:nvPr/>
        </p:nvPicPr>
        <p:blipFill>
          <a:blip r:embed="rId1"/>
          <a:stretch/>
        </p:blipFill>
        <p:spPr>
          <a:xfrm>
            <a:off x="237960" y="274680"/>
            <a:ext cx="844884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uil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ruilen tegen goederen/dienste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ruilen voor geld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(2 euro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Reken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eft de waarde aan van producten, maakt vergelijken ook gemakkelijk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broodje gezond kost 2 eur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Lucida Sans Unicode"/>
              </a:rPr>
              <a:t>Spaarmiddel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; geld opzij zetten voor later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Voorbeeld: 20 euro per maand in een spaarpot leggen voor de aankoop van een telefoon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el 2" descr=""/>
          <p:cNvPicPr/>
          <p:nvPr/>
        </p:nvPicPr>
        <p:blipFill>
          <a:blip r:embed="rId1"/>
          <a:stretch/>
        </p:blipFill>
        <p:spPr>
          <a:xfrm>
            <a:off x="231840" y="128520"/>
            <a:ext cx="861372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Chart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alle munten en bankbiljetten in omloop. Oftewel contant gel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Giraal gel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: geld dat bij een bank op een betaalrekening staa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Titel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Chartaal geld"/>
          <p:cNvPicPr/>
          <p:nvPr/>
        </p:nvPicPr>
        <p:blipFill>
          <a:blip r:embed="rId2"/>
          <a:stretch/>
        </p:blipFill>
        <p:spPr>
          <a:xfrm>
            <a:off x="6443640" y="1916280"/>
            <a:ext cx="1657440" cy="1398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Giraal geld"/>
          <p:cNvPicPr/>
          <p:nvPr/>
        </p:nvPicPr>
        <p:blipFill>
          <a:blip r:embed="rId3"/>
          <a:stretch/>
        </p:blipFill>
        <p:spPr>
          <a:xfrm>
            <a:off x="6732720" y="3789360"/>
            <a:ext cx="136836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1T14:51:49Z</dcterms:created>
  <dc:creator>rachid</dc:creator>
  <dc:description/>
  <dc:language>en-US</dc:language>
  <cp:lastModifiedBy>Rachid Hamdi</cp:lastModifiedBy>
  <dcterms:modified xsi:type="dcterms:W3CDTF">2015-09-17T07:54:05Z</dcterms:modified>
  <cp:revision>39</cp:revision>
  <dc:subject/>
  <dc:title> </dc:title>
</cp:coreProperties>
</file>