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E18-DA8D-4229-9249-24E3D94CB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DC1B-85A2-4110-B600-A5D9DEB1C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F211-4A8B-4BF8-8DC7-EA1CF125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5BE-A331-4EAF-8738-D8E53B1A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E07A-FF12-4F28-B845-C329EC4B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8E00-F8E2-4393-871A-462043FE2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C83D9-20DD-4CDF-AB08-2CB6ECE9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4DEA-40D6-4F13-8A37-CECF0A9A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F4BF-9493-462A-BCDF-CC76D4C8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ED88-9301-41D9-BF8C-8162495A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3F99-40B6-41CA-9DCD-4FA82FE0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54E-F249-4CF4-AEED-6279F5B31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45A63-D379-4493-8E2A-3EDCF9D2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40DB9-CD87-45C0-893F-37DE4534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A3B9-9373-4F40-A5E2-13DF803B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55FF-E1FC-40CC-BD81-1AFE25D92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5166-60A6-4C89-9490-38640E23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7FA5E-E843-40E9-801A-82C1266B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F9230-DE55-41F5-BEB0-F585EDD4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356CB-3195-46E6-A811-C09A13541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07FA5-7A1B-40EE-9BA2-DC6C674DC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B71BE-0D81-49C9-950E-13E026B5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3FD-1E92-4CE1-A33F-D03991C2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86CBF-24A0-4316-87A4-8D8D84E2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F49CB-2090-472D-B0E3-83A091E8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244D1-A158-4544-9693-112AB2B6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68CF7-4D7C-4FEA-BDE2-5F7A2447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CB651-F830-4E82-B8FC-68EACCC3F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4972A-5CB3-47E4-A230-B843197A3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87148-0B35-4D6E-A4BF-F5EDD3348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59E82-FF0D-4F93-9463-EF5A55B5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2CF86-228A-47AA-BDF6-5A19F37E6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13EFCF-AD47-4715-A801-F48F1DCC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5422-0C69-44BD-B407-67CFDEB9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31E5D-EFEC-4C0D-88EB-29B0B756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84DD4-2F9A-45CE-9B5E-E1607AB8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5C5A7-B265-48C8-98C4-7089D665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9C557-9E57-4E06-976D-EDB8F3AA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A9E9E-59E4-46A8-84F0-E8A13DF7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446DD-04D1-49F0-9BEB-C8182843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DDC6B-3C6B-4525-AF2D-909FBCAA7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A6CD4-F5AC-4193-A755-B2B6CC4DE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FD2226-FBE7-416B-80EB-66FC009E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FA73C-1704-4974-811C-4B3B7E702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620A-F659-4F90-A47E-4E63F434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04CF7-C60E-47C8-81C7-EB49011A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B56F3-0D10-4677-83CB-581ADE3F5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102D4-7426-4EB2-8CA4-BAD756EB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CFD00-95F3-4DD9-81C8-DB3FF053B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B31D8-C50B-4D79-B963-9F1ADC85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D1596-2FB1-4C6B-95E7-943FC1F7A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D5D69-CB9E-4A73-86AC-A5E82FEC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41975-180E-4E5E-8529-35AEBA61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ABCE6-E556-44CD-8CCE-E7B736AB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7C078-A058-4A55-9DAB-CB61DD828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69BB-737A-4211-B067-02B3DE04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639E5-ED0D-4EED-AD98-90F13D00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1F84B9-082D-461C-93E6-3E3F04814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CAC33-9F38-4962-BA51-FF95A8FF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D1E60A-BC0E-4951-854F-C64798A81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1FDC2-4D0F-4F91-9B57-1578D8F93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D3DEE1-DBC9-4244-B685-D8A49C94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7E500-5F23-42E7-A065-AE250B62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FD261-5D35-42F4-BF0B-02EDCD88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B9F12-57DD-45BE-98FF-22C1F815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5B44-ADE9-49F1-BC01-84D516D9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C7BB-A109-4CCA-BE79-61ECB295F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48E19-1B16-457F-9D85-650A8C49F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26455-19B4-41C1-B302-BA70CC51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25222-B95A-427E-9A0C-D6AF518F6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38F5F-94E5-4AF3-9743-58C03BB7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D9853-C0F4-482A-8A76-9CAED732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A8055-1998-42CF-8021-195B27F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30324-093B-4716-839E-51E47FD6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E8ADC-24B9-42BD-BBEC-523FCB05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AE84B-A544-4538-8E8E-8CAFA617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D3FA83-2B89-48C9-82E6-EDE85ED8E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D97-929F-4D30-AB16-D1FA27BE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C1428E-933C-449D-9144-3BD98F6E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8EF3E-13A7-4D4E-9244-83864B8E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AF00CF-21F6-44E1-BF71-646617EE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F1FFC-F410-4ADD-851A-7D33D68A2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7E0CA-4BF5-4C1D-B0D0-A5EFC7B8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5C21A-A5D5-4AD5-8196-397EF0013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5FA4A-CAD7-4C86-9769-A06A7FAF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71C12-CA3A-4185-A6AA-FD9DFB18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D4638-C53E-473D-BAC4-B88557FD2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72424-7039-4CC9-B024-0C967C12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9411-7DF1-4E7D-A1F7-DCDFF012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EAE31-D14C-4EA4-97CC-83D71049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07264-5285-4E74-8537-6423EB77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3E99E2-0538-4D07-9B00-D4E3287B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598C5-D8F8-461C-B281-14D238E29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42D9A-DDA8-410C-BC82-8C9D8D5EA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08134-8814-4E77-84AF-3B01D250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80AFA-303D-4536-A203-8AC84C1B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5DC3-8F37-4E09-9B29-9C24D94B6A46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8483-9574-4DD1-9D04-7395CFB44386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5A3A-9EA6-452D-9335-0E1076E9B76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2B76-F2F6-4300-9C24-739A4466AE3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7936-D276-4FA7-A1D1-436AF3F9D7A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A02C-16C0-4C3D-9D85-99BF4E803EB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A2E8-ED1E-4941-9344-D19AD570500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C727-5C80-4E19-875A-E6E80C991EA9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778500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3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Sparen met profij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telegraaf.nl/migration_catalog/article20002649.ece/ALTERNATES/sectionImage1500x1500/spaargeld-kind-kwod470"/>
          <p:cNvPicPr/>
          <p:nvPr/>
        </p:nvPicPr>
        <p:blipFill>
          <a:blip r:embed="rId2"/>
          <a:stretch/>
        </p:blipFill>
        <p:spPr>
          <a:xfrm>
            <a:off x="0" y="0"/>
            <a:ext cx="31320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arom sparen mensen eigenlijk? Met andere woorden, wat zij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otieven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voor hen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doel/grote uitgave (bijv. een auto kope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een tegenvaller (bijv. de koelkast die kapot kan gaan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 de rente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oordeel: sparen geeft extra koopkracht in de toekomst = door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maar een deel van je koopkracht te gebruiken en de rest opzij te zetten, heb j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extra koopkrach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68360" y="260280"/>
            <a:ext cx="8229600" cy="553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langrijk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t rentebedrag is hoger bij een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rentepercent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hoger spaarbedra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 langere looptijd (= spaarperiod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flati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zorgt ervoor dat geld minder waard wordt. Dat komt doordat de prijzen over het algemeen stijgen, waardoor je voor dezelfde euro minder kunt kope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(= nadeel van sparen)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est gunstig voor sparen: als rente veel hoger is dan inflati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84400" indent="-199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549360"/>
            <a:ext cx="8229600" cy="54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aarvormen verschillen van elkaar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rentepercentag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hoogte van het minimale spaarbedrag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door de periode waarin het spaargeld vast moet blijven staan op de spaarrekenin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95800" indent="-219240">
              <a:spcBef>
                <a:spcPts val="326"/>
              </a:spcBef>
              <a:buClr>
                <a:srgbClr val="2da2b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rekening rent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(Spaarbedrag : 100) x rente % per ja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mrekenen naar andere periode 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pas de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lgemene omrekeningsregels toe!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ijv. (Rente per jaar : 4) x 3 = rente per 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kwar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0280" indent="-24516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</cp:lastModifiedBy>
  <dcterms:modified xsi:type="dcterms:W3CDTF">2016-10-27T20:08:51Z</dcterms:modified>
  <cp:revision>57</cp:revision>
  <dc:subject/>
  <dc:title> </dc:title>
</cp:coreProperties>
</file>