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1.jpeg" ContentType="image/jpe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8288-F91A-4F33-932B-E052C551F52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26BC-8FBE-4E92-B51F-CAE5E782DE2D}" type="slidenum">
              <a:rPr b="0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6CE6-4B96-42B4-9D5D-D2EF4A0E7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E575-21FF-4D40-B59B-2F3908F2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BA6B-C03A-4B1B-9181-AF4ECC4CC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F212-4443-46F0-A6C5-FC47A893B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B3A3-5C51-4ECE-A3F9-B2C07E97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5110-B8C9-4C0D-B4A4-9793B12A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30D8E-B191-494C-9473-704C4A5E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B7E41-214B-4B2D-8102-9E0691AEE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5F4B-2027-463E-A68E-5041B8AF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0594-FF03-459F-B160-513A8B92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D23E7-0560-4117-AF34-F258BF1B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F794-B0D0-42BE-9AC7-880D5356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1064-4DA1-4471-97F3-99A3647D3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55C3-D655-4199-AB9E-C0CA15236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AC76F-250F-4BCA-9B00-C6A57FC6E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C651-22AA-41DA-B057-C1E3B9454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E079-EB90-49CF-AE53-1170D5D2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09217-02C2-455C-81B3-0B1244F3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065E9-D357-4B91-9F04-6211896C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E2646-E696-4AC2-9D23-37E2F3A16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7D9D2-6F74-43C3-9E73-85221B8D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47702-671C-44D9-A5A5-BD0AF996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6B5F-BABB-4312-8807-F46AE422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A1EA6-4ADD-4F26-A1A5-F4ED44B7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849CF6-D077-4BA5-BAAE-A486CC14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67579-9889-44FE-829D-63AFB5A9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F0BDF-5FC5-4275-BB99-36C74359E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BAC28-63CD-4551-83FB-EB14796E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42933-E90F-4D7C-8E91-D9F811430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13D66-2A45-46EB-A911-C2457099F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A8754-26F7-4D88-A020-5FC3A0A40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2549D-11D8-4DF5-9E08-1B3B571A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EBA09-2122-4308-B782-2AC332D1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B5DC-91B4-4FE1-B674-9E3B1685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1615E-DB81-4C82-8190-5CCF173D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15523-00A3-41A9-BB01-6FAAABDB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C9624-8DBC-43EF-9975-50B6109D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31A02-E9ED-4B40-8E9F-F9837C3F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F07DB-D075-493D-B4C2-BEAA3F7C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DBA88-9015-414F-B728-743885C0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8EA95-85DC-49A5-B5DF-D9C7E1B8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629FB-7544-47C4-B445-63D62027B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1920D-EBBF-443D-9A56-0EC80F1FC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1A432-DEB5-43B5-B4D0-6AF347B98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A74E-BF85-4CB9-B937-8D25C264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796D1-B1DE-4C40-B8BE-AB51AA40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2D289-DEE8-416A-B07A-7EA3759C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FAD9D-2C1F-48EB-84CB-385C0F83D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C4B71E-5E19-42FE-98BE-F2FA4EFF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E0BA3-EA07-4804-B21D-7BD98D94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1F5FF-554A-451E-A93E-16BE58E8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A45CC-A23F-40F1-A3E0-970EE396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B2234-68C7-4878-9363-EA184641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AA1A0-4B71-45F4-BD37-C18C639DD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70819-50CB-40B1-820C-5677CFC6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8935-E824-494B-A990-A19A1BC8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4E68A-3517-4B24-ADD1-6885AA47F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C5E95-719A-4636-B519-779057C50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ADCF4-3E67-4979-9FBC-9AE02B35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5AF5B-9B02-4929-A5E6-DEB452BF3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7422A8-503F-484A-95EA-823F3C31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57540-BFE7-49F6-A1E0-5AE355C5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85CC1E-85A8-41F0-B554-455E488B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AA2AF-0B3B-42C4-953D-E80E7C19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39F8F-EEDA-41E7-A386-C79D2EA7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7CF1E-39CB-43C0-B430-3FE1B921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38F7-4CA7-45E4-86FD-85C74ED6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CFA30-AC18-443B-9A32-E4F82DBD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C2127-D523-4AD6-A62F-6B7FDB004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CE2A4D-F454-4E64-B39B-310226175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15710-0F8E-4BBE-9479-261594105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C602F-E561-44A5-960F-1257E93A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6C02F-191C-45EF-8C27-AAB778DE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517DA-A756-4C61-ABA4-0BAE11EB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66848-0005-4C92-93C9-5BB03F0B3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10BEE-B7F8-4C1C-B9D7-C9E4F2EF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C4958-2AD6-4AF4-9714-64A2E97A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8955-6510-4A72-A717-931C7071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0EA12-11A5-49DE-9B8D-F8C20A28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B87BF-2565-4D4F-AFF9-E10F6B04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09BE6-7A25-485D-B466-A9C509CB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61944-3C14-4983-8144-F3FBABF12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776B7-E261-4BC0-AB22-E808EA97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23733A-2316-4376-A933-7AEB9884D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42844-1186-44EA-8ECA-EFD2B421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5F183-79E9-42F1-AC28-A9D9F87D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A59BE-7402-40B8-B574-2FB5A0AD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503474-108C-438C-B2BC-8E6A635A8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89B7-FC83-4333-86CD-92A41C356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93401-959F-4BA6-8E2A-6883B3D1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B062F-194D-461A-867D-96EB3695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C2E12-36CC-4BEC-BECF-648B8844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B8A7A-140A-464D-9BB4-24CDE18D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E702DC-8472-40F2-957C-9ECA4663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CF2F4-17CC-41DF-AA3A-A41DC8D6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D2E15-A805-42A3-8662-247BB4637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8A72-FA51-4A6A-8F81-C2CC727C3CD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C276-AB14-443E-AF98-FB740B39D5DD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0857-721B-4545-848F-C45311AF1A6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ED38-CC11-4BBB-AB6C-55D8CD4A452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FE81-13E8-4238-9E1A-F634AB1E549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35DF-8FA5-4993-B8CE-152D6BFCF9EA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C7205-6502-46CD-9D4B-FFC79900151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35E39-C585-4BE6-8F75-DBA74BEE61A0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6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Kopen op kredie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Picture 6" descr="http://super-aanbiedingen.nl/wp-content/uploads/2011/01/ipadopafbetaling.jpg"/>
          <p:cNvPicPr/>
          <p:nvPr/>
        </p:nvPicPr>
        <p:blipFill>
          <a:blip r:embed="rId2"/>
          <a:stretch/>
        </p:blipFill>
        <p:spPr>
          <a:xfrm>
            <a:off x="0" y="0"/>
            <a:ext cx="298764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rsoonlijke le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orlopend kredi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oop op afbetal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uurkoo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http://www.geldlenenabc.nl/wp-content/uploads/2015/03/woordwolk-kredietkrijgen.png"/>
          <p:cNvPicPr/>
          <p:nvPr/>
        </p:nvPicPr>
        <p:blipFill>
          <a:blip r:embed="rId2"/>
          <a:stretch/>
        </p:blipFill>
        <p:spPr>
          <a:xfrm rot="2034600">
            <a:off x="4654080" y="2292480"/>
            <a:ext cx="4172040" cy="24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62064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Uitleg persoonlijke lening: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zie paragraaf 2.5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oorlopend kredie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ij een bank of bedrijf waar je iets koopt en niet gelijk hoeft te betale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Er is een maximumbedrag tot waar je mag lenen (= kredietlimiet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Je mag datgene wat je afgelost hebt weer bijlene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Je betaalt een termijn die hoort bij de kredietlimie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looptijd staat niet vas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88640"/>
            <a:ext cx="8229600" cy="58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Koop op afbetaling: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koper wordt eigenaar bij de levering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ermijnen staan vas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uurkoop</a:t>
            </a:r>
            <a:r>
              <a:rPr b="0" lang="en-US" sz="2200" spc="-1" strike="noStrike">
                <a:solidFill>
                  <a:srgbClr val="000000"/>
                </a:solidFill>
                <a:latin typeface="Lucida Sans Unicode"/>
              </a:rPr>
              <a:t> (bijzondere vorm van koop op afbetaling):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koper wordt eigenaar na de betaling van de laatste termijn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Termijnen staan vast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De </a:t>
            </a:r>
            <a:r>
              <a:rPr b="1" lang="en-US" sz="2600" spc="-1" strike="noStrike">
                <a:solidFill>
                  <a:srgbClr val="000000"/>
                </a:solidFill>
                <a:latin typeface="Lucida Sans Unicode"/>
              </a:rPr>
              <a:t>effectieve rente </a:t>
            </a: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is de rente inclusief alle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ijkomende kosten zoals administratiekosten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14160" indent="-226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Bij banken is deze lager dan bij winkels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Picture 4" descr="http://www.bnr.nl/incoming/2011/04/12/wehkamp-in-de-verkoop.jpg/ALTERNATES/i/Wehkamp-in-de-verkoop.jpg"/>
          <p:cNvPicPr/>
          <p:nvPr/>
        </p:nvPicPr>
        <p:blipFill>
          <a:blip r:embed="rId1"/>
          <a:stretch/>
        </p:blipFill>
        <p:spPr>
          <a:xfrm>
            <a:off x="6659640" y="1087560"/>
            <a:ext cx="2160360" cy="14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071360"/>
            <a:ext cx="8229600" cy="49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uu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an duurzame goederen gedurende langere tijd. Er is hier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gee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sprake van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eigendomsoverdrac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v. auto’s, caravans, machin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leasebedrag is bestemd voo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nvestering in het produc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nkosten, zoals reparat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e waardevermindering van het produc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a afloop van het leasecontract kun je het product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kopen (tegen een extra betaling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5" descr="http://www.auto-aanbieding.nl/2012/webfiles/afbeelding%20website/koolen-lease.jpg"/>
          <p:cNvPicPr/>
          <p:nvPr/>
        </p:nvPicPr>
        <p:blipFill>
          <a:blip r:embed="rId2"/>
          <a:stretch/>
        </p:blipFill>
        <p:spPr>
          <a:xfrm>
            <a:off x="6659640" y="1954080"/>
            <a:ext cx="2209680" cy="179712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7" descr="http://www.animaatjes.nl/wallpapers/wallpapers/paarden/animaatjes-paarden-44772.jpg"/>
          <p:cNvPicPr/>
          <p:nvPr/>
        </p:nvPicPr>
        <p:blipFill>
          <a:blip r:embed="rId3"/>
          <a:stretch/>
        </p:blipFill>
        <p:spPr>
          <a:xfrm>
            <a:off x="7080120" y="3770280"/>
            <a:ext cx="180036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0-28T07:41:26Z</dcterms:modified>
  <cp:revision>80</cp:revision>
  <dc:subject/>
  <dc:title> </dc:title>
</cp:coreProperties>
</file>