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BC00-8161-4838-935D-8A9DDC277A3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8E83-0C59-4ACD-A02A-9E254F95AE9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6621-87C9-4801-B7F0-EB711FF8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4E5-BA1C-4ACE-A0B2-722A558B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6170-EC6B-45FA-8B14-D90D150A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7EE-EE30-4A0C-AF88-DEED6DD3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6386-5273-43B7-90D1-76B3854A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96ED-5CDD-43C8-8C3B-9E561DFA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8BA4-0DB2-4B5F-94BF-0F9A215B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6943-7D54-46FD-BB90-9AC179CB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9835-F85E-455E-9517-176507DF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0343-A4D3-44A9-9893-DE1B650A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0E08-AF49-40B8-834A-F65D7A32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7B5-84BD-4F4C-8DAD-B64F2684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8A21-6D12-4D7F-9AA3-015A47AF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E3F7-3B4A-4F32-9814-8A8D8C63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A36D-FD16-4D1C-AF60-1A1CA279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5823-B2E2-457F-A8CD-B4DCDC45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7240-4128-448F-839A-2F77857E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4B0D2-DE1A-4D35-AFB1-C84FC247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D21C2-99AC-41B8-8185-4DA4A647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27835-B1A1-41B0-95C5-941F8E15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B2164-517F-4B63-BFD5-4DB79CE0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F0A3B-F3D9-43C8-BB8C-80478B98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337-2878-4950-8972-DEDDE638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441EE-B555-4E5C-998E-EBE34BE0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570E7-8C12-4931-91C6-EA297AC2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97B98-4E71-49A9-933E-C4369F47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B7641-25BD-4666-9EEA-B88EB888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20498-0AAB-4315-AB66-5C6957EB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8720B-8FBE-44C8-AC77-C7D592D9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E6DF2-E696-4914-929B-14485053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EE89A-B197-4F2B-A374-A536D766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60DB0-C81A-45B2-9131-EEFFC4CC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46E64-FCFC-474F-A8F8-EBCDCF83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416-BEDB-4B9D-82FD-F50B6AEB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8ED09-BFF1-4D6E-BFA7-B2114D86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1933C-13A1-4689-B0ED-E5C7A743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B7E6F-2655-4AAE-8D19-4D8997C9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61CF0-204F-43DB-9AF2-D46AFA60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28D43-41F5-470A-9436-061D29EA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6CD34-4FF5-4F33-A0EC-D93567C4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A8EAA-182E-4BFB-91C5-DC25654E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9F5C0-ABFF-4BF9-A3B8-701DC17E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06AF7-E15C-4B06-B46F-AC9DB411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52E39-6386-48A7-9908-727C2774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B4A4-1A92-4928-A796-858FE801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D2F7A-8990-454C-9DB5-6E379EA1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B4E49-1F75-4A35-8FAA-FD6696FF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9D594-0DC3-4A22-A0FA-C1DBE464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F438E-CF2B-43E8-9541-DC18E860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62C50-04FC-46F6-B446-004153EE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E0706-4CC4-4464-ACDD-CC899782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4DC66-0D42-42E4-8D36-87514B6C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225D8-2368-4BAE-81E8-56DB2497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D09B8-9A43-4282-AAF9-1E5903AE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6BA5B-0D63-4C74-88F6-4EC18527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1B4-6149-46CB-863C-4EB822AD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977F5-2CE2-4F98-9312-DAA6AFDE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F5BCB-25E7-46E1-9F28-E0C3BFA4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D9A18-10B2-4F67-85E0-31AE4938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3CC5E-B561-41A2-BD09-15607044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BBDF7-EAE9-4B34-98AD-E7C0D7A8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7DC1E-4609-476A-B068-20EC4CC2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EA16E-5BD9-4BAC-9F51-10C7E1EB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8FD00-4AC4-406F-90C2-9DE9C7DE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E38AE-4D66-4B13-B946-09647510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EC144-0152-4AB7-A514-E46E6CD1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40F-71B4-4F55-BCA4-1359AE38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B7E40-29D6-42A6-A708-54953DA0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91B11-149B-42A5-ABBA-CE32B0D9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2EE76-83D3-4E37-BB2D-BA2DB537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EF474-3D06-48C9-B6CE-B1552B2F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34D9D-05BE-4B67-A095-8C4EB747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FE33E-2B4D-4FB3-8F95-E55063A7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1010B-E5E8-457D-A0DA-5E896605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CAC32-85A2-4333-AC36-E036EB89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EDFC4-CAF5-44F2-A7B6-0C009649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73840-6451-4DE5-82B1-9F584330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286-FAE2-4B5E-9CE1-3AB0B717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76323-5CE6-4E64-84F1-AB813280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109BC-9D0C-4D50-9291-07539457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FDE6C-9F84-4F5D-AAF1-19FAD1CC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C0FF6-DDDE-42A1-8CDD-B81E002D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23A9B-319C-4756-A393-18821960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20680-6D12-4F7D-BF85-F8C31B44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97AC4-9AB5-4B93-AF86-889CE0A6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1D64E-4A1F-4837-93B8-357057FE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950DB-2432-4331-B7BC-BB189CD3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7BE98-D37B-477E-9C36-E0C3CDA8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5C8-60FE-423E-A931-B522182A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4AD58-EAC5-4218-9366-D848ED30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1FC8A-FD30-4727-A210-FA4D0B0D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87E66-3224-4B33-9EB8-7AD0FE9B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C24ED-5994-49D1-AB41-363E5F1E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1D202-435C-4515-972A-0F4DDBA6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A5B0A-9132-44A0-A62A-9ECE28FD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5DD64-2B66-40E1-9339-C94132A4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BCEC-8972-4D92-B146-4373BB824C9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8543-A200-495F-842B-42E626BD332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A3ED-AAFF-4F90-B375-8230D98826F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2830-AA15-4A29-8787-B213A13D933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79FC-E9BC-4045-8675-B839D3347B7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9C3F-C656-45B5-BB61-380D0D0B03F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091B-E6BA-48B0-817F-7BF9C71D7B0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6C0E-2CFF-4420-BFDD-B57118E1D4C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op kredie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6" descr="http://super-aanbiedingen.nl/wp-content/uploads/2011/01/ipadopafbetaling.jpg"/>
          <p:cNvPicPr/>
          <p:nvPr/>
        </p:nvPicPr>
        <p:blipFill>
          <a:blip r:embed="rId2"/>
          <a:stretch/>
        </p:blipFill>
        <p:spPr>
          <a:xfrm>
            <a:off x="0" y="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soonlijke l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lopend kredi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op op afbeta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urko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http://www.geldlenenabc.nl/wp-content/uploads/2015/03/woordwolk-kredietkrijgen.png"/>
          <p:cNvPicPr/>
          <p:nvPr/>
        </p:nvPicPr>
        <p:blipFill>
          <a:blip r:embed="rId2"/>
          <a:stretch/>
        </p:blipFill>
        <p:spPr>
          <a:xfrm rot="2034600">
            <a:off x="4654080" y="2292480"/>
            <a:ext cx="417204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Uitleg persoonlijke lening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zie paragraaf 2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oorlopend kredi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 een bank of bedrijf waar je iets koopt en niet gelijk hoeft te betal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r is een maximumbedrag tot waar je mag lenen (= kredietlimiet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mag datgene wat je afgelost hebt weer bijlen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betaalt een termijn die hoort bij de kredietlimie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looptijd staat niet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Koop op afbetaling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koper wordt eigenaar bij de levering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ermijnen staan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koop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(bijzondere vorm van koop op afbetaling)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koper wordt eigenaar na de betaling van de laatste termij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ermijnen staan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</a:t>
            </a: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effectieve rente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s de rente inclusief all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komende kosten zoals administratiekosten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 banken is deze lager dan bij winkel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4" descr="http://www.bnr.nl/incoming/2011/04/12/wehkamp-in-de-verkoop.jpg/ALTERNATES/i/Wehkamp-in-de-verkoop.jpg"/>
          <p:cNvPicPr/>
          <p:nvPr/>
        </p:nvPicPr>
        <p:blipFill>
          <a:blip r:embed="rId1"/>
          <a:stretch/>
        </p:blipFill>
        <p:spPr>
          <a:xfrm>
            <a:off x="6659640" y="1087560"/>
            <a:ext cx="21603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071360"/>
            <a:ext cx="822960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uurzame goederen gedurende langere tijd. Er is hie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e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prake va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igendomsoverd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auto’s, caravans, machi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leasebedrag is bestemd vo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vestering in het produ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kosten, zoals reparat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waardevermindering van het produ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a afloop van het leasecontract kun je het produc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open (tegen een extra betaling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http://www.auto-aanbieding.nl/2012/webfiles/afbeelding%20website/koolen-lease.jpg"/>
          <p:cNvPicPr/>
          <p:nvPr/>
        </p:nvPicPr>
        <p:blipFill>
          <a:blip r:embed="rId2"/>
          <a:stretch/>
        </p:blipFill>
        <p:spPr>
          <a:xfrm>
            <a:off x="6659640" y="1954080"/>
            <a:ext cx="2209680" cy="1797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http://www.animaatjes.nl/wallpapers/wallpapers/paarden/animaatjes-paarden-44772.jpg"/>
          <p:cNvPicPr/>
          <p:nvPr/>
        </p:nvPicPr>
        <p:blipFill>
          <a:blip r:embed="rId3"/>
          <a:stretch/>
        </p:blipFill>
        <p:spPr>
          <a:xfrm>
            <a:off x="7080120" y="377028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0-28T07:41:26Z</dcterms:modified>
  <cp:revision>80</cp:revision>
  <dc:subject/>
  <dc:title> </dc:title>
</cp:coreProperties>
</file>