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0A77-5F12-40F0-B81D-4CAF397C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6C7C-A9EC-4714-9F31-66D11092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94D-A5C9-4EF2-86B4-8EB3D124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CC7-1048-4834-8F8B-25B51971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5F1E-A4BC-41E3-821D-CAEC0DB9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88CF-D3C7-4494-8AA8-322464CF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D144-1E9B-4A49-B6E6-7C81A657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9D9E-3CD3-482E-B219-9A0FD8B2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31B6-C001-4BEF-9DCC-2693C7BE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2FEE-F7A5-4872-AB71-6B310A86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8ADA-57C0-473B-A4C2-9C4C9D7C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664-39FB-4B81-9BBF-EAA12084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D072-3455-48E9-9BA0-037F0BE0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BB98-6AEC-4447-9E46-449F3F0A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B3CC-8EA4-4B9C-A511-4B4FCCD1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C6CB-8690-4BAB-8583-9BA44FF7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AC0E-C380-410C-8C8F-9CAC101A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E0B84-8F67-4B0A-845C-BD66E5A8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35EAF-4275-4CCF-8C0E-EC69A774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7A604-0841-4036-A3A3-FEB9FF69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5906C-0400-43E6-893D-95E4B4F6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77649-E28A-4732-A70A-00CB4764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CCD-9708-4356-88E2-77FAFE16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68FE4-F80E-4401-8744-D83ED262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3CCFB-2F28-4F88-B87F-5932F3E6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93832-1E45-439F-A078-916ED6BF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CB353-59E3-46DA-8466-4B3F7146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9C589-E9BA-45E6-A1DF-977E68F1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F77EA-EB7D-4514-B584-5DA63F48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C02BA-F8E2-463C-8E24-3D356BD8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F364F-4E56-467C-95BA-1194AA96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3CB5B-E2B8-485C-829B-458E362C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C7590-FCF5-4F78-BE30-DB29FF6F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C8E-857B-46FF-90C2-81537698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32D7A-9CBB-4C95-8226-183061C5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F1598-BE72-43BE-8B35-1C7271CB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1D620-8FEB-4E0C-BA8F-B6E58B3F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B7DC8-C1F0-49F5-85C3-23104361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AAA1E-11FB-4D67-9CEB-638BF369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72F42-12C9-4284-8B23-8BDBCCFA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81612-38B5-4554-94E4-C1B6B814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B5933-C5D5-4B72-9179-78EE5D90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97DCF-E34B-464B-8A06-FC5D6EE9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0E04B-9DF6-4E4E-A68C-34C07019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E5E-B994-4385-AB1B-76FB74AA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E1DC3-CF41-4591-8515-C5A0E44D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D5E05-8A9E-4664-9450-47AC30F9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FA408-F699-4017-AAF9-86894A8B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D368F-CC2E-4A06-B2D4-FA3E2146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0195D-7DF6-4F07-A65C-47C0429E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F8D7D-C89B-4A42-9067-68122F28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5B981-4BD7-42F6-BD2E-4E6B405F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B4CB2-7D5B-47BB-9C4C-ECAA992B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AE579-D22A-4CDD-8624-376BFF7E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C11F3-BD43-4708-B450-57DDFC0F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918-8383-4CCB-AAD8-241F824A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8A952-6575-427E-A1C1-B58D5711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0D4EF-0FEC-49C4-B8B2-BEAAF06E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2DA75-BC8A-4D43-A110-8EBDA3AE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4EE83-87E7-4A39-9DDD-84CC9B64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D1D41-8772-41D2-9FB1-6CBAAFD5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72DA4-4CF9-4062-BBEB-0C3672BC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718A5-2D66-481C-9F83-09501ED9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D04A4-111D-461B-A16C-B7E962FE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25CD0-4D5A-42CB-807C-FBE7F01C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65134-0E86-4AF5-BA55-7C84FACD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A1D-5FED-4A37-BC6D-917A63DE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34FE3-41F1-474D-89CE-6C4DD373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8363F-97C5-4D51-8590-48B3F063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6C383-0656-477C-A934-1BA002F1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52436-D9D5-4C90-A20F-C3D8F62E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F0F2A-C070-4C29-8AE1-2F9D2E28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EFFE2-91FC-4130-8BFC-C051D5B1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BCD5F-9313-4381-98A0-65A75EE6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6CFA9-8B3C-4674-BD14-526F7F83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E2BB6-AF23-4050-AD10-59E387A2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A74A5-DF02-4C0A-B63C-FA287A87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3D9-0962-45A9-95D9-DA9CBE47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3E37E-2811-4ADA-970F-40CEECB3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B311D-8907-4BCF-AEC3-56EF5007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FA160-9EBA-45DA-B799-4EA13156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C4BB8-FFA2-499E-80E9-077E1D46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41450-A41B-4C3C-9503-6FD4D0BB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F3611-AED5-4B30-AE5E-C697DCAA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1A4EB-CA34-4B83-B9A9-04984C1C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0ABA7-4067-42BF-B5AA-BA55762F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1CD80-627F-4A86-A37E-854A6BAC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9A1F2-0791-4284-9BD0-38B524E3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095-300B-43C0-95DE-48ED64A4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65BED-D3B9-49C8-A8B7-D7598BDA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435F4-CECC-4BEE-9F14-7033D5B8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15B28-C223-4EC7-8ADC-F688626F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86204-541B-4597-B225-FD82C513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4E80D-CBEE-4073-9D97-0A9B22B9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9DAA3-435C-456D-9074-D4FFAEE4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0F6FE-24A3-4B82-8829-13281513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B561-CC30-40C1-B4BA-9BDC74E03D7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3EE2-FED6-4CE0-838F-AE308E11876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2007-80BA-4C27-8220-5F59AF34B99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F78A-7BD0-4AC8-9928-84E6CBC147C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9DFA-9819-4617-9D8A-9EAAA6A2E43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2999-71CB-4D45-BBBF-E36A2FC73E2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B738-46BB-4B97-AD7C-352B6FEEB4F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8A25-5241-4F32-8587-1D242D0541C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Sparen met profij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telegraaf.nl/migration_catalog/article20002649.ece/ALTERNATES/sectionImage1500x1500/spaargeld-kind-kwod470"/>
          <p:cNvPicPr/>
          <p:nvPr/>
        </p:nvPicPr>
        <p:blipFill>
          <a:blip r:embed="rId2"/>
          <a:stretch/>
        </p:blipFill>
        <p:spPr>
          <a:xfrm>
            <a:off x="0" y="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om sparen mensen eigenlijk? Met andere woorden, wat zij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paarmotiev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oor he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een doel/grote uitgave (bijv. een auto kop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een tegenvaller (bijv. de koelkast die kapot kan gaa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de rent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eel: sparen geeft extra koopkracht in de toekomst = door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aar een deel van je koopkracht te gebruiken en de rest opzij te zetten, heb j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xtra koopk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68360" y="260280"/>
            <a:ext cx="82296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angrij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rentebedrag is hoger bij e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hoger rentepercent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hoger spaarbedr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langere looptijd (= spaarperiod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flati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zorgt ervoor dat geld minder waard wordt. Dat komt doordat de prijzen over het algemeen stijgen, waardoor je voor dezelfde euro minder kunt kop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(= nadeel van sparen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est gunstig voor sparen: als rente veel hoger is dan inflati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vormen verschillen van elkaa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hoogte van het rentepercenta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hoogte van het minimale spaarbedra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periode waarin het spaargeld vast moet blijven staan op de spaarreken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rekening rent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Spaarbedrag : 100) x rente % per ja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mrekenen naar andere period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as d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gemene omrekeningsregels toe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(Rente per jaar : 4) x 3 = rente per 3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war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51Z</dcterms:modified>
  <cp:revision>57</cp:revision>
  <dc:subject/>
  <dc:title> </dc:title>
</cp:coreProperties>
</file>