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F45-1E2C-440A-8471-8169159A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056-1AEF-4107-9FF1-CF3F83AB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9A1-409F-48A6-BB0C-2750D963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801-83D1-4206-9C86-8E6B00E7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A887-2C90-4BD7-8075-0E7F53DD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F914-F818-43A8-B79A-2A846127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D84C-5611-4E22-8981-6950D29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E4B0-6C2E-4A82-A271-06A40F3A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6B80-17B9-4D18-8DD8-185D338B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189D-63A8-47D4-A479-F9108C70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6D2B-F216-464F-B1EA-4D3B75F4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30F-7AF3-496D-8409-45C162DE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F551-FD02-4C2D-85A0-87F1D0ED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BC34-DA21-41A7-8484-E9C4D5C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69A5-B757-4119-90BF-14DD55D4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9640-7FCC-42D2-A234-F4EB52F3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DE1D-452A-4386-9254-39F34952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E6ED-0A22-44B5-8A37-55753C7B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F9EE-599C-4CA0-8440-C132BD86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C814D-612F-41C5-A05B-FD36C558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44D1-DFA2-4719-BB77-3D0F37E2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E841-490C-4309-9367-36834CB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E98-1458-4605-82A6-9A9E9E6A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775D-2F38-4885-9D8D-1245802D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D708-1E7C-4F94-A6F6-9FF01BF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2961-3994-43CC-AEAC-FD0EC385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3CEA-D981-4526-A3F4-36D6DC96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81A5-9A92-4EBF-B74A-DB76EF9E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37C7-B8A3-41E0-8437-61E3DDA9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ADC4-D496-4DBC-9FDC-B8095B61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C4176-738F-47D6-9E7E-89069369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25A4-727C-413B-A981-B178E851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4F46-F354-44D7-A230-F85F1838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2A7-5C9F-445F-8B61-111AF0C3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E1EF-512A-42DE-B9BC-908CEE6D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57EB-83DB-489B-A34E-B2D4DA26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5ED5-CFB2-4CCB-8286-BB91A51B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BD51-FD24-4B5F-8183-6AB677B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2709-49E6-477B-899C-F8E6B7AC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A8BF4-DCD6-4DFF-8007-EAE14CA9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8584D-E06D-4289-92FC-C82E036B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7EA4-C37A-4E96-9553-AA737966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FB75-A94C-4600-B8D7-8CBE84E6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0D489-8DD8-4AC3-8568-7AD7691E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5A9-6181-4956-866C-BB01DC5E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15BDE-D107-4213-A622-C1CBEDC8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E411-7BCB-4923-9C9D-A149A356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DDD6B-2B1E-4B55-AC23-74A90762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C55AC-DC3C-45D3-AE5F-797EE3C0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3864-A267-4666-AFE5-407EED89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07E53-11D1-4461-A74C-4FD3B88B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3AF9-CC68-40D9-ABAA-7A46FFB0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9A378-8DEC-4F36-96F5-E8D0F2C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1B004-0BD0-4F41-9319-80C3BE42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F546-E9FA-460D-A051-DD0D161A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E33-6487-4250-84C2-82204DCD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FE723-C28A-43B9-B39C-BF16E8DC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5FCF6-4B48-4075-A0BD-A53E05A7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0CDAD-14A4-4D9A-8449-8D357712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0802D-4944-48E2-95CE-819CEA85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43889-47E7-4BBB-AA86-C7A2304A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60999-6071-4823-B165-A585AE97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74704-7F72-4BC1-B4C4-8E6C83C3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26541-A3F7-443F-97D5-AF803FAA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3206B-7567-40C6-AAF4-F5BB0FA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5A3D4-03DE-45CB-845B-B28260C9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957-D961-4457-A4A2-3E8449C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C9023-2FA5-4B46-BB3C-88AC8A4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BD588-7549-48EF-B0DD-AEE650E2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3C76-D022-458F-93C6-9A7B5A4F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C4343-9143-4136-95B1-96610F82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6A0A6-12E5-4BBE-8965-39137F04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619A-236B-4591-8B12-2A86464F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9736D-45CA-47AE-9431-570355F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F7879-DD0D-4CDA-BE26-CCD7FF8C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EB937-20B4-4EC2-A178-16D9AABF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F1C36-6BE6-489D-8897-3FA4CA1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086-A7F7-4844-8645-99F3F90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814C-CD44-4B62-B42B-4902F5DC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D5C8-1480-490A-BA27-51E73FC2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21BB7-75A1-49B6-9807-9EF6A4DC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E0DB-7E0E-4970-B69A-AA0864B4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428DE-8F70-4130-80DC-BCCD1E2B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49E1F-C51A-433E-BCDF-EC8097E5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B5DD-6A5C-4429-839A-479F6A4C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47F4-B071-429D-B073-FE5022D1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B3131-89B0-4E1F-A3C3-C8BDA115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7179D-78F5-4AB6-BBA2-E3864965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F36-3AE3-41B7-A5F5-92A57BE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A407E-22B2-479E-A499-21DC8B70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826B7-27F8-4CC5-A34A-B2CE6BAC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2B947-93B9-4229-BEC5-9F9C6C3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865E8-E0B5-43ED-8724-BF674FA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81682-F05D-48C3-AD76-CF635C55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BBC6B-CEDF-4D28-BD85-D136EE74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8EC8A-DF60-4060-98B9-D465C237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7172-BC34-4694-842F-50618870A6A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2433-234A-43B0-869D-C7EF8413D09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7C0B-CDE3-4372-B51C-EF70DC00FC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C18B-9F3D-42E9-B033-0211A80617B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A90B-F070-48F1-9975-22B912F4FD1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DA13-FB51-42EB-A5DE-26A25081063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E24-8BAF-4325-93CA-E835EF0B32E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364-3933-4F4D-A91C-813B82A2C31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l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ijler.nl/sites/pijler.nl/files/styles/abeelding_610x360/public/kids/1361706_70048200.jpg?itok=NZsuqR7B"/>
          <p:cNvPicPr/>
          <p:nvPr/>
        </p:nvPicPr>
        <p:blipFill>
          <a:blip r:embed="rId2"/>
          <a:stretch/>
        </p:blipFill>
        <p:spPr>
          <a:xfrm>
            <a:off x="0" y="0"/>
            <a:ext cx="3276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e rui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goederen/diensten ruilen tegen andere goederen en diensten; dit heet ook wel ruil in natu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Hans schildert de kamer van zijn vrie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 zijn vriend maakt de scooter van H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directe ru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goederen/diensten ruilen tege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Jantje neemt een zak brood uit AH 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eft geld aan de caissie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oor opkomst van gel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meer arbeidsverdel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uil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ruilen tegen goederen/dienst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ruilen voor gel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2 eur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ken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eft de waarde aan van producten, maakt vergelijken ook gemakkelijk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kost 2 eu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opzij zetten voor la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20 euro per maand in een spaarpot leggen voor de aankoop van een telefo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13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art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lle munten en bankbiljetten in omloop. Oftewel contant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ir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geld dat bij een bank op een betaalreken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hartaal geld"/>
          <p:cNvPicPr/>
          <p:nvPr/>
        </p:nvPicPr>
        <p:blipFill>
          <a:blip r:embed="rId2"/>
          <a:stretch/>
        </p:blipFill>
        <p:spPr>
          <a:xfrm>
            <a:off x="6443640" y="1916280"/>
            <a:ext cx="1657440" cy="139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Giraal geld"/>
          <p:cNvPicPr/>
          <p:nvPr/>
        </p:nvPicPr>
        <p:blipFill>
          <a:blip r:embed="rId3"/>
          <a:stretch/>
        </p:blipFill>
        <p:spPr>
          <a:xfrm>
            <a:off x="6732720" y="3789360"/>
            <a:ext cx="13683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17T07:54:05Z</dcterms:modified>
  <cp:revision>39</cp:revision>
  <dc:subject/>
  <dc:title> </dc:title>
</cp:coreProperties>
</file>