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CEDC-1C65-49A1-9889-3FEED9019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E6E8-DCCE-4FD8-8D8B-3998C6F8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AD7E-5A7B-46D6-8280-652D5A43F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1207-35FD-4D42-A003-BEF81ACC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459F-131B-4A5E-A2D9-B629796B7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E0DF-B659-4364-B095-C2F0A0F3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CF59-AF02-46DB-AB6E-6CC300D0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6720-62F0-4993-A1F5-ABE5514C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0961-79B2-46C9-AAE6-FB037EC4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B0DD-EFCB-40C8-A797-B3BD313F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6FDF-D95F-479E-8802-41BAF2A1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4B04-2D3B-4BA3-B8B1-1659A17C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57A8-F9B1-4A8C-9A3F-2B12BD61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DD31-8458-4996-A749-D0139545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8435-C000-439D-8224-8D6BA574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F00A-9B50-4791-8BB9-5D2E29696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342A-F204-4915-BBE6-C4C21618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CAA4C-851D-4526-9910-9891CCF6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9D194-F8F7-451D-861C-5A723F75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F6F89-B091-435B-9A64-A729631C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C0EEF-5AEC-4AEB-8308-35352C4B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93729-13DD-40ED-888E-2F10A8B3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4F5D-D1D0-4447-8856-9EE4E0D3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AD2AD-052D-4B23-89BC-C6DB5056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2D441-2021-44BC-A9F1-B9CEE9CE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B63EE-B06E-4216-A493-848032F1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BCF35-49C5-4F3D-A7C6-52B0F989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DA885-D5C0-453A-ADFE-2EA7B844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2D33E-D371-4A24-83B7-CFEB68BBD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101D0-0665-4379-86E3-5FB71816A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0C941-E50A-45B6-9639-131B3E9E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6F37F-5DE7-48EC-A8C5-9BEB1E91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485DC-FB1A-402C-A0C1-BC9603D5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8A79-3E39-4628-8B82-9A8506EF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0940E-2943-4522-882B-9E2D41E5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18E68-A8E5-4E6C-9056-3B43A5AC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4F37C-135A-4810-A591-9FD9BDEA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5A280-B54C-417D-8944-56172BAB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9A7B1-7707-452C-8234-AB9925B3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ACDA6-CCDE-4FB1-960D-C11E2E71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77D4B-6FA3-4B7D-BA21-987E9314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8D8D2-A074-4F00-84BC-65AE75A72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0505E-283D-4F45-ACD4-EDD528F1C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1D7A1-11CE-47A4-A830-A57ED3B5B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B96F-E96B-4898-9BD0-F132D300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63527-287C-457F-B022-79DC39C0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74835-EDAB-419D-89AB-758DE9A1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C59B1-065B-4606-B3A3-AE69153C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A6DD1-396D-4404-A8F8-DC0CAC2D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8BD59-1AFB-467E-8324-65699923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A4BEB-D394-4BF9-B9B0-9C5B8634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AEEFB-E87E-46FD-A77A-790C340D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459B7-18D1-4E98-97C1-A851D981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83163-96BE-40AF-A917-386F327A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92912-2D4C-4877-8759-723882629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0C35-C7F1-45AA-BAF3-6450E692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1772C-F160-41BD-AB96-CFFB4268F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4F5D1-12E1-4E78-B617-BBA0BFF3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C36B0-757D-4A90-97C1-07937775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CCD70-526D-453B-BEE1-D434578A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F9C55-64C4-4D10-B30A-48F7D348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9AC07-5F97-483B-9B71-A7FC4A10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54E4F-039C-4112-8E87-490F3FF5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974B0-FD4B-48A2-A102-76ABD97D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EFC74-3DF2-4EA6-85EA-07111CFF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94DEF-DD77-41E9-9C3E-704CA6E8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EDF7-BF3C-455A-8334-08AF21D7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EBDF5-D841-4936-8191-7252517A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49BE7-8A63-47E0-B47E-47D1976F4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D0837-F1CC-408F-8B8F-05070CB9E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7173F-904A-4888-9B0D-3E7DF61E3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CBF66-DB16-4D10-86EB-D04DA4EA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4565C-1082-42B9-BBEB-2E61EBF4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5B7A5-B446-4306-A7E5-93383EA1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E005E-A80E-4430-A308-E78BCF61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DFEE7-B28F-45E8-B3FC-57BAE5D7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43409-A31F-430C-9103-69BEF324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D305-FC8C-436F-8B03-EC7A051C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ECF58-CA3E-4A58-8E82-80E0F0D7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18A77-AA98-406B-B4F2-BFB9745F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DC532-ECC2-49A3-902F-A7AAABCA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C98C1-9181-4ABF-87A9-235E8F98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50290-91CB-4289-A760-2ED10B330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640C4-A467-4823-AFBE-33D41E6EC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2A5EA-080F-4D13-8576-EF95AC66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CA2CB-559F-48EA-879A-03B88DA5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E8AFC-6D9A-4C07-B1FB-7FAB113E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C0565-9679-4382-94BC-111BF4A0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6690-AC05-416E-A84A-944DB70B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D57F5-7127-49FC-9858-57C423D4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F1DCC-0A65-43FE-8F14-0A5222F5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7330D-4B2F-4594-A227-31324655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CF982-8DFA-40C7-B415-75BEAE3C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F7377-B9F1-4631-8380-8845D225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530D9-7846-4C07-A12A-DD6450CB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98B5E-F45A-4D74-A2B2-E5D841E50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C2BA-0E3A-480C-ABEC-A698C702948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4092-0117-458D-8AAE-C21EC880806C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DF12-0BC8-4A22-9BD9-40222C960F9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CDE7-9450-44C8-BAC2-892BD2D9851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AA8E-A4A7-4F31-A10A-8A15F19198B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C53B-3400-4323-A80B-5FF2CDDA320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0768-181B-44F4-B55C-78B6FD1EB1D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C293-4CB6-4C96-8D90-16802A9D3DFC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2PvB_Qn24j4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Risico’s van belegg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www.beursfoon.nl/lp/images/nieuwe-beleggen/nieuwe-beleggen_beursfoon5.jpg"/>
          <p:cNvPicPr/>
          <p:nvPr/>
        </p:nvPicPr>
        <p:blipFill>
          <a:blip r:embed="rId2"/>
          <a:stretch/>
        </p:blipFill>
        <p:spPr>
          <a:xfrm>
            <a:off x="0" y="0"/>
            <a:ext cx="42512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2679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sen kunnen naast geld sparen hun geld in aandelen of obligaties belegg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leggen = geld uitzetten (investeren) tegen een bepaalde vergoeding (bijv. dividend of rente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andeel = waardepapier waaruit blijkt dat iemand mede-eigenaar is van een onderneming. Bijv. 100 aandelen Philip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195120" y="244440"/>
            <a:ext cx="849816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ardepapier = een stuk papier met een bepaalde geldwaard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andelen kun je kopen en verko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 de verkoopkoers hoger is dan het aankoopbedrag, dan heb je koerswin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 de verkoopkoers lager is dan het aankoopbedrag, dan heb je koersverl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ld beleggen brengt dus risico’s met zich mee! (soort van gokk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2599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 het goed gaat met een bedrijf, kun j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ivide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krijgen. Dit i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e winstuitkering aan de aandeelhoude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bligatie: waardepapier waaruit blijkt dat een onderneming of overheid geld schuldig is aan de eigenaar van het waardepapier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ijv. 4,5% obligatie Nederland (=staatsobligatie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leggen in obligaties is minder risicovol dan beleggen in aandelen, want je krijg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jaarlijks een vaste rente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an het einde van de looptijd het uitgeleende geld teru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Beleggers in aandelen krijgen DIVIDEND als vergoeding!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Beleggers in obligaties krijgen RENTE als vergoeding!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9664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instelling die geld van beleggers in aandelen, obligaties of andere waardepapieren beleg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ze wordt beheerd door mensen die verstand hebben van belegg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leggen gebeurt in veel bedrijven, waardoor het risico van waardedaling kleiner word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t op: kost wel geld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s://www.youtube.com/watch?v=2PvB_Qn24j4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</cp:lastModifiedBy>
  <dcterms:modified xsi:type="dcterms:W3CDTF">2016-10-27T20:08:38Z</dcterms:modified>
  <cp:revision>65</cp:revision>
  <dc:subject/>
  <dc:title> </dc:title>
</cp:coreProperties>
</file>