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0CF6-5AFE-4FDF-A69D-6319BF0B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8FD-50FD-4BBE-A02E-767D4BBB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8CBC-CA4E-4392-B427-BB46C868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3002-0B55-40E2-98F5-B53950C1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FABE-AD77-4B15-82A5-8CE403A1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2EA2-EF03-4D63-A99D-799F6B43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B89D-9252-4510-97CD-266808EA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B558-7202-4F4A-8E02-E40460A3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A768-D04B-4119-935C-8380158B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3AEB-ACE8-4EFA-A551-88573597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6AA1-BA8A-4B5B-970C-355C5A99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2B1-C757-45AD-8406-E3D15954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3CC4-176E-487A-B477-750A65F9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C1F7-8D85-453C-AA54-D18DCE2F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0927-072F-4204-8944-FFFBBBEB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45B4-A835-4D1E-8193-ADC143CE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FD4D-6E76-4AA7-BB1D-0CAA6E56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47872-4E3E-43DB-B26A-10A7A056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91ACF-B36C-4DB0-B7F5-9A0D64D3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530BE-3CB5-4E93-B012-5DDC83EA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B5282-BD97-44F6-ADCA-4914A2FE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8CFA3-2920-48D9-8A5B-A8F63C61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820C-15BF-4A75-B47B-0A99169A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BB34E-59CC-48D4-B476-5492C5C4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ED027-7268-4721-B8A2-B2DC5A43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04976-E4ED-44CE-B74A-AD040E5B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5968C-E367-438F-826B-1E9D573A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41E22-EB10-4FA8-8507-D65C9F18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45CEB-22DE-4C1B-91BE-9899B9CF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823B4-F8B1-414D-9CF4-1ABA05A9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6CDBA-244C-4149-8858-4047DB0B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3E272-650C-4BEE-B285-5E1D6435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E7E29-B407-4D95-9FAA-097CF7B9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69B0-53E5-48C1-BE3F-B6BDF6BE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7FB76-35D0-4699-BF29-3E88ED63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7E76C-39E7-4FE3-8BAD-FCBA82D0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77A76-0AF4-4FA9-98C4-07429177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6B959-9117-40BA-88A1-3415EB9C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8F767-2B29-4BAC-BFF8-3A198CFD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51274-29C4-491F-8834-C30AF347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E926D-6002-490E-9883-B58C849A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7D851-2724-41A1-AE33-3FA21220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5C75B-F4B0-4B87-9507-588F498C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9135A-3945-4FAC-B898-1AAC6E58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8EAF-97E3-48EB-92CB-01FB17A4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BE3F4-6DFE-4F61-96AA-9AF90C9E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C20AE-0495-4821-A6B7-A455568C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ADC2A-D443-4D97-86CA-B7B27FF3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39528-C8A1-4EF1-8AE2-60BC82BD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77A4F-85FA-47BE-A7FF-EFDE113F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E1845-3B61-46FB-A0FF-6163097D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DF186-6A1A-4207-855E-7BF82198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61B45-7ACE-41A4-9BA2-657B07F4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5EB06-99CE-4D42-9A99-619773A3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EFD3C-8605-49B7-B8EB-927F8968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9227-35DD-4E0B-A5B9-EE65397B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E8A81-A08A-4C1F-8524-962DC708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A8BB8-4BF8-4682-B53C-424B9894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EC127-9D32-43AE-AFFD-E182CAC6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8BC40-BAED-45A6-B36F-2D4079B8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9CDAB-37A1-41EE-9594-FBD99F2D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73C0A-B029-4350-BA94-0BEE51BE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50CE1-A756-4863-9D6D-F1EA6C92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EF8BB-A289-4157-8E78-9D9780DB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65AD9-ED53-40FD-8D1B-5C7E4409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9DB6B-A51D-4AB2-875E-00B37007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4BE4-4CC3-4661-953E-897547C1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3FD70-8F12-4C1B-BDA7-90C15AB9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6139E-A4B3-468F-AA35-393B9792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97C2D-BB99-4ABE-907C-09D30A1D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14A64-E409-404C-B084-90E611F9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1CFDD-BDAD-49BF-812C-55C8A74A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78FA1-5C20-4731-83B5-282CD5DF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C10CD-9BC0-4A28-AAEC-165D487E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881EE-185C-468B-9F3B-4C3CD416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9213A-F6B9-443A-9F4B-E83C8F45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64BA7-6C22-4D99-BA0C-76E47518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FE4E-AA40-44C9-9854-CC1475F3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891AD-1070-4CEA-9EE1-89EB2445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98684-0D04-4AE2-98D1-7EA316A8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3FC00-36AC-4D0E-AE2F-65D2D47E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2067E-FA3F-485C-9275-0DE33B60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F19D8-2D3F-42D2-8771-3D92631F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B3031-A4F2-4E0B-805B-01445140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9A813-8A37-4205-A75E-93A11479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0359B-7C33-4D96-B8E3-22488493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E482D-CDD9-4CD9-86E3-694F6A0F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70804-1EF4-4BE5-B4D4-AC087B6F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FDD-1989-4C54-B80A-8846E144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15FCE-80BF-4A31-A93C-3BB3D757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072E6-DCCD-41E2-804E-AC4CBBD0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FE6CB-8A3A-47EB-92F2-DE5EE7DA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DA314-A50C-4511-8895-94C56148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75F16-1117-4252-B8D9-0295CE25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58DBE-BC17-4036-BD4F-FF8FEC9D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44A7E-008C-44D8-A5BE-4A42576B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31A4-14DA-4858-9DFF-FFDDBB18D0A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2BE7-DBC9-42B5-A6BE-E8100F2342F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52C9-D329-4B17-B4DD-52CCC0342E8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49A1-AE3D-4E5B-8231-5B538B4D2DE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F69C-9B6A-4FF9-9159-4047D93EBE9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0CA9-079C-4DAC-B460-B02385E3C9F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BA29-4C0E-4F37-AE54-7D549D8A11C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50D9-90B1-4F5B-81D6-74312AED1FD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Betalen en bankier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8" descr="http://www.ing.nl/Images/mobiel-bankieren-voor-iphone-ipad_tcm7-95589.jpg"/>
          <p:cNvPicPr/>
          <p:nvPr/>
        </p:nvPicPr>
        <p:blipFill>
          <a:blip r:embed="rId2"/>
          <a:stretch/>
        </p:blipFill>
        <p:spPr>
          <a:xfrm>
            <a:off x="0" y="0"/>
            <a:ext cx="3122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dautomaa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taalautoma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inp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rnetbank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2" descr="http://www.beekbergen-gastvrij.nl/afbeeldingen/geldautomaat.jpg"/>
          <p:cNvPicPr/>
          <p:nvPr/>
        </p:nvPicPr>
        <p:blipFill>
          <a:blip r:embed="rId1"/>
          <a:stretch/>
        </p:blipFill>
        <p:spPr>
          <a:xfrm>
            <a:off x="3492360" y="189000"/>
            <a:ext cx="1800360" cy="1601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ttp://www.noordhollandsdagblad.nl/stockfoto/article17992503.ece/ALTERNATES/w470/rabo_pinautomaat.jpg"/>
          <p:cNvPicPr/>
          <p:nvPr/>
        </p:nvPicPr>
        <p:blipFill>
          <a:blip r:embed="rId2"/>
          <a:stretch/>
        </p:blipFill>
        <p:spPr>
          <a:xfrm>
            <a:off x="5580000" y="189000"/>
            <a:ext cx="2471760" cy="1655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http://www.inoisterwijk.nl/wp-content/uploads/2013/03/betaalautomaat-winkel-ramon-stoop-388x220.jpg"/>
          <p:cNvPicPr/>
          <p:nvPr/>
        </p:nvPicPr>
        <p:blipFill>
          <a:blip r:embed="rId3"/>
          <a:stretch/>
        </p:blipFill>
        <p:spPr>
          <a:xfrm>
            <a:off x="3708360" y="1916280"/>
            <a:ext cx="2298600" cy="13046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http://www.hoorngids.nl/content/7951/news/clnt/3253279_1_org.jpg"/>
          <p:cNvPicPr/>
          <p:nvPr/>
        </p:nvPicPr>
        <p:blipFill>
          <a:blip r:embed="rId4"/>
          <a:stretch/>
        </p:blipFill>
        <p:spPr>
          <a:xfrm>
            <a:off x="6372360" y="1989000"/>
            <a:ext cx="1533240" cy="1765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2" descr="http://www.ing.nl/Images/lr_ING_pinpas_betaal_tcm14-114668.jpg"/>
          <p:cNvPicPr/>
          <p:nvPr/>
        </p:nvPicPr>
        <p:blipFill>
          <a:blip r:embed="rId5"/>
          <a:stretch/>
        </p:blipFill>
        <p:spPr>
          <a:xfrm>
            <a:off x="3824280" y="3429000"/>
            <a:ext cx="2182680" cy="1141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4" descr="https://www.abnamro.nl/nl/images/Content/010_Prive/000_Afbeeldingen/030_Inzetbeeld/e-dentifier.jpg"/>
          <p:cNvPicPr/>
          <p:nvPr/>
        </p:nvPicPr>
        <p:blipFill>
          <a:blip r:embed="rId6"/>
          <a:stretch/>
        </p:blipFill>
        <p:spPr>
          <a:xfrm>
            <a:off x="6033960" y="3956040"/>
            <a:ext cx="2880000" cy="1292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6" descr="http://www.geldmoetrollen.org/images/content/betaalrekening/acceptgiro.png"/>
          <p:cNvPicPr/>
          <p:nvPr/>
        </p:nvPicPr>
        <p:blipFill>
          <a:blip r:embed="rId7"/>
          <a:stretch/>
        </p:blipFill>
        <p:spPr>
          <a:xfrm>
            <a:off x="3833640" y="5259240"/>
            <a:ext cx="2918160" cy="14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duct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kopen, rekening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at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ditcardmaatschappij (zoals Visa, Mastercard en American Express) betaalt de verkoper voor j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rag achteraf betalen aan creditcardmaatschappij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Jijzelf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 jaar bepaald bedrag betalen voor gebruik creditcar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Lucida Sans Unicode"/>
              </a:rPr>
              <a:t>Verkoper: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epaald % van verkoopbedrag betal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NWB Creditcards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be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rood staan = schuld aan de bank = in de min staan = negatief saldo = tekort op de bankreken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€ 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500 (creditsaldo) - € 700 (betaling) =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 € 200 (debetsald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red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in de plus staan = positief saldo = overschot op de bankreken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- € 700 (debetsaldo) + € 800 (ontvangst) 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+ € 100 (creditsald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0-07T08:51:41Z</dcterms:modified>
  <cp:revision>44</cp:revision>
  <dc:subject/>
  <dc:title> </dc:title>
</cp:coreProperties>
</file>