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4AD-313F-47C4-B857-E810B81B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258-C805-42E2-88B1-90AB0FC7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D0A-8EDF-4303-B664-D91E1357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D1C-3E7D-4B77-88A7-B5FE8323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3841-0D5C-4FF0-8A61-A9C8E83B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84BF-FB89-452E-B549-EAD57B40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6186-3733-4FA9-B046-AA885916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46B6-7643-4757-A67D-42E28D02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EDB3-33C2-431D-899A-5892368E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E6D5-C134-4E84-A207-F0C189C1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D65C-8F0F-4DEA-9CA7-B9DEC8FA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852-2969-4C8F-8D5B-731336C6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CDE8-FDB7-4214-99C7-F936A7F5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6021-1F30-4124-A3C0-BB276FEB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4992-DDD8-4282-8A31-AD6AF672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DAD7-4E97-4760-A4C5-4315ADC8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1E31-1914-452E-A6CB-A92B0FAC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0F3A0-437A-4F43-894F-906091DF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F7152-C595-4695-BE1E-B47DFCBA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77E6A-81DE-43D3-9E55-561F93FE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9F30E-829F-403D-BB23-C554C2B5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CE40E-38C2-4907-942E-6DD11325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EB2-2322-4278-B097-66BAE2F5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B0DA2-B806-4B50-B370-84254B9B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12570-7447-46C3-80F8-00E4A05C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843A9-CFB6-490E-A2DB-B1B6E67E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F0C0E-1358-4701-B70B-BB1E004E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C1C63-3E0A-4EFA-AF96-3CBF0AD5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DE958-8B15-42A6-AEB8-9C15DAB1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7AEFC-E94B-467B-9EC4-6AB6F8C8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0AB0-157E-4BBC-9765-8C65279D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3C805-A491-4859-817B-694443D9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05CE3-21E1-4F96-9D96-59D1FFB6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203-D788-4D71-9AFB-76D1B8C5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DB7DD-BC85-4E09-9F9A-F7EE3F76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DADE0-1AAA-445B-A913-CF0622D4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C9817-245C-4F11-A92A-C0CD9A8E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8F27D-6154-4857-A994-9133068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36E75-4E97-4A3D-89C0-32C15589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4B31A-EFEA-4D6D-9DBB-FA6CA2FA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CC4DA-FBFE-48A3-AFAE-9F66886F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D343C-1BA8-47CC-AE23-4E9B77D5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C0D73-76DC-437F-BE50-1082B08C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A3778-E27A-4210-8204-8D756E51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B6D-890D-4BE6-9892-9FF38C69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2F389-A4A0-4686-AAAB-5D15ABF1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C3F5C-7E44-4E63-B628-7F457162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589F0-0D96-4521-B4EF-0FC9B4E6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369C5-3877-4011-9C6F-C9635328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733AF-5E89-4788-A378-990F4FF2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C00B1-547D-49F8-93D5-81417340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4BC93-4B09-40D5-BDF3-3CA79DDF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8190D-1E6D-4261-A3D4-3A142D18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12267-DB74-4E37-8740-09109B21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6ECF4-7280-4E85-A6B9-F66A0F56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F4E-3E68-4E35-BF00-AB3A4A83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67AF2-7C80-4339-94D8-99A6CBB9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D0DF5-7CDE-4907-AB26-1C316F1C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69CA0-793E-447E-9539-43C387F9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EA021-E2E7-4AB7-A63E-A9C49506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9E294-BA65-46E0-897F-47F1639B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8E903-92D7-4889-A0BE-00DD8CB8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2D3A0-CE90-48B0-8757-1C1505D1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4EF49-EFB8-4BFD-9ABB-87B1B2B2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FDE6D-C1F6-466D-84C2-E83E39E3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EDE2D-6878-40A7-9FB9-7E89E30B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71D-5B61-45E4-82B7-69FCB62A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93A6B-A4C6-48C1-B63C-82602E8F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860C4-D32A-4B9D-A904-BE8FACB4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2E56B-5EE3-4FE2-8C2A-F5784930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8072B-F680-41A8-BE6A-49F13F49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02137-90C9-4ADC-B966-751B8C41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DF96D-79C5-4FF9-90F0-95AC361C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633A0-4FC9-4F94-9D58-C8C8708E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C6B05-0580-4092-8840-11BC82B1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38E14-A757-4127-B490-58A22CD1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10E39-4B08-4B8B-868C-424161D4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582-A0AA-42A3-B759-49C532B0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A8548-6C72-4010-871C-26264958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04468-151C-4504-891E-D9A7990B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A1380-3E48-4148-A41F-BC079EAD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50B5E-A478-473F-B0C7-1C2DC101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135D3-5C47-410C-B0F8-89D97C85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8EEF1-93C3-42AB-84BC-C9D35E1A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DF015-53BA-4275-8312-7F0C0792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D38E5-0DD5-4CA5-8D3D-058B48D0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DC73B-B669-4DEF-BFFD-B832797C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DB60C-FD1B-4A16-B9A3-092B6533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114-4CDF-4C14-880A-9D6251A2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4B6CE-2CEC-478D-8210-448239D2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79482-55E6-4DC2-B2F3-84FA7EF6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D83A8-F603-41AC-B751-3A50615B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BE5F8-5D1B-461D-B3A4-E8DBBCD6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1030A-754A-48DB-AA67-1944094F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19762-61A6-4EDD-8CBF-BB1ACCE0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1C090-69ED-4349-A367-307490CD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0946-D798-45C6-BB42-BAADFDBBABE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0462-CD4C-48EA-BC48-06A0F03A2F2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41A0-A926-4010-B5E7-92509B117C9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6CCA-88D3-4D1E-86C0-95E570AFFF4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95C9-8314-4495-BAC2-004AA5874A7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341A-50D1-4947-94C8-C793EE7A401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3A13-1023-4821-9895-A49451D36C1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02FF-BFD7-446E-B2B9-14701D08DB9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l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ijler.nl/sites/pijler.nl/files/styles/abeelding_610x360/public/kids/1361706_70048200.jpg?itok=NZsuqR7B"/>
          <p:cNvPicPr/>
          <p:nvPr/>
        </p:nvPicPr>
        <p:blipFill>
          <a:blip r:embed="rId2"/>
          <a:stretch/>
        </p:blipFill>
        <p:spPr>
          <a:xfrm>
            <a:off x="0" y="0"/>
            <a:ext cx="3276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e rui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goederen/diensten ruilen tegen andere goederen en diensten; dit heet ook wel ruil in natur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Hans schildert de kamer van zijn vrie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 zijn vriend maakt de scooter van H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directe rui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goederen/diensten ruilen tege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Jantje neemt een zak brood uit AH 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eft geld aan de caissier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oor opkomst van geld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meer arbeidsverdelin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uil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ruilen tegen goederen/dienst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ruilen voor gel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2 euro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eken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eft de waarde aan van producten, maakt vergelijken ook gemakkelijk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kost 2 eu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opzij zetten voor la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20 euro per maand in een spaarpot leggen voor de aankoop van een telefo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613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hart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alle munten en bankbiljetten in omloop. Oftewel contant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ir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geld dat bij een bank op een betaalreken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hartaal geld"/>
          <p:cNvPicPr/>
          <p:nvPr/>
        </p:nvPicPr>
        <p:blipFill>
          <a:blip r:embed="rId2"/>
          <a:stretch/>
        </p:blipFill>
        <p:spPr>
          <a:xfrm>
            <a:off x="6443640" y="1916280"/>
            <a:ext cx="1657440" cy="139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Giraal geld"/>
          <p:cNvPicPr/>
          <p:nvPr/>
        </p:nvPicPr>
        <p:blipFill>
          <a:blip r:embed="rId3"/>
          <a:stretch/>
        </p:blipFill>
        <p:spPr>
          <a:xfrm>
            <a:off x="6732720" y="3789360"/>
            <a:ext cx="13683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17T07:54:05Z</dcterms:modified>
  <cp:revision>39</cp:revision>
  <dc:subject/>
  <dc:title> </dc:title>
</cp:coreProperties>
</file>