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976-9C3B-4E9A-9610-AADFD8F0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0AD-F734-48E7-81F5-259ACCC5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FDA-CE47-4770-822C-E3AA85EB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DBE-E054-479A-A9DE-0535CA1A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560E-935F-4337-995D-CCE53A2D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A71B-A51D-411B-95B0-39B6B88E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D71D-58E7-4722-92BA-8B3F34FF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C136-DEDF-4DD5-82A1-7A7DEDAF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D2C9-5BD1-4902-A8EB-57CD0536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B962-D8B5-45BE-A8FE-F6896541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5395-FA4D-4547-BC2A-86CA2322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50C-0806-4C2A-99CB-BDA6C307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17E7-5346-424F-8589-CD8EDE5F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8A06-0DA7-49BD-8C6D-EA2E7549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9B3E-2656-477F-9BA0-FD0268C7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2781-707C-4C63-97DB-E197FFB8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FEB9-E35E-4D37-9E6D-4DC35B18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DB21-1B79-4248-929A-A7D7EEFF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8D01E-0D0A-4F64-90F4-F683B38B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26BA-5E2F-4932-A6AA-EAFEE1F9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67988-5C79-4A09-86EB-7C1865A8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31DD-F91D-4090-8697-53FDB3E8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842-AD87-4EBF-AC0D-499343E2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338F-477D-4B7F-BE87-510A512F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840D-BE3F-4C9B-8473-FE017A95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9BE71-D0D1-4467-887C-ADCE33F5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BECFD-1925-40DE-8B25-C5358ED4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D6501-E2CB-41F3-9378-8392B7ED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023F-C56D-4DF2-A1DD-0160B2AA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C125-B6EA-4476-B8D0-9A95E85C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ACEA7-9B63-43C5-8684-5CE7973F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8BE6F-8C5B-4C93-921A-82F661C8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D5F0-9AE6-4529-995B-0C7F3F23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7CF-9AAC-4E93-AFD8-A4B720C2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5EDE-740D-4765-A341-ABC1CE1B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5208A-FC89-4BA6-BB42-8F56E9E3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FA924-2643-41ED-856A-641D1346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0C490-A732-46B9-BEB6-1C24F5F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C3D9-75A0-41FA-8A07-73966C6B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C55A9-7223-4383-A748-1234FBAD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C7EFF-A452-41ED-ADBB-1C3E0FE0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B575-C822-4065-A14E-33CA7779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991C3-A24A-4A48-8705-B3D2EA94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596E0-2AA7-4391-996B-064E30D7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8C6-9506-4184-AE25-22C71E3C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61BAD-50DC-43D3-A323-F89F6147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E3CD7-FEA4-4823-922C-274642E5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C309A-69AA-42FE-9F49-F4ABB77E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A2DB3-ABFC-4849-B67D-8861CF38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5704B-9A0B-46DB-B870-FD16EF1E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52E31-9759-4350-8781-AB4012C6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A8824-7B29-4D1B-989C-BC5B6A46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6B844-83AE-4150-A42A-BCCF0381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689A2-3ACA-4C7A-80AB-ACCEBFB4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F4394-35A7-4DD4-B25E-9B851F10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C99-9A05-419E-AE45-3E8A6139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97AC0-9788-4DE4-9F03-B7478CD5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FBBC3-B8C5-44F2-8E33-2E9DE391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C8ACD-E0C9-47A6-8433-E6AF0DBB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4A3F0-4D6A-4A50-9123-A54C8D22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56330-9AB1-45F4-A985-2A75CF3D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B422A-3A11-4D67-93DE-9A65552D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4635F-ADC6-489E-82DA-E080B4A4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EDA4E-E368-4AC6-B953-CD2B87C8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1E8F8-915B-46EE-A444-CFFAF529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41F48-3A1D-488C-801D-B9CC0E76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A0B-1DAE-4152-8EB0-A37D6069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B079E-1CEB-4352-9A57-95A7CF75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81B11-1C69-43C9-9DEC-2456FAEF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EF5B6-9F2B-4F4E-A3DD-673E30D3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0A8C0-253B-4F10-A89A-CC55B468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D98F5-DA49-40E0-9BF0-AE3CCB45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22BB0-22E4-4CCB-A47E-B7AA8874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B64B3-B0AF-46A2-A35F-E32813D3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22C33-F7ED-4927-8FF2-C0332181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2D9B2-A31C-4FD8-B31F-3A1CF0DC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BAAAB-F841-4F87-B44D-5FD63BE7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71C-C87D-4F05-80A1-5E5C532C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D0EED-9ECB-4F85-A009-0066A51D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E62CF-1BDC-4DC3-B219-DB504990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557E9-003F-4038-A7D0-8219C51C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67F86-FDDD-4883-A2E4-9B0559CB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63A8E-C95A-417A-A795-4107084C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27CFF-E762-403C-A318-8334F7BD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99FEA-7EBC-4A1A-964D-8C3D839F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4C713-05ED-4CF3-9245-7489FF3E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59171-173C-4256-A7D4-D9B80C78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6AF3E-B606-4E5C-9465-EF465BDD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C2B-8F5A-4E34-A8DF-41C2669C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56B2F-A9F0-4EB1-8F8C-5A51D4E0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560AF-8913-4E3A-A0F0-9DD1F1BE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E2A5A-C185-4A08-BC94-C886B09B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68A48-3328-4A50-A6AC-8B0032F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B28E3-123F-4C05-997B-883E743A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A9B1C-0984-483B-94C6-8BAB89EE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CF514-D1CC-4BC5-A622-4ABD5525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925D-CEC2-47AB-AB15-B8EA4D1CE48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05B2-8716-4EB0-BE6B-0C0363B57B0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FFBE-E8B4-4D94-94C2-5B6DC413567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CF8F-FF82-49E7-BA6F-6ABF5CAEF29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1B70-7D8C-46BF-9FCC-4E766904E4F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0873-1D25-4057-85A9-70E31CFC5C1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DC76-5992-4414-A855-D3A925010DD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311C-ADA2-4CAD-BAEA-AFB0F818CAF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2PvB_Qn24j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isico’s van belegg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eursfoon.nl/lp/images/nieuwe-beleggen/nieuwe-beleggen_beursfoon5.jpg"/>
          <p:cNvPicPr/>
          <p:nvPr/>
        </p:nvPicPr>
        <p:blipFill>
          <a:blip r:embed="rId2"/>
          <a:stretch/>
        </p:blipFill>
        <p:spPr>
          <a:xfrm>
            <a:off x="0" y="0"/>
            <a:ext cx="42512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kunnen naast geld sparen hun geld in aandelen of obligaties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= geld uitzetten (investeren) tegen een bepaalde vergoeding (bijv. dividend of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el = waardepapier waaruit blijkt dat iemand mede-eigenaar is van een onderneming. Bijv. 100 aandelen Phili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95120" y="244440"/>
            <a:ext cx="84981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depapier = een stuk papier met een bepaalde geld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len kun je kopen en ver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hoger is dan het aankoopbedrag, dan heb je koerswin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lager is dan het aankoopbedrag, dan heb je koersver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beleggen brengt dus risico’s met zich mee! (soort van go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het goed gaat met een bedrijf, kun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vide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rijgen. Dit i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 winstuitkering aan de aandeelh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ligatie: waardepapier waaruit blijkt dat een onderneming of overheid geld schuldig is aan de eigenaar van het waardepapi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ijv. 4,5% obligatie Nederland (=staatsobligati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in obligaties is minder risicovol dan beleggen in aandelen, want je krijg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aarlijks een vaste rente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 het einde van de looptijd het uitgeleende geld teru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aandelen krijgen DIVIDEND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obligaties krijgen RENTE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instelling die geld van beleggers in aandelen, obligaties of andere waardepapieren beleg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wordt beheerd door mensen die verstand hebben van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gebeurt in veel bedrijven, waardoor het risico van waardedaling kleiner word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op: kost wel gel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2PvB_Qn24j4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38Z</dcterms:modified>
  <cp:revision>65</cp:revision>
  <dc:subject/>
  <dc:title> </dc:title>
</cp:coreProperties>
</file>