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E5F-F04C-4010-AF1A-A3D53E90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E37-6AA4-4703-855A-65166202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3AD-EA61-4CE4-BC39-0C0141FF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E13-08CD-4FEC-BD44-F783C656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03B9-4C84-4AE0-A860-D2C5CC69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9C7D-64A1-42F9-9635-2D650588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2AA5-34A0-409B-8036-7FF7A80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16BA-0A62-4EAA-9BE1-D3513005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EF13-6CB4-4DEF-92A9-6B775B17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ACC1-A6F0-4EC2-9F89-1398FC7E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4033-85B3-4D3B-919E-82E6CDB3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E4B-AAB0-4C29-80E6-450D4602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099C-572C-4953-868F-B72B3E7C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688E-4013-42D0-8C87-CCD2449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1CA7-883B-42AE-9029-8A30BDB7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65F4-52E9-4148-B1BC-D47161F5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EC2A-87A0-418A-ADD0-E37A4A77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CCB1-6D06-4780-AF67-CEF1CA15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2599-BF23-428F-8DDE-517DF51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BE20-01B5-49A7-BDB1-118E0E9A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B340-710E-4799-ABC5-971E3ACA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6326-C6D4-4AD4-BFF3-384189E6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4A2-7045-4BDC-889D-877A056D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E43B-20A1-4E86-B08A-09F10E3B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5948-9D4B-4D0B-95A9-2B50F04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DF79-4641-45AF-A60E-24C78C61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5A5A-9DD4-42F6-A54B-82306F15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EB61D-47F0-476B-A1B0-561272A9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384E-0949-46B3-8599-7DBB52B0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6545-7205-40CB-ADB3-3A1917D3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B021-ABCF-4D7B-A540-A39ED9B6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96914-6869-4798-9964-11253016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1C04-FB3E-4FB5-B28C-201013B4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238-C801-4706-A7F2-0F0F5E19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BA3C-11EB-42A4-9021-81E953DA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C018-DD22-4FAD-A334-EFDBA3A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C8109-1FD9-4E08-9D06-30F95D77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35069-3397-4FB6-A41D-CD9A24C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CEB5-D0CA-459A-9F2D-2757DD2C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CF59-0888-4959-BA4D-CADAD6E1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CF0A-D508-46C0-A348-99AF6B41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9963-7D21-4ED2-948E-59269273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9471C-98F9-49BB-BBF1-F6969B06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3C7A-C23C-4B25-97BD-C75BE493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932-B37C-4FAE-9E1B-3B5A4B3D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CE678-C048-4796-9445-31607FC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01C05-F014-4B8E-A84D-7704A079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0991-D78D-40B9-B44E-9F455678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A41B1-594B-43CF-86E9-46290FC0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A677-2251-42AE-A823-8E7E0198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49AC3-E197-438E-B5AE-26571C37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45B89-B6B0-4E4A-820A-430FB00B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AA2BC-F2B1-49C3-98F0-C5598E3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DC03-FCDE-46A8-A9DE-AF798DCF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DFF31-B1FC-4846-98FC-2ABBD7FA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1A3-4E7B-4D32-952F-A7007DAD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AB26-8FFD-4AB2-ABBA-AC3B03D3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1522-3AE0-4665-989D-26DD372E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6E249-A582-43AD-9822-323BBA66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D044E-C45D-4845-A2A8-5C6517DE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2B1A1-29E7-47F1-83DD-5C0800F1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8A51-4667-4E50-92B2-100307FD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D1926-87AF-41A5-86DC-65228C77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E10A9-A89C-4E7D-9A8F-E7DA265E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77DFF-5F21-4AF5-982B-7F6A0E5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69493-185F-42CB-95EB-DDFB979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B90-8F40-4465-8B47-1AC45943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5CCC0-31CE-43E2-AE82-590D296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71F88-ED7A-466B-9CBB-DE074383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62E20-D088-48B7-B1A3-AE8560B2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9FDCF-5337-4FDB-8C86-372DDB34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9F8B-9273-4DB0-AEA1-E7BA16B0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6D181-727B-4ECE-BD63-AC2B331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673D8-4342-4D5E-947F-DBEE93C0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1C949-E5AC-44B5-9BC6-A817DF33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2C5A5-F366-4C32-8142-9349DECB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B4A5E-65F3-4D3A-BC5F-BF60940F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2AD-5988-447C-A971-D1AFDDD0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E3CBF-F1AA-4E0F-B92E-453BDB5B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B1CE2-7C57-42D6-BF27-CC9DA116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C7898-2E4F-401B-BEBD-12215FED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02A0-6DCA-4C0E-8A86-46734E53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CAE7-81EE-41C1-A6FE-1D1A3EE6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15F28-CD1B-4F2C-A2AD-9CB62D2F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17479-2C6D-42D4-B698-CF8EB3A9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32C80-F093-4698-A9B6-BF26ACC7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1B61D-194B-40C1-A1DA-F54BA6B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8569A-F0F8-4F1B-9CC9-0F96304B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E40-1B69-4730-847B-BB10C70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247C3-AC17-4708-B9B8-EB96A3EF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F319B-82DE-4096-97C9-03F6DE3E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90BB6-2BB1-445A-9596-25B33B69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FB30F-E518-4C27-B16A-F3CEE03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4811-8EFE-4F54-A2B3-63FEF050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A8A5B-4A2A-459A-88F1-80D36C94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27F6E-0F09-4D4F-BE8D-6EB38663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C777-F4A8-48F7-B85B-924ECF09E73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9F9B-341A-4EC6-A9AF-CBFB8340D39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A570-B55D-4EC4-80AF-BA889A41A0C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7E57-B825-4913-8958-D6979DADE0A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4379-2AD9-4BE4-9D11-74FE4740A51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EA09-12D6-4731-A5F3-D146973A012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997E-4B1D-46A3-A924-992355D9D2E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69F4-9E9E-4859-9C54-616270E6406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PvB_Qn24j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isico’s van belegg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eursfoon.nl/lp/images/nieuwe-beleggen/nieuwe-beleggen_beursfoon5.jpg"/>
          <p:cNvPicPr/>
          <p:nvPr/>
        </p:nvPicPr>
        <p:blipFill>
          <a:blip r:embed="rId2"/>
          <a:stretch/>
        </p:blipFill>
        <p:spPr>
          <a:xfrm>
            <a:off x="0" y="0"/>
            <a:ext cx="42512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kunnen naast geld sparen hun geld in aandelen of obligaties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= geld uitzetten (investeren) tegen een bepaalde vergoeding (bijv. dividend of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el = waardepapier waaruit blijkt dat iemand mede-eigenaar is van een onderneming. Bijv. 100 aandelen Phil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depapier = een stuk papier met een bepaalde geld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len kun je kopen en ver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hoger is dan het aankoopbedrag, dan heb je koerswin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lager is dan het aankoopbedrag, dan heb je koersver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beleggen brengt dus risico’s met zich mee! (soort van go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het goed gaat met een bedrijf, kun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rijgen. Dit i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 winstuitkering aan de aandeelh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ligatie: waardepapier waaruit blijkt dat een onderneming of overheid geld schuldig is aan de eigenaar van het waardepapi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jv. 4,5% obligatie Nederland (=staatsobligati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in obligaties is minder risicovol dan beleggen in aandelen, want je krijg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aarlijks een vaste 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 het einde van de looptijd het uitgeleende geld teru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aandelen krijgen DIVIDEND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obligaties krijgen RENTE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instelling die geld van beleggers in aandelen, obligaties of andere waardepapieren beleg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wordt beheerd door mensen die verstand hebben van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gebeurt in veel bedrijven, waardoor het risico van waardedaling kleiner word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op: kost wel gel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2PvB_Qn24j4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38Z</dcterms:modified>
  <cp:revision>65</cp:revision>
  <dc:subject/>
  <dc:title> </dc:title>
</cp:coreProperties>
</file>