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A26-0093-40A8-A2B1-B576FA06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4A9-487D-41CE-B5CA-62F17BD2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49D-C787-45D6-BAFF-F934895B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796-3879-4A35-BAE7-7DEC11C2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FBCC-43DF-40BC-86DC-ACFCA7B2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0045-02F2-4E52-BE4B-1B177B98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277D-46A6-4B95-8E13-B2C4D2F3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D3D5-BF3E-482E-A7CB-2A6D3DA7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8AE0-DE8F-4EA6-BBDE-BC4930DB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5FF8-8D94-464B-90E3-EB643B76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E2CA-AA5F-4D81-AB8F-FD660FE8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C49-8D7F-4245-AAAC-0C6474E4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CDCB-5613-4523-AE9F-AA54E454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5626-2779-49C3-8BF9-C52528AB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210F-9983-4FBE-9823-A936AA7E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4D93-7ED0-433A-B4F0-488FC72B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9EF5-A037-4C89-9EA1-74AD3B53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F6EB-758C-4FCB-9865-F22B916D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7514-B1BF-48E7-9CC7-5EBDEB5A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44B1-D265-4E30-982E-CA35773B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85AC-118D-4250-ADDB-597F0215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91A8B-348B-4400-BFD2-6B44C9CE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EF6-8E34-4E30-A1AA-D50495F0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77DA7-0714-44CC-8DB4-E420DB33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42DD-EB3C-408B-85FE-B906A270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F9A4-2FC4-408B-BE1E-A3FBFC14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49D2D-D899-40A9-8F9F-18FE9797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93AA-74A0-40C6-B20D-E1F5F348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DEAB-DE66-4039-AE31-200D6FFB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855F-F325-4F2E-8EE6-CA04C5CC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C13F-9C62-4FFF-989B-E1DBDEF7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5FD51-33D0-400E-9C26-9D00C42A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010C-1D1F-4125-8C46-196F3B1E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869-D7CC-45EF-B0EC-2577F1B6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7B9D0-5275-4D53-A7BF-08D5D787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68C3E-73C9-4492-8FA7-27F40B50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9056B-3D02-471D-B81E-6EB92040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0D7F5-7733-47DE-8E31-F1DAD3C3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AA309-0259-420E-8448-7FB8E948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9301-F768-4397-B651-994DF4B3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2FB9A-62A4-481F-A497-35372A2B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1468-E7FA-44C7-B484-BDA423FD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01E87-60FE-416C-B340-689A989A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C7630-40DB-4BC2-962C-F2892852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E6F-F685-4256-ADE4-B7E08A96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C6487-E5CB-401F-959D-7F5F1540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903AD-F6E4-4CE3-BAFF-8699191E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06FF-CC36-414E-BC7A-A9BFC3A3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120B8-9627-4790-83CC-23AF6366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9732A-F86C-4AEA-B57D-2CCB09DA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42912-8CDD-40A5-A4F8-71875E90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D2855-6703-4472-861B-9A99DDA4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AAA05-9C95-4D50-AF65-B1D674E3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0BE85-263B-4D8B-9907-2C87C876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F6F0D-A3C4-4A09-B60B-2589FFCB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84C-A166-44DD-93C3-72A94A8E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F2310-F9AF-4E2E-8D6E-998460CE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C7F83-A380-4B9A-BB71-653EA572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337E6-17E3-4082-8CAB-853B3E13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D75CD-92DA-449B-96B7-CD58B2E7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01301-783E-4ED7-B85F-AE3EE1D8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CA81-DE88-4EA0-8C70-1039DCCC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547D-31A1-4A91-A13A-4146E8AE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13BEB-A341-4EB0-8DE3-1DE8BCC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505D6-8030-42AA-8DB9-399F27FD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D743C-AE17-4CB0-868F-AE2820BE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952-2397-41DE-AEFC-4966650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2CD06-CDF4-4B03-9B18-DC1919A0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27BAA-E8F3-4E88-8390-52714BAD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CC908-4B82-4633-A75C-7E4119CA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475BA-41E6-4A86-B48E-EC92D8B5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4FA76-B00B-451C-8ECA-E1D520BC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95388-4566-4970-BE2F-8A46D138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D9328-7D55-4C3D-ACDC-102513FA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BCD17-06B4-422C-9F33-EAE1665A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DDEFA-EEE8-443D-8DB5-0357E5ED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685F1-73FD-4EB2-87BE-7D3A7D8A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EF7-8E70-448C-83C4-FA92621F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9DD44-7D93-40C2-80D8-3FB3F77B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909B7-DFE3-49A9-BDEA-AF458B9B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15A9F-F775-4FF4-A6EA-293DBF20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DB37F-E42D-42C1-89DD-266196C6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B6316-B59B-4FB4-88FD-840A08BC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EA784-9538-48AD-A01C-96CA0C12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17378-13CB-4DFE-8E5C-1BB99C9A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44EE4-F1DB-4514-AB13-C4EFCA92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39930-E3FC-4839-BC65-C96CB0D9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7501F-F97C-4FCF-9C40-040FBDF4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072-5BAF-4547-AB9D-6BE215B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5602B-25AF-4BEF-BD9F-3C879B7A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46DD4-0885-4A6E-8E46-36CA0D9A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CF19B-3548-4BEE-B6A1-CA9AB73D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A0DE1-4FB2-460C-8443-6264B119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23C0E-FB1A-489A-B57E-F9D58DE8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4734F-94F9-46E5-81D3-78E1CC8D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11D0C-B18E-4AEB-93F6-ACE2C9F7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F89C-145D-4023-819F-C17463C890B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A201-7636-47C0-A47C-B98EC3E87C4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B107-C191-4AF7-80E2-4D6156A9D1A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42C0-E99B-4578-B516-01EF9D235BD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1DE4-5967-424C-80BD-754B0BF902E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501B-0DE7-4F12-8534-0D36606B17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EEBB-6C14-4807-BE27-A3FEFA863CE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3E87-147D-4C72-84BB-82AF4CE0D8D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aren met profij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telegraaf.nl/migration_catalog/article20002649.ece/ALTERNATES/sectionImage1500x1500/spaargeld-kind-kwod470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sparen mensen eigenlijk? Met andere woorden, wat zij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otiev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 h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de ren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sparen geeft extra koopkracht in de toekomst = door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ar een deel van je koopkracht te gebruiken en de rest opzij te zetten, heb j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xtra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260280"/>
            <a:ext cx="82296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angrij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rentebedrag is hoger bij e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rentepercen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spaarbedr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langere looptijd (= spaarperiod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lati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orgt ervoor dat geld minder waard wordt. Dat komt doordat de prijzen over het algemeen stijgen, waardoor je voor dezelfde euro minder kunt kop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= nadeel van sparen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est gunstig voor sparen: als rente veel hoger is dan infl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vormen verschillen van elka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rentepercent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minimale spaarbedra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periode waarin het spaargeld vast moet blijven staan op de spaarreken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rekening rent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Spaarbedrag : 100) x rente % per j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rekenen naar andere period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s d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gemene omrekeningsregels toe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(Rente per jaar : 4) x 3 = rente per 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war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51Z</dcterms:modified>
  <cp:revision>57</cp:revision>
  <dc:subject/>
  <dc:title> </dc:title>
</cp:coreProperties>
</file>