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BFA7-D794-411C-BB11-8674FF9F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D2FD-2A6C-4412-9E53-FA9AB341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645E-6D7F-4710-A13C-F1F2295D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DC12-F4DF-4D63-B753-5947E455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61A3-53AC-44BA-8876-B589CE51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D9E2-533B-42DE-A9B8-1DEBB670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B4EA-A4B4-4143-9464-3A2796ED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7592-A8DE-4B9D-AF70-773CEC1F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B4EA-97AF-4FF3-B726-97C10624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890D-A097-4B88-9ADC-DABEB385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DC63-5601-429B-AB22-B7679DB7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E626-F34F-4CBC-BBF3-F8C74737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68A2-E67E-4BAA-AD20-93B79B1C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3EE0-6350-4EE9-B4CC-E86FF629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B812-D435-4118-8016-4655AE22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5A86-EBA2-4CC1-AA81-B5FEF557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BF17-41CC-4B07-BAE6-9F7380E0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6917D-51E0-43C5-B8BB-BABEEA84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A47C9-72BF-47D4-BE4E-519FE1EF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41919-88D7-4019-A90F-4C598972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8CCA7-52F6-4181-B3EA-3266A7CA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C76B1-643B-4B41-8137-62A35818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E2E3-5CA9-4504-90F0-BED94D30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35732-5E04-41E1-A879-C6DF5EAB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D3406-9F78-4423-8106-98E267BD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79252-A0A8-477F-A391-28472977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BE59C-5408-4CDE-A8AC-38F8F9ED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587D4-364B-40A0-81D6-F757F193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374FC-8976-439F-9CF1-E452D5F5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9600F-7ABC-4B25-89B9-99EED530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7AD31-A0C6-4D5B-9BEC-4514A40F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D62EE-8B23-4D61-A2F4-8825B419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B5085-1810-4018-AEE7-4D195A45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380D-3ED7-4C29-BB6F-CD360A1F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457D5-5DA7-4B03-A0CD-F7D53377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97450-8D62-4566-9C9E-E5D65F6C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9B40A-897D-42F2-8315-4B821E87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D85E4-70D4-4B52-A056-373EFC2F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624BE-BBA6-4201-81A4-F8EADD4E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25DA0-3723-48F0-824C-706068B4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D2477-5F39-4F72-9274-00EEECE6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3433F-BE46-4070-9763-8E77C35B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16D77-5A67-4CD0-B9CD-C7464A2F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B6BAC-CAAF-458A-9C4E-CD683978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2971-74DC-41BA-87DF-52D1DB10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C5C71-E4E4-48FC-A003-C3A45634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8DCAC-9178-47E3-862C-CC49F2CB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5D6FD-E3A8-4160-AF5F-F8ECA0FF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36BEC-E1B7-44FC-AA8F-A0437FF6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8DF2C-A1DE-4B9D-8D86-D2BD7A30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F189E-9CE6-4BB6-BF3B-2F6549CE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746DB-17F4-4154-AF67-CCAA0D6B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CF8CF-4606-483E-BB35-FB322D0B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1360E-BD4B-4387-AB11-53DB058E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32287-CAC6-40B9-AD5F-BFC5F8D56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AC13-9F72-4EF4-8C9C-C37A6727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FF047-FCA5-42D0-BCB8-46E1B21E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4B1A4-CF0A-417F-B992-D9491452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4AED6-E802-4D83-A4D8-3ED7FA52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21850-1596-4A4F-BB05-8D18E693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4ADA4-5FDE-414C-908D-F7DC1B45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44224-7329-4E53-9833-39917AA1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B8D98-0AAB-4E1D-9BBA-8539BDA0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874F8-AC37-488B-9FC9-78FE2EB2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222C6-E83F-40B1-BAF4-623EC0E8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D420D-0399-4BDB-9AEA-B6361EC2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8729-047D-4D1F-96AB-803A1E66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A43D4-1F57-4F96-BF03-0C1FAFD0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E707E-B346-4C3D-ABFA-3303223E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10378-2D88-4BFA-9399-0BA7D68B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1B05E-F5FD-44AC-8C6F-46D38BCA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5BA97-698B-4654-B714-883997A7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05724-3C77-4B38-AC82-5A151E4C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34BB3-C1E2-464E-905A-1B50D990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044E9-B592-455A-B4F6-9DCDF170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A03E0-67F4-45E5-ACC2-95414141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339C5-E65B-4EBB-9E6F-73646CBE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A245-E788-4DFA-A76F-261BF765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AFE0B-2CAF-4050-9006-FE66BCF3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51AD3-272C-4759-A12B-F57BE143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6AEE6-CA0D-4439-9A77-8D315D6A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973D9-6723-4608-800C-EC953E26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0315F-CDC2-4345-A11D-49FEEB47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B262C-6953-4C4C-9BFE-057B74B2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0D4C9-3E71-4FE7-82E0-C6DE2C63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E11AE-3DFA-4921-B968-3DE68145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B0544-A975-4B84-819A-6A487B70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96478-3DA7-4CDE-B0B3-C8651DD6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1A2B-95D7-4855-8798-0A44AD9E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34A64-5701-471C-92C3-0728038F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23066-AD1E-4D35-B953-E3EE0C22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9C278-42A3-4CE9-94C6-7B8493B1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A9843-0713-41C0-BB8F-436C4F33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F2D1F-58F1-4495-8133-08E251AB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2CE3E-F6B4-479D-B9EF-3B01330C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BCBD1-DBCB-4675-9A4E-2376A195F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63CB-2CAC-424D-9552-2533388D3EA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5DB5-60AF-436F-9817-11724C62EB0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6C0E-3615-4E75-96BC-B7F73CABAD2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B23B-0C00-4E23-8F14-A7E9C50D877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9C1F-9308-48AC-97E2-F36936D5F60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0C7E-D5B0-461F-A041-1126062D984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B4F3-B2AF-47D6-ADD5-8D459CECDC2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9451-C1EB-43C2-A678-B474CC1C529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Sparen met profij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8" descr="http://www.telegraaf.nl/migration_catalog/article20002649.ece/ALTERNATES/sectionImage1500x1500/spaargeld-kind-kwod470"/>
          <p:cNvPicPr/>
          <p:nvPr/>
        </p:nvPicPr>
        <p:blipFill>
          <a:blip r:embed="rId2"/>
          <a:stretch/>
        </p:blipFill>
        <p:spPr>
          <a:xfrm>
            <a:off x="0" y="0"/>
            <a:ext cx="31320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om sparen mensen eigenlijk? Met andere woorden, wat zij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spaarmotiev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oor he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 een doel/grote uitgave (bijv. een auto kope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 een tegenvaller (bijv. de koelkast die kapot kan gaa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 de rent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eel: sparen geeft extra koopkracht in de toekomst = door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aar een deel van je koopkracht te gebruiken en de rest opzij te zetten, heb je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at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extra koopkrac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68360" y="260280"/>
            <a:ext cx="8229600" cy="55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angrijk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rentebedrag is hoger bij e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hoger rentepercent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hoger spaarbedra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langere looptijd (= spaarperiod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flati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zorgt ervoor dat geld minder waard wordt. Dat komt doordat de prijzen over het algemeen stijgen, waardoor je voor dezelfde euro minder kunt kope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(= nadeel van sparen)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est gunstig voor sparen: als rente veel hoger is dan inflati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aarvormen verschillen van elkaa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oor de hoogte van het rentepercentag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oor de hoogte van het minimale spaarbedra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oor de periode waarin het spaargeld vast moet blijven staan op de spaarrekenin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rekening rent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Spaarbedrag : 100) x rente % per ja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mrekenen naar andere periode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pas d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gemene omrekeningsregels toe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(Rente per jaar : 4) x 3 = rente per 3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war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</cp:lastModifiedBy>
  <dcterms:modified xsi:type="dcterms:W3CDTF">2016-10-27T20:08:51Z</dcterms:modified>
  <cp:revision>57</cp:revision>
  <dc:subject/>
  <dc:title> </dc:title>
</cp:coreProperties>
</file>