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1.png" ContentType="image/pn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3C46-18F2-4238-9AE3-DFDA712B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430D-C2A5-4C86-A89C-888CB932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920F-88F1-43E1-8D1D-8A8AC922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657C-69A0-4F1B-B696-2C1C2FC7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71C4-799A-4CA0-8873-4E604F4AB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EC37-29D6-4149-814C-69E71A36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EC05-41D8-4549-B74C-8EC8596E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5264-833E-4CD6-9AC4-FCB3C914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8762-81B1-4E99-8192-518C8755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DC71-6196-446B-BE77-A3722684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EA08-0A32-499D-B0C7-F787FD98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4F2F-FDE6-4F41-A39D-49A7C499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EAD5-A428-4C14-8DD1-A2D6E174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245E-D012-4576-B284-90F06C90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69DF-EA74-4C24-82B7-88348EE9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3856-25A3-44FB-AFC2-043CC8C3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FB7F-B99F-4E27-9A1B-0C9E5662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04395-38A8-4566-80E2-A79984CC5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A9550-D77F-4A74-89B8-2DA6CFDB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EA212-9860-4F96-BC35-66356B68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968C4-95EC-413B-B64D-88616A39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2A45C-516D-4F7E-B3FA-8F7FDF78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679A-C954-4943-BDB0-FBC8F304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350D5-AFF0-44CA-BF90-C41CB43F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1A0D1-2CD4-4A33-87FA-37686E35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EFFB8-4313-477D-A74D-7A42C7D8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FD08F-3AF9-4BE2-83E4-9495D849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42F69-10FA-41A1-BA83-2117D21E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D0A3C-1D65-4A48-A7A6-5D7624314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F4A3D-EA99-4142-BCE4-305B9E6A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A0078-7A21-4A61-A8A4-266B5A8A2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A4D75-9A3F-443B-B855-ADA9A9AF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B21D8-0285-49D8-B9F5-FDE075B1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2E8D-4839-4AA0-BDC4-4AA6B6BB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ADA5C-463C-45AA-9543-491CBE73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89ECC-60E5-4E18-867B-EFC9095E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84573-E9A4-437B-A3BE-9DAA433B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9F336-325B-4138-9C26-DFE98EA0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2F44A-7A96-4224-AC9E-83054CA2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04FF4-DDD9-4509-BDFF-CBADD148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17ED0-2669-4D72-9499-81695CD5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5CE77-AF29-47D0-A35A-5E0D4699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04FCA-D0FA-43CF-ACD7-89FF38FE7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0B6AB-6A06-411B-9247-C3897787E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BB54-AA11-4356-856B-CF5C960E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8CE3D-D528-4BF3-BB87-30444BE9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8DB94-199F-465E-A35B-21D5F77B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4C280-27E7-4DB4-84DC-37985A50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5C440-18F9-4699-B7B3-AB189912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34007-42D3-4374-BF25-0CACC5DC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91BA2-9502-4084-92F1-825261F5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DA7BC-3F7F-4EAB-BE38-494D3951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14C6A-72C1-4DF1-9EC4-303293FE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837D6-6A35-49B2-A5D4-ED975922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2D50B-E0F9-44FE-9691-11523022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2905-6BF0-4AD3-87A4-AA1AC3BB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78361-D422-4A61-8988-3BBC0BE2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92608-10DA-4C84-AAF3-CD7704F4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FFBF8-3B31-404F-8CB9-D9162B60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DD0EA-EA89-425B-ACC1-BA08EE91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C7024-8485-4639-BED6-A96DB8CC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B47A4-421C-4A00-BD1A-1B0CC95C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97B25-F5AF-423E-8C14-1B751279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E26C4-EEB0-4D03-86BA-96270EAE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C4EB0-2415-490A-896C-791488C8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3A176-2721-4294-B66B-15411023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1985-599C-4894-952A-DC33A5E4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6A318-F7ED-40BA-B387-ED071A7A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3F3CC-8602-42BC-B67F-97D0C154C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356CA-F8B9-4BE6-8585-9348D61AF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2A1C4-F8B4-4F1D-B287-C4771C1C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4A9A1-607B-4A69-A80C-9FD84435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E8038-C661-4345-906D-0D037EF7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D49B2-2852-4F2E-A92D-B99BA0FF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A6CCB-779F-4470-B46A-77A5E7FB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35BE2-FF67-4D50-8FF7-6FA72CAD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EEBA8-BE45-4ACB-8AFF-755F7E74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F7A9-8964-43EC-AB82-80C485EE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4DEBA-5A7A-446A-AB26-7EE74794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72BEB-77E1-43CD-B6C7-477594D7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6F7CB-7196-40E4-939D-1ECA1900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B62F8-036C-49B8-8B57-1FB5E6454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E264F-9158-4956-BBC1-2B97CA9A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6D734-951D-4702-9906-7180CD9C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AE05E-ABC4-400E-B72A-0187D555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7652D-A0F9-4C4C-977F-F2009212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89DFB-B238-4BB5-B06C-2504031B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D744F-6CD9-4988-8578-5BE604D2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D544-EE13-4857-A9D6-C22B3EBF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A2273-B7C2-4A8E-BA97-7995C443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F31DC-614A-4456-9D0A-5DBD593B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2C1CA-8857-49BF-B7CF-C92A004D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82979-B7EE-4ABC-9B8A-B1DB45C7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33A09-09FF-4A69-AA61-00122148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2E010-C095-49B2-98A4-39035FE9E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8552C-6225-4A55-B4ED-87A2D4D78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7635-2CDE-4256-AAB5-64D4FBB1DAC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B0C3-155E-4768-8D1C-772FE1B335C4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317B-9E6D-4389-A870-1A459790446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AAE7-7E36-40F9-8889-474806685F7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A48A-C133-4318-B482-A090077B482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513A-FF63-483F-8506-7EAF73D8465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9901-5659-43DA-AB31-43CAD1A7D9C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C23D-1159-4D9A-A961-6FCF40E9319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Lenen en betal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geldlenenmetspoed.nl/images/letop.jpg"/>
          <p:cNvPicPr/>
          <p:nvPr/>
        </p:nvPicPr>
        <p:blipFill>
          <a:blip r:embed="rId2"/>
          <a:stretch/>
        </p:blipFill>
        <p:spPr>
          <a:xfrm>
            <a:off x="0" y="0"/>
            <a:ext cx="39132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88640"/>
            <a:ext cx="8229600" cy="58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arom lenen mensen eigenlijk? Met andere woorden, wat zijn de leenmotieve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voor een doel/grote uitgave (bijv. een auto kopen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voor een tegenvaller (bijv. de koelkast die kapot kan gaan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deel: je kan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nu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product kopen en meteen gebruik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adeel: je zit vast aan de maandelijkse kosten van de lening (aflossing en rent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enbedrag wordt bepaald door: hoogte inkomen, vaste lasten, arbeidscontra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AutoShape 4"/>
          <p:cNvSpPr/>
          <p:nvPr/>
        </p:nvSpPr>
        <p:spPr>
          <a:xfrm>
            <a:off x="63360" y="-136440"/>
            <a:ext cx="699156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6" descr="Gerelateerde afbeelding"/>
          <p:cNvPicPr/>
          <p:nvPr/>
        </p:nvPicPr>
        <p:blipFill>
          <a:blip r:embed="rId1"/>
          <a:stretch/>
        </p:blipFill>
        <p:spPr>
          <a:xfrm>
            <a:off x="6659640" y="2327400"/>
            <a:ext cx="2306520" cy="1212840"/>
          </a:xfrm>
          <a:prstGeom prst="rect">
            <a:avLst/>
          </a:prstGeom>
          <a:ln w="0">
            <a:noFill/>
          </a:ln>
        </p:spPr>
      </p:pic>
      <p:sp>
        <p:nvSpPr>
          <p:cNvPr id="376" name="AutoShape 8"/>
          <p:cNvSpPr/>
          <p:nvPr/>
        </p:nvSpPr>
        <p:spPr>
          <a:xfrm>
            <a:off x="63360" y="-136440"/>
            <a:ext cx="431496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0" descr="Gerelateerde afbeelding"/>
          <p:cNvPicPr/>
          <p:nvPr/>
        </p:nvPicPr>
        <p:blipFill>
          <a:blip r:embed="rId2"/>
          <a:stretch/>
        </p:blipFill>
        <p:spPr>
          <a:xfrm>
            <a:off x="4403880" y="2327400"/>
            <a:ext cx="19540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62064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en wordt aantrekkelijker doo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- een hoger inkom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- een hoger inflatie (hoe eerder je iets koopt, hoe lager de prijs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aarders stellen hun geld beschikbaar aan de bank waar ze spaarrente over krijgen en de bank leent dit geld aan de leners waar deze groep rente over moet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aarders zijn aanbieders van 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ers zijn vragers naar 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90792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lening die in een aantal vaste termijnen wordt afbetaald, bijv. in 36 maand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afgesproken bedrag leen je in 1 ke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Je betaalt regelmatig een bedrag voor de lening = termij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rmijn bestaat uit aflossing en rent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Berekening rente = (aantal termijnen x termijnbedrag) – bedrag le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467920" cy="7794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http://financieel.infonu.nl/artikel-foto/lenen/64-lenen-tegen-lage-rente.jpg"/>
          <p:cNvPicPr/>
          <p:nvPr/>
        </p:nvPicPr>
        <p:blipFill>
          <a:blip r:embed="rId2"/>
          <a:stretch/>
        </p:blipFill>
        <p:spPr>
          <a:xfrm>
            <a:off x="7521480" y="3645000"/>
            <a:ext cx="147636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Lucida Sans Unicode"/>
              </a:rPr>
              <a:t>Niet alleen banken, maar ook andere financiële instellingen lenen geld uit. En deze instellingen vermelden soms de bijkomende kosten of de aflossing er niet bij! </a:t>
            </a:r>
            <a:r>
              <a:rPr b="0" i="1" lang="nl-NL" sz="3600" spc="-1" strike="noStrike">
                <a:solidFill>
                  <a:srgbClr val="000000"/>
                </a:solidFill>
                <a:latin typeface="Lucida Sans Unicode"/>
              </a:rPr>
              <a:t>(zie een voorbeeld op afbeelding 38 blz. 63 in je lesboek)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</cp:lastModifiedBy>
  <dcterms:modified xsi:type="dcterms:W3CDTF">2016-10-27T20:08:18Z</dcterms:modified>
  <cp:revision>75</cp:revision>
  <dc:subject/>
  <dc:title> </dc:title>
</cp:coreProperties>
</file>