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BB61-6497-44B7-94A2-37ABCB3C4D3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2D8F-B201-49B9-BBAF-4A3D2BB47F2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0A3F-ACA8-4480-9655-D904FFD1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4531-446B-48F6-BAD6-D6DAAA6A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077C-D9FB-4A93-AF99-3B6F0543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CAC2-0EB4-4A3B-9BA8-131AE21E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EE08-47E1-4B8B-B7EF-1EFA7B79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1030-0F64-46E1-A00E-6F5B2091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3F4E-6D6F-4263-BFF5-A5CD1794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87C8-1F55-496D-86DA-F0056963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626A-F0A6-432E-A324-CB754CDE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B09A-7E4D-48FA-8435-ADF67199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DCF9-7812-4AE6-8576-CDC8A753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C0E3-10D9-4E67-9952-7153FBFD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A9E7-4927-438D-A592-C38BF594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4E2A-5389-4467-B581-45974F6F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BF6D-320A-4931-8CAC-ED11FA5C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044C-39A5-46AF-9507-CB40E12F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A410-4431-4AD1-B730-58E2A312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0DB1A-611B-4514-8120-4396BDE4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17F53-D885-474D-9423-7FD267E1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1C364-8321-4E7D-8A47-3B876A2E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E10F4-BE87-4534-9783-DC9E1219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299BF-E38F-491B-A15C-C3FA974C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ACE-8D4B-4BC9-ACFE-433E5345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4C88B-2743-4A9B-9043-7AE4E480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85863-1D25-4B6F-BAE7-44C989CF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A73CF-7213-49DE-9C21-D50F9FF7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19E5B-A994-4EA1-866D-07E0FB23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038EE-AAA6-4C8D-ACB4-9D2E09DD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BED9F-1106-4F7E-A5C9-ED863D4C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329E9-9F35-4204-817E-0A8E86C3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6E95C-42E0-4CFB-8498-8EE17657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EBD21-B041-40B5-85BA-A6AD21D0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79AB3-0D99-4DBC-B8D0-F872662C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033-B005-49DD-9B40-881E42C3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39040-CB3E-464F-9EE9-E5046EB3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04CCC-CF00-4B22-ADB8-B71944DE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9A586-BFC7-447A-BE61-740F7ABD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013A7-8E56-4192-9420-19A13793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3C7A0-D1A8-453A-8897-811A46C3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08D43-3ECE-4769-9525-31112ABD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CCAFD-D776-4B60-82C5-244B750B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201BD-57E6-4DA0-810C-36559379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FAC42-BCD5-4CC4-AF9F-C02B011D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C8C86-B642-4017-A295-E719F71A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019-0779-4692-A41B-9F500FC2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F8458-9009-4E5E-BF37-7E8ABB62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EDA8B-EACF-4000-9EBB-624631EB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26F75-9FE3-4608-A7A6-92EB692A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0A161-FC97-4DE5-8D83-772B0460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63DB7-2EAD-496F-A4E3-9EBF9A13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6379A-4F27-4709-BBAF-95B8623E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3327F-DF05-4B50-85C7-5491C927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A9F92-B85E-4429-A105-1618B48A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9082C-C9CD-4ECC-B29D-12AAC074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57354-9093-4609-AF8C-BDFA93BE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FC40-53BA-4167-9205-A90E76D3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8C013-79EA-4512-B4D1-725690E4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8D85E-0D47-47EB-B29D-3BD46FD1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806AC-B1DD-4533-939D-C3DAFD22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FEDD6-95C3-4CEF-AC51-FD2811BA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8CF41-CCD0-4D39-8696-5D173564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0D884-F570-4A4F-8CD9-2C3B9A4C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179FD-9204-4AAE-9879-1C0D4921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9AEF4-62EC-4CD7-BC1B-C740E607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021E4-9BA9-43C9-A82C-27DF1DB8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34436-BA60-41EC-BA00-40860F58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F656-D345-4822-A8FC-1CE69B5F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377DC-79D9-4BE4-961F-84A41294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51C0E-1F89-4819-B428-2AC1C298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29260-4AF7-48D6-AB98-41859B10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295C7-33F1-4C0A-91D8-BE9852A6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D12AA-0569-4AEF-8888-1FC6B725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17702-E02F-420F-A6DD-6C85B60B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F24E2-A428-4115-9DC9-DD9988F8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16FD7-BA7D-47D0-9288-61FD201B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A4E7D-ACA6-499B-94DB-D8BEC7EB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FD02E-12BC-4153-96A0-44F7A7E8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A72-C657-488A-937E-7767298C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203DC-13D8-4C5F-B69E-4341B0CD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D0652-AA38-4840-B0F2-1906D9C9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654CE-3FAB-4725-A065-BEE4FA64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D388E-6109-4757-8D97-81A7AB83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912E3-A263-4D5C-9ED2-D70D86F4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791A9-53ED-4346-9C61-35F03B90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98949-8E2F-4215-823D-DEF82780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CC92B-403A-409C-BB95-8913211D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39244-23B0-4512-86A6-74C0A334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0562A-DD30-4A22-960B-08C2706F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CB28-98B0-4D30-9FE0-6881688A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47F13-F352-484F-A41F-8D047442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A3478-CBB3-47CD-91AE-F5983A96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2DFDD-F278-4DC0-B828-A2C56EA0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271A9-7637-4016-BAD0-63524C2B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2A51D-085B-4936-8AA9-B0DB31A7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79C34-613F-40A3-9F63-F6273B24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52A72-D35A-4379-9EB1-C37B14DE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81C0-E155-4EB4-B8A0-FD29070E335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AFED-AC78-4D33-9998-FD9E7355046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6066-488A-4CAC-B1DD-A79276308B7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D756-AD49-4C53-BCB7-BA083162B0A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14A8-E5EA-4632-BD25-CDB195AA59E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3DDA-5CFB-4122-9F89-919007577EF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2891-4937-49F3-A0D2-023C2C05CBF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B24D-02DE-4226-BC26-2903FCFCFA5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op kredie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6" descr="http://super-aanbiedingen.nl/wp-content/uploads/2011/01/ipadopafbetaling.jpg"/>
          <p:cNvPicPr/>
          <p:nvPr/>
        </p:nvPicPr>
        <p:blipFill>
          <a:blip r:embed="rId2"/>
          <a:stretch/>
        </p:blipFill>
        <p:spPr>
          <a:xfrm>
            <a:off x="0" y="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soonlijke le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lopend kredi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op op afbeta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uurkoo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http://www.geldlenenabc.nl/wp-content/uploads/2015/03/woordwolk-kredietkrijgen.png"/>
          <p:cNvPicPr/>
          <p:nvPr/>
        </p:nvPicPr>
        <p:blipFill>
          <a:blip r:embed="rId2"/>
          <a:stretch/>
        </p:blipFill>
        <p:spPr>
          <a:xfrm rot="2034600">
            <a:off x="4654080" y="2292480"/>
            <a:ext cx="4172040" cy="24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Uitleg persoonlijke lening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zie paragraaf 2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oorlopend kredi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 een bank of bedrijf waar je iets koopt en niet gelijk hoeft te betal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r is een maximumbedrag tot waar je mag lenen (= kredietlimiet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mag datgene wat je afgelost hebt weer bijlen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betaalt een termijn die hoort bij de kredietlimie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looptijd staat niet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8864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Koop op afbetaling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koper wordt eigenaar bij de levering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ermijnen staan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koop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(bijzondere vorm van koop op afbetaling)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koper wordt eigenaar na de betaling van de laatste termij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ermijnen staan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</a:t>
            </a: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effectieve rente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is de rente inclusief all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komende kosten zoals administratiekosten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 banken is deze lager dan bij winkel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4" descr="http://www.bnr.nl/incoming/2011/04/12/wehkamp-in-de-verkoop.jpg/ALTERNATES/i/Wehkamp-in-de-verkoop.jpg"/>
          <p:cNvPicPr/>
          <p:nvPr/>
        </p:nvPicPr>
        <p:blipFill>
          <a:blip r:embed="rId1"/>
          <a:stretch/>
        </p:blipFill>
        <p:spPr>
          <a:xfrm>
            <a:off x="6659640" y="1087560"/>
            <a:ext cx="21603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071360"/>
            <a:ext cx="822960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uurzame goederen gedurende langere tijd. Er is hie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e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prake va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igendomsoverd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auto’s, caravans, machi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leasebedrag is bestemd voo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vestering in het produ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kosten, zoals reparat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waardevermindering van het produ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a afloop van het leasecontract kun je het produc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open (tegen een extra betaling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http://www.auto-aanbieding.nl/2012/webfiles/afbeelding%20website/koolen-lease.jpg"/>
          <p:cNvPicPr/>
          <p:nvPr/>
        </p:nvPicPr>
        <p:blipFill>
          <a:blip r:embed="rId2"/>
          <a:stretch/>
        </p:blipFill>
        <p:spPr>
          <a:xfrm>
            <a:off x="6659640" y="1954080"/>
            <a:ext cx="2209680" cy="1797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http://www.animaatjes.nl/wallpapers/wallpapers/paarden/animaatjes-paarden-44772.jpg"/>
          <p:cNvPicPr/>
          <p:nvPr/>
        </p:nvPicPr>
        <p:blipFill>
          <a:blip r:embed="rId3"/>
          <a:stretch/>
        </p:blipFill>
        <p:spPr>
          <a:xfrm>
            <a:off x="7080120" y="3770280"/>
            <a:ext cx="18003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0-28T07:41:26Z</dcterms:modified>
  <cp:revision>80</cp:revision>
  <dc:subject/>
  <dc:title> </dc:title>
</cp:coreProperties>
</file>