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39B-2A19-4800-9059-4F5BB76B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9D9-94A8-4FFB-8CE8-E5BBDEF0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04D-0304-4690-A487-287EB7F0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6FA-3D2E-42BB-B14A-BD3BD501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384C-D66A-41C6-8755-677C405A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D4A0-A9F7-4094-80B5-F07E008A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03F7-A335-47C7-B695-3FCAD806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8D6D-52E0-4705-A60D-794BBB81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E431-57FB-4286-B36F-AB53252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77DB-FB02-4FAE-8502-E5538E28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535B-8D64-4B5C-9638-DD377BA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A40-19E9-42EA-83A6-B88A5B10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A12A-3B34-4EAE-9EB7-BA2402B3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61E2-2FAD-4367-BF5B-AB47552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CB2D-3767-45BD-9F6D-02C5CE76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A3FF-D267-48FF-B448-FF9C0D62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DB7B-0620-4A7C-A300-4EFC6C0D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4309-823F-4407-A9EA-5A053487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17F8-98AB-453F-8948-7CF58B43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5953-6999-4921-83F7-1CB5BBEB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70F3-BCBF-41F9-9480-8B8A9F63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08E4-5B4A-4294-B42C-3C545985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124-FF27-4B30-AE77-4D1DC3ED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4683-C1C7-4DFE-8B67-0F3EE8E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B621-D495-4916-888B-FF9E525F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5F80-E168-4913-B595-4F4DA320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6862-D311-4902-9EF0-2A67F55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C6E6-19F2-4EBA-B1F5-B4A58A36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295F-9457-4061-A947-9FD0F0AC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5740-0675-45E2-923D-712292B2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65C4D-4E0A-437B-AECA-29A46CA7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F904C-8AF4-4E2E-B963-5E993AAC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9F45-DFF4-4C8E-BE0D-C4B0542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7C6-B91A-44B8-9120-0789D67D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F7E40-33CD-4F98-A74A-E62A2E61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AE00-E31A-4FFC-AC79-5EDE4B64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02FB4-0607-4A94-A040-0C0FBE9B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B6832-453F-434E-BB61-33FEA13B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2AEF3-3D3A-4508-91A7-414021BF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1D6B-7971-4E72-B510-40C51148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7284E-A7CE-4DC7-B6A7-A0A122A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CAA2-4BF1-4BE6-AB60-CD44B881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34B3-E788-40E3-AEF7-CB06000E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E865-D336-4C79-B076-163E38F1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BD0-D39B-4ACA-89D6-979DBF19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39CB4-3B7F-4276-98BD-B1294A5B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06AD1-983C-49F2-B4FD-03505462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15FA5-6E0A-465A-8D9E-6EFECAB4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151DB-6F2D-4928-BAA5-10FD9762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2985-FA5D-4967-B0DC-148F0CA2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770F-4815-4E8E-AC70-8D3D0BEB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F191-65A2-4A64-A571-89F349D5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8C9A-DD42-46EE-AF9B-D160CC9F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5A1A2-4EE3-47A5-B88A-2DA6BEB0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EB03-7EB7-4A83-B479-416F006B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2F4-34B7-44C1-B1C9-D091D081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0B9DA-CFA8-4B46-BEE6-5DC0834E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80E77-3626-47F0-860A-F071F480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7ADA4-EA64-4F99-869D-67EC31E6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49AE6-F656-4753-A9F1-17DA22F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4A61B-2B0D-418D-A32B-9D2801D8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B2A70-DCDF-4043-8290-FEF8425B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CABB-B5EE-45F1-99BF-36AD273B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394B-7C4F-48B6-AD89-F84A0524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6F095-124B-466E-A53A-A02FCC8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07EF0-2786-4021-8BF2-A05C7250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7B7-1ABB-4540-90D9-96E2E06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2DEEE-A8C4-4DFE-8835-4730BC0C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8142E-0BC5-4EB6-97F3-CACA5DEF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2B48-2F73-4F51-8FA5-AC1D6F4B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D5864-914C-4AC9-A484-9D3AADE3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A0769-AAC4-4983-98A4-1070BF5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2F17E-36C5-42F0-87DF-BA5F1A95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D4C7A-89C2-479C-AF08-DB6B7812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E8AC-4482-412B-9CC9-C424D5CA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967A-343B-4F6D-B646-FC0BB2C3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F0004-13C5-4BFF-A3B9-13A7148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0D7-C69E-4222-85B0-CBFD5A99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84E72-F4E8-4C7E-87EA-E7D556E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A576-284F-4BC3-BCEC-82366CC2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FE0A-1EC6-4856-8BDC-4CEAFA8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223E5-C660-4972-8E9D-6C269DCF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78C19-B6D0-42B9-A1A2-184A88F8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F4C6B-B046-4E05-B469-342E8770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E757B-368C-4846-8BC8-F3CFCB4E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F6E1-61D6-4BA2-8243-C24CCA5E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3C6C-9A09-4479-B082-83279071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7EE7E-3004-4245-8031-807B2C40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F4F-95EF-4597-8CDE-A32A37E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BD179-2B42-484C-AF72-3072ACEE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919DF-40EC-4EF1-8BFB-B1602486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99E35-6F79-424E-83CB-BD0336B3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A1E0E-AE86-4621-927B-4E84383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417F6-1789-46D9-8E59-50E1415C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2AB74-E15D-4FFC-99B3-4BD3D5F3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D078A-EE1A-4462-86C2-564D3BE6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6AF6-5E6C-4284-9B44-D82E2703694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8582-02BC-46E3-B4BA-E57C75BFA6F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5F6C-0408-46E1-9891-DA662A51E65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9F8-0960-460F-8FF5-CFBAC09C15C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37F4-DF87-4652-B750-763B222867D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B179-4B26-4BF6-8089-D8CECA99A91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952-1202-48F7-BB7F-257E08166DE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6796-B72A-4E9D-AF1A-E80B9A0FBE1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Lenen en beta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geldlenenmetspoed.nl/images/letop.jpg"/>
          <p:cNvPicPr/>
          <p:nvPr/>
        </p:nvPicPr>
        <p:blipFill>
          <a:blip r:embed="rId2"/>
          <a:stretch/>
        </p:blipFill>
        <p:spPr>
          <a:xfrm>
            <a:off x="0" y="0"/>
            <a:ext cx="3913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lenen mensen eigenlijk? Met andere woorden, wat zijn de leenmotiev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je k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product kopen en meteen gebruik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deel: je zit vast aan de maandelijkse kosten van de lening (aflossing en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enbedrag wordt bepaald door: hoogte inkomen, vaste lasten, arbeidscon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3360" y="-136440"/>
            <a:ext cx="6991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Gerelateerde afbeelding"/>
          <p:cNvPicPr/>
          <p:nvPr/>
        </p:nvPicPr>
        <p:blipFill>
          <a:blip r:embed="rId1"/>
          <a:stretch/>
        </p:blipFill>
        <p:spPr>
          <a:xfrm>
            <a:off x="6659640" y="2327400"/>
            <a:ext cx="2306520" cy="12128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8"/>
          <p:cNvSpPr/>
          <p:nvPr/>
        </p:nvSpPr>
        <p:spPr>
          <a:xfrm>
            <a:off x="63360" y="-136440"/>
            <a:ext cx="43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Gerelateerde afbeelding"/>
          <p:cNvPicPr/>
          <p:nvPr/>
        </p:nvPicPr>
        <p:blipFill>
          <a:blip r:embed="rId2"/>
          <a:stretch/>
        </p:blipFill>
        <p:spPr>
          <a:xfrm>
            <a:off x="4403880" y="2327400"/>
            <a:ext cx="1954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n wordt aantrekkelijker d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een hoger 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- een hoger inflatie (hoe eerder je iets koopt, hoe lager de prijs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stellen hun geld beschikbaar aan de bank waar ze spaarrente over krijgen en de bank leent dit geld aan de leners waar deze groep rente over moet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zijn aanbieders va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rs zijn vragers naar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lening die in een aantal vaste termijnen wordt afbetaald, bijv. in 36 maan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gesproken bedrag leen je in 1 ke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taalt regelmatig een bedrag voor de lening = termij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ijn bestaat uit aflossing en r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erekening rente = (aantal termijnen x termijnbedrag) – bedrag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http://financieel.infonu.nl/artikel-foto/lenen/64-lenen-tegen-lage-rente.jpg"/>
          <p:cNvPicPr/>
          <p:nvPr/>
        </p:nvPicPr>
        <p:blipFill>
          <a:blip r:embed="rId2"/>
          <a:stretch/>
        </p:blipFill>
        <p:spPr>
          <a:xfrm>
            <a:off x="7521480" y="3645000"/>
            <a:ext cx="14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Lucida Sans Unicode"/>
              </a:rPr>
              <a:t>Niet alleen banken, maar ook andere financiële instellingen lenen geld uit. En deze instellingen vermelden soms de bijkomende kosten of de aflossing er niet bij! </a:t>
            </a:r>
            <a:r>
              <a:rPr b="0" i="1" lang="nl-NL" sz="3600" spc="-1" strike="noStrike">
                <a:solidFill>
                  <a:srgbClr val="000000"/>
                </a:solidFill>
                <a:latin typeface="Lucida Sans Unicode"/>
              </a:rPr>
              <a:t>(zie een voorbeeld op afbeelding 38 blz. 63 in je lesboek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18Z</dcterms:modified>
  <cp:revision>75</cp:revision>
  <dc:subject/>
  <dc:title> </dc:title>
</cp:coreProperties>
</file>