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1B9-992E-4FB3-989A-ACAB4EC5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580-A3FD-49E6-B203-A8E3CC05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FAE-AB75-4032-A78A-C01A63BD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29E-1739-4E7C-A933-3BB16884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03FB-737F-41DB-B34B-2A971147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4A25-98DA-49D2-AF5C-188285B0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656D-1B8C-4734-ABBE-CC6A4D21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FEEA-DA4E-438A-93DB-E51E28E7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6EBB-6F03-428D-97D0-C85C854E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F7D3-574B-48B8-8315-D316ED82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49C7-BD94-4987-8B71-4D98B96D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A20-FEAC-47BA-9378-7267FB28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260C-50AB-4E67-82BD-9D954638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AAE2-8158-41AB-B4DB-39308FD7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379A-8624-4F74-8729-01B0BD74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DC6A-B580-491B-A943-E4CD4601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5251-700A-454E-8D56-3ED33CC3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897F-98FF-4E7A-A506-E9E5F4D4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C5F39-7433-4D7A-884A-F20DC8D9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B829-D565-467B-974D-354DBBDB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9FFD4-FBA2-40AF-B407-879FF432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29304-BC2D-48E5-8909-509D04E4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9B0-1E3C-434F-83EA-5522C6F0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49CF-97CB-4ACB-80F6-6B2D7EB0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0806-8A76-4336-8B3F-5A795D81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0982B-C8CA-4A5F-8D74-035869CF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27C5C-F1A5-404C-9BD8-589395A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6D6E-CCB4-4E8C-AD61-73817F86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4DC5F-7CD5-4939-92A0-292584A4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39D3-28E6-4BE5-BAF8-6BCD9505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12D83-93B6-40D5-ADB5-B51E6032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97A6-405C-437F-AC20-46E08A24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B1898-C7CF-4C75-BB06-25A30842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3C4-AB7C-4B18-83B4-07E3819B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70DC5-9AE4-4B94-8056-1FB45DD5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0B26-980A-4AB8-A00F-513B1BF1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BB40-C761-46F1-8E3C-8A9D3AAF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C0C82-249F-4DFB-A7CF-A39262C7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E5E3-8B5B-42A6-86B6-FBB4D1C4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68E02-E93B-4637-B874-D7894E63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9DE5-FDA1-40FA-9B2B-9F8AB7D2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91F25-188A-4ED0-84F9-1AE1D283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1118-BE79-47B5-A879-BD8718EB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BDE3A-7FB6-49F2-80E8-1760ED65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E16-7256-4AAF-AE3B-6281FD86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0F5BC-8E1E-4EE4-94BA-13F72B2D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EDDA7-E58E-4E87-81D3-3EFE68B1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D7561-C299-473C-AF0A-7BD42496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584D7-D355-4BEC-BD74-209D4784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A1669-C6C8-48A9-A85E-EACEBAF3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ADFD-8AA0-4A58-9691-6522BF08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1D4EF-2E40-4358-83DC-60CE9CF0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3CC88-4DB2-4C51-ABBB-10CA44F9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282BF-CCFC-440B-A2DC-485B136D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07327-726F-4526-A149-1D62BA82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A22-93C4-47D2-8536-DC93E4F1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A3FD9-8FB2-419B-907C-205DA25A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97441-C5AE-4070-92BF-6F65BD76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3BB56-DB6C-4613-8C77-31F8EC57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393D-D1E4-4AF3-8E51-507B84B5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47F0C-5715-4007-A02C-77C29669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C47A3-5F37-4B3F-A527-2D7841B8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9755D-0680-42DB-8A3F-11665C66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638F-D905-47D3-9C43-BD42D349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DBF58-5580-42DF-85E5-BD732161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720BD-7B39-4BD6-82BF-5D7E257D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06F-7944-42FC-8771-88A96C0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EFE16-7D88-4A24-B88F-978666A1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8ED16-15A6-470F-85D7-02D05D36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AFD0E-0341-4C60-BD89-6B3C8445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A9A18-E87D-46F3-8B78-82553006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492DE-C500-4A53-AF76-87CBFCF3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2E002-7F30-4AF5-9B2E-FF4BD4AD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08555-3317-40DA-90A6-04A486FF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55860-35BC-4138-883D-6E49A8B4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20373-2BD0-48D7-854D-F5084BD1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D7E41-EAA7-4667-B97B-68CF25D8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35F-525C-45C2-9430-FB07188B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21286-559B-4408-B991-5F98A3E7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57E87-5E46-4FBA-AA3F-1B7A2D74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16D8A-03CC-478A-8C62-94673F16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021F1-6658-4D4C-A7E9-180121A8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946F0-BEFC-41DE-8D37-6C808B93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184B2-F138-4E68-B002-E904E009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018B6-C99A-40E3-922C-59E7E83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799AF-88E1-4B03-A04D-714247AD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912D9-85AC-4699-9478-CFE9834A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0C701-74C1-4BA7-B40F-358F1FA7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A10-B9FF-446C-8A0A-4311C27F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7FE63-CC61-452F-B5A7-8CA6C820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47707-403C-4145-BE97-A415A80F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DF412-C744-4D70-B78C-E9D47281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0A9F1-6FBF-4683-904F-946B0577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44C4F-D10F-4CFC-9224-07DA146C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612E-20E2-49A7-9368-C08036D5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33EC0-C697-484E-B2A4-ED6CE9CF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464F-6168-4B35-B11B-23935576338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08B3-6E92-4182-8C51-FB5A5F9F3A7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C146-9B6C-4394-8A18-D897DA350E0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A34D-AC48-448B-B1B0-BC159825DB3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F37D-CE73-40F9-B25F-1CE765562BE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B86D-945A-4277-BF25-D867AD844B4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903F-C35D-4874-8CA5-EADE20D4265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3D50-073A-42B2-AC8F-D73FBDA3A1A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Lenen en betal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geldlenenmetspoed.nl/images/letop.jpg"/>
          <p:cNvPicPr/>
          <p:nvPr/>
        </p:nvPicPr>
        <p:blipFill>
          <a:blip r:embed="rId2"/>
          <a:stretch/>
        </p:blipFill>
        <p:spPr>
          <a:xfrm>
            <a:off x="0" y="0"/>
            <a:ext cx="3913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lenen mensen eigenlijk? Met andere woorden, wat zijn de leenmotiev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je ka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product kopen en meteen gebruik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deel: je zit vast aan de maandelijkse kosten van de lening (aflossing en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enbedrag wordt bepaald door: hoogte inkomen, vaste lasten, arbeidscontra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3360" y="-136440"/>
            <a:ext cx="69915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Gerelateerde afbeelding"/>
          <p:cNvPicPr/>
          <p:nvPr/>
        </p:nvPicPr>
        <p:blipFill>
          <a:blip r:embed="rId1"/>
          <a:stretch/>
        </p:blipFill>
        <p:spPr>
          <a:xfrm>
            <a:off x="6659640" y="2327400"/>
            <a:ext cx="2306520" cy="121284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8"/>
          <p:cNvSpPr/>
          <p:nvPr/>
        </p:nvSpPr>
        <p:spPr>
          <a:xfrm>
            <a:off x="63360" y="-136440"/>
            <a:ext cx="43149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Gerelateerde afbeelding"/>
          <p:cNvPicPr/>
          <p:nvPr/>
        </p:nvPicPr>
        <p:blipFill>
          <a:blip r:embed="rId2"/>
          <a:stretch/>
        </p:blipFill>
        <p:spPr>
          <a:xfrm>
            <a:off x="4403880" y="2327400"/>
            <a:ext cx="1954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n wordt aantrekkelijker d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een hoger 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- een hoger inflatie (hoe eerder je iets koopt, hoe lager de prijs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stellen hun geld beschikbaar aan de bank waar ze spaarrente over krijgen en de bank leent dit geld aan de leners waar deze groep rente over moet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zijn aanbieders va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rs zijn vragers naar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lening die in een aantal vaste termijnen wordt afbetaald, bijv. in 36 maan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gesproken bedrag leen je in 1 ke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taalt regelmatig een bedrag voor de lening = termij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rmijn bestaat uit aflossing en ren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erekening rente = (aantal termijnen x termijnbedrag) – bedrag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http://financieel.infonu.nl/artikel-foto/lenen/64-lenen-tegen-lage-rente.jpg"/>
          <p:cNvPicPr/>
          <p:nvPr/>
        </p:nvPicPr>
        <p:blipFill>
          <a:blip r:embed="rId2"/>
          <a:stretch/>
        </p:blipFill>
        <p:spPr>
          <a:xfrm>
            <a:off x="7521480" y="3645000"/>
            <a:ext cx="14763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Lucida Sans Unicode"/>
              </a:rPr>
              <a:t>Niet alleen banken, maar ook andere financiële instellingen lenen geld uit. En deze instellingen vermelden soms de bijkomende kosten of de aflossing er niet bij! </a:t>
            </a:r>
            <a:r>
              <a:rPr b="0" i="1" lang="nl-NL" sz="3600" spc="-1" strike="noStrike">
                <a:solidFill>
                  <a:srgbClr val="000000"/>
                </a:solidFill>
                <a:latin typeface="Lucida Sans Unicode"/>
              </a:rPr>
              <a:t>(zie een voorbeeld op afbeelding 38 blz. 63 in je lesboek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18Z</dcterms:modified>
  <cp:revision>75</cp:revision>
  <dc:subject/>
  <dc:title> </dc:title>
</cp:coreProperties>
</file>