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473E-ECC2-4418-924C-95B48E83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6079-11CC-4FE7-81BC-2F82C4ED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C483-C86E-4181-8469-12B890C8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AD16-411F-4151-ACA8-4D7CFBB7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DCE7-92F0-4E7D-97BA-93884EA3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9329-9DF6-4CA0-B184-AC436496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D514-DF94-4237-BADB-C4FD92AF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CD56-B51E-41D3-82E4-4752627C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D750-659F-47E9-B5BE-3E149F45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BC58-54B1-48A1-BFE9-FAE593A6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9DFB-6447-40BB-8BD7-5851DA02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FCAF-03C1-4257-B7AC-B9F175FB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3DEB-AF27-4137-A3A7-56EB571C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C50F-198E-4206-A40F-0753E9AD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A680-A809-4E9F-BA96-BCD52842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10F1-A602-46D2-9EEA-B92F80B8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4160-3912-4C19-85DB-35FB8B67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10764-C5BA-430A-9686-BD9C9C9D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C4D32-322B-4C71-83B3-71C95DD1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E395D-B587-4178-81A7-807DC093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486F4-AE2D-4849-ACDF-9E096A17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54DB0-6515-480A-A693-BB9F3AE9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7D0-D9BC-4EA2-97D1-10DB47A6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BDBE3-4A3E-4104-A0DD-2C7DBCC9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59378-DCDB-45B2-9C34-54E9D7E2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77F4A-96CB-4718-AC47-945C307C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A99B9-2FC0-48BD-8B33-69F68380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8FD07-AB57-467C-B47D-0C782009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4EBC6-3BA6-4D06-A746-706D6BB6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27D43-7319-465A-B44E-53ACB060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FBA1B-89FD-40D5-A0EE-EF40B5ED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CAB30-C1EB-42D9-B83B-E9B1DD5F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85599-6AB1-4D81-AC84-D433C971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00A6-3A66-4D85-9F73-7DB63853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FF761-DE0C-400F-A998-9C27F7DA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F0AE4-161D-4B07-9BA6-6444A4DC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CE63A-22B3-4FE6-A952-6D90E97F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CBBD2-5F57-4620-8D5F-02B82894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D6A50-4662-4CCF-B806-5CBA3992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396C6-9A06-4689-A8A7-D1181748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2D757-E6C4-4951-8AEB-44A39682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5991A-A605-42E2-9078-F7E73103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85C1C-5573-42C6-A9EF-E0C9F433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61738-AB80-4821-83B6-3807148E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A773-AAC1-45CD-86BF-3B486376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CBDA9-8703-43D1-89BF-E43BA356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0E3DB-F511-4465-9B61-8FEAA676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B7615-2F28-42EF-BC79-FAC71FD4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4F88D-4664-49CD-B11B-8F9890E6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DF843-A960-48D7-9C46-29CEB3EB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86252-1BF8-473E-96CB-FBC53139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9CA33-5948-4799-9508-006A36FC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77DE8-3DE0-4A05-BF28-2C78AA36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F1FFB-9DE3-4B6A-8342-9D31B3DB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B06BF-64C6-4509-848D-B06F3B12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27DD-4E74-43C1-BFCA-617370F3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1BD2F-3E1A-4D18-B16E-B0B15F36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14BBB-2581-41E7-B380-204F12C3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D1767-D46F-4E7E-A90B-37D69DCC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9D14A-E00E-473D-8E9F-31FFEAF9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21592-78D5-4EE8-8F80-2C18961E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A2E97-1635-4054-A017-3D60D746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13CDE-4F6B-47D2-82E1-E135EE3D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DBBE0-F324-46CD-8B19-4BCB5AC1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0C245-43F9-48E4-ADB7-9FDCF2FA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2846B-2050-4F50-8826-C68B4E7E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D084-D594-4D70-84D4-C5CCB719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C6BEF-2770-4B0A-A61D-55094029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663B0-A619-495E-A296-6B6C5942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A78F7-77D2-445C-9EB2-5A9035BC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D2954-F28B-484D-A2A6-AE537545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9F100-5029-4D16-BEC7-0DE8615C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5DBFE-60BD-492B-9919-4E9992E1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F9537-A994-4B97-8335-AD483E17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48DBB-7476-428E-88FB-B6D9F44F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5E88B-90FB-4B0B-8681-2BDA538A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54FBA-D39F-4B16-892C-0C7E4731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83D4-F048-4AFA-A484-3CBC23AE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E2738-8F58-4439-BBAD-E1E3B67D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7F139-2222-447B-9216-0A151AE0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380F6-896D-4EB1-8336-61A9AAEF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4B2EC-14B9-4582-9E4D-0AB13562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98C48-685F-4866-A5D3-75E1DE20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9CAE5-46C5-4C39-B63D-74CBB68C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B5134-580D-4488-93AF-63BB5457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03F18-7A78-43A9-AE93-77E509AB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1A765-CC3E-443A-A347-8FF337D9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637FB-880E-47C1-A796-1A2C7E6A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7513-FE3D-4B80-93F1-96ED924A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A3743-EA64-4F7A-98A8-8FD1A4F3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CC12E-1EF0-4F63-BD4B-E9A15FF0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54411-9B5D-49D0-A913-9FF3713F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53882-1AB0-4C05-BD1E-92010824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ABEB5-FA29-4176-BFC3-A04118B1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01E70-5A73-452F-A6FB-9143D791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3DD9D-95FC-4517-8253-D43E4F75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5E8F-6526-4DAC-8949-0C57EE1FF10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FCFA-6EFD-4A75-9F9C-7F89556EEC2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BC79-8188-4930-81C8-FE655ECEC0C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8DB7-6C75-46AF-B2D3-507D2F7FBC0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9DAC-0FFE-4D29-93E7-95CC3EE15B7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FA74-F6AD-4C69-9232-6DCDB4689E7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8F9E-FCD8-493C-A3F9-87DC20CCCBA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FE67-8E64-4FAE-8DAE-75BB916A615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Sparen met profij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telegraaf.nl/migration_catalog/article20002649.ece/ALTERNATES/sectionImage1500x1500/spaargeld-kind-kwod470"/>
          <p:cNvPicPr/>
          <p:nvPr/>
        </p:nvPicPr>
        <p:blipFill>
          <a:blip r:embed="rId2"/>
          <a:stretch/>
        </p:blipFill>
        <p:spPr>
          <a:xfrm>
            <a:off x="0" y="0"/>
            <a:ext cx="31320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om sparen mensen eigenlijk? Met andere woorden, wat zij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paarmotiev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oor he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een doel/grote uitgave (bijv. een auto kop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een tegenvaller (bijv. de koelkast die kapot kan gaa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de rent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eel: sparen geeft extra koopkracht in de toekomst = door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aar een deel van je koopkracht te gebruiken en de rest opzij te zetten, heb je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at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xtra koopkrac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68360" y="260280"/>
            <a:ext cx="8229600" cy="55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angrijk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rentebedrag is hoger bij e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hoger rentepercent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hoger spaarbedr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langere looptijd (= spaarperiod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flati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zorgt ervoor dat geld minder waard wordt. Dat komt doordat de prijzen over het algemeen stijgen, waardoor je voor dezelfde euro minder kunt kope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(= nadeel van sparen)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est gunstig voor sparen: als rente veel hoger is dan inflati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vormen verschillen van elkaa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hoogte van het rentepercentag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hoogte van het minimale spaarbedra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periode waarin het spaargeld vast moet blijven staan op de spaarrekenin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rekening rent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Spaarbedrag : 100) x rente % per ja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mrekenen naar andere periode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pas d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gemene omrekeningsregels toe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(Rente per jaar : 4) x 3 = rente per 3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war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51Z</dcterms:modified>
  <cp:revision>57</cp:revision>
  <dc:subject/>
  <dc:title> </dc:title>
</cp:coreProperties>
</file>