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E8D-9878-4002-A510-E672367D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8F4-9B6E-40A5-9B56-2E26D0FE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AD4-3424-4487-96F8-3434D899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36C-8454-47EC-9D6E-9A984B92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800F-2E18-48D7-9878-63BC1038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3331-E84A-483E-B81F-4E4A5F77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7E38-0345-449C-BEF3-99A19813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6349-9093-4156-B7CA-B0D36C15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47CE-A4B3-4729-A427-3A47817B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A9D8-0EAF-4346-A62A-80CF29AB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3D84-B124-40E1-A9A5-C59DD717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81C-89FD-4A4D-AE8A-1D64B158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2404-A99E-4B14-BDA2-AAC1966A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E55C-8412-4832-94FE-D0ED8F64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FDDA-53ED-462A-8594-5A61ACA6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82FD-BE0C-4024-BC70-BD543C37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3EA1-5375-4F19-9E96-45312AC8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A8DA9-5493-4C1F-BE7B-0B36FEA1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064B-FB23-4E28-B025-DC27B6D1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A1C0-0E3B-4EEB-9587-279B90B4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2F5D-5E64-457D-8E81-AE88FE31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4FC0-437D-4F8D-BCB6-40B9370F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1A4-7E36-4623-9994-7BE26037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C963-C22F-4D99-B257-FFDA1B34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1009-9249-426A-99F7-5C81645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847A-D973-43D4-ACAF-C6EEA4B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7108-BD43-42B2-B0D2-5AC209C2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7235-6E5B-4CD1-AED9-1532D353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0A623-340B-42C8-82D2-480290CE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EA0C6-ED31-43F7-94C9-101D908A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FFF52-F42C-4721-B7D8-5AB39528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96994-A0D8-47ED-B672-109A39D1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3BDA-4A97-49F4-9136-B06916A8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D41-4DFB-49C3-AB54-49E3DD93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A9B93-8A84-4B44-A7E5-83F62B2F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16BB9-1FCD-47EB-B1FF-1BDD920E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A63C-0AED-438D-9F57-EBDD45DD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CB13E-BF25-4207-8D0D-5013AB50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B592-1B4D-4570-8624-81663702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3844-1E19-4ADF-AD44-0CCC7156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4082A-2DA8-4010-875A-A181E7ED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28704-8A29-4811-8F49-842D397A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F584-3014-41AC-9772-EAACBF64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0B1A0-03EC-4D43-9B3E-EA35D850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F55-C88A-49E7-BEAE-18472504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7C643-943D-4227-8603-6D8651C7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0096E-4F63-4971-B6BF-93B8A47A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1DF1C-162F-41ED-9FD0-B2B2BA1D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D0169-8D46-486B-A92C-40F580AB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050A2-4FC5-471C-BD16-80BAE84D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A95DE-316D-4DE5-85CC-E78CA355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34B61-B8C2-46DD-B9F7-A96AE6E9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E882-9763-4F0A-A706-EBA80E51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7890B-F585-4EA0-9AFC-C807636D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0FD57-188A-44A3-9904-153B103C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2E7-C326-454D-939B-C1ABA2F5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1D46E-3ADE-4D56-A034-A80CB835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6401A-8967-456F-A946-EB864F3E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0CFEA-CACD-4745-B5BE-476C6F7D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5C0FE-1304-4F82-8A05-13B4BD22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DCABF-684B-4629-8445-26897209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BEEEE-503B-4358-BF2B-64FD8A9E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7EA07-B83C-4348-936E-647F79BD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698F9-4BA1-480D-99D7-37EAD371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7DEFD-3868-43A3-8C5C-71084DEF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FAAC6-D70F-4F69-89FC-73667DD3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C19-08F7-4DD4-A122-D3D01A28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37E4E-8377-4E5C-BB0A-DFCAE1D6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8848D-6CF0-4E4A-B998-7036265E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EF2EC-E0CB-4C55-8206-88F85D44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04159-26CE-46F9-BC8C-5BFF7717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47EE1-911B-4F7F-9B2D-80880763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486F9-ACE7-485C-8609-F7D09D32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A2D63-3DF3-44A9-A77A-FE5E6EFA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B57EC-3FC9-44C9-A007-6FE6A814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1CE35-B6CE-445C-98CA-7B7B45DC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084C7-5BEE-4490-8D4B-1100DDFD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35E-D51C-43FD-B7BC-9F74D75E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9FADE-1FB7-4BF8-8E6E-2255B38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39F68-6399-4107-883F-2A379DDA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36600-BD85-4028-A44A-C699FD7F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8055F-F0B4-4218-BD77-41B7E678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6F8BA-BBEA-4067-A522-D4B68C6B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A9994-E9FD-4570-8077-62B3E934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E6A3E-1998-4BD2-9E88-C0261366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69062-5398-48B6-A644-80C88570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3BA4B-A3C3-436E-B991-2F29E9B4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29914-4991-4F29-8F8B-3CBF3477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127-8FA7-4378-A361-D7AC9BF8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492FD-CD5D-450E-8EBF-5279E598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E3005-6BA9-45DD-BAB9-ECD9194B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B6770-0225-4C84-A4C8-EFB4F7D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657BA-1BCF-49B9-A3DF-D8E8AAB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04DD2-F508-4340-806C-66220930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8EE5E-C162-424D-9823-666D9EC5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64F9B-9E9E-4EA9-9546-41FD7091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FD84-052E-43DA-819F-17A4D8B9B3B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1F7A-4999-4B18-A24F-7308167DD2E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D08F-0356-4CCB-9AAF-76B6A46D052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D0C1-8B7F-4154-ADFB-186D3FF0AAF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3291-84E4-4F75-99BB-FF238E47FCB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AE08-81BA-48F6-B2E3-F1BB70AD6DA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ACD8-4EA6-4C2B-AEFD-AFC5E6D5967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F998-87AB-4A1C-8318-57D961B2744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etalen en banki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ing.nl/Images/mobiel-bankieren-voor-iphone-ipad_tcm7-95589.jpg"/>
          <p:cNvPicPr/>
          <p:nvPr/>
        </p:nvPicPr>
        <p:blipFill>
          <a:blip r:embed="rId2"/>
          <a:stretch/>
        </p:blipFill>
        <p:spPr>
          <a:xfrm>
            <a:off x="0" y="0"/>
            <a:ext cx="3122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automaa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taalautoma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np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netbank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http://www.beekbergen-gastvrij.nl/afbeeldingen/geldautomaat.jpg"/>
          <p:cNvPicPr/>
          <p:nvPr/>
        </p:nvPicPr>
        <p:blipFill>
          <a:blip r:embed="rId1"/>
          <a:stretch/>
        </p:blipFill>
        <p:spPr>
          <a:xfrm>
            <a:off x="3492360" y="189000"/>
            <a:ext cx="1800360" cy="1601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www.noordhollandsdagblad.nl/stockfoto/article17992503.ece/ALTERNATES/w470/rabo_pinautomaat.jpg"/>
          <p:cNvPicPr/>
          <p:nvPr/>
        </p:nvPicPr>
        <p:blipFill>
          <a:blip r:embed="rId2"/>
          <a:stretch/>
        </p:blipFill>
        <p:spPr>
          <a:xfrm>
            <a:off x="5580000" y="189000"/>
            <a:ext cx="2471760" cy="1655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inoisterwijk.nl/wp-content/uploads/2013/03/betaalautomaat-winkel-ramon-stoop-388x220.jpg"/>
          <p:cNvPicPr/>
          <p:nvPr/>
        </p:nvPicPr>
        <p:blipFill>
          <a:blip r:embed="rId3"/>
          <a:stretch/>
        </p:blipFill>
        <p:spPr>
          <a:xfrm>
            <a:off x="3708360" y="1916280"/>
            <a:ext cx="2298600" cy="1304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http://www.hoorngids.nl/content/7951/news/clnt/3253279_1_org.jpg"/>
          <p:cNvPicPr/>
          <p:nvPr/>
        </p:nvPicPr>
        <p:blipFill>
          <a:blip r:embed="rId4"/>
          <a:stretch/>
        </p:blipFill>
        <p:spPr>
          <a:xfrm>
            <a:off x="6372360" y="1989000"/>
            <a:ext cx="1533240" cy="1765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http://www.ing.nl/Images/lr_ING_pinpas_betaal_tcm14-114668.jpg"/>
          <p:cNvPicPr/>
          <p:nvPr/>
        </p:nvPicPr>
        <p:blipFill>
          <a:blip r:embed="rId5"/>
          <a:stretch/>
        </p:blipFill>
        <p:spPr>
          <a:xfrm>
            <a:off x="3824280" y="3429000"/>
            <a:ext cx="2182680" cy="114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https://www.abnamro.nl/nl/images/Content/010_Prive/000_Afbeeldingen/030_Inzetbeeld/e-dentifier.jpg"/>
          <p:cNvPicPr/>
          <p:nvPr/>
        </p:nvPicPr>
        <p:blipFill>
          <a:blip r:embed="rId6"/>
          <a:stretch/>
        </p:blipFill>
        <p:spPr>
          <a:xfrm>
            <a:off x="6033960" y="3956040"/>
            <a:ext cx="2880000" cy="1292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http://www.geldmoetrollen.org/images/content/betaalrekening/acceptgiro.png"/>
          <p:cNvPicPr/>
          <p:nvPr/>
        </p:nvPicPr>
        <p:blipFill>
          <a:blip r:embed="rId7"/>
          <a:stretch/>
        </p:blipFill>
        <p:spPr>
          <a:xfrm>
            <a:off x="3833640" y="5259240"/>
            <a:ext cx="291816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open, rekening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cardmaatschappij (zoals Visa, Mastercard en American Express) betaalt de verkoper voor j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rag achteraf betalen aan creditcardmaatschappij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Jijzelf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 jaar bepaald bedrag betalen voor gebruik creditcar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Lucida Sans Unicode"/>
              </a:rPr>
              <a:t>Verkoper: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paald % van verkoopbedrag betal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NWB Creditcards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be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rood staan = schuld aan de bank = in de min staan = negatief saldo = tekor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€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500 (creditsaldo) - € 700 (betaling) =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 € 200 (debe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red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in de plus staan = positief saldo = overscho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- € 700 (debetsaldo) + € 800 (ontvangst)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+ € 100 (credi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07T08:51:41Z</dcterms:modified>
  <cp:revision>44</cp:revision>
  <dc:subject/>
  <dc:title> </dc:title>
</cp:coreProperties>
</file>