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B20-EBAA-40B8-9460-F2EA45D1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0FB-5F8A-4D18-97C0-22DB9A1E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67C-1F02-43BD-B1C2-DA1FD962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70C-C45B-4A0F-93C1-1AABA547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61C1-0AEC-422E-A684-872A435F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5F97-7A0D-4AB1-9841-65A4D11E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A1BF-A4FF-4FD2-A351-B77AFBC2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DAC6-BA32-4FFC-81AF-671D159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19AF-D9D6-4A23-8FF1-F60A30AF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59CA-6E10-4F57-B837-2434B037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43AD-DC40-4118-97C7-5123A03A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0C8-1DE1-4A44-B4A5-2E40CE7D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2E60-FF1B-4390-96C9-BF94EF83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388A-F401-4904-B249-F7E33340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4A68-1C44-4F0C-9E6F-3AD1C099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76B6-8127-42B6-BB57-458CBB2B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5F31-AD6B-463D-ACBA-B1103FB0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D396B-C5CB-47DE-A2F8-04B28261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5A68E-842E-46BD-8B9E-EADF5E2D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5B8E-0565-44F7-8033-CB72CFF3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A1DF6-49D7-4DC5-8628-BD62A255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5ED0A-7528-4556-B52C-DB3B8DE1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8A6-DCCA-43E6-9B78-74330990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78FA1-C2CD-4199-B7EA-02F47685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79F32-D82E-4485-A62C-D87533D6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6336-A41D-44D4-9602-1591427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7D12C-1DAD-4429-910B-B5719826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FB963-8E14-4507-83C5-B29CCC11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32F0-346A-417E-8985-46416ECE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BA33-958F-4DD4-BBFD-669E85A2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233F1-5E5B-4782-87D5-ABC941D16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D5602-B12F-48BA-9369-E2A2EBE7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AA54-EFEC-47A0-B571-5A28A59A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161-6126-456C-B6CD-F794F177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9CFB3-1C90-4A96-A8AC-180C51F2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E2D3-199E-4A35-AC67-AE6F0DA1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043BB-7D7E-4906-80CB-8E4E9EDE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40FA0-4CE8-4D4F-AD52-8FD842A2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7FDE-B4E9-43AE-8CEE-C1B2D108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C6E63-6D32-45E0-A63A-48BCDB20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CF100-FF00-494B-BF7A-199E29C6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C103-949A-41A4-9557-71794563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B4B3E-6724-40ED-80A7-6FCF5A23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30374-348C-4F73-846C-93290449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C5E-8C6D-4CDA-AC21-DDD0E154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27AB4-6B38-4DCF-9716-C0626543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0E1DB-7C8A-4119-BD4A-ED5F240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4D704-C8DB-4093-B0E3-9C21F745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FFBC3-6DAB-4BE6-A2D4-62545AFF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1BAB-383C-4ECE-BD12-EC4697DB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7E596-DB16-4433-9BEC-F096E248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EE3D6-D328-419E-8709-EDD058AE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5AA3-713E-46C4-9509-66C4D63B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2717D-D727-41F1-9E28-0BD61547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607C6-1B7D-4DB0-8461-9060E1B0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207-D9F8-4148-87B6-33772F43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5B374-1EA0-4787-B74B-BE385EFA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0D55B-7F92-4042-A251-3D5C8AC8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D0B57-DB16-43BC-A835-090B79F4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98DD2-0F27-4AA8-90C8-0A02E7FB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26F5E-0A45-4151-B7B4-705B4A7C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D1A83-0E59-4D96-830A-92701C01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CCC05-D80F-4FF3-AB6D-F52743EC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DB61D-DD30-4DC3-A926-B14F6F48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C5AD7-6BBE-42A6-B35E-8AC18607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EA78-8450-42BC-8D18-3CBC62F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272-A391-4B66-AC5E-D9869C4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4ECAE-499B-438B-8616-435E9AE8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77797-8854-44DD-95B5-502FF92E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49FC6-AD51-4ED9-8A84-60217A57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FC15-770B-48D6-9929-ADCB9FB8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9EFD4-4703-4EAF-A550-8BF1CED5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99779-B06B-49F7-85D4-77DEC9D3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72136-E1F4-4770-B6F3-63CEB90A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4D594-AD2B-4D52-BFD0-93540D72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7D7F6-BFFC-4BC9-9FD7-E5CC1402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8174F-213E-4D0E-B27F-41210F5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97D-0CC7-4F70-85FA-A902831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7A03-9763-48C5-B7F1-DCC9B258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AA287-EE42-472C-8ED9-6F894C4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4634F-BD03-4CB9-8038-72C745DB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9B53A-56CE-4058-947D-6F041855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281FB-F3EB-433C-A531-7604D27F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B5620-C2DB-4ECC-8699-513E8CDD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A43C1-E56D-43A7-B7D8-658A7E47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B3B81-D3FA-4019-88D7-93DBC512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59B86-BD6F-4F9D-83CA-B6F5F913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3B7F-2E8E-4668-9BD1-D749BF40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1CE-E97F-46CC-8424-3611C7D6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D46E9-FF03-4ECE-BDA6-06424004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018FE-2ABD-4950-901B-075054A5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7D752-9926-4598-9AF9-C8566425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2A75-8DFA-4940-A2C8-3284C1A5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CE8EB-54E4-480D-BB10-A596488D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BB72C-E044-4A17-9083-174058FA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505EF-8933-4D36-974D-48C8F139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A9C-F99C-4C68-8073-B716234ADEB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56C8-AE19-4AB2-B516-BF54E995154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0CF7-1D0E-460C-9943-9C287F04672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39C1-1FDE-4147-B860-4EFAC7575D5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1ADB-CA91-473D-9FBA-E9AE4265217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DEF3-3233-4653-AE37-852C14AA5E5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958F-D72E-40EA-B083-3AB51E4888F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3132-60A0-45C2-935E-8EC6679603F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met gevoe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bluenotion.nl/File/milieukeur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8864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nten letten bij hun aankopen o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ij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ruikbaar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walitei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ilieuvriendelijk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inderarbeid in ontwikkelingsland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moede in ontwikkelingslanden (met name de boer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URm_AeNan5Q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eu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product is op milieuvriendelijke manier geproduceer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dwe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aan dit product hebben geen kinderen gewerkt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 Havelaar 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eerlijke prijs voor de grondstoffen betaal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bi3ieBeZGw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zondheids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missethoreca.nl/Resizes/mainarticleimage/PageFiles/69/20/42069/001_food-image-HOR008115I01.jpg"/>
          <p:cNvPicPr/>
          <p:nvPr/>
        </p:nvPicPr>
        <p:blipFill>
          <a:blip r:embed="rId2"/>
          <a:stretch/>
        </p:blipFill>
        <p:spPr>
          <a:xfrm>
            <a:off x="4716360" y="5445000"/>
            <a:ext cx="1828800" cy="1211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www.debeterewereld.nl/images/UserFiles/Image/hoofd_3_fairtrade-maxhavelaar.jpg"/>
          <p:cNvPicPr/>
          <p:nvPr/>
        </p:nvPicPr>
        <p:blipFill>
          <a:blip r:embed="rId3"/>
          <a:stretch/>
        </p:blipFill>
        <p:spPr>
          <a:xfrm>
            <a:off x="7870680" y="5342040"/>
            <a:ext cx="1008360" cy="1417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upload.wikimedia.org/wikipedia/en/f/fc/GoodWeave_logo.jpg"/>
          <p:cNvPicPr/>
          <p:nvPr/>
        </p:nvPicPr>
        <p:blipFill>
          <a:blip r:embed="rId4"/>
          <a:stretch/>
        </p:blipFill>
        <p:spPr>
          <a:xfrm>
            <a:off x="7624800" y="3057480"/>
            <a:ext cx="1211400" cy="1308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http://www.bluenotion.nl/File/milieukeur.jpg"/>
          <p:cNvPicPr/>
          <p:nvPr/>
        </p:nvPicPr>
        <p:blipFill>
          <a:blip r:embed="rId5"/>
          <a:stretch/>
        </p:blipFill>
        <p:spPr>
          <a:xfrm>
            <a:off x="8101080" y="692280"/>
            <a:ext cx="792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producten met bepaalde keurmerken zijn duurder dan de normale product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eer consumenten voor een bepaald product kiezen, hoe me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inder consumenten voor een bepaald product kiezen, hoe mind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VO (maatschappelijk verantwoord ondernemen)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tijdens het ondernemen rekening houden met het milieu, dierenwelzijn en arme land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3360" y="-136440"/>
            <a:ext cx="7315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Nic. Oud MVO in direct mail en e-fulfilment"/>
          <p:cNvPicPr/>
          <p:nvPr/>
        </p:nvPicPr>
        <p:blipFill>
          <a:blip r:embed="rId1"/>
          <a:stretch/>
        </p:blipFill>
        <p:spPr>
          <a:xfrm>
            <a:off x="7203960" y="5805360"/>
            <a:ext cx="1917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2T15:32:07Z</dcterms:modified>
  <cp:revision>28</cp:revision>
  <dc:subject/>
  <dc:title> </dc:title>
</cp:coreProperties>
</file>