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E3153-8E04-4DDC-9B20-2AFF29E94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51C13-FC2C-46CF-8588-761B6327E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D42AF-385E-4584-BBD9-530F2E5C8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C236A-2752-4438-9FE8-9D183A84D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CF1F57-C62C-4E77-B951-2398CBD42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E22AC-B9B5-4EDB-B82C-7F8D52684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56FDF-1F5C-42E6-B817-FB2DCCA28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E2E07-B63F-4ABB-86CC-89453BD9C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6CD7D-3204-4281-8ACD-42BC750A9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38ACB-D5BC-4A1D-8541-0CA98DDBF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3F633-51EE-4D49-ACFC-9A0D31C32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64CDE-469A-4476-9C91-65776FAA5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D70EA-0F6E-4301-B996-890C0DC46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7CC76-AD80-4DFD-B6C9-17413E983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42AA0-EBFE-43D8-A10C-477489B75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DFB41-FB29-4B1B-9266-022D30F21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88159-4BD5-49EF-B4A8-2493726D4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4CA19A-23C1-42DB-8A16-81883FEB4F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CD356C-830C-4228-A08E-75E726700A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ED2858-B8CC-48BF-9233-69945B58AA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D09E20-C17F-4B5D-B14A-D683C7502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661EE3-51E0-4D45-AD78-7998AA5301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5889F-EE16-46C1-AD1C-6394BE95F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611A4-FC21-41E7-ABC6-18FBA82C35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030E0-083A-4692-B873-A22ED28F1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41041C-C26D-402F-81D4-1F864FF4A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AC685E-7CFF-444B-92AA-63F9338BC1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62B74D-6501-4AAD-B1D3-2AD9B68F33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8B7468-C119-4A2C-BCEE-0B3609024B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5896D2-0268-4628-852A-5B35AC9AD4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8C6EAA-50E1-49A1-AD1D-5230221876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7632C5-9B69-44FC-A3F2-C7AEDC7DC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8FBE39-69F9-4AAB-B6A6-64584B993A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94BC9-6292-4EDF-B6DE-D646B725A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94EBD-2AF0-4B7D-879E-75A7DD05F0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15019-C051-47F1-8E66-1B479BA93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1550D7-5A05-4B5E-98B7-EEE6C0E1EC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67DEE9-0FC8-4B64-ACFE-430C9C662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C4E70-BBA1-4ECF-8200-B02075A12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8DE3E-26CE-4A23-AF66-98EEC0360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60E7F2-A22D-41DD-8319-CFC1F4D2E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65C713-EE9A-4763-A714-B9404275A3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DB9104-E464-4816-845A-95B6861422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BFC6E2-1175-4CFF-BD74-8D05AB0CF6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DEB60-7285-467C-980D-3DFDB4C87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EC0938-C429-43CB-91E8-2D23293D8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40B035-D3FE-4071-9C1C-BA06810261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86E058-4E4D-4B6B-A706-823099DC86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751951-9EF0-4E73-A7D1-9904F327F9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92CC5C-F744-416C-90E1-0A6F7F9AB4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9C8283-3CC5-4B4B-884E-1A204FFB23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EA47EE-5CB2-49CC-BE16-4E1E4E5AFB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31AC9-B891-4229-B342-4E085A6CB1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AAB970-2960-410A-967B-8A3BB392AE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364416-A8F9-4158-885D-2C80D03BDD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5454E-D7D4-45C2-9E7C-859F83FC7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B30A9F-68F3-42C4-9F0F-26A5205F4F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4EC691-035E-41CB-8C6D-3848BA59A9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274B1A-422F-4F02-B13A-632D127628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5169DC-5969-407E-8915-6255B44396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64F7CD-0659-471C-944C-98E66F484B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F020E6-8F2A-490F-8815-1A7AB43CA8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A7AFFA-8DA1-45F2-AFC5-17A95869EE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95FD1-FB43-41B1-A7D8-74ACEDD54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12E48B-8108-41AC-813C-177A54A547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6429D5-A35F-472E-AFA9-1F567E5F88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84D87-C96E-46BF-8BF4-2E77086F8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41FC96-FD4F-46C0-91C3-D59CF566CB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4F672F-5837-4466-A63B-8EDA1B3574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E1A99F-0419-4172-8D0C-9F57034276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DD172E-9FA1-4F16-9331-EFDBCC8428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04D763-4FB9-4BE8-AD7D-6C46157AB8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0BECD3-51DC-4544-8DC1-0F47BE2E06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1C6FDD-6258-4498-A552-3CCEA9D0F9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877293-EBCD-47BA-8CA6-EE9FF47E58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BCAA83-109F-474F-8261-C38C341E2E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503AC2-9004-4127-94EF-3E2EE79364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1AEAE-5C5E-458A-8A4C-7062BB2C9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18D72-066F-4541-B987-CCDEFCB7E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7F63A0-68B4-4320-8710-2CA426743F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26E375-ACE9-4613-8A0A-74BC9D58D0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526894-3A8C-45EE-B763-7A280E8418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8BFC5E-FFC2-40DC-8FD6-A0FB2872CA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37430D-D366-4F2E-A81F-94423C395C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87F1D4-D63D-4C45-96B7-55ADE23DD2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B065DB-BB02-4F4E-9D73-28808B85CA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5646BC-C043-4002-982C-090D857984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C54D8D-6665-47CA-9E56-C51B479514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B1FFA-7FAF-4947-AB67-AEB0816D5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42F854-BAFF-4601-8044-D479659C47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CD25CB-5DCC-4CCD-989F-73C2E0499B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84E4B5-81CF-48B3-90F6-EB06CA60DC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6EA486-D8B2-4257-ABF8-F7CD6BD8E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1C4F33-0306-4C4F-B032-2440FD194F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ECD93E-F129-42D4-918E-C49BB63A95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180BCA-0BF4-44B5-A485-B49C2ECFBB6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echthoekige driehoek 13"/>
          <p:cNvGrpSpPr/>
          <p:nvPr/>
        </p:nvGrpSpPr>
        <p:grpSpPr>
          <a:xfrm>
            <a:off x="-6480" y="5791320"/>
            <a:ext cx="3402000" cy="1079280"/>
            <a:chOff x="-6480" y="5791320"/>
            <a:chExt cx="3402000" cy="1079280"/>
          </a:xfrm>
        </p:grpSpPr>
        <p:pic>
          <p:nvPicPr>
            <p:cNvPr id="3" name="Rechthoekige driehoek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Rechte verbindingslijn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5D8B-79E0-4FEB-B48E-E00E97088D5B}"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ige driehoek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ep 15"/>
          <p:cNvGrpSpPr/>
          <p:nvPr/>
        </p:nvGrpSpPr>
        <p:grpSpPr>
          <a:xfrm>
            <a:off x="-3240" y="4952880"/>
            <a:ext cx="9147240" cy="1911600"/>
            <a:chOff x="-3240" y="4952880"/>
            <a:chExt cx="9147240" cy="1911600"/>
          </a:xfrm>
        </p:grpSpPr>
        <p:sp>
          <p:nvSpPr>
            <p:cNvPr id="49" name="Vrije v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Vrije v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Vrije vorm 19"/>
            <p:cNvGrpSpPr/>
            <p:nvPr/>
          </p:nvGrpSpPr>
          <p:grpSpPr>
            <a:xfrm>
              <a:off x="8640" y="4998600"/>
              <a:ext cx="9135360" cy="1865880"/>
              <a:chOff x="8640" y="4998600"/>
              <a:chExt cx="9135360" cy="1865880"/>
            </a:xfrm>
          </p:grpSpPr>
          <p:pic>
            <p:nvPicPr>
              <p:cNvPr id="52" name="Vrije v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Rechte verbindingslijn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D69D-9D19-4F5F-98A6-9477D6AF1453}"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echthoekige driehoek 13"/>
          <p:cNvGrpSpPr/>
          <p:nvPr/>
        </p:nvGrpSpPr>
        <p:grpSpPr>
          <a:xfrm>
            <a:off x="-6480" y="5791320"/>
            <a:ext cx="3402000" cy="1079280"/>
            <a:chOff x="-6480" y="5791320"/>
            <a:chExt cx="3402000" cy="1079280"/>
          </a:xfrm>
        </p:grpSpPr>
        <p:pic>
          <p:nvPicPr>
            <p:cNvPr id="99" name="Rechthoekige driehoek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Rechte verbindingslijn 14" descr=""/>
          <p:cNvPicPr/>
          <p:nvPr/>
        </p:nvPicPr>
        <p:blipFill>
          <a:blip r:embed="rId4"/>
          <a:stretch/>
        </p:blipFill>
        <p:spPr>
          <a:xfrm>
            <a:off x="-19080" y="5778360"/>
            <a:ext cx="3414600" cy="1098720"/>
          </a:xfrm>
          <a:prstGeom prst="rect">
            <a:avLst/>
          </a:prstGeom>
          <a:ln w="0">
            <a:noFill/>
          </a:ln>
        </p:spPr>
      </p:pic>
      <p:sp>
        <p:nvSpPr>
          <p:cNvPr id="102" name="Punthaak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unthaak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5D03-8BD1-4885-AC94-08B7F4525F3A}"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echthoekige driehoek 13"/>
          <p:cNvGrpSpPr/>
          <p:nvPr/>
        </p:nvGrpSpPr>
        <p:grpSpPr>
          <a:xfrm>
            <a:off x="-6480" y="5791320"/>
            <a:ext cx="3402000" cy="1079280"/>
            <a:chOff x="-6480" y="5791320"/>
            <a:chExt cx="3402000" cy="1079280"/>
          </a:xfrm>
        </p:grpSpPr>
        <p:pic>
          <p:nvPicPr>
            <p:cNvPr id="148" name="Rechthoekige driehoek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Rechte verbindingslijn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C5FF-203F-4DF5-9233-5358A5D63158}"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CAE23-F585-4BD5-9870-7253D4450725}"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echthoekige driehoek 13"/>
          <p:cNvGrpSpPr/>
          <p:nvPr/>
        </p:nvGrpSpPr>
        <p:grpSpPr>
          <a:xfrm>
            <a:off x="-6480" y="5791320"/>
            <a:ext cx="3402000" cy="1079280"/>
            <a:chOff x="-6480" y="5791320"/>
            <a:chExt cx="3402000" cy="1079280"/>
          </a:xfrm>
        </p:grpSpPr>
        <p:pic>
          <p:nvPicPr>
            <p:cNvPr id="236" name="Rechthoekige driehoek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Rechte verbindingslijn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0595-2136-4B21-8323-0EED9DACE5F5}"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205F-F4C7-4002-B896-828596D858D0}"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Vrije v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Vrije v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echthoekige driehoek 16"/>
          <p:cNvGrpSpPr/>
          <p:nvPr/>
        </p:nvGrpSpPr>
        <p:grpSpPr>
          <a:xfrm>
            <a:off x="-6480" y="5791320"/>
            <a:ext cx="3402000" cy="1079280"/>
            <a:chOff x="-6480" y="5791320"/>
            <a:chExt cx="3402000" cy="1079280"/>
          </a:xfrm>
        </p:grpSpPr>
        <p:pic>
          <p:nvPicPr>
            <p:cNvPr id="324" name="Rechthoekige driehoek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Rechte verbindingslijn 18" descr=""/>
          <p:cNvPicPr/>
          <p:nvPr/>
        </p:nvPicPr>
        <p:blipFill>
          <a:blip r:embed="rId4"/>
          <a:stretch/>
        </p:blipFill>
        <p:spPr>
          <a:xfrm>
            <a:off x="-19080" y="5778360"/>
            <a:ext cx="3414600" cy="1098720"/>
          </a:xfrm>
          <a:prstGeom prst="rect">
            <a:avLst/>
          </a:prstGeom>
          <a:ln w="0">
            <a:noFill/>
          </a:ln>
        </p:spPr>
      </p:pic>
      <p:sp>
        <p:nvSpPr>
          <p:cNvPr id="327" name="Punthaak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unthaak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AA32F-979B-4E86-B697-EC133F7CE339}"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el 1" descr=""/>
          <p:cNvPicPr/>
          <p:nvPr/>
        </p:nvPicPr>
        <p:blipFill>
          <a:blip r:embed="rId1"/>
          <a:stretch/>
        </p:blipFill>
        <p:spPr>
          <a:xfrm>
            <a:off x="689040" y="1755720"/>
            <a:ext cx="7772400" cy="1828800"/>
          </a:xfrm>
          <a:prstGeom prst="rect">
            <a:avLst/>
          </a:prstGeom>
          <a:ln w="0">
            <a:noFill/>
          </a:ln>
        </p:spPr>
      </p:pic>
      <p:sp>
        <p:nvSpPr>
          <p:cNvPr id="371" name="PlaceHolder 1"/>
          <p:cNvSpPr>
            <a:spLocks noGrp="1"/>
          </p:cNvSpPr>
          <p:nvPr>
            <p:ph type="subTitle"/>
          </p:nvPr>
        </p:nvSpPr>
        <p:spPr>
          <a:xfrm>
            <a:off x="755640" y="1125360"/>
            <a:ext cx="7772400" cy="3686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ECONOMIE</a:t>
            </a:r>
            <a:endParaRPr b="0" lang="en-US" sz="4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Paragraaf 1.7</a:t>
            </a:r>
            <a:endParaRPr b="0" lang="en-US" sz="36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Zomerkoninkjes</a:t>
            </a:r>
            <a:endParaRPr b="0" lang="en-US" sz="3600" spc="-1" strike="noStrike">
              <a:solidFill>
                <a:srgbClr val="000000"/>
              </a:solidFill>
              <a:latin typeface="Lucida Sans Unicode"/>
            </a:endParaRPr>
          </a:p>
        </p:txBody>
      </p:sp>
      <p:pic>
        <p:nvPicPr>
          <p:cNvPr id="372" name="Picture 8" descr="https://encrypted-tbn2.gstatic.com/images?q=tbn:ANd9GcQywFEmLI54InjjGeBmoMYhLLMR9yarLN62OpysM4XyqVmrWprxuA"/>
          <p:cNvPicPr/>
          <p:nvPr/>
        </p:nvPicPr>
        <p:blipFill>
          <a:blip r:embed="rId2"/>
          <a:stretch/>
        </p:blipFill>
        <p:spPr>
          <a:xfrm>
            <a:off x="0" y="0"/>
            <a:ext cx="3135240" cy="23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5280" y="980640"/>
            <a:ext cx="8229600" cy="473868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 prijs van een product wordt bepaald door </a:t>
            </a:r>
            <a:r>
              <a:rPr b="1" lang="en-US" sz="2700" spc="-1" strike="noStrike">
                <a:solidFill>
                  <a:srgbClr val="000000"/>
                </a:solidFill>
                <a:latin typeface="Lucida Sans Unicode"/>
              </a:rPr>
              <a:t>de vraag </a:t>
            </a:r>
            <a:r>
              <a:rPr b="0" lang="en-US" sz="2700" spc="-1" strike="noStrike">
                <a:solidFill>
                  <a:srgbClr val="000000"/>
                </a:solidFill>
                <a:latin typeface="Lucida Sans Unicode"/>
              </a:rPr>
              <a:t>naar en </a:t>
            </a:r>
            <a:r>
              <a:rPr b="1" lang="en-US" sz="2700" spc="-1" strike="noStrike">
                <a:solidFill>
                  <a:srgbClr val="000000"/>
                </a:solidFill>
                <a:latin typeface="Lucida Sans Unicode"/>
              </a:rPr>
              <a:t>het aanbod </a:t>
            </a:r>
            <a:r>
              <a:rPr b="0" lang="en-US" sz="2700" spc="-1" strike="noStrike">
                <a:solidFill>
                  <a:srgbClr val="000000"/>
                </a:solidFill>
                <a:latin typeface="Lucida Sans Unicode"/>
              </a:rPr>
              <a:t>van het product, maar ook door je eigen smaak, reclame, mode en inkomen.</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raag = de hoeveelheid van een product die kopers (consumenten of bedrijven) willen kopen bij verschillende prijzen.</a:t>
            </a: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anbod = de hoeveelheid van een product die verkopers willen verkopen bij verschillende prijzen.</a:t>
            </a:r>
            <a:endParaRPr b="0" lang="en-US" sz="2700" spc="-1" strike="noStrike">
              <a:solidFill>
                <a:srgbClr val="000000"/>
              </a:solidFill>
              <a:latin typeface="Lucida Sans Unicode"/>
            </a:endParaRPr>
          </a:p>
        </p:txBody>
      </p:sp>
      <p:pic>
        <p:nvPicPr>
          <p:cNvPr id="374" name="Titel 2" descr=""/>
          <p:cNvPicPr/>
          <p:nvPr/>
        </p:nvPicPr>
        <p:blipFill>
          <a:blip r:embed="rId1"/>
          <a:stretch/>
        </p:blipFill>
        <p:spPr>
          <a:xfrm>
            <a:off x="139680" y="30240"/>
            <a:ext cx="8486640" cy="124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125360"/>
            <a:ext cx="8229600" cy="4881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kleiner</a:t>
            </a:r>
            <a:r>
              <a:rPr b="0" lang="en-US" sz="2700" spc="-1" strike="noStrike">
                <a:solidFill>
                  <a:srgbClr val="000000"/>
                </a:solidFill>
                <a:latin typeface="Lucida Sans Unicode"/>
              </a:rPr>
              <a:t> is dan het aanbod, dan dalen de prijzen vaak. </a:t>
            </a:r>
            <a:r>
              <a:rPr b="0" i="1" lang="en-US" sz="2700" spc="-1" strike="noStrike">
                <a:solidFill>
                  <a:srgbClr val="000000"/>
                </a:solidFill>
                <a:latin typeface="Lucida Sans Unicode"/>
              </a:rPr>
              <a:t>(m.a.w. er zijn weinig kopers die het product willen kopen, maar er is juist veel van dat product te koo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groter </a:t>
            </a:r>
            <a:r>
              <a:rPr b="0" lang="en-US" sz="2700" spc="-1" strike="noStrike">
                <a:solidFill>
                  <a:srgbClr val="000000"/>
                </a:solidFill>
                <a:latin typeface="Lucida Sans Unicode"/>
              </a:rPr>
              <a:t>is dan het aanbod, dan stijgen de prijzen vaak. Kopers willen meer kopen bij een bepaalde prijs, waardoor bedrijven hun producten duurder maken. Ze raken hun producten toch wel kwijt en maken meer win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Titel 2" descr=""/>
          <p:cNvPicPr/>
          <p:nvPr/>
        </p:nvPicPr>
        <p:blipFill>
          <a:blip r:embed="rId1"/>
          <a:stretch/>
        </p:blipFill>
        <p:spPr>
          <a:xfrm>
            <a:off x="201600" y="21276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t betreft niet alleen de Bos en Lommermarkt of de Plein 40-45 markt, maar we bedoelen met de markt iets an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tekenis = het geheel van de vraag naar en aanbod van een product bij elka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orbeelden: de automarkt, de aardappelmarkt, de huizenmarkt, de arbeidsmarkt enz.</a:t>
            </a:r>
            <a:endParaRPr b="0" lang="en-US" sz="2700" spc="-1" strike="noStrike">
              <a:solidFill>
                <a:srgbClr val="000000"/>
              </a:solidFill>
              <a:latin typeface="Lucida Sans Unicode"/>
            </a:endParaRPr>
          </a:p>
        </p:txBody>
      </p:sp>
      <p:pic>
        <p:nvPicPr>
          <p:cNvPr id="378" name="Titel 2" descr=""/>
          <p:cNvPicPr/>
          <p:nvPr/>
        </p:nvPicPr>
        <p:blipFill>
          <a:blip r:embed="rId1"/>
          <a:stretch/>
        </p:blipFill>
        <p:spPr>
          <a:xfrm>
            <a:off x="201600" y="249120"/>
            <a:ext cx="848520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1T14:51:49Z</dcterms:created>
  <dc:creator>rachid</dc:creator>
  <dc:description/>
  <dc:language>en-US</dc:language>
  <cp:lastModifiedBy>Rachid Hamdi</cp:lastModifiedBy>
  <dcterms:modified xsi:type="dcterms:W3CDTF">2016-09-27T08:23:49Z</dcterms:modified>
  <cp:revision>30</cp:revision>
  <dc:subject/>
  <dc:title> </dc:title>
</cp:coreProperties>
</file>