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7.png" ContentType="image/png"/>
  <Override PartName="/ppt/media/image22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24.jpeg" ContentType="image/jpeg"/>
  <Override PartName="/ppt/media/image15.png" ContentType="image/png"/>
  <Override PartName="/ppt/media/image4.png" ContentType="image/png"/>
  <Override PartName="/ppt/media/image27.png" ContentType="image/png"/>
  <Override PartName="/ppt/media/image1.png" ContentType="image/png"/>
  <Override PartName="/ppt/media/image3.png" ContentType="image/png"/>
  <Override PartName="/ppt/media/image25.jpeg" ContentType="image/jpe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50C7-D818-4197-9D43-007370AA8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1F1F-C1FB-44AE-8272-F4BB9F549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132F-F71B-461C-9F4C-049C84A2D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397A-D03A-49CB-BC2E-9A5194614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6C796-32EB-404E-A343-4D0C9CF09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06718-0370-47F7-B28F-837A1082B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3638C-DBC3-480D-BA65-2C70124EF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5ECC9-371F-4E82-95DD-753DD028F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CB94E-39CC-46A6-93E3-180BC6D52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8B1B7-A64A-4216-B260-4104A3B5D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9E0E7-5280-4C21-B821-2BC23012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CF48-04AB-4899-BBB5-CF449EDAB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31EA0-FBF5-4265-9046-760CB0A8F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F532D-613E-4139-8D37-7A909CDB1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EE456-0CA8-4715-8575-7CC20CC67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2A6ED-FF9A-48D9-B2AA-25EABEB5D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1A264-9F6F-434A-ABF5-8E351674F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51B04-38D0-4018-ABE9-3DED9C998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57656-C160-4AA2-92BA-BDC0AFD0F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E3932-DD8F-4F34-9C0D-6A23C6B8A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D747B-59D7-47E3-9F62-42DC484C7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160BD-0B7D-4D87-AEBB-0AD170646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154F-1910-48A2-B6AC-FE1E8082E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803AE-739F-4412-993D-AE3327CC1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952E5-1CEE-4239-BB49-DD978672D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D1FF7-2297-4F79-87E4-FC8FAA371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81CB5-CB67-4762-9D56-F0AF1EEF9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2E412-C65B-4632-892E-FA52EEB9A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B53D0-D8AB-4CAC-9F26-1EBFEF05B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BEFCA-2D63-4324-9BD2-DD619CB79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6A8D2-71E6-4EE8-8F1E-E15DBD1A5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F3803-BCF3-435F-ACC1-3919E09CF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2FD4E-7BB7-4F16-B7D0-0EE49EFF0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CCEE-B250-4754-A58E-77A621665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041EA-128C-4B1D-BB27-FFE90350D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1802E-6F51-4D73-8846-2CAA5BAC0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30C48-AB71-49D7-AB32-13F1F564D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28275-D393-4BE9-B566-5C5E1B3E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BD423-8230-4CBA-86BD-781143DC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FA3CD-99BA-494B-983F-0802CA1A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CECBA-C280-444A-9242-A75FBEB0C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FDD87-308F-4D76-8DA6-F43DE4576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E7835-2757-4F62-91D5-3346BEC13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AB85D4-5EA1-4083-95C1-C064F7800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64EE-B942-47D0-9228-7030AFF6A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5F817-5A34-4A9A-A553-721DB1F02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A14092-3DDF-40E6-B846-F21668A58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AD4336-1429-4BE2-9155-F1483C794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C106A9-76A0-46F9-8E62-89319AEA7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B42AB-357F-4FFB-A46B-F5A2B5CFA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7F422C-7FED-4CAD-9D41-DB99062B0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4FD04-0570-4C29-B25E-2D15B7B6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0A3B51-2E42-4960-92F3-EED7357C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8F614-6800-48B7-99A5-C4394CE6F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06814C-405A-4AEF-B28C-BEC4480A9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5152-222C-49FE-98C4-71CD04662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6CA066-DDCF-4F07-88FE-8BA09E512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B3F22B-8187-4F4D-BB8A-939F114D0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42D1C5-A165-4E0B-89D7-49BB636DF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30D159-FD59-460C-940D-2BC25183E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987236-263C-4DFD-BA0B-C5FA457C3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57A4D5-F786-431C-848E-1007DD59F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7DAD24-AE29-4090-BDBF-E890E27D8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A11CC4-4F75-46D7-B6C2-FCB8F2EF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8B532D-E90B-457B-85E3-914ECCE98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046DBC-D94C-4E07-AC31-E818910D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89B2-C85D-46E9-83D8-A201F91B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439553-65A8-42E9-B039-B30B641F2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81F21E-931F-4139-9AA8-01A0CB8CA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D03627-36A7-4EBF-96ED-543E451AE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9C8F3B-01C1-4FCA-BCCD-86B9A2BC2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174C93-F51A-4D2E-9910-7AAB36AA3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BB9E81-C202-4347-8C5F-363AF38E3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F41EE6-9AE2-4113-B6B8-14A0CD082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CE0C05-688A-4AEF-AE7C-94663D20A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1536CC-FA04-4B0C-AFDA-0AD8EBC1A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DE0EBF-90C8-4C62-840D-24E435711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7E81-CC28-4B37-A9C9-0FEA7FD3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D6E795-70A9-4AE9-BC56-290FFC63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3B2061-9E87-45C1-9F3D-26C2A4E1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5A52A0-474B-4F95-A956-0EFDC384A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338E30-FB37-45FD-AC63-16D76A2BB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A13021-7C9B-476F-9590-8829C96AC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46D6A4-6DC5-4224-9E15-B91FC13C0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07C6C3-34AF-41A3-B0B0-A47817CA7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32F029-AF03-4174-8125-339C08F7C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476CE3-C7D9-47F8-862F-78214A949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428C56-7FC3-4353-AE4D-21FE30A53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396E-6E81-4DCB-A880-D72ED134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C5A589-6D4C-4974-9385-3DB05AB43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ECCFA5-064A-4F44-8C65-795284B27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9E89FC-032B-4F26-8603-A34E8B0A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EF6A2E-83C7-4997-9968-7DDAB1AEA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918E46-3EB0-4FC8-B4FB-3C3E43EDB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83E213-E1A0-48D1-9ABC-664C7832E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061E18-1F1B-47DC-A64A-76873658C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72E62-1541-4902-8328-27C8916F59DB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489D6-410F-429B-A9D8-25C8D63F77F8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12A43-ADCF-4768-987C-284EB4E66A9A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9F447-90A8-4EEC-B39D-8450AC5FE781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2A4D0-4CDE-410B-9666-21F2A807E034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39126-43D1-4EFF-A2E0-EB16BE7795D1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3EA9E-2EEC-41F7-921A-1C700BA09444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9F074-69F5-4139-9299-67AD2BA21D3D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539640" y="26028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1.1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Kopen is kieze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5" descr="http://www.autismeplein.nl/wp-content/uploads/2013/01/keuzes.png"/>
          <p:cNvPicPr/>
          <p:nvPr/>
        </p:nvPicPr>
        <p:blipFill>
          <a:blip r:embed="rId2"/>
          <a:stretch/>
        </p:blipFill>
        <p:spPr>
          <a:xfrm>
            <a:off x="2627280" y="3110040"/>
            <a:ext cx="3673440" cy="20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35120" indent="-343080"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Behoeften = alles wat je nodig hebt of graag wilt hebb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120" indent="-343080"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Basisbehoeft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120" indent="-343080"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120" indent="-343080"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120" indent="-343080"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120" indent="-343080"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120" indent="-343080"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Luxe (overige) behoeft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el 2" descr=""/>
          <p:cNvPicPr/>
          <p:nvPr/>
        </p:nvPicPr>
        <p:blipFill>
          <a:blip r:embed="rId1"/>
          <a:stretch/>
        </p:blipFill>
        <p:spPr>
          <a:xfrm>
            <a:off x="274680" y="274680"/>
            <a:ext cx="8412120" cy="1146240"/>
          </a:xfrm>
          <a:prstGeom prst="rect">
            <a:avLst/>
          </a:prstGeom>
          <a:ln w="0">
            <a:noFill/>
          </a:ln>
        </p:spPr>
      </p:pic>
      <p:sp>
        <p:nvSpPr>
          <p:cNvPr id="375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9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11" descr="http://www.beleefoostpoort.nl/uploaded_files/inlineitem/Genieten_eten_drinken.png"/>
          <p:cNvPicPr/>
          <p:nvPr/>
        </p:nvPicPr>
        <p:blipFill>
          <a:blip r:embed="rId2"/>
          <a:stretch/>
        </p:blipFill>
        <p:spPr>
          <a:xfrm>
            <a:off x="1403280" y="2637000"/>
            <a:ext cx="1944720" cy="14094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3" descr="http://www.houseofoutdoor.com/wp-content/uploads/2014/07/kleding-2013.jpg"/>
          <p:cNvPicPr/>
          <p:nvPr/>
        </p:nvPicPr>
        <p:blipFill>
          <a:blip r:embed="rId3"/>
          <a:stretch/>
        </p:blipFill>
        <p:spPr>
          <a:xfrm>
            <a:off x="3851280" y="2637000"/>
            <a:ext cx="1944720" cy="1458720"/>
          </a:xfrm>
          <a:prstGeom prst="rect">
            <a:avLst/>
          </a:prstGeom>
          <a:ln w="0">
            <a:noFill/>
          </a:ln>
        </p:spPr>
      </p:pic>
      <p:sp>
        <p:nvSpPr>
          <p:cNvPr id="380" name="AutoShape 15"/>
          <p:cNvSpPr/>
          <p:nvPr/>
        </p:nvSpPr>
        <p:spPr>
          <a:xfrm>
            <a:off x="155520" y="-2514600"/>
            <a:ext cx="6991560" cy="52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17" descr="Gerelateerde afbeelding"/>
          <p:cNvPicPr/>
          <p:nvPr/>
        </p:nvPicPr>
        <p:blipFill>
          <a:blip r:embed="rId4"/>
          <a:stretch/>
        </p:blipFill>
        <p:spPr>
          <a:xfrm>
            <a:off x="6161040" y="2637000"/>
            <a:ext cx="1971720" cy="1476360"/>
          </a:xfrm>
          <a:prstGeom prst="rect">
            <a:avLst/>
          </a:prstGeom>
          <a:ln w="0">
            <a:noFill/>
          </a:ln>
        </p:spPr>
      </p:pic>
      <p:sp>
        <p:nvSpPr>
          <p:cNvPr id="382" name="AutoShape 19"/>
          <p:cNvSpPr/>
          <p:nvPr/>
        </p:nvSpPr>
        <p:spPr>
          <a:xfrm>
            <a:off x="155520" y="-2239920"/>
            <a:ext cx="6991560" cy="46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21" descr="Gerelateerde afbeelding"/>
          <p:cNvPicPr/>
          <p:nvPr/>
        </p:nvPicPr>
        <p:blipFill>
          <a:blip r:embed="rId5"/>
          <a:stretch/>
        </p:blipFill>
        <p:spPr>
          <a:xfrm>
            <a:off x="1979640" y="4680000"/>
            <a:ext cx="2448000" cy="162864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23" descr="http://www.anwb.nl/bestanden/content/gallery/anwb/portal/vakantie/etalagebeelden/reisorganisaties.jpg"/>
          <p:cNvPicPr/>
          <p:nvPr/>
        </p:nvPicPr>
        <p:blipFill>
          <a:blip r:embed="rId6"/>
          <a:stretch/>
        </p:blipFill>
        <p:spPr>
          <a:xfrm>
            <a:off x="5148360" y="4749840"/>
            <a:ext cx="3095640" cy="14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7" name="AutoShape 2"/>
          <p:cNvSpPr/>
          <p:nvPr/>
        </p:nvSpPr>
        <p:spPr>
          <a:xfrm>
            <a:off x="155520" y="-2514600"/>
            <a:ext cx="6991560" cy="52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6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8"/>
          <p:cNvSpPr/>
          <p:nvPr/>
        </p:nvSpPr>
        <p:spPr>
          <a:xfrm>
            <a:off x="63360" y="-136440"/>
            <a:ext cx="6991560" cy="52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9" descr=""/>
          <p:cNvPicPr/>
          <p:nvPr/>
        </p:nvPicPr>
        <p:blipFill>
          <a:blip r:embed="rId2"/>
          <a:stretch/>
        </p:blipFill>
        <p:spPr>
          <a:xfrm>
            <a:off x="455760" y="324000"/>
            <a:ext cx="81565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Goederen zijn producten die tastbaar zijn; je kan ze dus aanrak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iensten zijn producten die niet tastbaar zijn; je kan ze dus niet aanraken. De een doet iets voor de ande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5" descr="http://www.gortzen.eu/werkenindelogistiek/kiem/handel1e/taxi.jpg"/>
          <p:cNvPicPr/>
          <p:nvPr/>
        </p:nvPicPr>
        <p:blipFill>
          <a:blip r:embed="rId2"/>
          <a:stretch/>
        </p:blipFill>
        <p:spPr>
          <a:xfrm>
            <a:off x="1979640" y="4654440"/>
            <a:ext cx="1800360" cy="13510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7" descr="http://www.karizmabyhakan.nl/wp-content/uploads/dames-heren-kapper-hakan.jpg"/>
          <p:cNvPicPr/>
          <p:nvPr/>
        </p:nvPicPr>
        <p:blipFill>
          <a:blip r:embed="rId3"/>
          <a:stretch/>
        </p:blipFill>
        <p:spPr>
          <a:xfrm>
            <a:off x="4211640" y="4654440"/>
            <a:ext cx="2076480" cy="138456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9" descr="https://encrypted-tbn3.gstatic.com/images?q=tbn:ANd9GcS-8Wd4SlTLQsZXZ8Dwu1d-hxOw7BKtqB9Tj3ZSYqViYXBNrIR1NQ"/>
          <p:cNvPicPr/>
          <p:nvPr/>
        </p:nvPicPr>
        <p:blipFill>
          <a:blip r:embed="rId4"/>
          <a:stretch/>
        </p:blipFill>
        <p:spPr>
          <a:xfrm>
            <a:off x="6732720" y="4654440"/>
            <a:ext cx="2016000" cy="13431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11" descr="http://www.centrameubel.nl/media1/store%20eettafel.jpg"/>
          <p:cNvPicPr/>
          <p:nvPr/>
        </p:nvPicPr>
        <p:blipFill>
          <a:blip r:embed="rId5"/>
          <a:stretch/>
        </p:blipFill>
        <p:spPr>
          <a:xfrm>
            <a:off x="6288120" y="2039760"/>
            <a:ext cx="2435040" cy="1152720"/>
          </a:xfrm>
          <a:prstGeom prst="rect">
            <a:avLst/>
          </a:prstGeom>
          <a:ln w="0">
            <a:noFill/>
          </a:ln>
        </p:spPr>
      </p:pic>
      <p:sp>
        <p:nvSpPr>
          <p:cNvPr id="398" name="AutoShape 13"/>
          <p:cNvSpPr/>
          <p:nvPr/>
        </p:nvSpPr>
        <p:spPr>
          <a:xfrm>
            <a:off x="63360" y="-136440"/>
            <a:ext cx="6991560" cy="46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15" descr="Gerelateerde afbeelding"/>
          <p:cNvPicPr/>
          <p:nvPr/>
        </p:nvPicPr>
        <p:blipFill>
          <a:blip r:embed="rId6"/>
          <a:stretch/>
        </p:blipFill>
        <p:spPr>
          <a:xfrm>
            <a:off x="4373640" y="2023920"/>
            <a:ext cx="1754280" cy="11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Er geldt het volgende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Hoe rijker de mensen, hoe meer producten zij als noodzakelijk ervare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1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2" descr="http://reenert.lu/files/sauna_wohl.jpg"/>
          <p:cNvPicPr/>
          <p:nvPr/>
        </p:nvPicPr>
        <p:blipFill>
          <a:blip r:embed="rId2"/>
          <a:stretch/>
        </p:blipFill>
        <p:spPr>
          <a:xfrm>
            <a:off x="455760" y="2863800"/>
            <a:ext cx="2689200" cy="1513080"/>
          </a:xfrm>
          <a:prstGeom prst="rect">
            <a:avLst/>
          </a:prstGeom>
          <a:ln w="0">
            <a:noFill/>
          </a:ln>
        </p:spPr>
      </p:pic>
      <p:sp>
        <p:nvSpPr>
          <p:cNvPr id="40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6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8" descr="http://3.bp.blogspot.com/-uxNZMCsCUjI/U9Iz5ve3ojI/AAAAAAAASxg/SQDPwMnxjto/s1600/Samsung-Smart-Tv.jpg"/>
          <p:cNvPicPr/>
          <p:nvPr/>
        </p:nvPicPr>
        <p:blipFill>
          <a:blip r:embed="rId3"/>
          <a:stretch/>
        </p:blipFill>
        <p:spPr>
          <a:xfrm>
            <a:off x="3276720" y="3556080"/>
            <a:ext cx="2606400" cy="17510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12" descr="http://i.ytimg.com/vi/-QwVwFqiRGU/maxresdefault.jpg"/>
          <p:cNvPicPr/>
          <p:nvPr/>
        </p:nvPicPr>
        <p:blipFill>
          <a:blip r:embed="rId4"/>
          <a:stretch/>
        </p:blipFill>
        <p:spPr>
          <a:xfrm>
            <a:off x="6084720" y="5157720"/>
            <a:ext cx="2880000" cy="16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Mensen moeten kiezen uit hun behoeften, omdat er schaarste is aan geld en tij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beeld 1 (schaarste aan geld): iemand kan met 50 euro geen nieuwe fiets én telefoon kop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beeld 2 (schaarste aan tijd): iemand kan niet tegelijkertijd slapen en sport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8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7-09-11T11:01:20Z</dcterms:modified>
  <cp:revision>14</cp:revision>
  <dc:subject/>
  <dc:title> </dc:title>
</cp:coreProperties>
</file>